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8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29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.jpeg" ContentType="image/jpeg"/>
  <Override PartName="/ppt/media/image15.wmf" ContentType="image/x-wmf"/>
  <Override PartName="/ppt/media/image18.png" ContentType="image/png"/>
  <Override PartName="/ppt/media/image17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5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407-2A0A-4AD6-B7D5-04590975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5D8-5BAC-4BD4-9D3C-80389392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AEE-9ACC-43C8-B756-A0B12104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A04-6274-4CE4-8A9D-AF314D09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15B5-D696-4AC2-9694-30F84462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6424-CDA8-4245-8586-F444973D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AD1E-8354-44B9-91AE-098B6574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E3A9-98E2-4AA6-96A6-2BCBA682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0F84-338A-4EF4-8816-A5080E93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633E-2895-4D1C-AA90-3A105088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DB08-6D91-4533-A713-FA0315E2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B09-7818-487F-B729-ADE18698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A662-50A3-47BD-B06F-3C111E5B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ED1C-5CCA-4CCC-A488-B2D2046E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A5DD-CECE-44D5-BBA8-3993221C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C92A-079A-4558-B9A5-23D9AAF1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F148-EF63-49D5-9DE3-BFD8CEB6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4B2-2E25-4DD7-AB66-ACA9936B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1B7-B602-44C9-9457-2850191B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C7D-B183-4976-A6CA-CEB04921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ED4-57F2-4DFB-92DD-A34453D8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E7B-D91A-4B2C-8C12-298C6046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27F-655A-4F3D-A282-72945C17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B0B-F331-4BC5-B5EA-7336E943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marL="639720" indent="-639720">
              <a:spcBef>
                <a:spcPts val="774"/>
              </a:spcBef>
              <a:buClr>
                <a:srgbClr val="f30000"/>
              </a:buClr>
              <a:buFont typeface="Wingdings" charset="2"/>
              <a:buChar char="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102960">
              <a:spcBef>
                <a:spcPts val="774"/>
              </a:spcBef>
              <a:buClr>
                <a:srgbClr val="009900"/>
              </a:buClr>
              <a:buSzPct val="50000"/>
              <a:buFont typeface="Wingdings" charset="2"/>
              <a:buChar char="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65120" indent="-441360">
              <a:spcBef>
                <a:spcPts val="774"/>
              </a:spcBef>
              <a:buClr>
                <a:srgbClr val="3333cc"/>
              </a:buClr>
              <a:buSzPct val="70000"/>
              <a:buFont typeface="Wingdings" charset="2"/>
              <a:buChar char="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87012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220840" indent="-129708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220840" indent="-129708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220840" indent="-129708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5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C12DD0E-EC24-46BA-8815-96A4AD06FC85}" type="slidenum">
              <a:rPr b="0" lang="zh-TW" sz="15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1033"/>
          <p:cNvSpPr/>
          <p:nvPr/>
        </p:nvSpPr>
        <p:spPr>
          <a:xfrm>
            <a:off x="8763120" y="189000"/>
            <a:ext cx="198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图片 1039" descr="1"/>
          <p:cNvPicPr/>
          <p:nvPr/>
        </p:nvPicPr>
        <p:blipFill>
          <a:blip r:embed="rId3"/>
          <a:stretch/>
        </p:blipFill>
        <p:spPr>
          <a:xfrm>
            <a:off x="8077320" y="762120"/>
            <a:ext cx="1504800" cy="146664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2738-86D7-4FCC-BD5D-7ADDCE99FAC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1C6D-8028-4201-8E50-68B9C873BF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br>
              <a:rPr sz="3800"/>
            </a:b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24160" y="206028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可口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可樂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lang="zh-CN" sz="5000" spc="-1" strike="noStrike">
                <a:solidFill>
                  <a:srgbClr val="ffffff"/>
                </a:solidFill>
                <a:latin typeface="Times New Roman"/>
                <a:ea typeface="黑体"/>
              </a:rPr>
              <a:t>通路行銷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Times New Roman"/>
                <a:ea typeface="黑体"/>
              </a:rPr>
              <a:t>及</a:t>
            </a:r>
            <a:r>
              <a:rPr b="0" lang="zh-TW" sz="50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lang="zh-CN" sz="5000" spc="-1" strike="noStrike">
                <a:solidFill>
                  <a:srgbClr val="ffffff"/>
                </a:solidFill>
                <a:latin typeface="Times New Roman"/>
                <a:ea typeface="黑体"/>
              </a:rPr>
              <a:t>銷售資訊掌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对象 333828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609480" cy="419040"/>
          </a:xfrm>
          <a:prstGeom prst="rect">
            <a:avLst/>
          </a:prstGeom>
          <a:ln w="0">
            <a:noFill/>
          </a:ln>
        </p:spPr>
      </p:pic>
      <p:sp>
        <p:nvSpPr>
          <p:cNvPr id="87" name="矩形 333829"/>
          <p:cNvSpPr/>
          <p:nvPr/>
        </p:nvSpPr>
        <p:spPr>
          <a:xfrm>
            <a:off x="6932160" y="304920"/>
            <a:ext cx="2563200" cy="374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8640" rIns="98640" tIns="50040" bIns="50040" anchor="t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wire Coca-Cola Tai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333835"/>
          <p:cNvSpPr/>
          <p:nvPr/>
        </p:nvSpPr>
        <p:spPr>
          <a:xfrm>
            <a:off x="380880" y="3733920"/>
            <a:ext cx="386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333842"/>
          <p:cNvSpPr/>
          <p:nvPr/>
        </p:nvSpPr>
        <p:spPr>
          <a:xfrm>
            <a:off x="1143000" y="449568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849240" y="3860640"/>
            <a:ext cx="85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口可乐企业营销策划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2093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对象 931842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609480" cy="419040"/>
          </a:xfrm>
          <a:prstGeom prst="rect">
            <a:avLst/>
          </a:prstGeom>
          <a:ln w="0">
            <a:noFill/>
          </a:ln>
        </p:spPr>
      </p:pic>
      <p:sp>
        <p:nvSpPr>
          <p:cNvPr id="178" name="矩形 931843"/>
          <p:cNvSpPr/>
          <p:nvPr/>
        </p:nvSpPr>
        <p:spPr>
          <a:xfrm>
            <a:off x="6932160" y="304920"/>
            <a:ext cx="2563200" cy="374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8640" rIns="98640" tIns="50040" bIns="50040" anchor="t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wire Coca-Cola Tai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文本框 931845"/>
          <p:cNvSpPr/>
          <p:nvPr/>
        </p:nvSpPr>
        <p:spPr>
          <a:xfrm>
            <a:off x="1219320" y="129528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文本框 931846"/>
          <p:cNvSpPr/>
          <p:nvPr/>
        </p:nvSpPr>
        <p:spPr>
          <a:xfrm>
            <a:off x="609480" y="114300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矩形 931847"/>
          <p:cNvSpPr/>
          <p:nvPr/>
        </p:nvSpPr>
        <p:spPr>
          <a:xfrm>
            <a:off x="53352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800" spc="-1" strike="noStrike">
                <a:solidFill>
                  <a:srgbClr val="e1291b"/>
                </a:solidFill>
                <a:latin typeface="研澤中隸體"/>
                <a:ea typeface="研澤中隸體"/>
              </a:rPr>
              <a:t>結     論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矩形 931848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500" spc="-1" strike="noStrike">
                <a:solidFill>
                  <a:srgbClr val="003399"/>
                </a:solidFill>
                <a:latin typeface="Times New Roman"/>
                <a:ea typeface="研澤中隸體"/>
              </a:rPr>
              <a:t>通路轉變之腳步不曾停歇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374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500" spc="-1" strike="noStrike">
                <a:solidFill>
                  <a:srgbClr val="003399"/>
                </a:solidFill>
                <a:latin typeface="Times New Roman"/>
                <a:ea typeface="研澤中隸體"/>
              </a:rPr>
              <a:t>通路變革之壓力不曾稍減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1828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PMingLiU"/>
              </a:rPr>
              <a:t>個案探討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PMingLiU"/>
              </a:rPr>
              <a:t>“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PMingLiU"/>
              </a:rPr>
              <a:t>Qoo” 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PMingLiU"/>
              </a:rPr>
              <a:t>酷兒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PMingLiU"/>
              </a:rPr>
              <a:t>2001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PMingLiU"/>
              </a:rPr>
              <a:t>年上市計劃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932876"/>
          <p:cNvGrpSpPr/>
          <p:nvPr/>
        </p:nvGrpSpPr>
        <p:grpSpPr>
          <a:xfrm>
            <a:off x="2286000" y="3657600"/>
            <a:ext cx="4799880" cy="1447560"/>
            <a:chOff x="2286000" y="3657600"/>
            <a:chExt cx="4799880" cy="1447560"/>
          </a:xfrm>
        </p:grpSpPr>
        <p:pic>
          <p:nvPicPr>
            <p:cNvPr id="185" name="对象 932877" descr=""/>
            <p:cNvPicPr/>
            <p:nvPr/>
          </p:nvPicPr>
          <p:blipFill>
            <a:blip r:embed="rId1"/>
            <a:stretch/>
          </p:blipFill>
          <p:spPr>
            <a:xfrm>
              <a:off x="2286000" y="3726360"/>
              <a:ext cx="1025280" cy="127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对象 932878" descr=""/>
            <p:cNvPicPr/>
            <p:nvPr/>
          </p:nvPicPr>
          <p:blipFill>
            <a:blip r:embed="rId2"/>
            <a:stretch/>
          </p:blipFill>
          <p:spPr>
            <a:xfrm>
              <a:off x="3466440" y="3758760"/>
              <a:ext cx="1113480" cy="12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对象 932879" descr=""/>
            <p:cNvPicPr/>
            <p:nvPr/>
          </p:nvPicPr>
          <p:blipFill>
            <a:blip r:embed="rId3"/>
            <a:stretch/>
          </p:blipFill>
          <p:spPr>
            <a:xfrm>
              <a:off x="4608000" y="3697560"/>
              <a:ext cx="1109520" cy="140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对象 932880" descr=""/>
            <p:cNvPicPr/>
            <p:nvPr/>
          </p:nvPicPr>
          <p:blipFill>
            <a:blip r:embed="rId4"/>
            <a:stretch/>
          </p:blipFill>
          <p:spPr>
            <a:xfrm>
              <a:off x="5724000" y="3657600"/>
              <a:ext cx="1361880" cy="1424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759800" cy="6094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台灣即飲市場分析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表占位符 933890" descr=""/>
          <p:cNvPicPr/>
          <p:nvPr/>
        </p:nvPicPr>
        <p:blipFill>
          <a:blip r:embed="rId1"/>
          <a:stretch/>
        </p:blipFill>
        <p:spPr>
          <a:xfrm>
            <a:off x="1238400" y="2057400"/>
            <a:ext cx="701676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矩形 933891"/>
          <p:cNvSpPr/>
          <p:nvPr/>
        </p:nvSpPr>
        <p:spPr>
          <a:xfrm>
            <a:off x="5578920" y="6173640"/>
            <a:ext cx="3100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華康儷粗黑"/>
              </a:rPr>
              <a:t>Sources: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華康儷粗黑"/>
              </a:rPr>
              <a:t>Taiwan Beverage Industries Association (20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華康儷粗黑"/>
              </a:rPr>
              <a:t>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華康儷粗黑"/>
              </a:rPr>
              <a:t>Retail Market Magazine (journali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文本框 933892"/>
          <p:cNvSpPr/>
          <p:nvPr/>
        </p:nvSpPr>
        <p:spPr>
          <a:xfrm>
            <a:off x="1716120" y="152388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800000"/>
                </a:solidFill>
                <a:latin typeface="Times New Roman"/>
                <a:ea typeface="華康儷粗黑"/>
              </a:rPr>
              <a:t>果汁飲品在整個飲料市場中有成長的空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椭圆 933893"/>
          <p:cNvSpPr/>
          <p:nvPr/>
        </p:nvSpPr>
        <p:spPr>
          <a:xfrm>
            <a:off x="3879720" y="4952880"/>
            <a:ext cx="990720" cy="3812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表格占位符 934913" descr=""/>
          <p:cNvPicPr/>
          <p:nvPr/>
        </p:nvPicPr>
        <p:blipFill>
          <a:blip r:embed="rId1"/>
          <a:stretch/>
        </p:blipFill>
        <p:spPr>
          <a:xfrm>
            <a:off x="247680" y="2819520"/>
            <a:ext cx="9410760" cy="217944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934914"/>
          <p:cNvSpPr/>
          <p:nvPr/>
        </p:nvSpPr>
        <p:spPr>
          <a:xfrm>
            <a:off x="577800" y="4724280"/>
            <a:ext cx="49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細明體"/>
              </a:rPr>
              <a:t>* Total No of Respondents: 161; Multiple Choice up to 3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文本框 934915"/>
          <p:cNvSpPr/>
          <p:nvPr/>
        </p:nvSpPr>
        <p:spPr>
          <a:xfrm>
            <a:off x="6459840" y="5562720"/>
            <a:ext cx="26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Drink Association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矩形 934916"/>
          <p:cNvSpPr/>
          <p:nvPr/>
        </p:nvSpPr>
        <p:spPr>
          <a:xfrm>
            <a:off x="330120" y="533520"/>
            <a:ext cx="676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raditional Arabic"/>
                <a:ea typeface="細明體"/>
              </a:rPr>
              <a:t>消費者對果汁的選擇考慮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文本框 934917"/>
          <p:cNvSpPr/>
          <p:nvPr/>
        </p:nvSpPr>
        <p:spPr>
          <a:xfrm>
            <a:off x="577800" y="1828800"/>
            <a:ext cx="86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  <a:ea typeface="細明體"/>
              </a:rPr>
              <a:t>口感</a:t>
            </a:r>
            <a:r>
              <a:rPr b="1" i="1" lang="zh-CN" sz="2400" spc="-1" strike="noStrike">
                <a:solidFill>
                  <a:srgbClr val="800000"/>
                </a:solidFill>
                <a:latin typeface="Times New Roman"/>
                <a:ea typeface="細明體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細明體"/>
              </a:rPr>
              <a:t>,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  <a:ea typeface="細明體"/>
              </a:rPr>
              <a:t>新鮮度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細明體"/>
              </a:rPr>
              <a:t>, </a:t>
            </a:r>
            <a:r>
              <a:rPr b="1" i="1" lang="zh-CN" sz="2400" spc="-1" strike="noStrike">
                <a:solidFill>
                  <a:srgbClr val="800000"/>
                </a:solidFill>
                <a:latin typeface="Times New Roman"/>
                <a:ea typeface="細明體"/>
              </a:rPr>
              <a:t>及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  <a:ea typeface="細明體"/>
              </a:rPr>
              <a:t>有無附加營養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細明體"/>
              </a:rPr>
              <a:t>是消費者選擇果汁的最主要三個因素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椭圆 934918"/>
          <p:cNvSpPr/>
          <p:nvPr/>
        </p:nvSpPr>
        <p:spPr>
          <a:xfrm>
            <a:off x="1403280" y="4038480"/>
            <a:ext cx="495360" cy="4572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935937" descr=""/>
          <p:cNvPicPr/>
          <p:nvPr/>
        </p:nvPicPr>
        <p:blipFill>
          <a:blip r:embed="rId1"/>
          <a:stretch/>
        </p:blipFill>
        <p:spPr>
          <a:xfrm>
            <a:off x="100080" y="3233880"/>
            <a:ext cx="4817880" cy="3057480"/>
          </a:xfrm>
          <a:prstGeom prst="rect">
            <a:avLst/>
          </a:prstGeom>
          <a:ln w="9360">
            <a:solidFill>
              <a:srgbClr val="ccff99"/>
            </a:solidFill>
            <a:miter/>
          </a:ln>
        </p:spPr>
      </p:pic>
      <p:pic>
        <p:nvPicPr>
          <p:cNvPr id="201" name="图片 935938" descr=""/>
          <p:cNvPicPr/>
          <p:nvPr/>
        </p:nvPicPr>
        <p:blipFill>
          <a:blip r:embed="rId2"/>
          <a:stretch/>
        </p:blipFill>
        <p:spPr>
          <a:xfrm>
            <a:off x="5018040" y="3233880"/>
            <a:ext cx="4830840" cy="3038400"/>
          </a:xfrm>
          <a:prstGeom prst="rect">
            <a:avLst/>
          </a:prstGeom>
          <a:ln w="9360">
            <a:solidFill>
              <a:srgbClr val="ccff99"/>
            </a:solidFill>
            <a:miter/>
          </a:ln>
        </p:spPr>
      </p:pic>
      <p:sp>
        <p:nvSpPr>
          <p:cNvPr id="202" name="矩形 935939"/>
          <p:cNvSpPr/>
          <p:nvPr/>
        </p:nvSpPr>
        <p:spPr>
          <a:xfrm>
            <a:off x="495360" y="304920"/>
            <a:ext cx="766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細明體"/>
              </a:rPr>
              <a:t>來自消費者的回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細明體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細明體"/>
              </a:rPr>
              <a:t>太棒的產品了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細明體"/>
              </a:rPr>
              <a:t>韓國上市兩個月內成功經驗分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圆角矩形 935940"/>
          <p:cNvSpPr/>
          <p:nvPr/>
        </p:nvSpPr>
        <p:spPr>
          <a:xfrm>
            <a:off x="325440" y="1676520"/>
            <a:ext cx="9580680" cy="119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Qoo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細明體"/>
              </a:rPr>
              <a:t>的試用包一下子就被索取光了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細明體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Qoo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細明體"/>
              </a:rPr>
              <a:t>在上市不久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細明體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細明體"/>
              </a:rPr>
              <a:t>曾經購買的媽媽和小朋友的人數增加迅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細明體"/>
              </a:rPr>
              <a:t>曾經喝過的人很快就再次購買了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細明體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文本框 935941"/>
          <p:cNvSpPr/>
          <p:nvPr/>
        </p:nvSpPr>
        <p:spPr>
          <a:xfrm>
            <a:off x="907920" y="2895480"/>
            <a:ext cx="2838600" cy="507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Comic Sans MS"/>
                <a:ea typeface="細明體"/>
              </a:rPr>
              <a:t>曾經喝過</a:t>
            </a:r>
            <a:r>
              <a:rPr b="1" lang="en-US" sz="1600" spc="-1" strike="noStrike">
                <a:solidFill>
                  <a:srgbClr val="003300"/>
                </a:solidFill>
                <a:latin typeface="Comic Sans MS"/>
                <a:ea typeface="굴림"/>
              </a:rPr>
              <a:t>Qoo</a:t>
            </a:r>
            <a:r>
              <a:rPr b="1" lang="zh-CN" sz="1600" spc="-1" strike="noStrike">
                <a:solidFill>
                  <a:srgbClr val="003300"/>
                </a:solidFill>
                <a:latin typeface="Comic Sans MS"/>
                <a:ea typeface="細明體"/>
              </a:rPr>
              <a:t>的比例</a:t>
            </a:r>
            <a:r>
              <a:rPr b="1" lang="ko-KR" sz="1600" spc="-1" strike="noStrike">
                <a:solidFill>
                  <a:srgbClr val="003300"/>
                </a:solidFill>
                <a:latin typeface="Comic Sans MS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文本框 935942"/>
          <p:cNvSpPr/>
          <p:nvPr/>
        </p:nvSpPr>
        <p:spPr>
          <a:xfrm>
            <a:off x="5861160" y="2895480"/>
            <a:ext cx="3054240" cy="507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Comic Sans MS"/>
                <a:ea typeface="細明體"/>
              </a:rPr>
              <a:t>曾經買過</a:t>
            </a:r>
            <a:r>
              <a:rPr b="1" lang="en-US" sz="1600" spc="-1" strike="noStrike">
                <a:solidFill>
                  <a:srgbClr val="003300"/>
                </a:solidFill>
                <a:latin typeface="Comic Sans MS"/>
                <a:ea typeface="굴림"/>
              </a:rPr>
              <a:t>Qoo</a:t>
            </a:r>
            <a:r>
              <a:rPr b="1" lang="zh-CN" sz="1600" spc="-1" strike="noStrike">
                <a:solidFill>
                  <a:srgbClr val="003300"/>
                </a:solidFill>
                <a:latin typeface="Comic Sans MS"/>
                <a:ea typeface="細明體"/>
              </a:rPr>
              <a:t>的比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文本框 935943"/>
          <p:cNvSpPr/>
          <p:nvPr/>
        </p:nvSpPr>
        <p:spPr>
          <a:xfrm>
            <a:off x="6286680" y="6553080"/>
            <a:ext cx="36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Comic Sans MS"/>
                <a:ea typeface="굴림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굴림"/>
              </a:rPr>
              <a:t>Source : Consumer tracking surv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936961"/>
          <p:cNvSpPr/>
          <p:nvPr/>
        </p:nvSpPr>
        <p:spPr>
          <a:xfrm>
            <a:off x="457200" y="685800"/>
            <a:ext cx="70167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研澤中圓體"/>
              </a:rPr>
              <a:t>產品剛上市的業績實在是“旺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研澤中圓體"/>
              </a:rPr>
              <a:t>韓國業績一路長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圆角矩形 936962"/>
          <p:cNvSpPr/>
          <p:nvPr/>
        </p:nvSpPr>
        <p:spPr>
          <a:xfrm>
            <a:off x="495360" y="1596240"/>
            <a:ext cx="8667720" cy="893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Comic Sans MS"/>
                <a:ea typeface="細明體"/>
              </a:rPr>
              <a:t>從四月上市至六月</a:t>
            </a:r>
            <a:r>
              <a:rPr b="1" lang="en-US" sz="1800" spc="-1" strike="noStrike">
                <a:solidFill>
                  <a:srgbClr val="990000"/>
                </a:solidFill>
                <a:latin typeface="Comic Sans MS"/>
                <a:ea typeface="細明體"/>
              </a:rPr>
              <a:t>, </a:t>
            </a:r>
            <a:r>
              <a:rPr b="1" lang="zh-CN" sz="1800" spc="-1" strike="noStrike">
                <a:solidFill>
                  <a:srgbClr val="990000"/>
                </a:solidFill>
                <a:latin typeface="Comic Sans MS"/>
                <a:ea typeface="細明體"/>
              </a:rPr>
              <a:t>三個月內的實際銷量已超過整年的預估銷量</a:t>
            </a:r>
            <a:r>
              <a:rPr b="1" lang="en-US" sz="1800" spc="-1" strike="noStrike">
                <a:solidFill>
                  <a:srgbClr val="990000"/>
                </a:solidFill>
                <a:latin typeface="Comic Sans MS"/>
                <a:ea typeface="細明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Comic Sans MS"/>
                <a:ea typeface="細明體"/>
              </a:rPr>
              <a:t>自從</a:t>
            </a:r>
            <a:r>
              <a:rPr b="1" lang="en-US" sz="1800" spc="-1" strike="noStrike">
                <a:solidFill>
                  <a:srgbClr val="990000"/>
                </a:solidFill>
                <a:latin typeface="Comic Sans MS"/>
                <a:ea typeface="細明體"/>
              </a:rPr>
              <a:t>2001</a:t>
            </a:r>
            <a:r>
              <a:rPr b="1" lang="zh-CN" sz="1800" spc="-1" strike="noStrike">
                <a:solidFill>
                  <a:srgbClr val="990000"/>
                </a:solidFill>
                <a:latin typeface="Comic Sans MS"/>
                <a:ea typeface="細明體"/>
              </a:rPr>
              <a:t>年六月起</a:t>
            </a:r>
            <a:r>
              <a:rPr b="1" lang="en-US" sz="1800" spc="-1" strike="noStrike">
                <a:solidFill>
                  <a:srgbClr val="990000"/>
                </a:solidFill>
                <a:latin typeface="Comic Sans MS"/>
                <a:ea typeface="細明體"/>
              </a:rPr>
              <a:t>, Qoo</a:t>
            </a:r>
            <a:r>
              <a:rPr b="1" lang="zh-CN" sz="1800" spc="-1" strike="noStrike">
                <a:solidFill>
                  <a:srgbClr val="990000"/>
                </a:solidFill>
                <a:latin typeface="Comic Sans MS"/>
                <a:ea typeface="細明體"/>
              </a:rPr>
              <a:t>的業績已在韓國可口可樂所有產品中排名第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组合 936963"/>
          <p:cNvGrpSpPr/>
          <p:nvPr/>
        </p:nvGrpSpPr>
        <p:grpSpPr>
          <a:xfrm>
            <a:off x="672120" y="2819520"/>
            <a:ext cx="8408160" cy="3343680"/>
            <a:chOff x="672120" y="2819520"/>
            <a:chExt cx="8408160" cy="3343680"/>
          </a:xfrm>
        </p:grpSpPr>
        <p:sp>
          <p:nvSpPr>
            <p:cNvPr id="210" name="矩形 936964"/>
            <p:cNvSpPr/>
            <p:nvPr/>
          </p:nvSpPr>
          <p:spPr>
            <a:xfrm>
              <a:off x="2358720" y="5355360"/>
              <a:ext cx="524520" cy="4132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矩形 936965"/>
            <p:cNvSpPr/>
            <p:nvPr/>
          </p:nvSpPr>
          <p:spPr>
            <a:xfrm>
              <a:off x="4154760" y="5355360"/>
              <a:ext cx="526320" cy="4132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矩形 936966"/>
            <p:cNvSpPr/>
            <p:nvPr/>
          </p:nvSpPr>
          <p:spPr>
            <a:xfrm>
              <a:off x="5951160" y="5372280"/>
              <a:ext cx="524520" cy="39636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矩形 936967"/>
            <p:cNvSpPr/>
            <p:nvPr/>
          </p:nvSpPr>
          <p:spPr>
            <a:xfrm>
              <a:off x="2883600" y="5228280"/>
              <a:ext cx="505080" cy="5400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矩形 936968"/>
            <p:cNvSpPr/>
            <p:nvPr/>
          </p:nvSpPr>
          <p:spPr>
            <a:xfrm>
              <a:off x="4681080" y="4575960"/>
              <a:ext cx="503640" cy="11923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矩形 936969"/>
            <p:cNvSpPr/>
            <p:nvPr/>
          </p:nvSpPr>
          <p:spPr>
            <a:xfrm>
              <a:off x="6475680" y="3733920"/>
              <a:ext cx="505080" cy="20347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1975680" y="3256560"/>
              <a:ext cx="1800" cy="2512080"/>
              <a:chOff x="1975680" y="3256560"/>
              <a:chExt cx="1800" cy="2512080"/>
            </a:xfrm>
          </p:grpSpPr>
          <p:sp>
            <p:nvSpPr>
              <p:cNvPr id="217" name="直接连接符 936970"/>
              <p:cNvSpPr/>
              <p:nvPr/>
            </p:nvSpPr>
            <p:spPr>
              <a:xfrm>
                <a:off x="1975680" y="3256560"/>
                <a:ext cx="1800" cy="2512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1975680" y="3256560"/>
                <a:ext cx="1800" cy="251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975680" y="5768640"/>
              <a:ext cx="101160" cy="1440"/>
              <a:chOff x="1975680" y="5768640"/>
              <a:chExt cx="101160" cy="1440"/>
            </a:xfrm>
          </p:grpSpPr>
          <p:sp>
            <p:nvSpPr>
              <p:cNvPr id="220" name="直接连接符 936971"/>
              <p:cNvSpPr/>
              <p:nvPr/>
            </p:nvSpPr>
            <p:spPr>
              <a:xfrm>
                <a:off x="1975680" y="5768640"/>
                <a:ext cx="10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1975680" y="5768640"/>
                <a:ext cx="1011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975680" y="5148720"/>
              <a:ext cx="101160" cy="1440"/>
              <a:chOff x="1975680" y="5148720"/>
              <a:chExt cx="101160" cy="1440"/>
            </a:xfrm>
          </p:grpSpPr>
          <p:sp>
            <p:nvSpPr>
              <p:cNvPr id="223" name="直接连接符 936972"/>
              <p:cNvSpPr/>
              <p:nvPr/>
            </p:nvSpPr>
            <p:spPr>
              <a:xfrm>
                <a:off x="1975680" y="5148720"/>
                <a:ext cx="10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>
                <a:off x="1975680" y="5148720"/>
                <a:ext cx="1011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75680" y="4513320"/>
              <a:ext cx="101160" cy="1080"/>
              <a:chOff x="1975680" y="4513320"/>
              <a:chExt cx="101160" cy="1080"/>
            </a:xfrm>
          </p:grpSpPr>
          <p:sp>
            <p:nvSpPr>
              <p:cNvPr id="226" name="直接连接符 936973"/>
              <p:cNvSpPr/>
              <p:nvPr/>
            </p:nvSpPr>
            <p:spPr>
              <a:xfrm>
                <a:off x="1975680" y="4513320"/>
                <a:ext cx="101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1975680" y="4513320"/>
                <a:ext cx="1011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1975680" y="3893400"/>
              <a:ext cx="101160" cy="1080"/>
              <a:chOff x="1975680" y="3893400"/>
              <a:chExt cx="101160" cy="1080"/>
            </a:xfrm>
          </p:grpSpPr>
          <p:sp>
            <p:nvSpPr>
              <p:cNvPr id="229" name="直接连接符 936974"/>
              <p:cNvSpPr/>
              <p:nvPr/>
            </p:nvSpPr>
            <p:spPr>
              <a:xfrm>
                <a:off x="1975680" y="3893400"/>
                <a:ext cx="101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1975680" y="3893400"/>
                <a:ext cx="1011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1975680" y="3256560"/>
              <a:ext cx="101160" cy="1080"/>
              <a:chOff x="1975680" y="3256560"/>
              <a:chExt cx="101160" cy="1080"/>
            </a:xfrm>
          </p:grpSpPr>
          <p:sp>
            <p:nvSpPr>
              <p:cNvPr id="232" name="直接连接符 936975"/>
              <p:cNvSpPr/>
              <p:nvPr/>
            </p:nvSpPr>
            <p:spPr>
              <a:xfrm>
                <a:off x="1975680" y="3256560"/>
                <a:ext cx="101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1975680" y="3256560"/>
                <a:ext cx="1011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1975680" y="5768640"/>
              <a:ext cx="5390280" cy="1440"/>
              <a:chOff x="1975680" y="5768640"/>
              <a:chExt cx="5390280" cy="1440"/>
            </a:xfrm>
          </p:grpSpPr>
          <p:sp>
            <p:nvSpPr>
              <p:cNvPr id="235" name="直接连接符 936976"/>
              <p:cNvSpPr/>
              <p:nvPr/>
            </p:nvSpPr>
            <p:spPr>
              <a:xfrm>
                <a:off x="1975680" y="5768640"/>
                <a:ext cx="5390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>
                <a:off x="1975680" y="5768640"/>
                <a:ext cx="5390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1975320" y="5689080"/>
              <a:ext cx="2160" cy="79200"/>
              <a:chOff x="1975320" y="5689080"/>
              <a:chExt cx="2160" cy="79200"/>
            </a:xfrm>
          </p:grpSpPr>
          <p:sp>
            <p:nvSpPr>
              <p:cNvPr id="238" name="直接连接符 936977"/>
              <p:cNvSpPr/>
              <p:nvPr/>
            </p:nvSpPr>
            <p:spPr>
              <a:xfrm flipV="1">
                <a:off x="1975680" y="5689080"/>
                <a:ext cx="1800" cy="7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 rot="10800000">
                <a:off x="1975320" y="5689080"/>
                <a:ext cx="180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771360" y="5689080"/>
              <a:ext cx="2160" cy="79200"/>
              <a:chOff x="3771360" y="5689080"/>
              <a:chExt cx="2160" cy="79200"/>
            </a:xfrm>
          </p:grpSpPr>
          <p:sp>
            <p:nvSpPr>
              <p:cNvPr id="241" name="直接连接符 936978"/>
              <p:cNvSpPr/>
              <p:nvPr/>
            </p:nvSpPr>
            <p:spPr>
              <a:xfrm flipV="1">
                <a:off x="3771720" y="5689080"/>
                <a:ext cx="1800" cy="7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 rot="10800000">
                <a:off x="3771360" y="5689080"/>
                <a:ext cx="180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567400" y="5689080"/>
              <a:ext cx="2160" cy="79200"/>
              <a:chOff x="5567400" y="5689080"/>
              <a:chExt cx="2160" cy="79200"/>
            </a:xfrm>
          </p:grpSpPr>
          <p:sp>
            <p:nvSpPr>
              <p:cNvPr id="244" name="直接连接符 936979"/>
              <p:cNvSpPr/>
              <p:nvPr/>
            </p:nvSpPr>
            <p:spPr>
              <a:xfrm flipV="1">
                <a:off x="5567760" y="5689080"/>
                <a:ext cx="1800" cy="7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 rot="10800000">
                <a:off x="5567400" y="5689080"/>
                <a:ext cx="180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365960" y="5689080"/>
              <a:ext cx="1440" cy="79200"/>
              <a:chOff x="7365960" y="5689080"/>
              <a:chExt cx="1440" cy="79200"/>
            </a:xfrm>
          </p:grpSpPr>
          <p:sp>
            <p:nvSpPr>
              <p:cNvPr id="247" name="直接连接符 936980"/>
              <p:cNvSpPr/>
              <p:nvPr/>
            </p:nvSpPr>
            <p:spPr>
              <a:xfrm flipV="1">
                <a:off x="7365960" y="5689080"/>
                <a:ext cx="1440" cy="7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 rot="10800000">
                <a:off x="7365960" y="5689080"/>
                <a:ext cx="144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矩形 936981"/>
            <p:cNvSpPr/>
            <p:nvPr/>
          </p:nvSpPr>
          <p:spPr>
            <a:xfrm>
              <a:off x="2376360" y="4992120"/>
              <a:ext cx="503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13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矩形 936982"/>
            <p:cNvSpPr/>
            <p:nvPr/>
          </p:nvSpPr>
          <p:spPr>
            <a:xfrm>
              <a:off x="4172400" y="5009040"/>
              <a:ext cx="503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13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矩形 936983"/>
            <p:cNvSpPr/>
            <p:nvPr/>
          </p:nvSpPr>
          <p:spPr>
            <a:xfrm>
              <a:off x="5968440" y="4958640"/>
              <a:ext cx="503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129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矩形 936984"/>
            <p:cNvSpPr/>
            <p:nvPr/>
          </p:nvSpPr>
          <p:spPr>
            <a:xfrm>
              <a:off x="2900880" y="4815000"/>
              <a:ext cx="503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17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矩形 936985"/>
            <p:cNvSpPr/>
            <p:nvPr/>
          </p:nvSpPr>
          <p:spPr>
            <a:xfrm>
              <a:off x="4696920" y="4074840"/>
              <a:ext cx="503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378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矩形 936986"/>
            <p:cNvSpPr/>
            <p:nvPr/>
          </p:nvSpPr>
          <p:spPr>
            <a:xfrm>
              <a:off x="6511680" y="3387960"/>
              <a:ext cx="503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65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矩形 936987"/>
            <p:cNvSpPr/>
            <p:nvPr/>
          </p:nvSpPr>
          <p:spPr>
            <a:xfrm>
              <a:off x="1544760" y="5626080"/>
              <a:ext cx="168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矩形 936988"/>
            <p:cNvSpPr/>
            <p:nvPr/>
          </p:nvSpPr>
          <p:spPr>
            <a:xfrm>
              <a:off x="1205640" y="5006160"/>
              <a:ext cx="503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20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矩形 936989"/>
            <p:cNvSpPr/>
            <p:nvPr/>
          </p:nvSpPr>
          <p:spPr>
            <a:xfrm>
              <a:off x="1205640" y="4367880"/>
              <a:ext cx="503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40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矩形 936990"/>
            <p:cNvSpPr/>
            <p:nvPr/>
          </p:nvSpPr>
          <p:spPr>
            <a:xfrm>
              <a:off x="1205640" y="3749400"/>
              <a:ext cx="503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60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矩形 936991"/>
            <p:cNvSpPr/>
            <p:nvPr/>
          </p:nvSpPr>
          <p:spPr>
            <a:xfrm>
              <a:off x="1205640" y="3114000"/>
              <a:ext cx="503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80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矩形 936992"/>
            <p:cNvSpPr/>
            <p:nvPr/>
          </p:nvSpPr>
          <p:spPr>
            <a:xfrm>
              <a:off x="2599560" y="585792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Ap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矩形 936993"/>
            <p:cNvSpPr/>
            <p:nvPr/>
          </p:nvSpPr>
          <p:spPr>
            <a:xfrm>
              <a:off x="4409280" y="5857920"/>
              <a:ext cx="50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M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矩形 936994"/>
            <p:cNvSpPr/>
            <p:nvPr/>
          </p:nvSpPr>
          <p:spPr>
            <a:xfrm>
              <a:off x="6201000" y="5857920"/>
              <a:ext cx="52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Ju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矩形 936995"/>
            <p:cNvSpPr/>
            <p:nvPr/>
          </p:nvSpPr>
          <p:spPr>
            <a:xfrm>
              <a:off x="7566120" y="4369680"/>
              <a:ext cx="1514160" cy="779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矩形 936996"/>
            <p:cNvSpPr/>
            <p:nvPr/>
          </p:nvSpPr>
          <p:spPr>
            <a:xfrm>
              <a:off x="7686720" y="4513320"/>
              <a:ext cx="201960" cy="15876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矩形 936997"/>
            <p:cNvSpPr/>
            <p:nvPr/>
          </p:nvSpPr>
          <p:spPr>
            <a:xfrm>
              <a:off x="8009640" y="4433400"/>
              <a:ext cx="963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Targe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矩形 936998"/>
            <p:cNvSpPr/>
            <p:nvPr/>
          </p:nvSpPr>
          <p:spPr>
            <a:xfrm>
              <a:off x="7686720" y="4894560"/>
              <a:ext cx="201960" cy="1587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矩形 936999"/>
            <p:cNvSpPr/>
            <p:nvPr/>
          </p:nvSpPr>
          <p:spPr>
            <a:xfrm>
              <a:off x="7986960" y="4815000"/>
              <a:ext cx="938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Actual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矩形 937000"/>
            <p:cNvSpPr/>
            <p:nvPr/>
          </p:nvSpPr>
          <p:spPr>
            <a:xfrm>
              <a:off x="672120" y="2819520"/>
              <a:ext cx="1713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Comic Sans MS"/>
                  <a:ea typeface="細明體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細明體"/>
                </a:rPr>
                <a:t>Unit: U/C-'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文本框 937001"/>
            <p:cNvSpPr/>
            <p:nvPr/>
          </p:nvSpPr>
          <p:spPr>
            <a:xfrm>
              <a:off x="5004000" y="2943360"/>
              <a:ext cx="4054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細明體"/>
                </a:rPr>
                <a:t>YTD June Total: 1,1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206520" y="4561920"/>
              <a:ext cx="1738800" cy="632520"/>
              <a:chOff x="3206520" y="4561920"/>
              <a:chExt cx="1738800" cy="632520"/>
            </a:xfrm>
          </p:grpSpPr>
          <p:sp>
            <p:nvSpPr>
              <p:cNvPr id="271" name="直接连接符 937002"/>
              <p:cNvSpPr/>
              <p:nvPr/>
            </p:nvSpPr>
            <p:spPr>
              <a:xfrm flipV="1">
                <a:off x="3206520" y="4561920"/>
                <a:ext cx="1738800" cy="63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 rot="10800000">
                <a:off x="3206520" y="4561920"/>
                <a:ext cx="1738800" cy="63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47480" y="3711960"/>
              <a:ext cx="1825920" cy="823680"/>
              <a:chOff x="4947480" y="3711960"/>
              <a:chExt cx="1825920" cy="823680"/>
            </a:xfrm>
          </p:grpSpPr>
          <p:sp>
            <p:nvSpPr>
              <p:cNvPr id="274" name="直接连接符 937003"/>
              <p:cNvSpPr/>
              <p:nvPr/>
            </p:nvSpPr>
            <p:spPr>
              <a:xfrm flipV="1">
                <a:off x="4947480" y="3711960"/>
                <a:ext cx="18259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 rot="10800000">
                <a:off x="4947480" y="3711960"/>
                <a:ext cx="1825920" cy="82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文本框 8200"/>
          <p:cNvSpPr/>
          <p:nvPr/>
        </p:nvSpPr>
        <p:spPr>
          <a:xfrm>
            <a:off x="3368520" y="333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937985" descr=""/>
          <p:cNvPicPr/>
          <p:nvPr/>
        </p:nvPicPr>
        <p:blipFill>
          <a:blip r:embed="rId1"/>
          <a:stretch/>
        </p:blipFill>
        <p:spPr>
          <a:xfrm>
            <a:off x="243000" y="1136520"/>
            <a:ext cx="9305640" cy="4883400"/>
          </a:xfrm>
          <a:prstGeom prst="rect">
            <a:avLst/>
          </a:prstGeom>
          <a:ln w="0">
            <a:noFill/>
          </a:ln>
        </p:spPr>
      </p:pic>
      <p:sp>
        <p:nvSpPr>
          <p:cNvPr id="278" name="矩形 937986"/>
          <p:cNvSpPr/>
          <p:nvPr/>
        </p:nvSpPr>
        <p:spPr>
          <a:xfrm>
            <a:off x="914400" y="681120"/>
            <a:ext cx="68356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細明體"/>
              </a:rPr>
              <a:t>日本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細明體"/>
              </a:rPr>
              <a:t>Qoo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細明體"/>
              </a:rPr>
              <a:t>業績分析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細明體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細明體"/>
              </a:rPr>
              <a:t>以口味別區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矩形 937988"/>
          <p:cNvSpPr/>
          <p:nvPr/>
        </p:nvSpPr>
        <p:spPr>
          <a:xfrm>
            <a:off x="2063880" y="5486400"/>
            <a:ext cx="1733400" cy="45720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137040" y="2590920"/>
            <a:ext cx="1403280" cy="761760"/>
            <a:chOff x="3137040" y="2590920"/>
            <a:chExt cx="1403280" cy="761760"/>
          </a:xfrm>
        </p:grpSpPr>
        <p:sp>
          <p:nvSpPr>
            <p:cNvPr id="281" name="直接连接符 937989"/>
            <p:cNvSpPr/>
            <p:nvPr/>
          </p:nvSpPr>
          <p:spPr>
            <a:xfrm flipH="1">
              <a:off x="3137040" y="2590920"/>
              <a:ext cx="1403280" cy="7617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3137040" y="2590920"/>
              <a:ext cx="1403280" cy="76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934320" y="2362320"/>
            <a:ext cx="1485720" cy="685800"/>
            <a:chOff x="6934320" y="2362320"/>
            <a:chExt cx="1485720" cy="685800"/>
          </a:xfrm>
        </p:grpSpPr>
        <p:sp>
          <p:nvSpPr>
            <p:cNvPr id="284" name="直接连接符 937990"/>
            <p:cNvSpPr/>
            <p:nvPr/>
          </p:nvSpPr>
          <p:spPr>
            <a:xfrm>
              <a:off x="6934320" y="2362320"/>
              <a:ext cx="1485720" cy="6858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6934320" y="2362320"/>
              <a:ext cx="148572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695920" y="2666880"/>
            <a:ext cx="825480" cy="609840"/>
            <a:chOff x="5695920" y="2666880"/>
            <a:chExt cx="825480" cy="609840"/>
          </a:xfrm>
        </p:grpSpPr>
        <p:sp>
          <p:nvSpPr>
            <p:cNvPr id="287" name="直接连接符 937991"/>
            <p:cNvSpPr/>
            <p:nvPr/>
          </p:nvSpPr>
          <p:spPr>
            <a:xfrm>
              <a:off x="5695920" y="2666880"/>
              <a:ext cx="825480" cy="6098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5695920" y="2666880"/>
              <a:ext cx="82548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文本框 937992"/>
          <p:cNvSpPr/>
          <p:nvPr/>
        </p:nvSpPr>
        <p:spPr>
          <a:xfrm>
            <a:off x="3467160" y="1600200"/>
            <a:ext cx="404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Comic Sans MS"/>
                <a:ea typeface="細明體"/>
              </a:rPr>
              <a:t>聰明的行銷策略</a:t>
            </a:r>
            <a:r>
              <a:rPr b="1" lang="en-US" sz="1600" spc="-1" strike="noStrike">
                <a:solidFill>
                  <a:srgbClr val="ff3300"/>
                </a:solidFill>
                <a:latin typeface="Comic Sans MS"/>
                <a:ea typeface="細明體"/>
              </a:rPr>
              <a:t>: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  <a:ea typeface="細明體"/>
              </a:rPr>
              <a:t>季節並不影響銷售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細明體"/>
              </a:rPr>
              <a:t>, 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  <a:ea typeface="細明體"/>
              </a:rPr>
              <a:t>新口味上市再搭配促銷活動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細明體"/>
              </a:rPr>
              <a:t>, 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  <a:ea typeface="細明體"/>
              </a:rPr>
              <a:t>掀起購買熱潮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細明體"/>
              </a:rPr>
              <a:t>.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  <a:ea typeface="細明體"/>
              </a:rPr>
              <a:t>促使銷量大幅成長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細明體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矩形 937993"/>
          <p:cNvSpPr/>
          <p:nvPr/>
        </p:nvSpPr>
        <p:spPr>
          <a:xfrm>
            <a:off x="6521400" y="5486400"/>
            <a:ext cx="2559240" cy="4572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图片 952321" descr=""/>
          <p:cNvPicPr/>
          <p:nvPr/>
        </p:nvPicPr>
        <p:blipFill>
          <a:blip r:embed="rId1"/>
          <a:stretch/>
        </p:blipFill>
        <p:spPr>
          <a:xfrm>
            <a:off x="457200" y="1351080"/>
            <a:ext cx="9220320" cy="550692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952322" descr="281_ACN"/>
          <p:cNvPicPr/>
          <p:nvPr/>
        </p:nvPicPr>
        <p:blipFill>
          <a:blip r:embed="rId2"/>
          <a:stretch/>
        </p:blipFill>
        <p:spPr>
          <a:xfrm>
            <a:off x="0" y="6242040"/>
            <a:ext cx="9902880" cy="615960"/>
          </a:xfrm>
          <a:prstGeom prst="rect">
            <a:avLst/>
          </a:prstGeom>
          <a:ln w="0">
            <a:noFill/>
          </a:ln>
        </p:spPr>
      </p:pic>
      <p:pic>
        <p:nvPicPr>
          <p:cNvPr id="293" name="对象 952323" descr=""/>
          <p:cNvPicPr/>
          <p:nvPr/>
        </p:nvPicPr>
        <p:blipFill>
          <a:blip r:embed="rId3"/>
          <a:stretch/>
        </p:blipFill>
        <p:spPr>
          <a:xfrm>
            <a:off x="8613720" y="6194520"/>
            <a:ext cx="685800" cy="671400"/>
          </a:xfrm>
          <a:prstGeom prst="rect">
            <a:avLst/>
          </a:prstGeom>
          <a:ln w="0">
            <a:noFill/>
          </a:ln>
        </p:spPr>
      </p:pic>
      <p:sp>
        <p:nvSpPr>
          <p:cNvPr id="294" name="文本框 952324"/>
          <p:cNvSpPr/>
          <p:nvPr/>
        </p:nvSpPr>
        <p:spPr>
          <a:xfrm>
            <a:off x="457200" y="83808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PMingLiU"/>
              </a:rPr>
              <a:t>Qoo share declined since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產品上市前研究的主要發現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3300"/>
                </a:solidFill>
                <a:latin typeface="Arial"/>
              </a:rPr>
              <a:t>口味測試</a:t>
            </a: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99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最常喝的口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柳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葡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3300"/>
                </a:solidFill>
                <a:latin typeface="Arial"/>
              </a:rPr>
              <a:t>包裝測試</a:t>
            </a: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99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很高的比例的受訪者喜歡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00 PE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99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30ml TPK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是對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3-15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歲小朋友最恰當的包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99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消費者對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00 PET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的包裝最喜歡的理由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70000"/>
              <a:buFont typeface="Wingdings" charset="2"/>
              <a:buChar char="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“</a:t>
            </a:r>
            <a:r>
              <a:rPr b="1" lang="zh-CN" sz="1700" spc="-1" strike="noStrike" u="sng">
                <a:solidFill>
                  <a:srgbClr val="3333cc"/>
                </a:solidFill>
                <a:uFillTx/>
                <a:latin typeface="Arial"/>
              </a:rPr>
              <a:t>包裝很可愛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</a:rPr>
              <a:t>”</a:t>
            </a: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&amp;</a:t>
            </a:r>
            <a:r>
              <a:rPr b="1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“</a:t>
            </a:r>
            <a:r>
              <a:rPr b="1" lang="zh-CN" sz="1700" spc="-1" strike="noStrike" u="sng">
                <a:solidFill>
                  <a:srgbClr val="3333cc"/>
                </a:solidFill>
                <a:uFillTx/>
                <a:latin typeface="Arial"/>
              </a:rPr>
              <a:t>配色很好”</a:t>
            </a: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&amp;</a:t>
            </a:r>
            <a:r>
              <a:rPr b="1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“</a:t>
            </a:r>
            <a:r>
              <a:rPr b="1" lang="zh-CN" sz="1700" spc="-1" strike="noStrike" u="sng">
                <a:solidFill>
                  <a:srgbClr val="3333cc"/>
                </a:solidFill>
                <a:uFillTx/>
                <a:latin typeface="Arial"/>
              </a:rPr>
              <a:t>容量大小剛好可以分給別人一起喝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3300"/>
                </a:solidFill>
                <a:latin typeface="Arial"/>
              </a:rPr>
              <a:t>廣告測試</a:t>
            </a: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99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所有測試的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支廣告得分都很高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99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廣告都得高分的主要原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100" spc="-1" strike="noStrike">
                <a:solidFill>
                  <a:srgbClr val="009900"/>
                </a:solidFill>
                <a:latin typeface="Arial"/>
              </a:rPr>
              <a:t>“Qoo </a:t>
            </a:r>
            <a:r>
              <a:rPr b="1" lang="zh-CN" sz="2100" spc="-1" strike="noStrike">
                <a:solidFill>
                  <a:srgbClr val="009900"/>
                </a:solidFill>
                <a:latin typeface="Arial"/>
              </a:rPr>
              <a:t>真的是可愛”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100" spc="-1" strike="noStrike">
                <a:solidFill>
                  <a:srgbClr val="ff0000"/>
                </a:solidFill>
                <a:latin typeface="Arial"/>
              </a:rPr>
              <a:t>廣告很好玩”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 及</a:t>
            </a:r>
            <a:r>
              <a:rPr b="1" lang="zh-CN" sz="2100" spc="-1" strike="noStrike">
                <a:solidFill>
                  <a:srgbClr val="3333cc"/>
                </a:solidFill>
                <a:latin typeface="Arial"/>
              </a:rPr>
              <a:t>“果汁看起來很好喝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文本框 940033"/>
          <p:cNvSpPr/>
          <p:nvPr/>
        </p:nvSpPr>
        <p:spPr>
          <a:xfrm>
            <a:off x="1238400" y="76212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細明體"/>
              </a:rPr>
              <a:t>Hy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矩形 940035"/>
          <p:cNvSpPr/>
          <p:nvPr/>
        </p:nvSpPr>
        <p:spPr>
          <a:xfrm>
            <a:off x="4324680" y="838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Comic Sans MS"/>
                <a:ea typeface="細明體"/>
              </a:rPr>
              <a:t>落地陳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图片 940036" descr=""/>
          <p:cNvPicPr/>
          <p:nvPr/>
        </p:nvPicPr>
        <p:blipFill>
          <a:blip r:embed="rId1"/>
          <a:stretch/>
        </p:blipFill>
        <p:spPr>
          <a:xfrm>
            <a:off x="1488960" y="175248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22093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对象 287752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609480" cy="419040"/>
          </a:xfrm>
          <a:prstGeom prst="rect">
            <a:avLst/>
          </a:prstGeom>
          <a:ln w="0">
            <a:noFill/>
          </a:ln>
        </p:spPr>
      </p:pic>
      <p:sp>
        <p:nvSpPr>
          <p:cNvPr id="94" name="矩形 287753"/>
          <p:cNvSpPr/>
          <p:nvPr/>
        </p:nvSpPr>
        <p:spPr>
          <a:xfrm>
            <a:off x="6932160" y="304920"/>
            <a:ext cx="2563200" cy="374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8640" rIns="98640" tIns="50040" bIns="50040" anchor="t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wire Coca-Cola Tai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287758"/>
          <p:cNvSpPr/>
          <p:nvPr/>
        </p:nvSpPr>
        <p:spPr>
          <a:xfrm>
            <a:off x="1219320" y="129528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文本框 287760"/>
          <p:cNvSpPr/>
          <p:nvPr/>
        </p:nvSpPr>
        <p:spPr>
          <a:xfrm>
            <a:off x="609480" y="114300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287762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800" spc="-1" strike="noStrike">
                <a:solidFill>
                  <a:srgbClr val="e1291b"/>
                </a:solidFill>
                <a:latin typeface="研澤中圓體"/>
                <a:ea typeface="研澤中圓體"/>
              </a:rPr>
              <a:t>討 論 大 綱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矩形 287763"/>
          <p:cNvSpPr/>
          <p:nvPr/>
        </p:nvSpPr>
        <p:spPr>
          <a:xfrm>
            <a:off x="68580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研澤中圓體"/>
                <a:ea typeface="研澤中圓體"/>
              </a:rPr>
              <a:t>一 業務員掌上型電腦 </a:t>
            </a:r>
            <a:r>
              <a:rPr b="0" lang="en-US" sz="2800" spc="-1" strike="noStrike">
                <a:solidFill>
                  <a:srgbClr val="003399"/>
                </a:solidFill>
                <a:latin typeface="研澤中圓體"/>
                <a:ea typeface="研澤中圓體"/>
              </a:rPr>
              <a:t>H  H  T </a:t>
            </a:r>
            <a:r>
              <a:rPr b="0" lang="zh-CN" sz="2800" spc="-1" strike="noStrike">
                <a:solidFill>
                  <a:srgbClr val="003399"/>
                </a:solidFill>
                <a:latin typeface="研澤中圓體"/>
                <a:ea typeface="研澤中圓體"/>
              </a:rPr>
              <a:t>的架構與運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研澤中圓體"/>
                <a:ea typeface="研澤中圓體"/>
              </a:rPr>
              <a:t>二 通路變革所面臨的問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6680" indent="384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研澤中圓體"/>
                <a:ea typeface="研澤中圓體"/>
              </a:rPr>
              <a:t>   </a:t>
            </a:r>
            <a:r>
              <a:rPr b="0" lang="zh-CN" sz="2800" spc="-1" strike="noStrike">
                <a:solidFill>
                  <a:srgbClr val="003399"/>
                </a:solidFill>
                <a:latin typeface="研澤中圓體"/>
                <a:ea typeface="研澤中圓體"/>
              </a:rPr>
              <a:t>行銷通路縮短化專業化集中化現代化白熱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研澤中圓體"/>
                <a:ea typeface="研澤中圓體"/>
              </a:rPr>
              <a:t>三 整體通路策略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6680" indent="384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研澤中圓體"/>
                <a:ea typeface="研澤中圓體"/>
              </a:rPr>
              <a:t>   </a:t>
            </a:r>
            <a:r>
              <a:rPr b="0" lang="zh-CN" sz="2800" spc="-1" strike="noStrike">
                <a:solidFill>
                  <a:srgbClr val="003399"/>
                </a:solidFill>
                <a:latin typeface="研澤中圓體"/>
                <a:ea typeface="研澤中圓體"/>
              </a:rPr>
              <a:t>目標 </a:t>
            </a:r>
            <a:r>
              <a:rPr b="0" lang="en-US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3399"/>
                </a:solidFill>
                <a:latin typeface="研澤中圓體"/>
                <a:ea typeface="研澤中圓體"/>
              </a:rPr>
              <a:t> </a:t>
            </a:r>
            <a:r>
              <a:rPr b="0" lang="zh-CN" sz="2800" spc="-1" strike="noStrike">
                <a:solidFill>
                  <a:srgbClr val="003399"/>
                </a:solidFill>
                <a:latin typeface="研澤中圓體"/>
                <a:ea typeface="研澤中圓體"/>
              </a:rPr>
              <a:t>策略 </a:t>
            </a:r>
            <a:r>
              <a:rPr b="0" lang="en-US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3399"/>
                </a:solidFill>
                <a:latin typeface="研澤中圓體"/>
                <a:ea typeface="研澤中圓體"/>
              </a:rPr>
              <a:t> </a:t>
            </a:r>
            <a:r>
              <a:rPr b="0" lang="zh-CN" sz="2800" spc="-1" strike="noStrike">
                <a:solidFill>
                  <a:srgbClr val="003399"/>
                </a:solidFill>
                <a:latin typeface="研澤中圓體"/>
                <a:ea typeface="研澤中圓體"/>
              </a:rPr>
              <a:t>行動方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研澤中圓體"/>
                <a:ea typeface="研澤中圓體"/>
              </a:rPr>
              <a:t>四 通路功能再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研澤中圓體"/>
                <a:ea typeface="研澤中圓體"/>
              </a:rPr>
              <a:t>五 可口可樂的通路管理哲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对象 287765" descr=""/>
          <p:cNvPicPr/>
          <p:nvPr/>
        </p:nvPicPr>
        <p:blipFill>
          <a:blip r:embed="rId3"/>
          <a:stretch/>
        </p:blipFill>
        <p:spPr>
          <a:xfrm>
            <a:off x="0" y="5665680"/>
            <a:ext cx="1219320" cy="119232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文本框 941057"/>
          <p:cNvSpPr/>
          <p:nvPr/>
        </p:nvSpPr>
        <p:spPr>
          <a:xfrm>
            <a:off x="743040" y="914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細明體"/>
              </a:rPr>
              <a:t>Hyper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細明體"/>
              </a:rPr>
              <a:t>量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文本框 941058"/>
          <p:cNvSpPr/>
          <p:nvPr/>
        </p:nvSpPr>
        <p:spPr>
          <a:xfrm>
            <a:off x="1816200" y="228600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細明體"/>
              </a:rPr>
              <a:t>鉛筆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矩形 941059"/>
          <p:cNvSpPr/>
          <p:nvPr/>
        </p:nvSpPr>
        <p:spPr>
          <a:xfrm>
            <a:off x="2590920" y="99072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細明體"/>
              </a:rPr>
              <a:t>250ml-6pack &amp;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  <a:ea typeface="細明體"/>
              </a:rPr>
              <a:t>　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細明體"/>
              </a:rPr>
              <a:t>1.5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文本框 941060"/>
          <p:cNvSpPr/>
          <p:nvPr/>
        </p:nvSpPr>
        <p:spPr>
          <a:xfrm>
            <a:off x="5181480" y="22096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細明體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細明體"/>
              </a:rPr>
              <a:t>削筆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矩形 941063"/>
          <p:cNvSpPr/>
          <p:nvPr/>
        </p:nvSpPr>
        <p:spPr>
          <a:xfrm>
            <a:off x="1408320" y="18288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細明體"/>
              </a:rPr>
              <a:t>250ml-6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矩形 941064"/>
          <p:cNvSpPr/>
          <p:nvPr/>
        </p:nvSpPr>
        <p:spPr>
          <a:xfrm>
            <a:off x="5368320" y="182880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細明體"/>
              </a:rPr>
              <a:t>1.5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图片 941066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941067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164772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文本框 942082"/>
          <p:cNvSpPr/>
          <p:nvPr/>
        </p:nvSpPr>
        <p:spPr>
          <a:xfrm>
            <a:off x="495720" y="76212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uper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Comic Sans MS"/>
              </a:rPr>
              <a:t>超市店通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文本框 942083"/>
          <p:cNvSpPr/>
          <p:nvPr/>
        </p:nvSpPr>
        <p:spPr>
          <a:xfrm>
            <a:off x="330120" y="1676520"/>
            <a:ext cx="957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產品口味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Orange &amp; Gra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產品包裝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PET 500ml &amp; 1.5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PK 330ml-6pack &amp; 330ml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預計上市時間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KA &amp;GT - 11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行銷計劃方向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對象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500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家銷量高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配合度高的據點 </a:t>
            </a:r>
            <a:r>
              <a:rPr b="1" lang="en-US" sz="1800" spc="-1" strike="noStrike">
                <a:solidFill>
                  <a:srgbClr val="00cc99"/>
                </a:solidFill>
                <a:latin typeface="Comic Sans MS"/>
              </a:rPr>
              <a:t>(</a:t>
            </a:r>
            <a:r>
              <a:rPr b="1" lang="zh-CN" sz="1800" spc="-1" strike="noStrike">
                <a:solidFill>
                  <a:srgbClr val="00cc99"/>
                </a:solidFill>
                <a:latin typeface="Comic Sans MS"/>
              </a:rPr>
              <a:t>每次下貨量</a:t>
            </a:r>
            <a:r>
              <a:rPr b="1" lang="en-US" sz="1800" spc="-1" strike="noStrike">
                <a:solidFill>
                  <a:srgbClr val="00cc99"/>
                </a:solidFill>
                <a:latin typeface="Comic Sans MS"/>
              </a:rPr>
              <a:t>:10-20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Comic Sans MS"/>
              </a:rPr>
              <a:t>促銷方案</a:t>
            </a:r>
            <a:r>
              <a:rPr b="1" lang="en-US" sz="2400" spc="-1" strike="noStrike">
                <a:solidFill>
                  <a:srgbClr val="00cc99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cc99"/>
                </a:solidFill>
                <a:latin typeface="Comic Sans MS"/>
                <a:ea typeface="PMingLiU"/>
              </a:rPr>
              <a:t>PET 1.5L &amp; TPK 330ml-6</a:t>
            </a:r>
            <a:r>
              <a:rPr b="1" lang="zh-CN" sz="2400" spc="-1" strike="noStrike">
                <a:solidFill>
                  <a:srgbClr val="00cc99"/>
                </a:solidFill>
                <a:latin typeface="Comic Sans MS"/>
                <a:ea typeface="PMingLiU"/>
              </a:rPr>
              <a:t>包裝 </a:t>
            </a:r>
            <a:r>
              <a:rPr b="1" lang="en-US" sz="2400" spc="-1" strike="noStrike">
                <a:solidFill>
                  <a:srgbClr val="00cc99"/>
                </a:solidFill>
                <a:latin typeface="Comic Sans MS"/>
                <a:ea typeface="PMingLiU"/>
              </a:rPr>
              <a:t>on-pack </a:t>
            </a:r>
            <a:r>
              <a:rPr b="1" lang="zh-CN" sz="2400" spc="-1" strike="noStrike">
                <a:solidFill>
                  <a:srgbClr val="00cc99"/>
                </a:solidFill>
                <a:latin typeface="Comic Sans MS"/>
                <a:ea typeface="PMingLiU"/>
              </a:rPr>
              <a:t>小贈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店內規劃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陳列人員執行堆箱陳列任務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店家提供端架陳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&amp;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店內佈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或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箱陳列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&amp;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串旗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&amp;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海報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&amp;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冰箱整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矩形 942084"/>
          <p:cNvSpPr/>
          <p:nvPr/>
        </p:nvSpPr>
        <p:spPr>
          <a:xfrm>
            <a:off x="5553000" y="83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PMingLiU"/>
              </a:rPr>
              <a:t>酷兒說：把我帶回家一起玩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文本框 942085"/>
          <p:cNvSpPr/>
          <p:nvPr/>
        </p:nvSpPr>
        <p:spPr>
          <a:xfrm>
            <a:off x="3708000" y="3886200"/>
            <a:ext cx="25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omic Sans MS"/>
              </a:rPr>
              <a:t>進貨後的第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Comic Sans MS"/>
              </a:rPr>
              <a:t>個月有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on-Pa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文本框 942086"/>
          <p:cNvSpPr/>
          <p:nvPr/>
        </p:nvSpPr>
        <p:spPr>
          <a:xfrm>
            <a:off x="2418480" y="5791320"/>
            <a:ext cx="3548160" cy="33732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Comic Sans MS"/>
              </a:rPr>
              <a:t>選出一客戶</a:t>
            </a: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, </a:t>
            </a:r>
            <a:r>
              <a:rPr b="1" lang="zh-CN" sz="1600" spc="-1" strike="noStrike">
                <a:solidFill>
                  <a:srgbClr val="ff3300"/>
                </a:solidFill>
                <a:latin typeface="Comic Sans MS"/>
              </a:rPr>
              <a:t>並要求旗下所有門市都能配合</a:t>
            </a: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in-store</a:t>
            </a:r>
            <a:r>
              <a:rPr b="1" lang="zh-CN" sz="1600" spc="-1" strike="noStrike">
                <a:solidFill>
                  <a:srgbClr val="ff3300"/>
                </a:solidFill>
                <a:latin typeface="Comic Sans MS"/>
              </a:rPr>
              <a:t>派樣活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8200"/>
          <p:cNvSpPr/>
          <p:nvPr/>
        </p:nvSpPr>
        <p:spPr>
          <a:xfrm>
            <a:off x="3152880" y="404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矩形 943105"/>
          <p:cNvSpPr/>
          <p:nvPr/>
        </p:nvSpPr>
        <p:spPr>
          <a:xfrm>
            <a:off x="5283360" y="762120"/>
            <a:ext cx="1449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943106"/>
          <p:cNvSpPr/>
          <p:nvPr/>
        </p:nvSpPr>
        <p:spPr>
          <a:xfrm>
            <a:off x="1981080" y="1828800"/>
            <a:ext cx="17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360" y="685440"/>
            <a:ext cx="5200560" cy="6094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ER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超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对象 943108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1486080" cy="1905120"/>
          </a:xfrm>
          <a:prstGeom prst="rect">
            <a:avLst/>
          </a:prstGeom>
          <a:ln w="0">
            <a:noFill/>
          </a:ln>
        </p:spPr>
      </p:pic>
      <p:pic>
        <p:nvPicPr>
          <p:cNvPr id="318" name="对象 943109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1568520" cy="1600200"/>
          </a:xfrm>
          <a:prstGeom prst="rect">
            <a:avLst/>
          </a:prstGeom>
          <a:ln w="0">
            <a:noFill/>
          </a:ln>
        </p:spPr>
      </p:pic>
      <p:sp>
        <p:nvSpPr>
          <p:cNvPr id="319" name="文本框 943110"/>
          <p:cNvSpPr/>
          <p:nvPr/>
        </p:nvSpPr>
        <p:spPr>
          <a:xfrm>
            <a:off x="1468800" y="327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細明體"/>
              </a:rPr>
              <a:t>蠟筆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文本框 943111"/>
          <p:cNvSpPr/>
          <p:nvPr/>
        </p:nvSpPr>
        <p:spPr>
          <a:xfrm>
            <a:off x="6725160" y="335268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細明體"/>
              </a:rPr>
              <a:t>PVC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細明體"/>
              </a:rPr>
              <a:t>手提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对象 943112" descr=""/>
          <p:cNvPicPr/>
          <p:nvPr/>
        </p:nvPicPr>
        <p:blipFill>
          <a:blip r:embed="rId3"/>
          <a:stretch/>
        </p:blipFill>
        <p:spPr>
          <a:xfrm>
            <a:off x="825480" y="1676520"/>
            <a:ext cx="2228760" cy="1466640"/>
          </a:xfrm>
          <a:prstGeom prst="rect">
            <a:avLst/>
          </a:prstGeom>
          <a:ln w="0">
            <a:noFill/>
          </a:ln>
        </p:spPr>
      </p:pic>
      <p:pic>
        <p:nvPicPr>
          <p:cNvPr id="322" name="对象 943113" descr=""/>
          <p:cNvPicPr/>
          <p:nvPr/>
        </p:nvPicPr>
        <p:blipFill>
          <a:blip r:embed="rId4"/>
          <a:stretch/>
        </p:blipFill>
        <p:spPr>
          <a:xfrm>
            <a:off x="2889360" y="4038480"/>
            <a:ext cx="1650960" cy="1828800"/>
          </a:xfrm>
          <a:prstGeom prst="rect">
            <a:avLst/>
          </a:prstGeom>
          <a:ln w="0">
            <a:noFill/>
          </a:ln>
        </p:spPr>
      </p:pic>
      <p:sp>
        <p:nvSpPr>
          <p:cNvPr id="323" name="文本框 943114"/>
          <p:cNvSpPr/>
          <p:nvPr/>
        </p:nvSpPr>
        <p:spPr>
          <a:xfrm>
            <a:off x="3501360" y="175248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細明體"/>
              </a:rPr>
              <a:t>330ML-6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矩形 943115"/>
          <p:cNvSpPr/>
          <p:nvPr/>
        </p:nvSpPr>
        <p:spPr>
          <a:xfrm>
            <a:off x="5022720" y="426708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細明體"/>
              </a:rPr>
              <a:t>1.5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矩形 943116"/>
          <p:cNvSpPr/>
          <p:nvPr/>
        </p:nvSpPr>
        <p:spPr>
          <a:xfrm>
            <a:off x="5146560" y="4952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細明體"/>
              </a:rPr>
              <a:t>削筆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D6F5-2D0A-40AA-A35D-C524BDE903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944129"/>
          <p:cNvSpPr/>
          <p:nvPr/>
        </p:nvSpPr>
        <p:spPr>
          <a:xfrm>
            <a:off x="5283360" y="762120"/>
            <a:ext cx="1449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矩形 944130"/>
          <p:cNvSpPr/>
          <p:nvPr/>
        </p:nvSpPr>
        <p:spPr>
          <a:xfrm>
            <a:off x="1981080" y="1828800"/>
            <a:ext cx="17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590560" y="3123720"/>
            <a:ext cx="4190760" cy="838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 fontScale="82000"/>
          </a:bodyPr>
          <a:p>
            <a:pPr marL="524520" indent="-524520">
              <a:spcBef>
                <a:spcPts val="901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The end thank you 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对象 94415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1008000" cy="1293840"/>
          </a:xfrm>
          <a:prstGeom prst="rect">
            <a:avLst/>
          </a:prstGeom>
          <a:ln w="0">
            <a:noFill/>
          </a:ln>
        </p:spPr>
      </p:pic>
      <p:pic>
        <p:nvPicPr>
          <p:cNvPr id="334" name="对象 944154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1128600" cy="1051200"/>
          </a:xfrm>
          <a:prstGeom prst="rect">
            <a:avLst/>
          </a:prstGeom>
          <a:ln w="0">
            <a:noFill/>
          </a:ln>
        </p:spPr>
      </p:pic>
      <p:pic>
        <p:nvPicPr>
          <p:cNvPr id="335" name="对象 944155" descr=""/>
          <p:cNvPicPr/>
          <p:nvPr/>
        </p:nvPicPr>
        <p:blipFill>
          <a:blip r:embed="rId3"/>
          <a:stretch/>
        </p:blipFill>
        <p:spPr>
          <a:xfrm>
            <a:off x="2057400" y="4495680"/>
            <a:ext cx="1014480" cy="946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5035320" y="1752480"/>
            <a:ext cx="360" cy="4114800"/>
            <a:chOff x="5035320" y="1752480"/>
            <a:chExt cx="360" cy="4114800"/>
          </a:xfrm>
        </p:grpSpPr>
        <p:sp>
          <p:nvSpPr>
            <p:cNvPr id="102" name="直接连接符 949249"/>
            <p:cNvSpPr/>
            <p:nvPr/>
          </p:nvSpPr>
          <p:spPr>
            <a:xfrm flipV="1">
              <a:off x="5035680" y="1752480"/>
              <a:ext cx="0" cy="4114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 rot="10800000">
              <a:off x="5035320" y="175248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971800" y="2971800"/>
            <a:ext cx="4044960" cy="1295280"/>
            <a:chOff x="2971800" y="2971800"/>
            <a:chExt cx="4044960" cy="1295280"/>
          </a:xfrm>
        </p:grpSpPr>
        <p:sp>
          <p:nvSpPr>
            <p:cNvPr id="105" name="直接连接符 949250"/>
            <p:cNvSpPr/>
            <p:nvPr/>
          </p:nvSpPr>
          <p:spPr>
            <a:xfrm>
              <a:off x="2971800" y="2971800"/>
              <a:ext cx="4044960" cy="129528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2971800" y="2971800"/>
              <a:ext cx="40449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85720" y="-22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02 HHT Structure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架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19480" y="2133720"/>
            <a:ext cx="3714840" cy="3124080"/>
            <a:chOff x="3219480" y="2133720"/>
            <a:chExt cx="3714840" cy="3124080"/>
          </a:xfrm>
        </p:grpSpPr>
        <p:sp>
          <p:nvSpPr>
            <p:cNvPr id="109" name="直接连接符 949252"/>
            <p:cNvSpPr/>
            <p:nvPr/>
          </p:nvSpPr>
          <p:spPr>
            <a:xfrm>
              <a:off x="3219480" y="2133720"/>
              <a:ext cx="3714840" cy="312408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3219480" y="2133720"/>
              <a:ext cx="3714840" cy="31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41680" y="2971800"/>
            <a:ext cx="4457520" cy="1371600"/>
            <a:chOff x="2641680" y="2971800"/>
            <a:chExt cx="4457520" cy="1371600"/>
          </a:xfrm>
        </p:grpSpPr>
        <p:sp>
          <p:nvSpPr>
            <p:cNvPr id="112" name="直接连接符 949253"/>
            <p:cNvSpPr/>
            <p:nvPr/>
          </p:nvSpPr>
          <p:spPr>
            <a:xfrm flipV="1">
              <a:off x="2641680" y="2971800"/>
              <a:ext cx="4457520" cy="13716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 rot="10800000">
              <a:off x="2641680" y="2971800"/>
              <a:ext cx="445752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054240" y="1904760"/>
            <a:ext cx="4044960" cy="3429000"/>
            <a:chOff x="3054240" y="1904760"/>
            <a:chExt cx="4044960" cy="3429000"/>
          </a:xfrm>
        </p:grpSpPr>
        <p:sp>
          <p:nvSpPr>
            <p:cNvPr id="115" name="直接连接符 949254"/>
            <p:cNvSpPr/>
            <p:nvPr/>
          </p:nvSpPr>
          <p:spPr>
            <a:xfrm flipV="1">
              <a:off x="3054240" y="1904760"/>
              <a:ext cx="4044960" cy="34290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10800000">
              <a:off x="3054240" y="1904760"/>
              <a:ext cx="4044960" cy="342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圆角矩形 949255"/>
          <p:cNvSpPr/>
          <p:nvPr/>
        </p:nvSpPr>
        <p:spPr>
          <a:xfrm>
            <a:off x="3797280" y="1074600"/>
            <a:ext cx="2482920" cy="113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路線資訊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通訊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 Information /Commun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圆角矩形 949256"/>
          <p:cNvSpPr/>
          <p:nvPr/>
        </p:nvSpPr>
        <p:spPr>
          <a:xfrm>
            <a:off x="811080" y="2362320"/>
            <a:ext cx="2484720" cy="113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訂單拿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rder Taking </a:t>
            </a:r>
            <a:r>
              <a:rPr b="0" lang="en-US" sz="1800" spc="-1" strike="noStrike">
                <a:solidFill>
                  <a:srgbClr val="ff0000"/>
                </a:solidFill>
                <a:latin typeface="Beach"/>
                <a:ea typeface="新造勘亭流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圆角矩形 949257"/>
          <p:cNvSpPr/>
          <p:nvPr/>
        </p:nvSpPr>
        <p:spPr>
          <a:xfrm>
            <a:off x="811080" y="1074600"/>
            <a:ext cx="2484720" cy="113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一般性需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requirement</a:t>
            </a:r>
            <a:r>
              <a:rPr b="0" lang="en-US" sz="1800" spc="-1" strike="noStrike">
                <a:solidFill>
                  <a:srgbClr val="ffffff"/>
                </a:solidFill>
                <a:latin typeface="Beach"/>
                <a:ea typeface="新造勘亭流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圆角矩形 949258"/>
          <p:cNvSpPr/>
          <p:nvPr/>
        </p:nvSpPr>
        <p:spPr>
          <a:xfrm>
            <a:off x="6769080" y="2362320"/>
            <a:ext cx="2482920" cy="113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價格與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折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cing &amp; Discount </a:t>
            </a:r>
            <a:r>
              <a:rPr b="0" lang="en-US" sz="1800" spc="-1" strike="noStrike">
                <a:solidFill>
                  <a:srgbClr val="ffffff"/>
                </a:solidFill>
                <a:latin typeface="Beach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圆角矩形 949259"/>
          <p:cNvSpPr/>
          <p:nvPr/>
        </p:nvSpPr>
        <p:spPr>
          <a:xfrm>
            <a:off x="6769080" y="1074600"/>
            <a:ext cx="2482920" cy="113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查詢功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quiry Func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圆角矩形 949260"/>
          <p:cNvSpPr/>
          <p:nvPr/>
        </p:nvSpPr>
        <p:spPr>
          <a:xfrm>
            <a:off x="819000" y="3741840"/>
            <a:ext cx="2482920" cy="113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權限控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Control</a:t>
            </a:r>
            <a:r>
              <a:rPr b="0" lang="en-US" sz="1800" spc="-1" strike="noStrike">
                <a:solidFill>
                  <a:srgbClr val="000000"/>
                </a:solidFill>
                <a:latin typeface="Beach"/>
                <a:ea typeface="新造勘亭流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圆角矩形 949261"/>
          <p:cNvSpPr/>
          <p:nvPr/>
        </p:nvSpPr>
        <p:spPr>
          <a:xfrm>
            <a:off x="6769080" y="3733920"/>
            <a:ext cx="2482920" cy="113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控制檢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 Che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圆角矩形 949262"/>
          <p:cNvSpPr/>
          <p:nvPr/>
        </p:nvSpPr>
        <p:spPr>
          <a:xfrm>
            <a:off x="811080" y="5113440"/>
            <a:ext cx="2484720" cy="113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庫存盤點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ventory Checking</a:t>
            </a:r>
            <a:r>
              <a:rPr b="0" lang="en-US" sz="1800" spc="-1" strike="noStrike">
                <a:solidFill>
                  <a:srgbClr val="ff0000"/>
                </a:solidFill>
                <a:latin typeface="Beach"/>
                <a:ea typeface="新造勘亭流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圆角矩形 949263"/>
          <p:cNvSpPr/>
          <p:nvPr/>
        </p:nvSpPr>
        <p:spPr>
          <a:xfrm>
            <a:off x="3797280" y="5105520"/>
            <a:ext cx="2482920" cy="113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生動化查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rchandising Tracking</a:t>
            </a:r>
            <a:r>
              <a:rPr b="0" lang="en-US" sz="1800" spc="-1" strike="noStrike">
                <a:solidFill>
                  <a:srgbClr val="ff0000"/>
                </a:solidFill>
                <a:latin typeface="Beach"/>
                <a:ea typeface="新造勘亭流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圆角矩形 949264"/>
          <p:cNvSpPr/>
          <p:nvPr/>
        </p:nvSpPr>
        <p:spPr>
          <a:xfrm>
            <a:off x="6769080" y="5113440"/>
            <a:ext cx="2482920" cy="113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市場資料收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rket Informa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椭圆 949265"/>
          <p:cNvSpPr/>
          <p:nvPr/>
        </p:nvSpPr>
        <p:spPr>
          <a:xfrm>
            <a:off x="3911760" y="2971800"/>
            <a:ext cx="2279520" cy="1373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ach"/>
                <a:ea typeface="Arial Unicode MS"/>
              </a:rPr>
              <a:t>H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533520" y="4568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HT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掌上型電腦的目標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240" y="1523520"/>
            <a:ext cx="9061560" cy="49532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研澤中圓體"/>
                <a:ea typeface="研澤中圓體"/>
              </a:rPr>
              <a:t>使用具有行動通訊能力的系統工具</a:t>
            </a:r>
            <a:r>
              <a:rPr b="1" lang="zh-CN" sz="3100" spc="-1" strike="noStrike">
                <a:solidFill>
                  <a:srgbClr val="3333cc"/>
                </a:solidFill>
                <a:latin typeface="研澤中圓體"/>
                <a:ea typeface="研澤中圓體"/>
              </a:rPr>
              <a:t>支援業務代表之訂單作業</a:t>
            </a:r>
            <a:r>
              <a:rPr b="0" lang="zh-CN" sz="3100" spc="-1" strike="noStrike">
                <a:solidFill>
                  <a:srgbClr val="000000"/>
                </a:solidFill>
                <a:latin typeface="研澤中圓體"/>
                <a:ea typeface="研澤中圓體"/>
              </a:rPr>
              <a:t>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研澤中圓體"/>
                <a:ea typeface="研澤中圓體"/>
              </a:rPr>
              <a:t>具整合的中央資料庫，</a:t>
            </a:r>
            <a:r>
              <a:rPr b="1" lang="zh-CN" sz="3100" spc="-1" strike="noStrike">
                <a:solidFill>
                  <a:srgbClr val="3333cc"/>
                </a:solidFill>
                <a:latin typeface="研澤中圓體"/>
                <a:ea typeface="研澤中圓體"/>
              </a:rPr>
              <a:t>提供業務資訊</a:t>
            </a:r>
            <a:r>
              <a:rPr b="0" lang="zh-CN" sz="3100" spc="-1" strike="noStrike">
                <a:solidFill>
                  <a:srgbClr val="000000"/>
                </a:solidFill>
                <a:latin typeface="研澤中圓體"/>
                <a:ea typeface="研澤中圓體"/>
              </a:rPr>
              <a:t>諸如：客戶資料、歷史銷售</a:t>
            </a:r>
            <a:r>
              <a:rPr b="0" lang="zh-CN" sz="3100" spc="-1" strike="noStrike">
                <a:solidFill>
                  <a:srgbClr val="ffffff"/>
                </a:solidFill>
                <a:latin typeface="研澤中圓體"/>
                <a:ea typeface="研澤中圓體"/>
              </a:rPr>
              <a:t>、</a:t>
            </a:r>
            <a:r>
              <a:rPr b="0" lang="zh-CN" sz="3100" spc="-1" strike="noStrike">
                <a:solidFill>
                  <a:srgbClr val="000000"/>
                </a:solidFill>
                <a:latin typeface="研澤中圓體"/>
                <a:ea typeface="研澤中圓體"/>
              </a:rPr>
              <a:t>和及時的價格資訊，藉此</a:t>
            </a:r>
            <a:r>
              <a:rPr b="1" lang="zh-CN" sz="3100" spc="-1" strike="noStrike">
                <a:solidFill>
                  <a:srgbClr val="3333cc"/>
                </a:solidFill>
                <a:latin typeface="研澤中圓體"/>
                <a:ea typeface="研澤中圓體"/>
              </a:rPr>
              <a:t>幫助業務代表瞭解並提供更好的服務給客戶</a:t>
            </a:r>
            <a:r>
              <a:rPr b="0" lang="zh-CN" sz="3100" spc="-1" strike="noStrike">
                <a:solidFill>
                  <a:srgbClr val="000000"/>
                </a:solidFill>
                <a:latin typeface="研澤中圓體"/>
                <a:ea typeface="研澤中圓體"/>
              </a:rPr>
              <a:t>而提昇效益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3333cc"/>
                </a:solidFill>
                <a:latin typeface="研澤中圓體"/>
                <a:ea typeface="研澤中圓體"/>
              </a:rPr>
              <a:t>強化業務單位與後勤單位之聯繫與溝通</a:t>
            </a:r>
            <a:r>
              <a:rPr b="0" lang="zh-CN" sz="3100" spc="-1" strike="noStrike">
                <a:solidFill>
                  <a:srgbClr val="000000"/>
                </a:solidFill>
                <a:latin typeface="研澤中圓體"/>
                <a:ea typeface="研澤中圓體"/>
              </a:rPr>
              <a:t>，縮短業務運作的反應週期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3333cc"/>
                </a:solidFill>
                <a:latin typeface="研澤中圓體"/>
                <a:ea typeface="研澤中圓體"/>
              </a:rPr>
              <a:t>無紙張的操作，節省人工輸入的時間以及減少紙張浪費</a:t>
            </a:r>
            <a:r>
              <a:rPr b="0" lang="zh-CN" sz="3100" spc="-1" strike="noStrike">
                <a:solidFill>
                  <a:srgbClr val="000000"/>
                </a:solidFill>
                <a:latin typeface="研澤中圓體"/>
                <a:ea typeface="研澤中圓體"/>
              </a:rPr>
              <a:t>。</a:t>
            </a:r>
            <a:r>
              <a:rPr b="0" lang="zh-CN" sz="3100" spc="-1" strike="noStrike">
                <a:solidFill>
                  <a:srgbClr val="ffffff"/>
                </a:solidFill>
                <a:latin typeface="研澤中圓體"/>
                <a:ea typeface="研澤中圓體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22093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对象 926722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609480" cy="419040"/>
          </a:xfrm>
          <a:prstGeom prst="rect">
            <a:avLst/>
          </a:prstGeom>
          <a:ln w="0">
            <a:noFill/>
          </a:ln>
        </p:spPr>
      </p:pic>
      <p:sp>
        <p:nvSpPr>
          <p:cNvPr id="132" name="矩形 926723"/>
          <p:cNvSpPr/>
          <p:nvPr/>
        </p:nvSpPr>
        <p:spPr>
          <a:xfrm>
            <a:off x="6932160" y="304920"/>
            <a:ext cx="2563200" cy="374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8640" rIns="98640" tIns="50040" bIns="50040" anchor="t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wire Coca-Cola Tai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文本框 926725"/>
          <p:cNvSpPr/>
          <p:nvPr/>
        </p:nvSpPr>
        <p:spPr>
          <a:xfrm>
            <a:off x="1219320" y="129528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文本框 926726"/>
          <p:cNvSpPr/>
          <p:nvPr/>
        </p:nvSpPr>
        <p:spPr>
          <a:xfrm>
            <a:off x="609480" y="114300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926727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800" spc="-1" strike="noStrike">
                <a:solidFill>
                  <a:srgbClr val="e1291b"/>
                </a:solidFill>
                <a:latin typeface="Times New Roman"/>
                <a:ea typeface="研澤中隸體"/>
              </a:rPr>
              <a:t>行銷通路趨勢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矩形 926728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36680" indent="384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研澤中隸體"/>
              </a:rPr>
              <a:t>行銷通路縮短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6680" indent="384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研澤中隸體"/>
              </a:rPr>
              <a:t>行銷通路專業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6680" indent="384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研澤中隸體"/>
              </a:rPr>
              <a:t>行銷通路集中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6680" indent="384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研澤中隸體"/>
              </a:rPr>
              <a:t>行銷通路現代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6680" indent="384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研澤中隸體"/>
              </a:rPr>
              <a:t>行銷通路競爭白熱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2093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对象 927746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609480" cy="419040"/>
          </a:xfrm>
          <a:prstGeom prst="rect">
            <a:avLst/>
          </a:prstGeom>
          <a:ln w="0">
            <a:noFill/>
          </a:ln>
        </p:spPr>
      </p:pic>
      <p:sp>
        <p:nvSpPr>
          <p:cNvPr id="139" name="矩形 927747"/>
          <p:cNvSpPr/>
          <p:nvPr/>
        </p:nvSpPr>
        <p:spPr>
          <a:xfrm>
            <a:off x="6932160" y="304920"/>
            <a:ext cx="2563200" cy="374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8640" rIns="98640" tIns="50040" bIns="50040" anchor="t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wire Coca-Cola Tai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文本框 927749"/>
          <p:cNvSpPr/>
          <p:nvPr/>
        </p:nvSpPr>
        <p:spPr>
          <a:xfrm>
            <a:off x="1219320" y="129528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文本框 927750"/>
          <p:cNvSpPr/>
          <p:nvPr/>
        </p:nvSpPr>
        <p:spPr>
          <a:xfrm>
            <a:off x="609480" y="114300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矩形 927751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800" spc="-1" strike="noStrike">
                <a:solidFill>
                  <a:srgbClr val="e1291b"/>
                </a:solidFill>
                <a:latin typeface="Times New Roman"/>
                <a:ea typeface="研澤中隸體"/>
              </a:rPr>
              <a:t>整體通路策略思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矩形 927752"/>
          <p:cNvSpPr/>
          <p:nvPr/>
        </p:nvSpPr>
        <p:spPr>
          <a:xfrm>
            <a:off x="9907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通路目標</a:t>
            </a:r>
            <a:r>
              <a:rPr b="1" lang="en-US" sz="20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: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120" indent="482760">
              <a:lnSpc>
                <a:spcPct val="100000"/>
              </a:lnSpc>
              <a:tabLst>
                <a:tab algn="l" pos="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長期目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120" indent="482760">
              <a:lnSpc>
                <a:spcPct val="100000"/>
              </a:lnSpc>
              <a:tabLst>
                <a:tab algn="l" pos="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短期目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產品組合策略</a:t>
            </a:r>
            <a:r>
              <a:rPr b="1" lang="en-US" sz="20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120" indent="482760">
              <a:lnSpc>
                <a:spcPct val="100000"/>
              </a:lnSpc>
              <a:tabLst>
                <a:tab algn="l" pos="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資源分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120" indent="482760">
              <a:lnSpc>
                <a:spcPct val="100000"/>
              </a:lnSpc>
              <a:tabLst>
                <a:tab algn="l" pos="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新產品引入或重新定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120" indent="482760">
              <a:lnSpc>
                <a:spcPct val="100000"/>
              </a:lnSpc>
              <a:tabLst>
                <a:tab algn="l" pos="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產品淘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行動方案</a:t>
            </a:r>
            <a:r>
              <a:rPr b="1" lang="en-US" sz="20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120" indent="482760">
              <a:lnSpc>
                <a:spcPct val="100000"/>
              </a:lnSpc>
              <a:tabLst>
                <a:tab algn="l" pos="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行銷通路資源分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120" indent="482760">
              <a:lnSpc>
                <a:spcPct val="100000"/>
              </a:lnSpc>
              <a:tabLst>
                <a:tab algn="l" pos="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市場劃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120" indent="482760">
              <a:lnSpc>
                <a:spcPct val="100000"/>
              </a:lnSpc>
              <a:tabLst>
                <a:tab algn="l" pos="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產品定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右箭头 927753"/>
          <p:cNvSpPr/>
          <p:nvPr/>
        </p:nvSpPr>
        <p:spPr>
          <a:xfrm>
            <a:off x="4267080" y="1828800"/>
            <a:ext cx="838440" cy="228600"/>
          </a:xfrm>
          <a:prstGeom prst="rightArrow">
            <a:avLst>
              <a:gd name="adj1" fmla="val 50000"/>
              <a:gd name="adj2" fmla="val 916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椭圆 927755"/>
          <p:cNvSpPr/>
          <p:nvPr/>
        </p:nvSpPr>
        <p:spPr>
          <a:xfrm>
            <a:off x="5562720" y="1676520"/>
            <a:ext cx="609480" cy="6094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椭圆 927758"/>
          <p:cNvSpPr/>
          <p:nvPr/>
        </p:nvSpPr>
        <p:spPr>
          <a:xfrm>
            <a:off x="5638680" y="17524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椭圆 927760"/>
          <p:cNvSpPr/>
          <p:nvPr/>
        </p:nvSpPr>
        <p:spPr>
          <a:xfrm>
            <a:off x="5715000" y="18288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椭圆 927761"/>
          <p:cNvSpPr/>
          <p:nvPr/>
        </p:nvSpPr>
        <p:spPr>
          <a:xfrm>
            <a:off x="5791320" y="1905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下箭头 927762"/>
          <p:cNvSpPr/>
          <p:nvPr/>
        </p:nvSpPr>
        <p:spPr>
          <a:xfrm>
            <a:off x="1600200" y="1905120"/>
            <a:ext cx="228600" cy="609480"/>
          </a:xfrm>
          <a:prstGeom prst="downArrow">
            <a:avLst>
              <a:gd name="adj1" fmla="val 50000"/>
              <a:gd name="adj2" fmla="val 666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下箭头 927763"/>
          <p:cNvSpPr/>
          <p:nvPr/>
        </p:nvSpPr>
        <p:spPr>
          <a:xfrm>
            <a:off x="1600200" y="30481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22093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对象 928770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609480" cy="419040"/>
          </a:xfrm>
          <a:prstGeom prst="rect">
            <a:avLst/>
          </a:prstGeom>
          <a:ln w="0">
            <a:noFill/>
          </a:ln>
        </p:spPr>
      </p:pic>
      <p:sp>
        <p:nvSpPr>
          <p:cNvPr id="153" name="矩形 928771"/>
          <p:cNvSpPr/>
          <p:nvPr/>
        </p:nvSpPr>
        <p:spPr>
          <a:xfrm>
            <a:off x="6932160" y="304920"/>
            <a:ext cx="2563200" cy="374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8640" rIns="98640" tIns="50040" bIns="50040" anchor="t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wire Coca-Cola Tai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文本框 928773"/>
          <p:cNvSpPr/>
          <p:nvPr/>
        </p:nvSpPr>
        <p:spPr>
          <a:xfrm>
            <a:off x="1219320" y="129528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文本框 928774"/>
          <p:cNvSpPr/>
          <p:nvPr/>
        </p:nvSpPr>
        <p:spPr>
          <a:xfrm>
            <a:off x="609480" y="114300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928775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研澤中隸體"/>
              </a:rPr>
              <a:t>通路功能再思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对象 928776" descr=""/>
          <p:cNvPicPr/>
          <p:nvPr/>
        </p:nvPicPr>
        <p:blipFill>
          <a:blip r:embed="rId3"/>
          <a:stretch/>
        </p:blipFill>
        <p:spPr>
          <a:xfrm>
            <a:off x="1549440" y="1690560"/>
            <a:ext cx="6089760" cy="461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22093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对象 929794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609480" cy="419040"/>
          </a:xfrm>
          <a:prstGeom prst="rect">
            <a:avLst/>
          </a:prstGeom>
          <a:ln w="0">
            <a:noFill/>
          </a:ln>
        </p:spPr>
      </p:pic>
      <p:sp>
        <p:nvSpPr>
          <p:cNvPr id="160" name="矩形 929795"/>
          <p:cNvSpPr/>
          <p:nvPr/>
        </p:nvSpPr>
        <p:spPr>
          <a:xfrm>
            <a:off x="6932160" y="304920"/>
            <a:ext cx="2563200" cy="374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8640" rIns="98640" tIns="50040" bIns="50040" anchor="t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wire Coca-Cola Tai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929797"/>
          <p:cNvSpPr/>
          <p:nvPr/>
        </p:nvSpPr>
        <p:spPr>
          <a:xfrm>
            <a:off x="1219320" y="129528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929798"/>
          <p:cNvSpPr/>
          <p:nvPr/>
        </p:nvSpPr>
        <p:spPr>
          <a:xfrm>
            <a:off x="609480" y="114300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矩形 929799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800" spc="-1" strike="noStrike">
                <a:solidFill>
                  <a:srgbClr val="e1291b"/>
                </a:solidFill>
                <a:latin typeface="Times New Roman"/>
                <a:ea typeface="研澤中隸體"/>
              </a:rPr>
              <a:t>可口可樂的通路管理哲學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矩形 929800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一 不同通路的消費者有不同的消費習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二 消費者是游移於各通路之中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三 不同通路應給予不同的產品不同的價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   </a:t>
            </a:r>
            <a:r>
              <a:rPr b="1" lang="zh-CN" sz="24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口味 包裝 品牌大小 </a:t>
            </a:r>
            <a:r>
              <a:rPr b="1" lang="en-US" sz="24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四 消費者會因通路不同而有不同的服務水準要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五 通路經營者會有不同的經營哲學與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六 分眾通路越多 經營成本越高 且是必然趨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文本框 8200"/>
          <p:cNvSpPr/>
          <p:nvPr/>
        </p:nvSpPr>
        <p:spPr>
          <a:xfrm>
            <a:off x="1857240" y="57340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2093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对象 930818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609480" cy="419040"/>
          </a:xfrm>
          <a:prstGeom prst="rect">
            <a:avLst/>
          </a:prstGeom>
          <a:ln w="0">
            <a:noFill/>
          </a:ln>
        </p:spPr>
      </p:pic>
      <p:sp>
        <p:nvSpPr>
          <p:cNvPr id="168" name="矩形 930819"/>
          <p:cNvSpPr/>
          <p:nvPr/>
        </p:nvSpPr>
        <p:spPr>
          <a:xfrm>
            <a:off x="6932160" y="304920"/>
            <a:ext cx="2563200" cy="374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8640" rIns="98640" tIns="50040" bIns="50040" anchor="t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wire Coca-Cola Tai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文本框 930821"/>
          <p:cNvSpPr/>
          <p:nvPr/>
        </p:nvSpPr>
        <p:spPr>
          <a:xfrm>
            <a:off x="1219320" y="129528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930822"/>
          <p:cNvSpPr/>
          <p:nvPr/>
        </p:nvSpPr>
        <p:spPr>
          <a:xfrm>
            <a:off x="609480" y="114300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矩形 930823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800" spc="-1" strike="noStrike">
                <a:solidFill>
                  <a:srgbClr val="e1291b"/>
                </a:solidFill>
                <a:latin typeface="Times New Roman"/>
                <a:ea typeface="研澤中隸體"/>
              </a:rPr>
              <a:t>通路的劃分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矩形 930824"/>
          <p:cNvSpPr/>
          <p:nvPr/>
        </p:nvSpPr>
        <p:spPr>
          <a:xfrm>
            <a:off x="533520" y="1523880"/>
            <a:ext cx="83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31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一 </a:t>
            </a:r>
            <a:r>
              <a:rPr b="1" lang="zh-CN" sz="31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依廠商交貨給顧客方式來分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36680" indent="384120"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3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 </a:t>
            </a:r>
            <a:r>
              <a:rPr b="1" lang="zh-CN" sz="23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經銷       直營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1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二 依通路特性來分 </a:t>
            </a:r>
            <a:r>
              <a:rPr b="1" lang="en-US" sz="31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36680" indent="384120"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 </a:t>
            </a:r>
            <a:r>
              <a:rPr b="1" lang="zh-CN" sz="23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便利商店 量販超市 速食餐飲 娛樂場所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36680" indent="384120"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3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 </a:t>
            </a:r>
            <a:r>
              <a:rPr b="1" lang="zh-CN" sz="23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戲院 </a:t>
            </a:r>
            <a:r>
              <a:rPr b="1" lang="en-US" sz="2300" spc="-1" strike="noStrike">
                <a:solidFill>
                  <a:srgbClr val="003399"/>
                </a:solidFill>
                <a:latin typeface="Times New Roman"/>
                <a:ea typeface="研澤中隸體"/>
              </a:rPr>
              <a:t>KTV </a:t>
            </a:r>
            <a:r>
              <a:rPr b="1" lang="zh-TW" sz="23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主題樂</a:t>
            </a:r>
            <a:r>
              <a:rPr b="1" lang="zh-CN" sz="23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園 學校 飯店 交通</a:t>
            </a:r>
            <a:r>
              <a:rPr b="1" lang="en-US" sz="23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1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三 依消費者消費習性來分以</a:t>
            </a:r>
            <a:r>
              <a:rPr b="1" lang="zh-TW" sz="31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:</a:t>
            </a:r>
            <a:r>
              <a:rPr b="1" lang="zh-TW" sz="31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飲料業為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36680" indent="384120"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3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 </a:t>
            </a:r>
            <a:r>
              <a:rPr b="1" lang="zh-CN" sz="23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即飲市場        帶回家享用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1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四 依客戶營業額大小來分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36680" indent="384120"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3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 </a:t>
            </a:r>
            <a:r>
              <a:rPr b="1" lang="zh-CN" sz="23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主要客戶</a:t>
            </a:r>
            <a:r>
              <a:rPr b="1" lang="zh-TW" sz="2300" spc="-1" strike="noStrike">
                <a:solidFill>
                  <a:srgbClr val="003399"/>
                </a:solidFill>
                <a:latin typeface="研澤中隸體"/>
                <a:ea typeface="研澤中隸體"/>
              </a:rPr>
              <a:t>       小型客戶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左右箭头 930825"/>
          <p:cNvSpPr/>
          <p:nvPr/>
        </p:nvSpPr>
        <p:spPr>
          <a:xfrm>
            <a:off x="2438280" y="2133720"/>
            <a:ext cx="457200" cy="228600"/>
          </a:xfrm>
          <a:prstGeom prst="leftRightArrow">
            <a:avLst>
              <a:gd name="adj1" fmla="val 50000"/>
              <a:gd name="adj2" fmla="val 40000"/>
            </a:avLst>
          </a:prstGeom>
          <a:solidFill>
            <a:srgbClr val="ff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左右箭头 930826"/>
          <p:cNvSpPr/>
          <p:nvPr/>
        </p:nvSpPr>
        <p:spPr>
          <a:xfrm>
            <a:off x="3048120" y="4419720"/>
            <a:ext cx="457200" cy="228600"/>
          </a:xfrm>
          <a:prstGeom prst="leftRightArrow">
            <a:avLst>
              <a:gd name="adj1" fmla="val 50000"/>
              <a:gd name="adj2" fmla="val 40000"/>
            </a:avLst>
          </a:prstGeom>
          <a:solidFill>
            <a:srgbClr val="ff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左右箭头 930827"/>
          <p:cNvSpPr/>
          <p:nvPr/>
        </p:nvSpPr>
        <p:spPr>
          <a:xfrm>
            <a:off x="3124080" y="5410080"/>
            <a:ext cx="457200" cy="228600"/>
          </a:xfrm>
          <a:prstGeom prst="leftRightArrow">
            <a:avLst>
              <a:gd name="adj1" fmla="val 50000"/>
              <a:gd name="adj2" fmla="val 40000"/>
            </a:avLst>
          </a:prstGeom>
          <a:solidFill>
            <a:srgbClr val="ff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8T01:1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001-08-01T03:01:00Z</cp:lastPrinted>
  <dcterms:modified xsi:type="dcterms:W3CDTF">2015-12-12T07:05:55Z</dcterms:modified>
  <cp:revision>4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