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05F-DAD8-4D8E-9A70-6F33FD0E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394848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DC6-3550-4443-A6AB-D25DCC25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AA4-2D80-420D-B2C6-EFE55F3B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CD0-4CBD-49F9-ACE5-9A07545C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58F2-0E5E-4073-959D-4A0904ED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9193-1F60-44BC-BB86-29E2C9B4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A694-2CA5-4870-95AA-1980F9E2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0754-9B17-4A50-BB13-039C7BE6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53D0-E0B1-422C-B2A1-6A161C50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14600" y="3045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061B-5B59-462C-A90D-B12F61C4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C2DC-1001-4E34-AA29-EE40D303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25B-40E1-4BEA-9002-ADB322A6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E39B-87D1-42B9-9520-37F471BC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A20D-D2E3-4CE8-8475-DE5593DA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394848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E78F-818A-4AD4-B5D2-4E6D602A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8732-9B15-4F14-AE4E-CFD4CAE4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CD04-B571-48FB-B7F3-0D23FC1E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9D40E-CFD6-4EED-AB17-44424677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04EB5-F55D-4900-9B89-DB9F3141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574E8-B80A-47E0-8FFD-F8EED716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1920-FC01-4EB9-BA76-52F063F0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F4AD-5AA0-4823-8FE0-23C0B628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24F-BDDF-46F7-A76E-90100368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514600" y="3045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3616E-00C7-4553-868A-C555F256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C096-2E63-43B3-8035-A28AEFF3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568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B285-B423-4063-86E4-86C3E5D6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2726E-295B-4940-B5FD-F2DB4B81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14600" y="394848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D787E-B4B3-479E-961C-E66ECDAC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75568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F745-46E3-467C-8306-7E364F23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914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146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530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914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5EF6-03B1-4DFF-A53E-2A34412B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97C-9182-462D-BF2C-77354331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DED-8F98-4716-958E-61C80C68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14600" y="3045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18F-E093-43B6-914F-C0B4BB9D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BA9-DC24-4690-9214-8DCCD530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FF7-969E-485F-AEA1-B829973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75A-1AC4-4123-88FE-A369A67B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43160" indent="443160" algn="r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886680" algn="r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330200" indent="-443160" algn="r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1773720" indent="-886680" algn="r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1773720" indent="-88668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1773720" indent="-88668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D8E3-C3E1-4EB9-B95F-80042DF75D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903C-602E-4E95-8582-2D493572348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24E0-1EFC-4F5F-B08B-7E474DE4E8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43160" indent="443160" algn="r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886680" algn="r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330200" indent="-443160" algn="r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1773720" indent="-886680" algn="r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1773720" indent="-88668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1773720" indent="-88668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441E-C402-453F-8018-77DD288F97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66720" y="1218960"/>
            <a:ext cx="4343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Black"/>
                <a:ea typeface="宋体"/>
              </a:rPr>
              <a:t>Bearing the Cros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343040" y="2743200"/>
            <a:ext cx="42670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宋体"/>
              </a:rPr>
              <a:t>Your Sub Title Here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图片 2052" descr="verse"/>
          <p:cNvPicPr/>
          <p:nvPr/>
        </p:nvPicPr>
        <p:blipFill>
          <a:blip r:embed="rId1"/>
          <a:stretch/>
        </p:blipFill>
        <p:spPr>
          <a:xfrm>
            <a:off x="3533760" y="4276800"/>
            <a:ext cx="5153040" cy="227628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012320" y="260280"/>
            <a:ext cx="64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卡通版工作报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Your Main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宋体"/>
              </a:rPr>
              <a:t>Your Sub Points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文本框 8198"/>
          <p:cNvSpPr/>
          <p:nvPr/>
        </p:nvSpPr>
        <p:spPr>
          <a:xfrm>
            <a:off x="1187280" y="4581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r Main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Your Sub Points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3397-8D08-4BE3-B8AA-06EA8EF54D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6324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宋体"/>
              </a:rPr>
              <a:t>Transition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宋体"/>
              </a:rPr>
              <a:t>Pag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图片 6146" descr="verse"/>
          <p:cNvPicPr/>
          <p:nvPr/>
        </p:nvPicPr>
        <p:blipFill>
          <a:blip r:embed="rId2"/>
          <a:stretch/>
        </p:blipFill>
        <p:spPr>
          <a:xfrm>
            <a:off x="3533760" y="4276800"/>
            <a:ext cx="51530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5:07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36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