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DC64-C639-42DF-B471-579DA0EC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3699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35A-1D17-4D1B-8CDD-EE6B95EF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760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BF7-9341-4596-A953-E0A6F386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172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816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172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816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D1B-3B70-4465-8730-4DEED66F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9B27-4333-4F00-99ED-CB9FC6ED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E288-41EA-43CB-A411-9FA2C508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114A-506A-4378-9F43-95930DCE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49B6-0FA1-47BF-8B42-3FC968B7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E9A2-6E3F-4A44-BF8F-40CBA824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189000"/>
            <a:ext cx="8121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F437-114D-4805-B8F0-D1ECE2F5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D9C8-53B3-49F2-B38A-C2B340B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C62-D152-44C0-87B0-981671A0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760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CAD9-81BF-4DB4-A728-0D490C9D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B0E9-650C-43C5-B739-711EA3A1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5640" y="3699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50E8-F404-4082-87C0-804105BF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760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72BC-6E1B-4633-A3F3-B2B6651E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172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48160" y="765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5564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172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48160" y="3699000"/>
            <a:ext cx="26150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59D4-0106-4B6D-A9B1-89648DB7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CF1-FF16-4568-97CB-47EBF768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77A-A81F-4150-9F32-F7A73CC9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F78-0A46-45E5-BC0C-300754D8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9000"/>
            <a:ext cx="8121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0AA-8879-457E-B880-57B177A1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D74-F9D3-4FE8-99CB-C899AC6E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600" y="3699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0F4-389B-4197-A28A-2B183C2A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600" y="765000"/>
            <a:ext cx="39632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3699000"/>
            <a:ext cx="8121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D72-9097-4453-8E0F-D8F15D36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392" t="0" r="588" b="2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56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AA26-ED14-4FC0-A735-2C5A04C981DD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1" marL="457200" indent="-4572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3" marL="1371600" indent="-4572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4" marL="1828800" indent="-9144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5" marL="1828800" indent="-9144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6" marL="1828800" indent="-9144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6953-4BCB-4802-91FF-D05CCE54DDC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11F3-1AA4-4228-88C3-51D0B10FE7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rcRect l="244" t="1711" r="1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8080" y="3917520"/>
            <a:ext cx="826452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5677"/>
                </a:solidFill>
                <a:latin typeface="隶书"/>
                <a:ea typeface="隶书"/>
              </a:rPr>
              <a:t>卡通动漫风格彩虹</a:t>
            </a:r>
            <a:r>
              <a:rPr b="1" lang="en-US" sz="4000" spc="-1" strike="noStrike">
                <a:solidFill>
                  <a:srgbClr val="005677"/>
                </a:solidFill>
                <a:latin typeface="隶书"/>
                <a:ea typeface="隶书"/>
              </a:rPr>
              <a:t>PPT</a:t>
            </a:r>
            <a:r>
              <a:rPr b="1" lang="zh-CN" sz="4000" spc="-1" strike="noStrike">
                <a:solidFill>
                  <a:srgbClr val="005677"/>
                </a:solidFill>
                <a:latin typeface="隶书"/>
                <a:ea typeface="隶书"/>
              </a:rPr>
              <a:t>模板在线下载</a:t>
            </a:r>
            <a:endParaRPr b="1" lang="en-US" sz="40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6262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04640"/>
            <a:ext cx="5400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5677"/>
                </a:solidFill>
                <a:latin typeface="Arial"/>
              </a:rPr>
              <a:t>Click to add title</a:t>
            </a:r>
            <a:endParaRPr b="1" lang="en-US" sz="4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32560" y="2965320"/>
            <a:ext cx="3423600" cy="302760"/>
          </a:xfrm>
          <a:prstGeom prst="rect">
            <a:avLst/>
          </a:prstGeom>
          <a:gradFill rotWithShape="0">
            <a:gsLst>
              <a:gs pos="0">
                <a:srgbClr val="00648b"/>
              </a:gs>
              <a:gs pos="100000">
                <a:srgbClr val="00ade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here to add your subtitle</a:t>
            </a:r>
            <a:endParaRPr b="0" lang="en-US" sz="14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711C-3AB5-44CE-AC5A-6CCC929D7E82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39AB-CC32-492B-BFC7-B9E3D437150D}" type="slidenum">
              <a:rPr b="0" lang="zh-CN" sz="1400" spc="-1" strike="noStrike">
                <a:solidFill>
                  <a:srgbClr val="26262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5677"/>
                </a:solidFill>
                <a:latin typeface="Arial"/>
              </a:rPr>
              <a:t>Click here to add your title</a:t>
            </a:r>
            <a:endParaRPr b="1" lang="en-US" sz="2400" spc="-1" strike="noStrike">
              <a:solidFill>
                <a:srgbClr val="00567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26920" y="765000"/>
            <a:ext cx="8066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Click to edit Master text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0EB9-78D7-4CD2-B09B-5F79F5F7D1AD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6923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22:5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37Z</dcterms:modified>
  <cp:revision>17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VIP等级">
    <vt:lpwstr>2</vt:lpwstr>
  </property>
  <property fmtid="{D5CDD505-2E9C-101B-9397-08002B2CF9AE}" pid="4" name="价格">
    <vt:lpwstr>2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EN PPT 格式 时尚 蓝 蓝色 潮流 炫光 华丽 梦幻 线 线条 抽象 动态 动感 清新 年轻 活力 青春 渐变 背景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蓝色梦幻圆点</vt:lpwstr>
  </property>
  <property fmtid="{D5CDD505-2E9C-101B-9397-08002B2CF9AE}" pid="12" name="模板ID">
    <vt:lpwstr>A30220130608A12</vt:lpwstr>
  </property>
  <property fmtid="{D5CDD505-2E9C-101B-9397-08002B2CF9AE}" pid="13" name="模板缩略图">
    <vt:lpwstr>A30220130608A12.png</vt:lpwstr>
  </property>
  <property fmtid="{D5CDD505-2E9C-101B-9397-08002B2CF9AE}" pid="14" name="相关案例">
    <vt:lpwstr>854</vt:lpwstr>
  </property>
  <property fmtid="{D5CDD505-2E9C-101B-9397-08002B2CF9AE}" pid="15" name="缩略图标题">
    <vt:lpwstr>蓝色梦幻圆点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30608A1201</vt:lpwstr>
  </property>
  <property fmtid="{D5CDD505-2E9C-101B-9397-08002B2CF9AE}" pid="18" name="附件缩略图">
    <vt:lpwstr>A30220130608A1201.png</vt:lpwstr>
  </property>
  <property fmtid="{D5CDD505-2E9C-101B-9397-08002B2CF9AE}" pid="19" name="附件路径">
    <vt:lpwstr>A30220130608A1201.pptx</vt:lpwstr>
  </property>
</Properties>
</file>