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032-8A1C-4EF9-A871-657AEC29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343-29DA-4321-9374-7061C885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D47-FD3D-42EE-BD02-EABFC8D5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F66-171A-4F7B-A5E4-23A9A84D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D07B-C2B1-4973-A136-27CC8A39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7FAC-A3D5-4F75-9EB7-20FCD8B7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9CEA-BDC6-4A98-92E1-30031194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D6E9-A2B0-4356-A499-4C9AFF7D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8EEA-F1A8-4839-BB2F-BA9A5114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1B80-65F0-424C-B782-B9461804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69C9-D8DA-4C61-9623-BB41CCF9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A69-C84B-4F0A-A761-96138261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6647-2BC2-40A3-88E6-D72FACF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2F85-3CBD-48BA-B20E-C98C6563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2D79-0365-4998-A455-8DA56C1E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14F8-BEEE-4D27-B0F0-4A3F9C32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EF8F-F74B-4CB9-BBCE-120DDF97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C3C-3841-447D-B751-2E97C18C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92A-8139-4A2D-BFF1-C22A6C9F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153-173F-47B4-AF64-7DA9CC75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C74-5106-4AA2-9260-09862283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96B-0C25-415F-839C-D447DF2F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684-95A2-4B0D-B9AE-43F48098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ED8-6989-4BAD-BC11-114EAB69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arge_zrvi_3334p204234[1]"/>
          <p:cNvPicPr/>
          <p:nvPr/>
        </p:nvPicPr>
        <p:blipFill>
          <a:blip r:embed="rId2"/>
          <a:stretch/>
        </p:blipFill>
        <p:spPr>
          <a:xfrm>
            <a:off x="0" y="3240"/>
            <a:ext cx="9174240" cy="685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3CF8-1FFF-43AE-BDDD-ED9085956D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arge_vsrH_4521o132014[1]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1D8B-F45C-4393-B46F-95F409A823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"/>
          <p:cNvSpPr/>
          <p:nvPr/>
        </p:nvSpPr>
        <p:spPr>
          <a:xfrm>
            <a:off x="2071440" y="1125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儿童乐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A144-A3F2-4019-A8B5-7442F628C0B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60360" y="3502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1:25:06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36Z</dcterms:modified>
  <cp:revision>3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