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B60-BB93-415E-9A5B-8C20C133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725-43D9-4DE2-93DF-CB184226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76D-9D55-4131-ABF5-6E843E6F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3FB-7D12-4051-B2A8-00089E79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4CF-014A-408B-BE86-050C21D9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8B2-A0A3-42BC-B4EB-3D84E323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164-8532-4462-A914-1EE46609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857-9A68-4FBC-8EBC-645CA9F5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799-3E2B-4C68-B206-68643148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C0D-A489-46DE-A6B1-8AC94CBB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D76-265D-4B85-9DDD-259C0A6C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7C8-CA17-44D5-9B42-F05BF1BA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2867-A52B-498C-8F91-698E14E045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51" descr="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风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4B2E-4C7C-4031-8DCE-38C728AF0B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075" descr="未标题-1"/>
          <p:cNvPicPr/>
          <p:nvPr/>
        </p:nvPicPr>
        <p:blipFill>
          <a:blip r:embed="rId1"/>
          <a:stretch/>
        </p:blipFill>
        <p:spPr>
          <a:xfrm>
            <a:off x="0" y="-27000"/>
            <a:ext cx="9178920" cy="6908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8199"/>
          <p:cNvSpPr/>
          <p:nvPr/>
        </p:nvSpPr>
        <p:spPr>
          <a:xfrm>
            <a:off x="1835280" y="3284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6:11:34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5:48Z</dcterms:modified>
  <cp:revision>4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