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F2A-5B1B-4B01-B356-08F9E8C4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E19-865D-49EB-B4E5-AB60B75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E03-B166-4826-9083-B1282F22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9D4-F874-489D-87AE-1D9662AA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306-B871-491D-A5AF-3EC5BD2B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8656-D5A1-4D77-BF8E-3AC9219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0F82-039E-4058-B3B5-C480C8E4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4221-EA14-4FB8-95D6-1147D12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D8B0-3A12-4B22-B4B4-E1FFB793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EFDF-2EDA-4F03-80A6-381278D3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D625-7EF1-4F3D-8539-7B08941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4E7-F504-498A-A69D-A245F5F6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564A-A6A5-4DFE-AB3C-7AD4980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3EA-E6A4-427F-B51A-B800F4A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92F6-92C9-46C8-B038-A2BC3A28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810E-9116-478B-BFC5-1C49F6FE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FB3C-314D-48CB-B9F2-2EDDCE2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645-FE28-44AE-82E8-E184D04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4D2-45B8-434C-BAAD-EC00A22E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D60-8EE5-4B83-892E-782CAB51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E06-003A-4490-AD3B-29BD90F5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7C4-1E65-4A7D-86CF-AC2BF7DA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5C5-7BBF-40FD-8B11-C444A2E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258-F665-4BAA-AAA1-39A17FB0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4DA-C521-4B89-890E-559E5DAC14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30F-ECF2-431B-80A7-80DB29D1AB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97C7-AB20-4F71-BFC4-6EFB265107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571920" y="1643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714840" y="471492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2700360" y="90792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卡通粉色小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7"/>
          <p:cNvSpPr/>
          <p:nvPr/>
        </p:nvSpPr>
        <p:spPr>
          <a:xfrm>
            <a:off x="1592280" y="3357720"/>
            <a:ext cx="1003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2008440" y="3357720"/>
            <a:ext cx="12776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2651400" y="3357720"/>
            <a:ext cx="12776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294360" y="3357720"/>
            <a:ext cx="1277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3881880" y="3357720"/>
            <a:ext cx="127764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4580280" y="3357720"/>
            <a:ext cx="12776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4A48-4A3E-4ED8-84E6-2ADC0EA459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4143240" y="19288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5926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38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