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516-3B0F-4CAD-A570-847D8365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6B1-BD3F-4C00-9606-EE122807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7CA-434E-40B6-8C7D-D0F14588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2F8-65B5-4F8A-8342-05788A1A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C599-59EC-4168-A182-D78A2F3A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1AD0-08E6-4EEF-8186-D76FDB88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E71A-D504-49A5-BF2B-88CEED6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BA56-3738-41B7-BEB0-0B08D91C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C9B-AE2B-4042-A0EE-432BBCE3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A5B6-FFB1-4A0E-A230-1974D8FA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BA44-0FEA-4C6E-B6BA-25828DEF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770-DCDB-422D-869E-1DDCD814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0FE7-2E6D-46B0-94CE-A47AD9B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5C98-4970-4200-8735-1FCC68A5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7458-D200-4590-BEB8-29E49F12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D2FF-F167-43F4-89D9-4D521A8E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534D-7268-4AFA-8CF8-C5BAE588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738-B9EF-4810-B9F6-784603B6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BA3-B159-4F2E-AE97-193ED190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1FA-9175-4F62-A0ED-A421663E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15F-018C-4F68-AE5E-58DA97E6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A8E-93B8-4CA0-92EE-A681732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718-10FF-4FEF-8435-F8505292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A65-10FA-433D-8C92-742DD6D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97DD-4A37-4EEF-AE3D-42CB73EF18B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FD13-BEBB-406D-8CE0-69BEEA9E3BE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02AB-8F90-40D3-877B-E31F1D738E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5"/>
          <p:cNvSpPr/>
          <p:nvPr/>
        </p:nvSpPr>
        <p:spPr>
          <a:xfrm>
            <a:off x="611280" y="4724280"/>
            <a:ext cx="360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468360" y="692280"/>
            <a:ext cx="73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工程挖掘机建筑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2DA4-6B53-42E5-98E1-7E8D236AAC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5:30Z</dcterms:modified>
  <cp:revision>717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