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9480-4809-4DD9-82F6-347410B5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3485-9A74-4598-A2AB-277185FC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7A20-25A4-41B4-9603-799FD712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0500-8D49-44C8-B431-D7A563E3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50D3-C392-47B7-9315-494DD449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021D-AABD-4DF9-BE11-20D81D06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17F1-A43B-440E-A443-BE82B382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5596-634C-4D56-9155-9C64A72E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E1A1-EE24-4944-B8D9-602A0251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D1AF-7EED-4400-8458-643EB87C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6538-28A9-444B-A751-CA54D184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E094-A968-475E-A4EE-645D78E2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04E8-62F5-400B-828A-40C8A9F8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F870-5254-4DCC-B1EA-564C0743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0BE1-C1BD-4517-A320-C3F8DA62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B562-DFA6-41FB-9FF3-0F94DB77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9B94-BC46-49A6-8519-023A93D8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512A-6E05-47E7-97A0-F2CA800D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065A-A42A-4169-AFD2-D3F041D2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4D8A-EAE7-4681-A88F-61269F16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801D-6B83-43FC-BE01-FDEF5DBD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0012-0147-402D-AF39-1BA368BF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6D63-2028-4F69-8402-156686E7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81F6-28FB-49CB-A3ED-B0CDF63B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7E32-0D17-4107-BD53-44A232CB0B6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6F90-CBD3-4EB2-9B3D-EF560C976ECC}" type="slidenum">
              <a:rPr b="0" lang="fr-C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9E98-3FA8-4566-8667-C58D0C14F2B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E6EB-AA91-47DF-A86D-AA9164341CA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54268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2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  <a:ea typeface="宋体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6394320" y="623736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"/>
          <p:cNvSpPr/>
          <p:nvPr/>
        </p:nvSpPr>
        <p:spPr>
          <a:xfrm>
            <a:off x="903240" y="1341360"/>
            <a:ext cx="677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卡通黑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6340"/>
                </a:solidFill>
                <a:latin typeface="Arial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163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16340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163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16340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0887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63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16340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163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16340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CBC6-0682-48A9-B9C7-8D65793E80F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0887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08:41:3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5:49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