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C904D-C37A-4C94-B05A-8A728196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A5FC2-AFF9-432A-95EC-A52C3A2E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D7568-EEFF-4146-BA99-423F03AC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28068-45F6-40EF-B29E-B03FC16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0F12F-06B9-4A2E-BBA4-20353F34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6D3D0-0C31-4836-B70E-917FD75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5ABAA-13D3-4230-AD86-3CBE8C1D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85519-7B82-40C7-9F22-7E0B48B1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02580-9FF8-47C4-B9CB-BBE62EF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8FF96-487C-4B8F-A158-57CF2BAC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20F40-CD2B-4367-89F3-F0F038D2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52460-2C34-4487-83C6-6411D9E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6143-F9B5-40E1-A60B-D825DF52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F18C2-970C-4AA1-A6BF-1890FF70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B6335-1C94-4E83-9C4D-D10E22A4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F4A01-2685-4540-BBA7-962243DC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C4756-E532-4876-8A60-6D10E9A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923CF-2B57-4813-A423-FB16914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BF2F3-D064-4740-853E-0F9C6CC1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ECC94-0D0F-47CE-9129-539850BF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ACA08-DFF1-40F1-8AB9-DD709963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34C05-E696-427D-8178-6EEA1A68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6A0AD-AA1D-4B5C-9986-DE382DB6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A2DB5-767F-4A5E-8D67-D644B69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38D02-F6BB-47E8-B3CE-9D7F096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E98E3-E55B-4A69-A4A9-900473BE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AEFD1-0054-4AC0-8AC8-00EF1F63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143CE-1D59-4FEB-B335-E502541D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8D8DC-43CF-44A0-A871-658F74A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D148C-77F3-465B-925D-F1393CE6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026-29F5-426E-8480-4CBFF0BA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6155B-A898-4839-8B82-A10D51B0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90B4A-B1A1-48FF-ABB6-814124B3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4F897-CEFB-4846-AE05-BC98383F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2C0E5-43F2-4637-8533-6BF80B88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6409E-159C-4C03-BF9A-0405294B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4BD23-2E81-4C1E-9C5B-842DCB63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FE999-1305-4E99-BCA5-215AB544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FC315-FBC0-4642-8ACB-BFC21F84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DD383-1617-4D44-8D92-D164F269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7A897-E905-4343-BBB4-D9FBD7F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53C-99F5-4A03-8EA2-3FEAAC14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362FF-2660-4027-8AC8-36D8A76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6EE06-2B66-40A9-96F7-E50F33E6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5CE48-79DE-4484-B330-4E89FEA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EA22B-16FB-4608-BD8D-36982E84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82696-3D05-4EF8-99AA-650E8A44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B94A5-883B-4269-8CAF-B3DE33E1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080DE-CA29-4B38-A6D8-4CB267AE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73B8A-4F23-4754-8FB0-4CC9E79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E478C-2325-43FD-B75C-200C5541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AEC1A-A538-4CC8-98CB-BDA075CF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93C-3932-4AE4-BEF9-C12F42E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ADFA1-90C6-4862-B0F8-CCD9E1AE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CB68F-B492-461C-8E7F-B44DC681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3C021-81EF-4614-88E7-54D6E17B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1BD3C-50E6-4C89-AA9C-15AD865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DD492-D6D7-45ED-9BBD-C28E5218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DBC83-2229-4716-AA25-BFF5342B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0C11B-537E-4097-8DD5-0C3CE099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1FFD7-708F-4FCF-AB7B-6014C416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F3883-E200-492B-8B17-52F22F47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69293-B7D4-4D9A-9B1E-EA40CD12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299-01CD-4973-A908-0C135186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2D34B-5B8C-44DF-B824-B209FAEC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14DB8-5289-484D-94EF-0D3A22F8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EBD0D-5B0B-4691-B3C1-8D36105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56C14-2DE0-426F-A669-DCCCE854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92802-BFAF-4E5F-B3B0-E67A8BAB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19694-7EA7-4781-80EC-B3B4486A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EB764-7D0E-460E-BAD3-EEB0E1BD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5AFBA-9532-4C07-AA0E-DB32CD3F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0477-48C2-4642-8D8D-154E8A9D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79A40-5456-4B33-BBE6-FB063F37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52C-02BF-4081-B9CC-F442EBC9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EFAA3-4494-469D-9F36-13E2A132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6515D-0A29-437E-8B35-6032259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5985C-CB5A-455E-B558-F5A82D0E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E08E0-36BC-45A2-9A90-788BE990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D46B3-B031-4EE7-AC44-22A7DFF0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B757D-0FF7-40CB-B4A4-2541EFB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7C85E-067A-44EA-8D5A-56359E73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C677D-365F-435E-A115-FD81F89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BDBF2-2C80-4FBC-8A07-77FD7840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F7515-4AB6-4B59-BBDD-5121400C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7EC-027F-49A8-98FD-F61D1D8D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58A2D-318E-4EE9-8F7D-B3E0768C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C2266-2EEC-42E2-AE94-BF293DF7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F798B-D75D-4991-80C2-F1494E1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7D847-7439-489F-8876-69AE5628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450BF-7243-48AF-92D9-080E4E63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1EA5B-0E71-452A-863C-A295B66E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24B68-2191-4101-95EF-94E0391C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B920E-FDB3-4661-911F-E9D9AB8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78898-FB32-49A6-B7A8-0BDBA23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7396A-5FB9-40CD-BADC-22C4E66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AEC-B5EF-48F6-93CF-0726565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AFCA9-50B8-4865-878D-62EA87F3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BAD91-E089-4472-9400-0FD490D5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A0408-3C62-46A3-A3C6-FBF5E446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CA66F-655A-4542-87CA-1EABBB29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37CE5-673C-4E34-AF02-F5EE4B6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F43C5-DCF9-4E30-A1E2-D30DDA3B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944BB-E8EE-407A-B9ED-367CDE50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57E13-3161-47CD-9288-D41B4840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5A5BF-FA62-49A4-83AD-57D145D0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66C27-E291-4438-83B9-C6E60AF0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033-3A6D-4411-827E-F8B81522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8F113-100B-442A-A4A1-41995C7E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37BAE-6E23-4CFF-B8B4-EF59EB2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24594-1F33-41DD-BB1A-69CB01ED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20EEE-B172-4CCA-877D-31C49654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F247E-1053-4EC5-9767-553BAE45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0B3DC-50BB-4554-9D0F-9EF35AE1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E144A-6ACB-42F0-897F-3013E32C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B46F6-6120-44B1-92D4-C6D5C953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19ADA-05DC-4504-81A1-DBAB95EF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6E581-829A-4774-9BE7-3B09E028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0BA-35AB-4594-9662-79EC83DE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58890-AB6B-4028-BEE3-5FAC6AF3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7FD65-F067-495B-AEFE-86EC25BE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C6D5C-7AAE-4917-BAD3-1A8D08FA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26B9B-0A24-4BA5-ADDE-4BE63893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ED910-752C-400D-8C59-772FF9F7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353DA-7F0E-449A-9824-7B56FA78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751C6-E94D-4AD9-A396-9861B1B0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20A2C-B3F2-45DA-B43A-A41FCDF0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060F8-ED16-4605-8AE7-9D076BFD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3CF86-37CC-4978-A07E-063368A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F56-161E-4FD2-B39B-182829F5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A0242-9A4A-4A69-8562-24EF8990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02FA1-3D1E-47A0-B250-88D6BA0C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C00C2-515B-4623-81A7-A507C12A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5610F-07B2-4D81-A4B1-AE5687F7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BBB35-E8C1-4DFF-BED6-543BC14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D92AB-731F-4826-AF11-505C3D4F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34587-CC2A-4C65-8C4F-43F7CD00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CEFE2-E76D-472D-9EA9-01188B74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E549B-CDD5-48DC-9085-D250B62E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2AC7D7-E47A-4C93-A7E4-04918430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71E-8E13-4F62-9E0E-51BF7A7D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E5BC54-9A2F-43FB-A25A-B8DE51B5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E5005-DED1-4F19-BB08-D1F117F8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00C43-6235-457B-8B4B-8D65264D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7CEE1-2B74-4A9B-ABDA-127738AF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8E7BA-8121-4A62-A1FD-AFFC99BD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CF5C8-2112-408B-AA37-3A2906D9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DDFD5-CF96-4FEE-85F8-CC21833B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EFDDB-EF48-4681-92C2-9A520B6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80A6C-7E0D-4B91-B5D4-C05E87CD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89C30E-2FD4-4ECF-ADC0-77D6EEBA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42C-E5B7-4767-A640-A5D4D5C0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772675-5BD6-45D1-812C-74BED688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ED62C-393F-4692-84EA-D250DF18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16F1E8-3F87-4A79-896B-951AADA5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41720-F909-4D3E-A57A-8DF8EE49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709BF-5145-4686-B4A0-2A9F27C2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B0B6D-FF8B-4CB8-8238-F4C4112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22152-4B65-4AB7-A7AE-D89BFF08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58F28-C106-4E74-9EA1-04542CC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3164CC-0D2E-4E4C-AAE1-E832B767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5EE26-54A6-4C89-8B23-F320B42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9953C-AE92-4895-8256-0EC75421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07F65-9B4A-4188-B250-172C418D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9DC27-5353-4266-8DB4-DEC0AC83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A1832-D63E-4374-AF99-B8AF888B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CCBD71-86BB-4B9E-8A30-96F331C8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887AEC-00AB-4354-9710-003BB77D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CF12D-4DFB-45C3-A2D0-E6106797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A4F848-E2AF-4E57-97D8-B6067F88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546033-D6C7-4E9F-98BD-BAA55833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1106F-E4E5-4287-A54B-EF93FD65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C37E5-FF2E-4978-AEFF-7C051ED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58BBD-8A9C-4570-93F2-917B5B32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DF7CA0-F19C-44B3-B711-21C6C31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B8451-14A7-48DA-ADC5-582D71E1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6E317-7689-4760-9676-AD2DD4F8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E5156-258C-4891-ABA8-7E6E54D1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090F7-7386-43AF-B897-6ACADF31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FC8FA4-C351-4CD8-AC9E-2CBF0BB8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293B08-ECA1-43F8-871D-A6FD23B7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9AF775-BF17-4FA3-90A7-0466C9C5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34B78A-5E8F-46E7-903E-C068B534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539BA-0636-4E26-BE75-6E83F8F5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32694-73B7-45EC-8678-9A0BDC4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6DFE00-A851-4260-BEC7-A5AF9AE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89E146-487E-4358-AADF-85E3163E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2BC36-C181-4277-B5C0-3FA19C50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1590B-1C94-43CD-BF1B-C49C3E69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EE6ABA-398D-4F0A-9BE1-70A25B48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BE1481-64A7-4E3D-B26E-375F9A77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CD7098-5257-4D43-A7BB-C18DE112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23C419-DC50-4E46-829A-8FF38D52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4EC67-0B62-4D4D-B269-3A342A7C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EEFC3E-D577-4BF2-B8C7-9DB0871B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573349-9CE9-4B84-B9A7-1D04374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B0C00C-DD7E-48B5-8860-3905E8BD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D7C2BF-A899-49AB-A4AF-98D0D42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7CF935-A70A-4751-A970-22E5350F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9FF2C8-BF3D-4149-8165-1D6C20ED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EDA8D-1D12-4ECF-B8DF-6F55C1DB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0828-2FEA-4D96-9A69-B1F94084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F4FD-189C-4D7E-96C7-067B0917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41F8-646F-4A08-8A52-C5C5EC59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30E3-C14E-466A-8C32-2B2D9982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8332-F484-4300-B8B6-2153E37E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6B5F-29E8-43B2-97FD-584C11C1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159F-5497-4398-B250-EE549BF6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B5CA-8CCE-4954-917F-446A0C9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9DBF-9BE8-4D9B-8DA2-EBF7D6D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2F48-9AC3-4B8C-B808-814FD4C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1FCC-5B63-4592-8E92-BA67EA1D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7B5E-90BD-44CB-9753-F507DDF7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3286-5FE7-4282-ACC1-B0316605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E4E4-7D48-4ADA-A44C-D6F0E2E1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A388-995D-4802-98EF-94BEEEB7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1398-64F9-410F-B8F6-2882D9DC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EB74-36EC-4305-A630-6A409888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3473-4092-4644-B3B8-B2B239F9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F0EC-D913-42B3-9713-1637C06C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0D57-EFC8-464F-9A0A-C567C06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D338-E49B-45FA-8F69-7F7E13A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6D11-58D4-4F46-B041-795CDD2B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62AC-BEE2-4F0F-A798-CEBCDAA3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8C65-B956-4093-96B6-0F4203CF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8FEC-C180-4E1B-A35C-89662A4B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010A1-5878-4877-B64C-5CD375D7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F2C8-4A21-4E2B-AEDD-0DE66ADE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0C255-EFB3-4805-8A2C-9AF0FC8D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369FA-7A5F-48E4-9F36-60A62875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B9E9-6D70-4790-9D97-BAD75472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1521-DAC9-4F07-81F7-9B8B7C5A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4870-8EA2-4CE2-AE69-0682DF11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4A6B7-6B9E-446C-ACDC-F834F89B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B53B-D2FE-47B4-8FBB-B1C54EF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CCEA-F57A-419B-9A17-166FA13D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94738-4C63-458A-BF80-FDE1976F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B7B0-8BEC-4E45-949C-7B41C317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B3BCD-6935-42B6-9B53-4144585E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DC6D-87CE-4A75-AF38-2491A5A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34A1C-ED21-45BF-9BC0-B3DDD377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5ECD-81C0-4B3D-8141-92B5740A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7DDF-EBC6-4656-B0D6-A38E8D0B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E016C-A065-4B54-98A3-A9BCBC78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410CC-0739-4E35-9238-4C864B2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4FBA-985E-414C-9134-BF1EC49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1ABC-9592-4F1E-870B-E32855DB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1AA0-7D49-4BA2-A812-CCBE2350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F1669-87DF-4748-994F-775CD77C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42921-006D-4282-8E74-1461E2E1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E4CD-4B27-4EB5-BFA9-7A90AB01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D0EDD-B839-4722-AA99-20E9264C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CD77D-2B1A-471A-978C-903E4836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8E6B2-A109-4FBA-98A5-AD5725A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C01F3-D0F1-4F0C-854A-4161CBBC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15A6-1049-4613-A3B5-4B4039AD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9F30A-0A96-431F-9922-06B08F3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66EC7-8D5A-4670-A4D0-69FBA996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24DFD-53B6-4C8D-B301-D5BFACFE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83777-7C01-4FC3-829A-8EDE0C2B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BC3A1-FB16-4482-9887-D5BA3504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44AE-F549-4EE6-B13D-9A679833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93BD9-A2BA-414A-A84A-4DB37A51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D7F1E-225D-4253-84B2-FA27C15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19EB-0B5F-4C76-8CCA-DD11940299C8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2D5-8B9E-4BE6-9CC3-4BB3733FC3A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FD7F-4B56-4CAE-89FA-6A1E3BE0FCD4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C149-4E59-484A-8742-AB312BC3DC9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B1C4-39AE-4410-9BA4-5A1E0E41DC9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1DD-D0B5-4E7A-B299-A92C89543DF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54F2-9E14-4738-86DF-8C97604B0DAF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77C6-439F-4A04-A437-A477FEE99A1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EEE4-3B26-4CCC-8388-117DFE55AA0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44C3-3B31-4088-AF5F-D09B1E26237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5F2E-6CC3-4F06-A832-D4EDC4EA18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0FA7-C344-4BE9-A9C1-526905683AF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C3FB-A8E2-4A72-A3CB-A02BD57E13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11BC-C092-4D47-8297-9E0CDB7F8ED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F55A-613C-47FB-8019-9D555D3BF14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0137-A6F3-40A3-88CC-32AB2409F9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FAD6-246B-43D4-B1E7-C60BA514B1F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46B8-D24F-4BC4-9B71-CD3ECF8830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0BF-04AF-4F5D-ADDB-9F597DF7365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41BB-57BA-4F6F-868B-1290C1FED8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42C5-2B16-49C9-A93D-A13D93B0B4E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62A2-0EAC-4A43-9F52-D90B09995D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1EA7-69B9-42BC-8DF9-32B2C38223A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8426-9F13-43A1-B951-C635B8932C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A5C4-3C84-47EF-99F8-AFFCE8411FD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5960-5D2A-484F-9636-3BBE5F442D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BBB8-6DA1-4D8D-8092-BB3125D26AA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B5F4-EFC5-4050-90E8-B49BBAD2B7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11B-0F21-45F5-B55D-7160E15E017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AA45-B34E-44E8-B454-23E6DB2C0CD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306D-8C59-41EE-8631-35B4995B107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998C-5F4C-4F01-8149-87B6F504FA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B43F-5955-47BF-966C-C49157B235E8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846-93BC-4768-8B6E-FE9BC551C76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9D35-21A6-428E-88F7-058FCA39F03C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02E4-4EAE-4070-ADED-7D864C5F6415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33E6-E3EE-4915-8720-C93DD52B6E3A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C326-0702-49F2-A263-56B16B56312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8A4A-15F9-41C3-95FD-D2D9146AEA74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5CF5-043B-40C4-ADE1-45DDF0B066D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6DE4-329C-4BE9-9B50-65C517D8D297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B3D1-28AB-479A-BFE3-1DBAF27B2AC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3A7A-E2BA-4E76-94D4-C4882389E0B6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32F4-54C2-4752-ABAF-F3BE2252602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矩形 5"/>
          <p:cNvSpPr/>
          <p:nvPr/>
        </p:nvSpPr>
        <p:spPr>
          <a:xfrm>
            <a:off x="250920" y="6524640"/>
            <a:ext cx="7207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68d36"/>
                </a:solidFill>
                <a:latin typeface="Arial"/>
              </a:rPr>
              <a:t>ppt.glzy8.com</a:t>
            </a:r>
            <a:r>
              <a:rPr b="0" lang="zh-CN" sz="100" spc="-1" strike="noStrike">
                <a:solidFill>
                  <a:srgbClr val="f68d36"/>
                </a:solidFill>
                <a:latin typeface="Arial"/>
                <a:ea typeface="宋体"/>
              </a:rPr>
              <a:t>海量</a:t>
            </a:r>
            <a:r>
              <a:rPr b="0" lang="en-US" sz="100" spc="-1" strike="noStrike">
                <a:solidFill>
                  <a:srgbClr val="f68d36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68d36"/>
                </a:solidFill>
                <a:latin typeface="Arial"/>
                <a:ea typeface="宋体"/>
              </a:rPr>
              <a:t>模板免费下载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6155"/>
          <p:cNvSpPr/>
          <p:nvPr/>
        </p:nvSpPr>
        <p:spPr>
          <a:xfrm>
            <a:off x="10800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2"/>
          <p:cNvSpPr/>
          <p:nvPr/>
        </p:nvSpPr>
        <p:spPr>
          <a:xfrm>
            <a:off x="639720" y="404640"/>
            <a:ext cx="81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火红的秋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CE5B-414D-4613-BE56-B2DA446A78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34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