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619-52D2-4CC9-9491-BEB3EFDF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F3A-BE76-41D6-909C-3EBF057E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292F-DE40-481C-BE09-A1F2A4B6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1A0-24AD-4703-8B6B-E7E7842F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4CDA-F841-470B-BD8E-61C9C926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A24F-384B-4C94-A954-C514BCFC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B14B-833E-4FD7-B029-DDD82985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3E41-863A-4DC0-9939-47EC62FD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5601-150C-4B73-BF4B-54BA0108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BBD5-1E5B-45F2-B8D6-03758C0C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ABB7-82B9-40BC-8786-6680592F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A05-C111-4D6E-948E-43F3F83C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3198-2623-498D-A643-73C1CFE5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D737-E10B-4C26-A94C-5FFC00BC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681D-BE28-42C8-A71B-E00E5F05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B6A4-1989-4F83-AC5B-9ACB478A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B0F0-2F1C-4E9D-8FD0-1C2276A3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9903-5435-4C51-B7ED-A488469E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89FF-6E60-4FBF-8872-103E12A1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15D9-4DEE-4B70-882C-2B25218B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E79-0ACE-40B2-ABA7-189B3679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0D6-3974-429E-9063-C4871F01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FBE-1CD4-4D55-830C-FE230DCE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FD19-A19D-4655-BC22-565AF2B8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EE7A-2DC6-4008-B6C9-2BF9EFEC14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83F0-FDF9-4D49-9625-C9A634DCAC9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0248-7C6D-489C-8468-48569ADB7F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4" name="图片 3" descr="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3"/>
          <p:cNvSpPr/>
          <p:nvPr/>
        </p:nvSpPr>
        <p:spPr>
          <a:xfrm>
            <a:off x="2588760" y="2781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卡通猴子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371A-D85B-4EA2-9112-85EB37DC8A0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04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" descr="22.jpg"/>
          <p:cNvPicPr/>
          <p:nvPr/>
        </p:nvPicPr>
        <p:blipFill>
          <a:blip r:embed="rId2"/>
          <a:stretch/>
        </p:blipFill>
        <p:spPr>
          <a:xfrm>
            <a:off x="0" y="6267600"/>
            <a:ext cx="9144000" cy="59040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9:55:2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5:37Z</dcterms:modified>
  <cp:revision>5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