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gif" ContentType="image/gif"/>
  <Override PartName="/ppt/media/image7.png" ContentType="image/png"/>
  <Override PartName="/ppt/media/image4.jpeg" ContentType="image/jpe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18F1-B54F-4AAF-B6CD-7D1C6CF56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F3F9-B668-472B-AEF9-EC3F9161E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E49B-1342-470B-A85B-43385F5FA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B499-3634-4DDE-841B-B5FA035EE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2F162-FAA9-4299-B7C1-CC4BEED66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69FB7-AD24-4D35-B59F-7449275E2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FB1F5-76D8-4128-A38F-B8F57A7CC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BE848-847A-447D-A5FA-5A161A23C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EAA66-2E06-448A-BCF9-176197116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34D52-4547-4E6E-9BC9-A10E73CA8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8D8B2-246E-4305-B827-6D03F5C60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EE21-FD00-4651-AF0F-DD1F78A2F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F5E7D-427B-425B-B48D-E3861212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7AB69-F449-4FF1-9D82-9E28B4DE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26ED7-5627-4AAA-B78F-ECE163739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AEF15-EB1C-4A10-821B-3F97AB04A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D0F27-A20B-45A3-AB0C-5295F6119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6281E-52CB-4CC4-834A-6F919EC7B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54856-FB67-4452-A30A-23EFF96B0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3974A-434B-4D68-9A5C-B24CFFD49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FD4EC-80E5-438A-A6B5-2CC226114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C6A6C-A7BC-4371-AB9D-6719C96CA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B2B6-0AA7-46E0-90E1-6CA0234D4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619B5-BBB4-4A14-8781-56284E605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2669F-063D-4627-901D-1EA05A6D7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B01A5-5BDD-4CC1-8AE6-6CE61991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26844-AF64-425F-A512-67C5D013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6F99B-CE47-4578-B596-A3ED51AEB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B3342-82AF-4AEA-AA50-12C353DF7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CBA4F-0DC1-47E2-B934-787F1B3D9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661E-E7C2-479E-AF8B-286DB3C34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B6FD-6945-4459-8C8C-C01049871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46E5-6C7B-4F13-90FC-699B06373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4AE2-9AB7-4292-B3E3-3DDD28EF2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D5DA-3779-4560-AE22-93B2B392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EC16-12CA-478A-8104-40CE1D5D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452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5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57560" indent="-452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90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90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90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A569B-455C-4619-BD22-BCCE3E3D7D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图片 1031" descr=""/>
          <p:cNvPicPr/>
          <p:nvPr/>
        </p:nvPicPr>
        <p:blipFill>
          <a:blip r:embed="rId2"/>
          <a:stretch/>
        </p:blipFill>
        <p:spPr>
          <a:xfrm flipH="1">
            <a:off x="533520" y="3271680"/>
            <a:ext cx="1371600" cy="3586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EF666-7B13-4BBC-904F-61BDB4F5D46C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CB378-0127-41C7-9A0E-AE4E7C776E8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452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5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57560" indent="-452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90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90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90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6AF5A-3DBA-4B1C-8041-943024011E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35053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IMATED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3429000" y="533520"/>
            <a:ext cx="54100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Arial Black"/>
              </a:rPr>
              <a:t>VECTOR</a:t>
            </a:r>
            <a:r>
              <a:rPr b="0" lang="en-US" sz="8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8000" spc="-1" strike="noStrike">
                <a:solidFill>
                  <a:srgbClr val="ffcc66"/>
                </a:solidFill>
                <a:latin typeface="Arial Black"/>
              </a:rPr>
              <a:t>TRAFFIC</a:t>
            </a:r>
            <a:r>
              <a:rPr b="0" lang="en-US" sz="8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8000" spc="-1" strike="noStrike">
                <a:solidFill>
                  <a:srgbClr val="009999"/>
                </a:solidFill>
                <a:latin typeface="Arial Black"/>
              </a:rPr>
              <a:t>LIGHT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图片 2067" descr=""/>
          <p:cNvPicPr/>
          <p:nvPr/>
        </p:nvPicPr>
        <p:blipFill>
          <a:blip r:embed="rId1"/>
          <a:srcRect l="0" t="0" r="0" b="8650"/>
          <a:stretch/>
        </p:blipFill>
        <p:spPr>
          <a:xfrm>
            <a:off x="304920" y="304920"/>
            <a:ext cx="2743200" cy="655308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2068" descr=""/>
          <p:cNvPicPr/>
          <p:nvPr/>
        </p:nvPicPr>
        <p:blipFill>
          <a:blip r:embed="rId2"/>
          <a:stretch/>
        </p:blipFill>
        <p:spPr>
          <a:xfrm>
            <a:off x="1447920" y="685800"/>
            <a:ext cx="1081080" cy="3809880"/>
          </a:xfrm>
          <a:prstGeom prst="rect">
            <a:avLst/>
          </a:prstGeom>
          <a:ln w="0">
            <a:noFill/>
          </a:ln>
        </p:spPr>
      </p:pic>
      <p:sp>
        <p:nvSpPr>
          <p:cNvPr id="128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文本框 1"/>
          <p:cNvSpPr/>
          <p:nvPr/>
        </p:nvSpPr>
        <p:spPr>
          <a:xfrm>
            <a:off x="1858680" y="5184720"/>
            <a:ext cx="53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卡通交通红绿灯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6E33A-BEAE-4493-A6E1-68658C2088D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矩形 409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图片 4098" descr="trafficlights_1"/>
          <p:cNvPicPr/>
          <p:nvPr/>
        </p:nvPicPr>
        <p:blipFill>
          <a:blip r:embed="rId1"/>
          <a:stretch/>
        </p:blipFill>
        <p:spPr>
          <a:xfrm>
            <a:off x="228600" y="1312920"/>
            <a:ext cx="2120760" cy="5545080"/>
          </a:xfrm>
          <a:prstGeom prst="rect">
            <a:avLst/>
          </a:prstGeom>
          <a:ln w="0">
            <a:noFill/>
          </a:ln>
        </p:spPr>
      </p:pic>
      <p:pic>
        <p:nvPicPr>
          <p:cNvPr id="136" name="图片 4099" descr="trafficlights_2"/>
          <p:cNvPicPr/>
          <p:nvPr/>
        </p:nvPicPr>
        <p:blipFill>
          <a:blip r:embed="rId2"/>
          <a:stretch/>
        </p:blipFill>
        <p:spPr>
          <a:xfrm>
            <a:off x="228600" y="1312920"/>
            <a:ext cx="2120760" cy="5545080"/>
          </a:xfrm>
          <a:prstGeom prst="rect">
            <a:avLst/>
          </a:prstGeom>
          <a:ln w="0">
            <a:noFill/>
          </a:ln>
        </p:spPr>
      </p:pic>
      <p:pic>
        <p:nvPicPr>
          <p:cNvPr id="137" name="图片 4100" descr="trafficlights_3"/>
          <p:cNvPicPr/>
          <p:nvPr/>
        </p:nvPicPr>
        <p:blipFill>
          <a:blip r:embed="rId3"/>
          <a:stretch/>
        </p:blipFill>
        <p:spPr>
          <a:xfrm>
            <a:off x="228600" y="1312920"/>
            <a:ext cx="2120760" cy="5545080"/>
          </a:xfrm>
          <a:prstGeom prst="rect">
            <a:avLst/>
          </a:prstGeom>
          <a:ln w="0">
            <a:noFill/>
          </a:ln>
        </p:spPr>
      </p:pic>
      <p:sp>
        <p:nvSpPr>
          <p:cNvPr id="138" name="文本框 4102"/>
          <p:cNvSpPr/>
          <p:nvPr/>
        </p:nvSpPr>
        <p:spPr>
          <a:xfrm>
            <a:off x="3048120" y="1523880"/>
            <a:ext cx="525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ON CLICK ANIM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文本框 8199"/>
          <p:cNvSpPr/>
          <p:nvPr/>
        </p:nvSpPr>
        <p:spPr>
          <a:xfrm>
            <a:off x="1781280" y="9540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5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08:08:39Z</dcterms:created>
  <dc:creator>幻灯片之家：www.eepp.com</dc:creator>
  <dc:description>幻灯片之家：www.eepp.com</dc:description>
  <cp:keywords>幻灯片之家：www.eepp.com</cp:keywords>
  <dc:language>en-US</dc:language>
  <cp:lastModifiedBy>pc</cp:lastModifiedBy>
  <dcterms:modified xsi:type="dcterms:W3CDTF">2015-12-12T07:04:35Z</dcterms:modified>
  <cp:revision>12</cp:revision>
  <dc:subject>幻灯片之家：www.eepp.com</dc:subject>
  <dc:title>幻灯片之家：www.eepp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