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D9D-CEB8-4741-9A0C-0E8A52DD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511-0F30-479A-AB2E-51F26B74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1C102-ECAD-4DC5-A3EE-FD1A5E4E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AD945-5FAA-4D27-96E9-DC1D7FC2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DE126-9CA2-415E-917D-C9D96981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8F989-11D1-4A71-A67D-B1AD25A8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40DDF-CC54-4866-AE4C-09F635E5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C7894-2AC2-43AE-A760-4003F12E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14FAC-7C8B-4B90-A6DE-E935009A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EDC08-303B-4686-A0F4-F4507FF3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09F55-2A63-4C06-B89F-1A6FA242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E5166-FEE4-40FF-A1AC-6F715B31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7FF-D7E5-4F4D-9131-5AA4EA65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CD27E-F57C-4870-B32C-86F59EFF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A6707-7E35-4876-92B0-610910E2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537AF-E0D8-44FF-A0E0-C04CF488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D2832-978B-41D5-AC2B-242418B9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306F0-E8F2-4B19-9960-C4A16C5A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BE555-8151-4635-AE99-CE5903F4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B0F28-433A-45BA-A739-B470D429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A26D0-1EB0-44E9-ACC5-35B01121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56D92-D4A4-406D-9A98-FEB0C35B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869F6-34D3-4411-B4D6-70B87B77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4AE-72DB-4780-A16A-2AD008D3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E2886-7E06-4DA7-91B6-1DB95E98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1D040-8F53-480A-B5B8-94A39410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F537B-A9D5-45F0-8A34-2DDFF3EB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DCD54-2DDB-4CD7-B4AA-82D96E3F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26A16-C18E-4AF7-9C27-D556E530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ACEE8-8F83-4D6E-81B9-A424542F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83D9B-B0FA-41A9-8DE2-0473DE80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0180D-8872-4826-B769-819CC2A0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A0CE3-A8B1-49C0-A260-5BB74371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38AF3-2FAC-4452-8F74-C6EFBE73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49BB-0AC7-4D55-80CF-0E3EF993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186A7-BC15-4946-9E65-64FB54FF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E51C5-6AD6-46B5-8483-47B1CB1F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39B05-816D-4BE5-9DD4-28EF6712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0BB78-5B7D-4099-A7BD-E83D5568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B66F9-59DE-458B-81BF-2D6F2556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E7AFD-CF6A-4F1E-B2C5-CB3A4C65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1DEE8-E2E4-45EB-B6DE-184CDBA3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FD9C3-71FF-47A9-99B1-B7EB3AA8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0B409-CA11-48B2-BFE9-C8669C48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F10B2-B480-4CAD-9406-A48B576B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DC39-7909-4905-814E-A9B6ECDA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7255A-08D1-4854-81FA-90D396D3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ED86D-0300-4F56-8090-71713973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17910-4B6C-415F-8173-08F38B12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B4F46-4DDA-4449-BE36-84553138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E5ACC-2292-485D-B8F1-A8ADCACD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DA30F-88DD-477E-9127-05025ACF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3E43F-24CB-4033-B4E8-976940AE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B23E2-43E1-4CB5-97BF-1B5F0C30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B043A-65EC-4A28-8E71-F41A8A3C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FCF82-2EBA-4992-85D3-9E44C916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121-792D-42CD-9780-677FBFD6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470EF-B8BE-4463-9CCD-D7E5E2E9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2AC27-E6AF-4117-BB27-A3DC16C0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7E14A-4826-4EA1-BE15-F441A93E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6F9FA-458B-4F25-9E13-229105B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5D647-11DB-4EB8-B768-17886FDB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BD5B3-5106-4C88-BAAC-C1DB63CC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A924C-CF9F-420F-9239-A192A7E6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B5DF-8EEA-4717-AA98-A21920CD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D4C5-9B41-4181-90AB-5A60A40A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682D-13FA-41EB-80C5-BD618818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B60A-37B1-4EA7-9504-370AF30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AA8-CAF2-423D-AAEE-6F18A663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E8BB-6451-4D40-B920-985B82A8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D569-0EFF-4BA9-8E50-DD93F200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0496-EC83-4F89-BDBC-22B8F95D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BE8F-9FDF-4F2C-AB46-FD3FFFFD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A352-78F2-4694-B4E6-563F8112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0C0D-0433-438F-973E-6A5866C8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8EFF-91F2-4A8B-A00C-E38CD4EE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BA29-33F1-44BD-97A3-284A977A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FCF4-915A-412F-8B21-5673B575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E499-95A0-47B7-84B9-790250E1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775-927B-4E73-9111-6EAA9EEA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3D383-C1CB-4BC2-AEAC-46F00486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D88E1-68F4-4A01-8B8E-B1D0936D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4B3A-06D6-4B35-8F64-DFEF458A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73EF-266B-4C62-8335-0F80640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A551-6E77-4374-A980-214BC1E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1EFB-58F7-4F39-BD5A-2E636F6E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6256-23C1-4558-992E-3A7F5366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FCBCB-30B0-4D5D-8DE4-F5D850F6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70D2F-CDB9-4519-94C6-51F9046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290F9-AD7A-48B2-AA05-2414869C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9AE-6963-48E5-8C03-4DA3609A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C8D80-504E-418B-A179-71BEC1D6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65A2-7E77-4854-ABD8-A591685D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C46F-B0FE-458C-8A50-10B7FEFC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4318-1DE2-4F7C-BBD3-49BFCCC0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6E6AA-0AA1-4ACB-AFD6-11638391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34A9-69EE-4DAC-80AE-019940FB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EA19-004E-4E16-A182-B95B4140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3FA5C-40CB-4279-8CBB-92541DB9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93CA-8F8C-4DE9-B8D2-B16EB6A7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FAD4F-A78B-40C6-84DF-345FF3DF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B59-714D-47B8-A4D9-2B56F222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A085-A82E-48BB-91AE-3C7558FD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B6450-EE7E-4A08-8007-4EA1E58F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F9E66-18CB-4251-B873-5F547DC3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C47C7-E55F-408A-BB1F-12A28F30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62DB4-3018-42C9-8248-3C16F5DD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9D55-B50F-414A-AE46-D911BAA9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6C981-AB4F-4EA3-9124-73846056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298BF-4DE0-4BE1-8CF2-B20ABE7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CF52-D0EC-4665-9933-6CD55DA5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8ABCF-E2F8-4069-9F7C-EE9487B8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91C-34A5-4EF0-9329-0B4B9809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95915-3F4D-4578-B990-351F386E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7751C-5A0E-4162-9F20-64F98580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9E81-2DF6-4B12-A4E8-AF4E17CC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43A42-2F51-4E11-A1B6-06C88DE1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FC06A-FF68-4D3F-9291-98D026FA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8BE00-754A-4BC5-815D-FD84219A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01C77-8D01-4F9A-BA3D-663E8D6D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F8AD6-C661-43AD-B118-5286AC56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702EC-89D2-4096-BAEC-4FAF28E8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EBDCE-4A60-4AAD-A926-5A3AAD92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B56-08B1-4918-89CC-C8F8B975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3AF18-9901-4E21-8B4D-18FE0444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8F5BD-1B4C-4735-BD43-D24F13FA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0E158-A3F9-4561-B4F7-C7586087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C976A-AED1-449F-B797-BCA647AA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1D6BD-DBE8-4301-9F5A-F01924C5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D0C95-3D07-4A9D-8CF8-860A108F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C62E9-F298-4BC4-8291-046E85ED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1BC8-AAB6-439E-BA04-45A2A289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0BBB-4CCC-445F-94CD-FC01C253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75A90-EB5C-4FFA-AE62-02CE91DA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0AE-62A5-44D5-BCEE-B116B9AD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0E1D1-0AC7-4A2B-8291-E4EA2B6F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E1D3A-AFFE-4C39-AA0B-6EDF38C4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19E97-4301-4934-852C-A3796BFE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B4595-68E3-4F2B-A9EA-A37642E3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A3DC7-54A2-4068-BDCA-7E4124D3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B7BAA-B024-494D-8CC1-85F4EE3B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866E9-B60E-4947-8C9A-5C10EB61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63B84-DFE4-4696-86E5-A0BE43F4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3E7AB-0751-4631-BA2E-9E9F6384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9CB81-7273-40C1-B07C-B0C55999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E21-2160-41DE-8D6E-38476E92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F2BE1-E07D-4D60-B219-3D7B1C30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E96FF-E580-4C87-B5B1-184AAC4E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849B-6557-45A1-81F2-1ECC3F9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F579F-DF65-478E-823C-A820629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246B4-423D-4895-8796-F8F93E6F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ECA82-B9AE-4859-84DF-5A567F8E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5C2AA-A8E0-44E7-B453-6451956C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8B08D-F7CD-40F7-8E7E-78207292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87189-5EBD-4AC0-AE79-2B01C71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84059-0DA5-44DD-9A30-E48EEA63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9E89-E3DC-4DF1-A32C-9529908E14E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FB3F-5BC6-4B54-AFE0-6BB98506F78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7E61-0196-48E7-A54F-88C0F995DAE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33C6-B2C3-49E2-A137-7F2BEFFD51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B090-495B-4F95-B272-EBDB1EEFE19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F372-FF28-47BB-882F-0C426E9C1E4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4BF9-F978-44BA-8B5E-85FF12AC0D9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153F-D801-4476-A1C8-C8EA74377F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A54B-2266-4A0F-8C9E-9DB504AB15D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ED6F-772A-41EB-9350-EC45D4FFB16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6978-2CAC-4E2D-B4C7-6C22AB83FAC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E8C3-5881-4F48-ACBC-0991717375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0CC2-A990-4A75-86BB-6C7C9A8E1B6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A7EE-E186-4CBA-AD68-483CBB31DCD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9B3C-A043-4CDB-ABDB-FBEB674B039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BEE5-266A-4FD5-BE36-66E4242ACF5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3DBF-AF04-4101-84C7-EE13399A251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1336-B2B2-443C-A834-D855171E3A1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0ECE-D439-41A7-93F9-9369C1E1DA0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DABF-8CB9-4FAB-A900-D2F59A689A3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550E-4225-478F-9C39-0ECA3E49D99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A6FB-5AEB-463B-9A6B-E9746F33DF3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0D30-0D0B-48DF-9878-A8954BA02C7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4334-0720-40FE-813A-075A9D10E4B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EFE2-FC81-414C-82F2-473C1E08CAF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F044-D70C-45EE-9D48-2CD00E9FCF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93600" y="690120"/>
            <a:ext cx="740268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卡通课件</a:t>
            </a: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632040" y="2265120"/>
            <a:ext cx="679464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  <p:sp>
        <p:nvSpPr>
          <p:cNvPr id="53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79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a5"/>
              </a:solidFill>
              <a:latin typeface="Calibri Light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28880" y="927000"/>
            <a:ext cx="5194080" cy="30988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654960" y="736200"/>
            <a:ext cx="421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460520" y="647640"/>
            <a:ext cx="4013280" cy="2425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311880" y="647640"/>
            <a:ext cx="4013280" cy="24256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 txBox="1"/>
          <p:nvPr/>
        </p:nvSpPr>
        <p:spPr>
          <a:xfrm>
            <a:off x="1261800" y="3720600"/>
            <a:ext cx="4491000" cy="13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090840" y="3720600"/>
            <a:ext cx="4473720" cy="13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8199"/>
          <p:cNvSpPr/>
          <p:nvPr/>
        </p:nvSpPr>
        <p:spPr>
          <a:xfrm>
            <a:off x="2560680" y="5113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396800" y="609120"/>
            <a:ext cx="2438280" cy="28069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4609800" y="609120"/>
            <a:ext cx="2438280" cy="28069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7810200" y="609120"/>
            <a:ext cx="2438280" cy="28069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1261800" y="4000320"/>
            <a:ext cx="27637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459320" y="4000320"/>
            <a:ext cx="27655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7657920" y="4000320"/>
            <a:ext cx="27637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8A30-92E7-4A43-9696-C0A650F760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475080" y="1998000"/>
            <a:ext cx="526104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800" spc="-1" strike="noStrike">
              <a:solidFill>
                <a:srgbClr val="0000a5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1600" y="608400"/>
            <a:ext cx="9747000" cy="8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a5"/>
              </a:solidFill>
              <a:latin typeface="Calibri Light"/>
              <a:ea typeface="微软雅黑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1600" y="1447560"/>
            <a:ext cx="97470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带有列表的标题和内容版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37720" y="1825560"/>
            <a:ext cx="986652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在此处添加第一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在此处添加第二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在此处添加第三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带有 </a:t>
            </a: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SmartArt </a:t>
            </a: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的标题和内容版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1" name="内容占位符 3" descr=""/>
          <p:cNvPicPr/>
          <p:nvPr/>
        </p:nvPicPr>
        <p:blipFill>
          <a:blip r:embed="rId1"/>
          <a:stretch/>
        </p:blipFill>
        <p:spPr>
          <a:xfrm>
            <a:off x="833400" y="1816200"/>
            <a:ext cx="98744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861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带有表格的两栏内容版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838080" y="1825560"/>
            <a:ext cx="472464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此处为第一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此处为第二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Calibri"/>
                <a:ea typeface="微软雅黑"/>
              </a:rPr>
              <a:t>此处为第三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5975280" y="1825560"/>
          <a:ext cx="4724280" cy="1519200"/>
        </p:xfrm>
        <a:graphic>
          <a:graphicData uri="http://schemas.openxmlformats.org/drawingml/2006/table">
            <a:tbl>
              <a:tblPr/>
              <a:tblGrid>
                <a:gridCol w="1574640"/>
                <a:gridCol w="1575000"/>
                <a:gridCol w="1574640"/>
              </a:tblGrid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a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组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a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组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a5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类 </a:t>
                      </a: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类</a:t>
                      </a: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ae1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ae1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ae1a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类 </a:t>
                      </a: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</a:tr>
            </a:tbl>
          </a:graphicData>
        </a:graphic>
      </p:graphicFrame>
      <p:sp>
        <p:nvSpPr>
          <p:cNvPr id="54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861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a5"/>
              </a:solidFill>
              <a:latin typeface="Calibri Light"/>
              <a:ea typeface="微软雅黑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1825560"/>
            <a:ext cx="472464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975280" y="1825560"/>
            <a:ext cx="472464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9872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a5"/>
              </a:solidFill>
              <a:latin typeface="Calibri Light"/>
              <a:ea typeface="微软雅黑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9880" y="1680840"/>
            <a:ext cx="47131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974920" y="1680840"/>
            <a:ext cx="473724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8080" y="2505240"/>
            <a:ext cx="4724640" cy="25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987880" y="2505240"/>
            <a:ext cx="4724640" cy="25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9866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a5"/>
              </a:solidFill>
              <a:latin typeface="Calibri Light"/>
              <a:ea typeface="微软雅黑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9880" y="1680840"/>
            <a:ext cx="3240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154400" y="1680840"/>
            <a:ext cx="323856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7467480" y="1680840"/>
            <a:ext cx="323856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900090"/>
              </a:solidFill>
              <a:latin typeface="Calibri"/>
              <a:ea typeface="微软雅黑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839880" y="2505240"/>
            <a:ext cx="32414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152960" y="2505240"/>
            <a:ext cx="32414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465680" y="2505240"/>
            <a:ext cx="32418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内容占位符 1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10033200" cy="332604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Calibri Light"/>
                <a:ea typeface="微软雅黑"/>
              </a:rPr>
              <a:t>标题和图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5T10:41:0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5:41Z</dcterms:modified>
  <cp:revision>4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TemplateID">
    <vt:lpwstr>TC042498939991</vt:lpwstr>
  </property>
</Properties>
</file>