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790-B7C8-4AA6-BBEF-DE63FF63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8F2-CF90-40CB-A469-87AA7E3D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D0F18-163E-4689-A38C-123B6683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BBF17-4F97-42B7-B75E-944AC028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83055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2C368-1ED1-4A90-B05C-811A43F5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6BE80-FF9E-49D8-8F85-A75D1AFD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3941D-957E-409F-B7A1-2C3429DC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DD598-B9D6-4B35-9C31-DBA88763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6EF40-6D82-41BC-BC9B-E826DE74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674E2-B15E-4414-BE99-D364CE37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110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268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2952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110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268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F2EC3-1B6C-4708-95C3-F7B46F14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023C-B346-4AB8-AF16-0FCA0F82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10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268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10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268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74C-818B-4B40-AE48-BE5DFF4A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9297-86DE-43FD-81AA-94E1B199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39D2-EC70-4214-831D-52562711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B159-136D-41E1-9FE2-0842CEC6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B4CA-2D46-4FD3-8001-9FC585CF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18B0-5591-4837-BFE6-6CB67408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83055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6669-1D14-449C-B4C9-342BF620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E749-D0DF-41A7-8C9B-F6802332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9E6C-1912-46E1-9BF4-796356E7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7FB7-D717-4C5A-A25F-2AF225AE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CC69-B0D2-4FFC-802C-77400042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BEEA-9496-4807-9AB6-C8AADE4B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6837-111D-449B-B4A4-8F7A5BD9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10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268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10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268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94A9-3513-4F81-A20A-43923C56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6DBFA-9ABD-452C-8291-5EE62CA5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008AA-098C-45D4-A504-15F75404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E592D-F4B4-449C-A6AC-F5A94F25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E869B-6026-4D0A-A00E-FF9B5B78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8873D-64A2-443A-AD7C-0B5E33E2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916-FBA0-461E-8949-D16E0B16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83055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B6E96-72EC-4F59-B3DB-2F842BD2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D0C65-8CE1-4974-B9F1-8DC43B36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0429D-4529-40C7-9041-518A9FC7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8A0CC-CE98-462E-9D8B-094E6D83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5392E-5376-46FB-B6AE-53A86025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5606D-FF10-45E3-8D48-94860468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110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268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952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110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268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90D32-802D-4065-9DC6-4873379B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8880B-FACD-4DB2-B726-029270FF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345BC-09E4-4B2F-B0F8-0246DB56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2F90A-15EC-4269-A8E7-7175E387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529-2384-42DA-BA9D-0F32951C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5E082-DC39-4F93-B570-63604C2D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79134-5D46-414E-915B-3505FB6E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83055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5D909-00EA-401F-B976-2F13A9EF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7E64C-FC04-43C3-8754-3EFFCB4C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686E2-FA9A-4DD5-8BCF-E4A341DE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6D675-757E-4AE7-AE3B-A5359B4E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E023A-1129-4EAC-8F6F-E9111E2D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7CE0B-8012-4320-B29B-627BE8AD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110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268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2952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110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268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A4E5C-D161-447F-833F-3E98B154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A3FFA-E0F2-4C8E-A073-4300C3F6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55A-42FA-4261-847A-A56BFB01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C40CC-CB6C-4A2E-B8BA-46D41A9B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5DEF0-9140-4BB9-A929-4800AABC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26F90-C9F2-4613-B30B-6F2E1688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2B126-2E6A-4774-9F3A-AC39792A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83055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2BE98-BF50-420C-A2F8-D64CAD8D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5BF98-28EF-4048-BBA0-22BDFBBD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3FFD0-5A1D-4392-AE6F-1914880B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6D3D7-0836-4A9E-B0C5-167D4632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E2939-EE13-4278-A768-9453FF57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8CBC3-5852-47B0-BAD3-30C66BC6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83055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6C6A-3D5A-4FEA-98FB-4022D247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110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268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952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110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268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1BA94-0504-4BC1-8355-FBD63A34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53D29-B631-4904-AD0D-DFAFAD2C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5886C-B3C6-4655-AC10-B740A22C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EF8F3-CE77-4645-815B-74C47EA8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6C6FD-2884-4BEF-B75F-1CE1DACA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91752-1A24-4D3F-BB91-AFD24CD4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83055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846B6-FE61-4BEC-920F-CA1C3BA2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9182E-798F-46BF-A4EE-E34851A4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18343-CA1A-495B-9373-02C67879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7A7B7-63F6-4D97-B575-35196BA3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0D7-BCC1-499F-8720-A833A866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B124C-EF5F-400C-ACBC-11FFE86C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6AC9B-5A87-4FDB-B307-C257A63A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110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268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2952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110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268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3D4C5-2BF1-4FAF-B54E-BF9D650B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E7CED-1611-4B94-8247-86444398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FEE5F-170D-4B7E-BE07-15C48B0A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B6401-6A08-4058-BAF5-518ACD1D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A75A7-3371-4388-9551-C4903C01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902E4-3BD8-4324-B350-12ECCEBA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83055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C3A16-A238-4999-AE67-B76FAAA8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30585-0080-49E5-9081-5E127068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20FE-BF46-4B0B-92ED-45741D83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652BD-F4C4-41C8-92C1-944321A8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03A42-92E6-462E-B744-76610A76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13E02-26E5-4FF1-8E24-9DA7A7DC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95D71-5492-47A1-BC62-83F73265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110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268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952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110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268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5740B-2E16-4877-A925-7398CC83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AED8E-5793-4ADC-BE2C-1B88DF03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474DE-0B97-49DF-BF1E-9C6D8071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4E718-E637-48C0-9B5B-05A565C8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F1045-1BE8-46BF-9A5D-F68922DD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408C8-4993-4483-9AD2-92CD1050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AB42-6BC2-45C6-8BE3-584CE7FE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83055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3EC71-6760-4159-A09C-893B4216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283F7-FF29-402B-86FA-73F53E18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A12DA-8660-4314-9EE0-02309CD2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A1D86-82C7-41BD-B501-BD950886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9DE9F-0F71-4677-A1BD-4C14A779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A5344-6C43-4BF0-8234-E0F6B425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110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268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2952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110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268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35D21-E3A2-4F34-BBD5-FB0D5A68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8D934-A17F-4C98-AFC7-540FA7D7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07E40-BA10-49BE-8AD5-9B47F46B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5F8EA-EDAE-4D53-928D-D16D19BF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3171e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E605-FE00-4667-A8ED-FD84EC5F10A1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0376-2F2C-41CA-9701-7F3E2221A89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495B-AE66-46B3-A154-174132AAD0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3171e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60CC-BA3F-4852-A8D7-D641048AF554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3171e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C3CE-2861-4C12-9265-84556773FB9C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3171e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A6D8-2F2D-4F3A-86EA-879AABFFE21B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3171e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DE1D-B9F1-4EF0-B006-D5AB635BEDBA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3171e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385D-AD1C-434E-B88B-56437792FDC1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3171e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3CB3-809E-42F0-AE01-744ECA1AD815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3171e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2F46-5F6B-46CD-8CF4-361566E1CCCB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0" y="2568600"/>
            <a:ext cx="9144000" cy="73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0" y="32767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3171e"/>
                </a:solidFill>
                <a:latin typeface="Tahoma"/>
              </a:rPr>
              <a:t>卡通</a:t>
            </a:r>
            <a:r>
              <a:rPr b="1" lang="en-US" sz="4000" spc="-1" strike="noStrike">
                <a:solidFill>
                  <a:srgbClr val="a3171e"/>
                </a:solidFill>
                <a:latin typeface="Tahoma"/>
              </a:rPr>
              <a:t>小学教育教学</a:t>
            </a:r>
            <a:r>
              <a:rPr b="1" lang="en-US" sz="4000" spc="-1" strike="noStrike">
                <a:solidFill>
                  <a:srgbClr val="a3171e"/>
                </a:solidFill>
                <a:latin typeface="Tahoma"/>
              </a:rPr>
              <a:t>PPT</a:t>
            </a:r>
            <a:r>
              <a:rPr b="1" lang="en-US" sz="4000" spc="-1" strike="noStrike">
                <a:solidFill>
                  <a:srgbClr val="a3171e"/>
                </a:solidFill>
                <a:latin typeface="Tahoma"/>
              </a:rPr>
              <a:t>模板</a:t>
            </a:r>
            <a:r>
              <a:rPr b="1" lang="zh-CN" sz="4000" spc="-1" strike="noStrike">
                <a:solidFill>
                  <a:srgbClr val="a3171e"/>
                </a:solidFill>
                <a:latin typeface="Tahoma"/>
              </a:rPr>
              <a:t>免费下载</a:t>
            </a:r>
            <a:endParaRPr b="1" lang="en-US" sz="40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7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3171e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YOUR SUBTOPIC GOES HERE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4" descr=""/>
          <p:cNvPicPr/>
          <p:nvPr/>
        </p:nvPicPr>
        <p:blipFill>
          <a:blip r:embed="rId1"/>
          <a:stretch/>
        </p:blipFill>
        <p:spPr>
          <a:xfrm>
            <a:off x="838080" y="2143080"/>
            <a:ext cx="777240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811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811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89AD-FD33-4B35-8D46-04EE2BA6B9F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7"/>
          <p:cNvSpPr/>
          <p:nvPr/>
        </p:nvSpPr>
        <p:spPr>
          <a:xfrm>
            <a:off x="3352680" y="220968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emplate Provided By</a:t>
            </a:r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2590920" y="3733920"/>
            <a:ext cx="396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0,000 Downloadable PowerPoint Templates, Animated Clip Art, Backgrounds and Videos</a:t>
            </a:r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pic>
        <p:nvPicPr>
          <p:cNvPr id="382" name="Picture 12" descr="af_logo_lon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62040" y="2612880"/>
            <a:ext cx="6019920" cy="766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00:4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5:23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_TemplateID">
    <vt:lpwstr>TC103368129990</vt:lpwstr>
  </property>
</Properties>
</file>