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18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B61-CB02-4D7B-BFC2-16B19DF0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6FA-DB9A-427F-AB2C-8A4C72F6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D31-1DF8-49D0-B59E-E08704FA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8DA-8430-48B8-8921-58C39C2D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0934-3844-4370-A294-E29B40B2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FBFE-4429-4956-9BD2-AB629F07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823C-7140-4F34-8551-37098F62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D96D-1D9F-4506-8DFE-2CC390E9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279B-FBD7-41BF-ACFE-655B9380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AD14-4F1C-436B-A410-4F36F7EE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3836-83A7-46A2-94D3-C3687FC3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44FA-E07B-4C0B-B7DC-813DDFBA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E3F5-7DE8-4CDB-921C-41E1191F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869C-9863-451A-A84A-CD04D35D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EB79-6E96-4E7D-A7AE-207BB367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4864-3CE8-4535-A6FA-BEE50F8C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2AFC-D0E1-4FC3-8E75-DC212601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ED9-3AE2-48C4-9CE4-E5D4BD48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A200-4ED2-46DB-99CB-E48310FA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A4B-D201-4410-AA9A-27D51E95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1919-6390-4F7E-B88C-4BB484CB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0FE-8CB3-463C-8C31-A6846952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656-3423-43F3-AF0E-8D973871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AD92-40E9-4714-B1C3-506BC46F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5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EAC7-68D9-4EC7-BBE0-0F6A55756F1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7DA7-7A3A-46A5-B4BC-136B7A5248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4E90-E58A-49D4-8489-83A74346308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586D-58BD-4670-8573-3801F0A2DB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hyperlink" Target="http://www.eeppt.com" TargetMode="External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8.png"/><Relationship Id="rId6" Type="http://schemas.openxmlformats.org/officeDocument/2006/relationships/image" Target="../media/image29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2" descr="beginingtree.png"/>
          <p:cNvPicPr/>
          <p:nvPr/>
        </p:nvPicPr>
        <p:blipFill>
          <a:blip r:embed="rId1"/>
          <a:srcRect l="23442" t="24818" r="62501" b="44163"/>
          <a:stretch/>
        </p:blipFill>
        <p:spPr>
          <a:xfrm>
            <a:off x="3286080" y="2500200"/>
            <a:ext cx="1428840" cy="17859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1" descr="bear.png"/>
          <p:cNvPicPr/>
          <p:nvPr/>
        </p:nvPicPr>
        <p:blipFill>
          <a:blip r:embed="rId2"/>
          <a:srcRect l="52511" t="0" r="0" b="0"/>
          <a:stretch/>
        </p:blipFill>
        <p:spPr>
          <a:xfrm rot="1194600">
            <a:off x="3516480" y="1990800"/>
            <a:ext cx="2071440" cy="25574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" descr="title.png"/>
          <p:cNvPicPr/>
          <p:nvPr/>
        </p:nvPicPr>
        <p:blipFill>
          <a:blip r:embed="rId3"/>
          <a:srcRect l="5070" t="56598" r="0" b="30223"/>
          <a:stretch/>
        </p:blipFill>
        <p:spPr>
          <a:xfrm>
            <a:off x="1500120" y="4429080"/>
            <a:ext cx="6186600" cy="15271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0" descr="begining1.png"/>
          <p:cNvPicPr/>
          <p:nvPr/>
        </p:nvPicPr>
        <p:blipFill>
          <a:blip r:embed="rId4"/>
          <a:srcRect l="21658" t="0" r="24665" b="26881"/>
          <a:stretch/>
        </p:blipFill>
        <p:spPr>
          <a:xfrm>
            <a:off x="1714680" y="714240"/>
            <a:ext cx="5500440" cy="424656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2"/>
          <p:cNvSpPr/>
          <p:nvPr/>
        </p:nvSpPr>
        <p:spPr>
          <a:xfrm>
            <a:off x="425520" y="333360"/>
            <a:ext cx="819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卡通游戏城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63937E-006 L -0.14219 -0.04719 E">
                                      <p:cBhvr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35 0.00138 L 0.2092 -0.00903 E">
                                      <p:cBhvr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857400" y="2143080"/>
            <a:ext cx="507204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T’S 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812b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812b"/>
                </a:solidFill>
                <a:latin typeface="Comic Sans MS"/>
              </a:rPr>
              <a:t>THANK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5" descr="townfm_icon.png"/>
          <p:cNvPicPr/>
          <p:nvPr/>
        </p:nvPicPr>
        <p:blipFill>
          <a:blip r:embed="rId1"/>
          <a:stretch/>
        </p:blipFill>
        <p:spPr>
          <a:xfrm>
            <a:off x="1214280" y="1714680"/>
            <a:ext cx="26434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圆角矩形 4"/>
          <p:cNvSpPr/>
          <p:nvPr/>
        </p:nvSpPr>
        <p:spPr>
          <a:xfrm>
            <a:off x="714240" y="1428840"/>
            <a:ext cx="3571920" cy="3214440"/>
          </a:xfrm>
          <a:prstGeom prst="roundRect">
            <a:avLst>
              <a:gd name="adj" fmla="val 16667"/>
            </a:avLst>
          </a:prstGeom>
          <a:solidFill>
            <a:srgbClr val="ffffff">
              <a:alpha val="39000"/>
            </a:srgbClr>
          </a:solidFill>
          <a:ln w="63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标题 1" descr=""/>
          <p:cNvPicPr/>
          <p:nvPr/>
        </p:nvPicPr>
        <p:blipFill>
          <a:blip r:embed="rId1"/>
          <a:stretch/>
        </p:blipFill>
        <p:spPr>
          <a:xfrm>
            <a:off x="762120" y="23760"/>
            <a:ext cx="5473440" cy="2359080"/>
          </a:xfrm>
          <a:prstGeom prst="rect">
            <a:avLst/>
          </a:prstGeom>
          <a:ln w="0">
            <a:noFill/>
          </a:ln>
        </p:spPr>
      </p:pic>
      <p:pic>
        <p:nvPicPr>
          <p:cNvPr id="90" name="内容占位符 5" descr="bear.png"/>
          <p:cNvPicPr/>
          <p:nvPr/>
        </p:nvPicPr>
        <p:blipFill>
          <a:blip r:embed="rId2"/>
          <a:srcRect l="51251" t="0" r="0" b="0"/>
          <a:stretch/>
        </p:blipFill>
        <p:spPr>
          <a:xfrm rot="1602600">
            <a:off x="-393840" y="4519080"/>
            <a:ext cx="2784600" cy="3351240"/>
          </a:xfrm>
          <a:prstGeom prst="rect">
            <a:avLst/>
          </a:prstGeom>
          <a:ln w="0">
            <a:noFill/>
          </a:ln>
        </p:spPr>
      </p:pic>
      <p:grpSp>
        <p:nvGrpSpPr>
          <p:cNvPr id="91" name="组合 4100"/>
          <p:cNvGrpSpPr/>
          <p:nvPr/>
        </p:nvGrpSpPr>
        <p:grpSpPr>
          <a:xfrm>
            <a:off x="768240" y="1627200"/>
            <a:ext cx="3602160" cy="2706840"/>
            <a:chOff x="768240" y="1627200"/>
            <a:chExt cx="3602160" cy="2706840"/>
          </a:xfrm>
        </p:grpSpPr>
        <p:pic>
          <p:nvPicPr>
            <p:cNvPr id="92" name="TextBox 3" descr=""/>
            <p:cNvPicPr/>
            <p:nvPr/>
          </p:nvPicPr>
          <p:blipFill>
            <a:blip r:embed="rId3"/>
            <a:stretch/>
          </p:blipFill>
          <p:spPr>
            <a:xfrm>
              <a:off x="768240" y="1627200"/>
              <a:ext cx="360216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文本框 4102"/>
            <p:cNvSpPr/>
            <p:nvPr/>
          </p:nvSpPr>
          <p:spPr>
            <a:xfrm>
              <a:off x="785880" y="1643040"/>
              <a:ext cx="35715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812b"/>
                  </a:solidFill>
                  <a:latin typeface="Comic Sans MS"/>
                </a:rPr>
                <a:t>Triple Town is an original puzzle game in which you try to grow the greatest possible city. The larger the city you build, the more points you score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4" name="图片 6" descr="80981285jw1ds5af3f2ezj.jpg"/>
          <p:cNvPicPr/>
          <p:nvPr/>
        </p:nvPicPr>
        <p:blipFill>
          <a:blip r:embed="rId4"/>
          <a:srcRect l="0" t="6250" r="0" b="2959"/>
          <a:stretch/>
        </p:blipFill>
        <p:spPr>
          <a:xfrm>
            <a:off x="5643720" y="1143000"/>
            <a:ext cx="3257280" cy="492912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4104"/>
          <p:cNvGrpSpPr/>
          <p:nvPr/>
        </p:nvGrpSpPr>
        <p:grpSpPr>
          <a:xfrm>
            <a:off x="4286160" y="2928960"/>
            <a:ext cx="1500120" cy="142920"/>
            <a:chOff x="4286160" y="2928960"/>
            <a:chExt cx="1500120" cy="142920"/>
          </a:xfrm>
        </p:grpSpPr>
        <p:sp>
          <p:nvSpPr>
            <p:cNvPr id="96" name="直接连接符 8"/>
            <p:cNvSpPr/>
            <p:nvPr/>
          </p:nvSpPr>
          <p:spPr>
            <a:xfrm>
              <a:off x="4286160" y="3000600"/>
              <a:ext cx="13892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椭圆 9"/>
            <p:cNvSpPr/>
            <p:nvPr/>
          </p:nvSpPr>
          <p:spPr>
            <a:xfrm>
              <a:off x="5675400" y="2928960"/>
              <a:ext cx="110880" cy="142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" name="图片 12" descr="triple castle.png"/>
          <p:cNvPicPr/>
          <p:nvPr/>
        </p:nvPicPr>
        <p:blipFill>
          <a:blip r:embed="rId5"/>
          <a:srcRect l="30908" t="56251" r="48266" b="26044"/>
          <a:stretch/>
        </p:blipFill>
        <p:spPr>
          <a:xfrm>
            <a:off x="357120" y="0"/>
            <a:ext cx="8571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圆角矩形 6"/>
          <p:cNvSpPr/>
          <p:nvPr/>
        </p:nvSpPr>
        <p:spPr>
          <a:xfrm>
            <a:off x="357120" y="1428840"/>
            <a:ext cx="4286160" cy="3286080"/>
          </a:xfrm>
          <a:prstGeom prst="roundRect">
            <a:avLst>
              <a:gd name="adj" fmla="val 16667"/>
            </a:avLst>
          </a:prstGeom>
          <a:solidFill>
            <a:srgbClr val="ffffff">
              <a:alpha val="39000"/>
            </a:srgbClr>
          </a:solidFill>
          <a:ln w="63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400" y="1571400"/>
            <a:ext cx="414324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81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812b"/>
                </a:solidFill>
                <a:latin typeface="Comic Sans MS"/>
              </a:rPr>
              <a:t>You build your city by matching three or more game-pieces: combine three grasses to make a bush, three bushes to make a tree... until you‘ve filled all the blan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标题 1" descr=""/>
          <p:cNvPicPr/>
          <p:nvPr/>
        </p:nvPicPr>
        <p:blipFill>
          <a:blip r:embed="rId1"/>
          <a:stretch/>
        </p:blipFill>
        <p:spPr>
          <a:xfrm>
            <a:off x="762120" y="23760"/>
            <a:ext cx="5473440" cy="23590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4" descr="triple castle.png"/>
          <p:cNvPicPr/>
          <p:nvPr/>
        </p:nvPicPr>
        <p:blipFill>
          <a:blip r:embed="rId2"/>
          <a:srcRect l="30908" t="56251" r="48266" b="26044"/>
          <a:stretch/>
        </p:blipFill>
        <p:spPr>
          <a:xfrm>
            <a:off x="357120" y="0"/>
            <a:ext cx="857160" cy="12142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5" descr="072c9596ddae51af592cd09f258dbe0e.jpg"/>
          <p:cNvPicPr/>
          <p:nvPr/>
        </p:nvPicPr>
        <p:blipFill>
          <a:blip r:embed="rId3"/>
          <a:srcRect l="0" t="0" r="31418" b="6250"/>
          <a:stretch/>
        </p:blipFill>
        <p:spPr>
          <a:xfrm>
            <a:off x="5072040" y="1714680"/>
            <a:ext cx="3274920" cy="3357360"/>
          </a:xfrm>
          <a:prstGeom prst="rect">
            <a:avLst/>
          </a:prstGeom>
          <a:ln w="0">
            <a:noFill/>
          </a:ln>
        </p:spPr>
      </p:pic>
      <p:pic>
        <p:nvPicPr>
          <p:cNvPr id="104" name="内容占位符 5" descr="bear.png"/>
          <p:cNvPicPr/>
          <p:nvPr/>
        </p:nvPicPr>
        <p:blipFill>
          <a:blip r:embed="rId4"/>
          <a:srcRect l="51251" t="0" r="0" b="0"/>
          <a:stretch/>
        </p:blipFill>
        <p:spPr>
          <a:xfrm rot="1602600">
            <a:off x="-393840" y="4519080"/>
            <a:ext cx="27846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4" descr="grass.png"/>
          <p:cNvPicPr/>
          <p:nvPr/>
        </p:nvPicPr>
        <p:blipFill>
          <a:blip r:embed="rId1"/>
          <a:srcRect l="31844" t="45020" r="36325" b="13740"/>
          <a:stretch/>
        </p:blipFill>
        <p:spPr>
          <a:xfrm>
            <a:off x="1308240" y="2286000"/>
            <a:ext cx="857160" cy="78588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5" descr="bush.png"/>
          <p:cNvPicPr/>
          <p:nvPr/>
        </p:nvPicPr>
        <p:blipFill>
          <a:blip r:embed="rId2"/>
          <a:srcRect l="29196" t="22510" r="31015" b="24986"/>
          <a:stretch/>
        </p:blipFill>
        <p:spPr>
          <a:xfrm>
            <a:off x="2808360" y="2000160"/>
            <a:ext cx="1071360" cy="10000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" descr="tree.png"/>
          <p:cNvPicPr/>
          <p:nvPr/>
        </p:nvPicPr>
        <p:blipFill>
          <a:blip r:embed="rId3"/>
          <a:srcRect l="31430" t="16254" r="26120" b="4990"/>
          <a:stretch/>
        </p:blipFill>
        <p:spPr>
          <a:xfrm>
            <a:off x="4286160" y="1500120"/>
            <a:ext cx="1143000" cy="150012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7" descr="house.png"/>
          <p:cNvPicPr/>
          <p:nvPr/>
        </p:nvPicPr>
        <p:blipFill>
          <a:blip r:embed="rId4"/>
          <a:srcRect l="20396" t="0" r="0" b="0"/>
          <a:stretch/>
        </p:blipFill>
        <p:spPr>
          <a:xfrm>
            <a:off x="6286680" y="1928880"/>
            <a:ext cx="214308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8" descr="bigger house.png"/>
          <p:cNvPicPr/>
          <p:nvPr/>
        </p:nvPicPr>
        <p:blipFill>
          <a:blip r:embed="rId5"/>
          <a:stretch/>
        </p:blipFill>
        <p:spPr>
          <a:xfrm>
            <a:off x="6451560" y="4143240"/>
            <a:ext cx="26924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9" descr="villa.png"/>
          <p:cNvPicPr/>
          <p:nvPr/>
        </p:nvPicPr>
        <p:blipFill>
          <a:blip r:embed="rId6"/>
          <a:stretch/>
        </p:blipFill>
        <p:spPr>
          <a:xfrm>
            <a:off x="4737240" y="4071960"/>
            <a:ext cx="269244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11" descr="castle.png"/>
          <p:cNvPicPr/>
          <p:nvPr/>
        </p:nvPicPr>
        <p:blipFill>
          <a:blip r:embed="rId7"/>
          <a:stretch/>
        </p:blipFill>
        <p:spPr>
          <a:xfrm>
            <a:off x="2665440" y="3857760"/>
            <a:ext cx="2692440" cy="1904760"/>
          </a:xfrm>
          <a:prstGeom prst="rect">
            <a:avLst/>
          </a:prstGeom>
          <a:ln w="0">
            <a:noFill/>
          </a:ln>
        </p:spPr>
      </p:pic>
      <p:sp>
        <p:nvSpPr>
          <p:cNvPr id="112" name="右箭头 12"/>
          <p:cNvSpPr/>
          <p:nvPr/>
        </p:nvSpPr>
        <p:spPr>
          <a:xfrm>
            <a:off x="2308320" y="2571840"/>
            <a:ext cx="428400" cy="46080"/>
          </a:xfrm>
          <a:prstGeom prst="rightArrow">
            <a:avLst>
              <a:gd name="adj1" fmla="val 50000"/>
              <a:gd name="adj2" fmla="val 4949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右箭头 13"/>
          <p:cNvSpPr/>
          <p:nvPr/>
        </p:nvSpPr>
        <p:spPr>
          <a:xfrm>
            <a:off x="4000680" y="2571840"/>
            <a:ext cx="428400" cy="46080"/>
          </a:xfrm>
          <a:prstGeom prst="rightArrow">
            <a:avLst>
              <a:gd name="adj1" fmla="val 50000"/>
              <a:gd name="adj2" fmla="val 4949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右箭头 14"/>
          <p:cNvSpPr/>
          <p:nvPr/>
        </p:nvSpPr>
        <p:spPr>
          <a:xfrm>
            <a:off x="5643720" y="2571840"/>
            <a:ext cx="428400" cy="46080"/>
          </a:xfrm>
          <a:prstGeom prst="rightArrow">
            <a:avLst>
              <a:gd name="adj1" fmla="val 50000"/>
              <a:gd name="adj2" fmla="val 4949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右箭头 15"/>
          <p:cNvSpPr/>
          <p:nvPr/>
        </p:nvSpPr>
        <p:spPr>
          <a:xfrm rot="5400000">
            <a:off x="7296120" y="3584520"/>
            <a:ext cx="1000080" cy="117360"/>
          </a:xfrm>
          <a:prstGeom prst="rightArrow">
            <a:avLst>
              <a:gd name="adj1" fmla="val 50000"/>
              <a:gd name="adj2" fmla="val 4982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右箭头 16"/>
          <p:cNvSpPr/>
          <p:nvPr/>
        </p:nvSpPr>
        <p:spPr>
          <a:xfrm rot="10800000">
            <a:off x="6808320" y="5072040"/>
            <a:ext cx="428760" cy="46080"/>
          </a:xfrm>
          <a:prstGeom prst="rightArrow">
            <a:avLst>
              <a:gd name="adj1" fmla="val 50000"/>
              <a:gd name="adj2" fmla="val 49539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右箭头 17"/>
          <p:cNvSpPr/>
          <p:nvPr/>
        </p:nvSpPr>
        <p:spPr>
          <a:xfrm rot="10800000">
            <a:off x="4951080" y="5072040"/>
            <a:ext cx="428760" cy="46080"/>
          </a:xfrm>
          <a:prstGeom prst="rightArrow">
            <a:avLst>
              <a:gd name="adj1" fmla="val 50000"/>
              <a:gd name="adj2" fmla="val 49539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内容占位符 19" descr="triple castle.png"/>
          <p:cNvPicPr/>
          <p:nvPr/>
        </p:nvPicPr>
        <p:blipFill>
          <a:blip r:embed="rId8"/>
          <a:srcRect l="26535" t="0" r="28354" b="0"/>
          <a:stretch/>
        </p:blipFill>
        <p:spPr>
          <a:xfrm>
            <a:off x="571680" y="2928960"/>
            <a:ext cx="2000160" cy="31370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1"/>
          <p:cNvSpPr/>
          <p:nvPr/>
        </p:nvSpPr>
        <p:spPr>
          <a:xfrm>
            <a:off x="2522520" y="4357800"/>
            <a:ext cx="64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标题 1" descr=""/>
          <p:cNvPicPr/>
          <p:nvPr/>
        </p:nvPicPr>
        <p:blipFill>
          <a:blip r:embed="rId9"/>
          <a:stretch/>
        </p:blipFill>
        <p:spPr>
          <a:xfrm>
            <a:off x="762120" y="23760"/>
            <a:ext cx="5241960" cy="23590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23" descr="triple castle.png"/>
          <p:cNvPicPr/>
          <p:nvPr/>
        </p:nvPicPr>
        <p:blipFill>
          <a:blip r:embed="rId10"/>
          <a:srcRect l="30908" t="56251" r="48266" b="26044"/>
          <a:stretch/>
        </p:blipFill>
        <p:spPr>
          <a:xfrm>
            <a:off x="357120" y="0"/>
            <a:ext cx="857160" cy="121428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292ca"/>
                </a:solidFill>
                <a:uFillTx/>
                <a:latin typeface="Arial"/>
                <a:ea typeface="宋体"/>
                <a:hlinkClick r:id="rId11"/>
              </a:rPr>
              <a:t>ppt</a:t>
            </a:r>
            <a:r>
              <a:rPr b="0" lang="zh-CN" sz="1600" spc="-1" strike="noStrike" u="sng">
                <a:solidFill>
                  <a:srgbClr val="b292ca"/>
                </a:solidFill>
                <a:uFillTx/>
                <a:latin typeface="Arial"/>
                <a:ea typeface="宋体"/>
                <a:hlinkClick r:id="rId1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t’s not so easy like th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内容占位符 3" descr="1010261514599713.png"/>
          <p:cNvPicPr/>
          <p:nvPr/>
        </p:nvPicPr>
        <p:blipFill>
          <a:blip r:embed="rId1"/>
          <a:stretch/>
        </p:blipFill>
        <p:spPr>
          <a:xfrm>
            <a:off x="1785960" y="714240"/>
            <a:ext cx="5000760" cy="500076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1000080" y="50004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ut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1279800" y="571500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812b"/>
                </a:solidFill>
                <a:latin typeface="Comic Sans MS"/>
              </a:rPr>
              <a:t>Be aware</a:t>
            </a:r>
            <a:r>
              <a:rPr b="0" lang="zh-CN" sz="3200" spc="-1" strike="noStrike">
                <a:solidFill>
                  <a:srgbClr val="66812b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812b"/>
                </a:solidFill>
                <a:latin typeface="Comic Sans MS"/>
              </a:rPr>
              <a:t>of the aborigin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3"/>
          <p:cNvSpPr/>
          <p:nvPr/>
        </p:nvSpPr>
        <p:spPr>
          <a:xfrm>
            <a:off x="1214280" y="1785960"/>
            <a:ext cx="7215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812b"/>
                </a:solidFill>
                <a:latin typeface="Comic Sans MS"/>
              </a:rPr>
              <a:t>Along the way, you’ll have to outwit giant bears who will try to block your progres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图片 4" descr="113I961b-2.png"/>
          <p:cNvPicPr/>
          <p:nvPr/>
        </p:nvPicPr>
        <p:blipFill>
          <a:blip r:embed="rId1"/>
          <a:srcRect l="0" t="0" r="52498" b="0"/>
          <a:stretch/>
        </p:blipFill>
        <p:spPr>
          <a:xfrm>
            <a:off x="-2998800" y="2928960"/>
            <a:ext cx="2714760" cy="3352680"/>
          </a:xfrm>
          <a:prstGeom prst="rect">
            <a:avLst/>
          </a:prstGeom>
          <a:ln w="0">
            <a:noFill/>
          </a:ln>
        </p:spPr>
      </p:pic>
      <p:pic>
        <p:nvPicPr>
          <p:cNvPr id="129" name="标题 1" descr=""/>
          <p:cNvPicPr/>
          <p:nvPr/>
        </p:nvPicPr>
        <p:blipFill>
          <a:blip r:embed="rId2"/>
          <a:stretch/>
        </p:blipFill>
        <p:spPr>
          <a:xfrm>
            <a:off x="762120" y="23760"/>
            <a:ext cx="5473440" cy="23590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6" descr="triple castle.png"/>
          <p:cNvPicPr/>
          <p:nvPr/>
        </p:nvPicPr>
        <p:blipFill>
          <a:blip r:embed="rId3"/>
          <a:srcRect l="30908" t="56251" r="48266" b="26044"/>
          <a:stretch/>
        </p:blipFill>
        <p:spPr>
          <a:xfrm>
            <a:off x="357120" y="0"/>
            <a:ext cx="857160" cy="12142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7" descr="113I961b-2.png"/>
          <p:cNvPicPr/>
          <p:nvPr/>
        </p:nvPicPr>
        <p:blipFill>
          <a:blip r:embed="rId4"/>
          <a:srcRect l="48762" t="0" r="0" b="0"/>
          <a:stretch/>
        </p:blipFill>
        <p:spPr>
          <a:xfrm>
            <a:off x="9144000" y="2714760"/>
            <a:ext cx="2928960" cy="33526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8" descr="bearhunt.png"/>
          <p:cNvPicPr/>
          <p:nvPr/>
        </p:nvPicPr>
        <p:blipFill>
          <a:blip r:embed="rId5"/>
          <a:srcRect l="0" t="0" r="50002" b="0"/>
          <a:stretch/>
        </p:blipFill>
        <p:spPr>
          <a:xfrm>
            <a:off x="2286000" y="1643040"/>
            <a:ext cx="4572000" cy="40784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9" descr="grave.png"/>
          <p:cNvPicPr/>
          <p:nvPr/>
        </p:nvPicPr>
        <p:blipFill>
          <a:blip r:embed="rId6"/>
          <a:srcRect l="26535" t="0" r="23044" b="0"/>
          <a:stretch/>
        </p:blipFill>
        <p:spPr>
          <a:xfrm>
            <a:off x="3071880" y="3000240"/>
            <a:ext cx="2928960" cy="411012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0" descr="ninja bear.png"/>
          <p:cNvPicPr/>
          <p:nvPr/>
        </p:nvPicPr>
        <p:blipFill>
          <a:blip r:embed="rId7"/>
          <a:srcRect l="31430" t="19996" r="34078" b="23757"/>
          <a:stretch/>
        </p:blipFill>
        <p:spPr>
          <a:xfrm>
            <a:off x="3714840" y="-1784520"/>
            <a:ext cx="1547640" cy="178452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1" descr="cathedral.png"/>
          <p:cNvPicPr/>
          <p:nvPr/>
        </p:nvPicPr>
        <p:blipFill>
          <a:blip r:embed="rId8"/>
          <a:stretch/>
        </p:blipFill>
        <p:spPr>
          <a:xfrm>
            <a:off x="2214720" y="2786040"/>
            <a:ext cx="46782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"/>
                            </p:stCondLst>
                            <p:childTnLst>
                              <p:par>
                                <p:cTn id="15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27 -0.09792 C 0.07466 -0.08773 0.07847 -0.07963 0.08038 -0.06945 C 0.08542 -0.04167 0.08906 -0.01968 0.09931 0.00532 C 0.10156 0.02569 0.10799 0.04305 0.11372 0.06227 C 0.11719 0.07384 0.1191 0.08634 0.12344 0.09722 C 0.12466 0.10926 0.125 0.11018 0.13281 0.11643 C 0.14271 0.10602 0.14722 0.09653 0.1566 0.08611 C 0.16354 0.06736 0.16893 0.05324 0.17795 0.03541 C 0.18768 0.01597 0.1816 0.03194 0.19219 0.01643 C 0.1941 0.01366 0.19514 0.00949 0.19705 0.00671 C 0.20469 -0.0044 0.21424 -0.00857 0.22205 -0.01852 C 0.22587 -0.00509 0.22813 0.00116 0.23507 0.01319 C 0.23889 0.01967 0.23941 0.02453 0.24462 0.02754 C 0.2533 0.03264 0.26285 0.03565 0.27205 0.03866 C 0.31545 0.0368 0.29913 0.04491 0.31841 0.02592 C 0.32309 0.01666 0.32743 0.01018 0.33507 0.00532 C 0.34514 0.00903 0.35035 0.02754 0.35886 0.03541 C 0.35955 0.03657 0.36285 0.04421 0.36493 0.04328 C 0.36684 0.04259 0.36702 0.03889 0.36841 0.03703 C 0.36979 0.03518 0.3717 0.03379 0.37327 0.03217 C 0.37518 0.02407 0.37795 0.0206 0.38386 0.01782 C 0.38872 0.01157 0.3915 0.00926 0.39827 0.01157 C 0.40104 0.01759 0.40278 0.02245 0.4066 0.02754 C 0.40851 0.03611 0.41493 0.04722 0.41962 0.0544 C 0.42205 0.0581 0.42361 0.05995 0.42674 0.06227 C 0.42726 0.0625 0.42587 0.06134 0.42552 0.06088 E">
                                      <p:cBhvr>
                                        <p:cTn id="15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"/>
                            </p:stCondLst>
                            <p:childTnLst>
                              <p:par>
                                <p:cTn id="16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59259E-006 C -0.00972 0.01898 -0.01979 0.03797 -0.02847 0.05741 C -0.03315 0.06806 -0.03246 0.07986 -0.04097 0.08959 C -0.04375 0.09954 -0.05 0.10926 -0.05486 0.11898 C -0.05694 0.12778 -0.05989 0.13496 -0.06909 0.14051 C -0.07378 0.14722 -0.07465 0.15232 -0.08524 0.14977 C -0.09218 0.14468 -0.10052 0.13727 -0.11006 0.13496 C -0.12934 0.11621 -0.08836 0.15486 -0.13663 0.12037 C -0.1401 0.11806 -0.13958 0.11389 -0.14184 0.11111 C -0.15399 0.09491 -0.17083 0.07246 -0.19322 0.06412 C -0.19739 0.05996 -0.2019 0.05139 -0.20572 0.05996 C -0.20729 0.06968 -0.21041 0.0801 -0.2217 0.08542 C -0.2269 0.07986 -0.22968 0.07269 -0.23593 0.06806 C -0.2394 0.06551 -0.24322 0.06389 -0.24652 0.06135 C -0.26024 0.08125 -0.24843 0.06227 -0.25538 0.11482 C -0.25798 0.13334 -0.26371 0.15116 -0.27135 0.16852 C -0.28229 0.14398 -0.27552 0.1176 -0.29079 0.09352 C -0.30347 0.11806 -0.30121 0.14445 -0.30677 0.16991 C -0.30885 0.14977 -0.31197 0.13241 -0.31753 0.11227 C -0.32031 0.10232 -0.32256 0.09005 -0.33524 0.08426 C -0.3368 0.09283 -0.32916 0.1338 -0.34236 0.1176 C -0.34531 0.09977 -0.34722 0.08195 -0.35138 0.06412 C -0.35555 0.04607 -0.35034 0.05255 -0.35833 0.04398 C -0.37517 0.06227 -0.34513 0.10324 -0.37256 0.10834 C -0.38038 0.10417 -0.38576 0.09422 -0.39548 0.10162 E">
                                      <p:cBhvr>
                                        <p:cTn id="166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111E-006 L -1.38889E-006 0.77708 E">
                                      <p:cBhvr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9217"/>
          <p:cNvGrpSpPr/>
          <p:nvPr/>
        </p:nvGrpSpPr>
        <p:grpSpPr>
          <a:xfrm>
            <a:off x="4694400" y="841320"/>
            <a:ext cx="3754440" cy="3749760"/>
            <a:chOff x="4694400" y="841320"/>
            <a:chExt cx="3754440" cy="3749760"/>
          </a:xfrm>
        </p:grpSpPr>
        <p:pic>
          <p:nvPicPr>
            <p:cNvPr id="137" name="椭圆 13" descr=""/>
            <p:cNvPicPr/>
            <p:nvPr/>
          </p:nvPicPr>
          <p:blipFill>
            <a:blip r:embed="rId1"/>
            <a:stretch/>
          </p:blipFill>
          <p:spPr>
            <a:xfrm>
              <a:off x="4694400" y="841320"/>
              <a:ext cx="3754440" cy="374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文本框 9219"/>
            <p:cNvSpPr/>
            <p:nvPr/>
          </p:nvSpPr>
          <p:spPr>
            <a:xfrm>
              <a:off x="5259600" y="1401840"/>
              <a:ext cx="262584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9220"/>
          <p:cNvGrpSpPr/>
          <p:nvPr/>
        </p:nvGrpSpPr>
        <p:grpSpPr>
          <a:xfrm>
            <a:off x="695160" y="907920"/>
            <a:ext cx="3754440" cy="3755880"/>
            <a:chOff x="695160" y="907920"/>
            <a:chExt cx="3754440" cy="3755880"/>
          </a:xfrm>
        </p:grpSpPr>
        <p:pic>
          <p:nvPicPr>
            <p:cNvPr id="140" name="椭圆 12" descr=""/>
            <p:cNvPicPr/>
            <p:nvPr/>
          </p:nvPicPr>
          <p:blipFill>
            <a:blip r:embed="rId2"/>
            <a:stretch/>
          </p:blipFill>
          <p:spPr>
            <a:xfrm>
              <a:off x="695160" y="907920"/>
              <a:ext cx="3754440" cy="37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文本框 9222"/>
            <p:cNvSpPr/>
            <p:nvPr/>
          </p:nvSpPr>
          <p:spPr>
            <a:xfrm>
              <a:off x="1258560" y="1473120"/>
              <a:ext cx="2625840" cy="26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2" name="内容占位符 5" descr="mechine.png"/>
          <p:cNvPicPr/>
          <p:nvPr/>
        </p:nvPicPr>
        <p:blipFill>
          <a:blip r:embed="rId3"/>
          <a:srcRect l="33356" t="35135" r="46329" b="34530"/>
          <a:stretch/>
        </p:blipFill>
        <p:spPr>
          <a:xfrm>
            <a:off x="2000160" y="207180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143" name="标题 1" descr=""/>
          <p:cNvPicPr/>
          <p:nvPr/>
        </p:nvPicPr>
        <p:blipFill>
          <a:blip r:embed="rId4"/>
          <a:stretch/>
        </p:blipFill>
        <p:spPr>
          <a:xfrm>
            <a:off x="762120" y="23760"/>
            <a:ext cx="5241960" cy="235908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4" descr="triple castle.png"/>
          <p:cNvPicPr/>
          <p:nvPr/>
        </p:nvPicPr>
        <p:blipFill>
          <a:blip r:embed="rId5"/>
          <a:srcRect l="30908" t="56251" r="48266" b="26044"/>
          <a:stretch/>
        </p:blipFill>
        <p:spPr>
          <a:xfrm>
            <a:off x="357120" y="0"/>
            <a:ext cx="857160" cy="121428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6" descr="crystal.png"/>
          <p:cNvPicPr/>
          <p:nvPr/>
        </p:nvPicPr>
        <p:blipFill>
          <a:blip r:embed="rId6"/>
          <a:stretch/>
        </p:blipFill>
        <p:spPr>
          <a:xfrm>
            <a:off x="5286240" y="1643040"/>
            <a:ext cx="2692440" cy="19051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7"/>
          <p:cNvSpPr/>
          <p:nvPr/>
        </p:nvSpPr>
        <p:spPr>
          <a:xfrm>
            <a:off x="2143080" y="3286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812b"/>
                </a:solidFill>
                <a:latin typeface="Comic Sans MS"/>
              </a:rPr>
              <a:t>Destroy mach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6143760" y="3500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812b"/>
                </a:solidFill>
                <a:latin typeface="Comic Sans MS"/>
              </a:rPr>
              <a:t>Crys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1571760" y="42148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estroy any el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5929200" y="421488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Join  any t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内容占位符 5" descr="bear.png"/>
          <p:cNvPicPr/>
          <p:nvPr/>
        </p:nvPicPr>
        <p:blipFill>
          <a:blip r:embed="rId7"/>
          <a:srcRect l="51251" t="0" r="0" b="0"/>
          <a:stretch/>
        </p:blipFill>
        <p:spPr>
          <a:xfrm rot="1602600">
            <a:off x="-393840" y="4519080"/>
            <a:ext cx="27846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内容占位符 5" descr="bear.png"/>
          <p:cNvPicPr/>
          <p:nvPr/>
        </p:nvPicPr>
        <p:blipFill>
          <a:blip r:embed="rId1"/>
          <a:srcRect l="51251" t="0" r="0" b="0"/>
          <a:stretch/>
        </p:blipFill>
        <p:spPr>
          <a:xfrm rot="1602600">
            <a:off x="-393840" y="4519080"/>
            <a:ext cx="2784600" cy="3351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81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292ca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b292ca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8B82-DFED-4D8A-A70F-2FF5E8E573F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1:49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5:31Z</dcterms:modified>
  <cp:revision>3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