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C75-7C47-4D54-B1A6-F4FE530E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0D5-1422-440A-AA18-70A104F0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255-AFC9-43E5-9ABC-D7DB8DEB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BED-9621-4777-9380-06D393A2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40DB-2FA8-4667-8739-F42F3DF0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0A22-313A-4979-978B-B104D6BF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43CF-B681-4686-8375-9503AE34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7CEA-67B1-4E40-A153-77FA8B2A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8EC3-E4FA-4726-B78A-CE0C43B5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54D8-392D-4686-BB5F-8C9D95D6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668F-3C08-4FE9-BBF7-A750894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D4F-1C0D-442F-A6D2-188A75F3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D41A-5D83-4793-83FD-5BA2EB2A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03FF-F4BA-4DAC-8869-03F898C7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AC6C-5430-4177-A36A-57345E3C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76DE-25AF-46F6-A486-61FB35C3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AF28-314C-40A3-ABBB-6A2FC549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87E-657A-47DE-B937-405D3FE1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9BC-845F-4E5E-81EE-A00232B2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6EC-7E92-4469-94A4-06BFD899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F04-CA16-49B5-BE83-5422B4EE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86C-D5EF-470E-8F16-E5FD914A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E99-5DA4-4FA0-90A8-F75B9631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77F-7DFB-4F60-9A7F-1D1E97DC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C7AD-C70F-43C6-951C-76C451C07A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0FE9-83F8-445B-982D-6F134DFF249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DB65-DD22-46B5-9A14-299BBB8CAA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5286240" y="93492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4997880" y="334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4997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50695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5069520" y="477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395280" y="189000"/>
            <a:ext cx="815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浪漫卡通西瓜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2275560" y="857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5640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9266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51408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6283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199"/>
          <p:cNvSpPr/>
          <p:nvPr/>
        </p:nvSpPr>
        <p:spPr>
          <a:xfrm>
            <a:off x="755640" y="206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E4FD-92C9-45C6-9A1F-A73BDDA1DA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3926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3997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2133000" y="857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39978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52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