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699250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112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40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86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112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40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4280" y="250560"/>
            <a:ext cx="85154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0112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40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186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0112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40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C3775-2ADF-4C64-84F0-D4E71261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02211-5726-405B-9441-E3703058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82155-5622-41F1-BFFC-C54F4EEF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21CC7-0139-44B8-967B-ED1D630E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03446-3145-485F-8FA8-A4372ED3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14280" y="250560"/>
            <a:ext cx="85154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9E468-1F58-4D14-AA59-E378F3C7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C934A-8E7E-4604-AAC4-D6FDF650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31152-8A84-4C54-A966-7751DFC3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B599B-1CBB-4536-80B2-3C81FA6A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966E3-56E9-4D08-B275-0774DE8E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857D2-816B-47F8-B789-AE8A3929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0112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40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186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0112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40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A9F2A-EBF6-4209-9E51-9F0D4CD6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4280" y="250560"/>
            <a:ext cx="85154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4000"/>
          </a:bodyPr>
          <a:p>
            <a:pPr marL="178920" indent="-178920">
              <a:spcBef>
                <a:spcPts val="799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57840" indent="-177120">
              <a:spcBef>
                <a:spcPts val="799"/>
              </a:spcBef>
              <a:buClr>
                <a:srgbClr val="62afd9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528120" indent="-168480">
              <a:spcBef>
                <a:spcPts val="799"/>
              </a:spcBef>
              <a:buClr>
                <a:srgbClr val="62afd9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707040" indent="-177480">
              <a:spcBef>
                <a:spcPts val="799"/>
              </a:spcBef>
              <a:buClr>
                <a:srgbClr val="62afd9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903960" indent="-195120">
              <a:spcBef>
                <a:spcPts val="799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903960" indent="-1951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903960" indent="-1951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f4f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Times New Roman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Times New Roman"/>
                <a:ea typeface="宋体"/>
              </a:rPr>
              <a:t>  Page </a:t>
            </a:r>
            <a:fld id="{8DDB3218-19B6-4EE2-8D1A-9F4DD9E9746B}" type="slidenum">
              <a:rPr b="0" lang="de-DE" sz="1200" spc="-1" strike="noStrike">
                <a:solidFill>
                  <a:srgbClr val="4f4f4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2"/>
          <p:cNvSpPr/>
          <p:nvPr/>
        </p:nvSpPr>
        <p:spPr>
          <a:xfrm rot="10800000">
            <a:off x="325080" y="506160"/>
            <a:ext cx="927000" cy="514080"/>
          </a:xfrm>
          <a:prstGeom prst="leftArrow">
            <a:avLst>
              <a:gd name="adj1" fmla="val 51620"/>
              <a:gd name="adj2" fmla="val 51242"/>
            </a:avLst>
          </a:prstGeom>
          <a:gradFill rotWithShape="0">
            <a:gsLst>
              <a:gs pos="0">
                <a:srgbClr val="b7b7b7"/>
              </a:gs>
              <a:gs pos="100000">
                <a:srgbClr val="dcdcdc">
                  <a:alpha val="235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4" descr="PP small"/>
          <p:cNvPicPr/>
          <p:nvPr/>
        </p:nvPicPr>
        <p:blipFill>
          <a:blip r:embed="rId3"/>
          <a:srcRect l="0" t="0" r="0" b="34534"/>
          <a:stretch/>
        </p:blipFill>
        <p:spPr>
          <a:xfrm>
            <a:off x="1486080" y="542880"/>
            <a:ext cx="3225600" cy="403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4000"/>
          </a:bodyPr>
          <a:p>
            <a:pPr marL="178920" indent="-178920">
              <a:spcBef>
                <a:spcPts val="799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57840" indent="-177120">
              <a:spcBef>
                <a:spcPts val="799"/>
              </a:spcBef>
              <a:buClr>
                <a:srgbClr val="62afd9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528120" indent="-168480">
              <a:spcBef>
                <a:spcPts val="799"/>
              </a:spcBef>
              <a:buClr>
                <a:srgbClr val="62afd9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707040" indent="-177480">
              <a:spcBef>
                <a:spcPts val="799"/>
              </a:spcBef>
              <a:buClr>
                <a:srgbClr val="62afd9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903960" indent="-195120">
              <a:spcBef>
                <a:spcPts val="799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903960" indent="-1951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903960" indent="-1951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64A8-1B57-4B98-8E4A-2A2050BAB98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0FDD-89A2-4F51-8AEE-E947740A93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1160" y="2141280"/>
            <a:ext cx="845172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蓝色板报会议分析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506600" y="3705120"/>
            <a:ext cx="732312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bd1fc"/>
                </a:solidFill>
                <a:latin typeface="Arial"/>
                <a:ea typeface="宋体"/>
              </a:rPr>
              <a:t>Template for Microsoft Power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2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4BBF1241-06B5-4209-B18D-1B3B21D849F5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37960" y="1327320"/>
            <a:ext cx="39672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is a dummy text. Please ignore the following content as it is dummy tex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text here is meaningless as it is used to fill this slide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5840">
              <a:lnSpc>
                <a:spcPct val="100000"/>
              </a:lnSpc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Object 5" descr=""/>
          <p:cNvPicPr/>
          <p:nvPr/>
        </p:nvPicPr>
        <p:blipFill>
          <a:blip r:embed="rId1"/>
          <a:stretch/>
        </p:blipFill>
        <p:spPr>
          <a:xfrm>
            <a:off x="4314960" y="1314360"/>
            <a:ext cx="4276440" cy="38005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7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3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B94AC0AD-6D1A-4AC3-BE2E-75A26847FF5D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9600" y="1374840"/>
            <a:ext cx="852480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20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258E77C9-8B92-49A3-B9B2-8A512AA52DBD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8644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dummy text.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7320" y="1374840"/>
            <a:ext cx="418644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dummy text.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3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48EE79E8-CBF3-4B9E-9CC2-4166AC9C41BB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372960" y="1814400"/>
            <a:ext cx="835812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08000" tIns="180000" bIns="180000" anchor="ctr">
            <a:noAutofit/>
          </a:bodyPr>
          <a:p>
            <a:pPr marL="291960" indent="-291960">
              <a:spcBef>
                <a:spcPts val="499"/>
              </a:spcBef>
              <a:buClr>
                <a:srgbClr val="62afd9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is is a dummy text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499"/>
              </a:spcBef>
              <a:buClr>
                <a:srgbClr val="62afd9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499"/>
              </a:spcBef>
              <a:buClr>
                <a:srgbClr val="62afd9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344520" y="1432080"/>
            <a:ext cx="8358120" cy="376200"/>
          </a:xfrm>
          <a:prstGeom prst="rect">
            <a:avLst/>
          </a:prstGeom>
          <a:solidFill>
            <a:srgbClr val="4a7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372960" y="3720960"/>
            <a:ext cx="835812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08000" tIns="180000" bIns="180000" anchor="ctr">
            <a:noAutofit/>
          </a:bodyPr>
          <a:p>
            <a:pPr marL="291960" indent="-291960">
              <a:spcBef>
                <a:spcPts val="499"/>
              </a:spcBef>
              <a:buClr>
                <a:srgbClr val="62afd9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is is a dummy text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499"/>
              </a:spcBef>
              <a:buClr>
                <a:srgbClr val="62afd9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499"/>
              </a:spcBef>
              <a:buClr>
                <a:srgbClr val="62afd9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344520" y="3338640"/>
            <a:ext cx="8358120" cy="376200"/>
          </a:xfrm>
          <a:prstGeom prst="rect">
            <a:avLst/>
          </a:prstGeom>
          <a:solidFill>
            <a:srgbClr val="4a7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2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9D8BBC4C-BE54-4847-A1A7-B2B5ACD516CE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31"/>
          <p:cNvSpPr/>
          <p:nvPr/>
        </p:nvSpPr>
        <p:spPr>
          <a:xfrm>
            <a:off x="237960" y="1327320"/>
            <a:ext cx="41706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is a dummy text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44"/>
          <p:cNvSpPr/>
          <p:nvPr/>
        </p:nvSpPr>
        <p:spPr>
          <a:xfrm>
            <a:off x="4903920" y="2247840"/>
            <a:ext cx="1039680" cy="1798560"/>
          </a:xfrm>
          <a:custGeom>
            <a:avLst/>
            <a:gdLst/>
            <a:ahLst/>
            <a:rect l="l" t="t" r="r" b="b"/>
            <a:pathLst>
              <a:path w="372" h="643">
                <a:moveTo>
                  <a:pt x="372" y="167"/>
                </a:moveTo>
                <a:cubicBezTo>
                  <a:pt x="84" y="0"/>
                  <a:pt x="84" y="0"/>
                  <a:pt x="84" y="0"/>
                </a:cubicBezTo>
                <a:cubicBezTo>
                  <a:pt x="31" y="96"/>
                  <a:pt x="0" y="205"/>
                  <a:pt x="0" y="322"/>
                </a:cubicBezTo>
                <a:cubicBezTo>
                  <a:pt x="0" y="439"/>
                  <a:pt x="31" y="548"/>
                  <a:pt x="84" y="643"/>
                </a:cubicBezTo>
                <a:cubicBezTo>
                  <a:pt x="372" y="477"/>
                  <a:pt x="372" y="477"/>
                  <a:pt x="372" y="477"/>
                </a:cubicBezTo>
                <a:cubicBezTo>
                  <a:pt x="318" y="377"/>
                  <a:pt x="322" y="261"/>
                  <a:pt x="372" y="167"/>
                </a:cubicBezTo>
                <a:close/>
              </a:path>
            </a:pathLst>
          </a:custGeom>
          <a:solidFill>
            <a:srgbClr val="f1c8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47"/>
          <p:cNvSpPr/>
          <p:nvPr/>
        </p:nvSpPr>
        <p:spPr>
          <a:xfrm>
            <a:off x="5165640" y="3630600"/>
            <a:ext cx="155736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288" y="0"/>
                </a:moveTo>
                <a:cubicBezTo>
                  <a:pt x="0" y="167"/>
                  <a:pt x="0" y="167"/>
                  <a:pt x="0" y="167"/>
                </a:cubicBezTo>
                <a:cubicBezTo>
                  <a:pt x="114" y="357"/>
                  <a:pt x="320" y="485"/>
                  <a:pt x="557" y="488"/>
                </a:cubicBezTo>
                <a:cubicBezTo>
                  <a:pt x="557" y="156"/>
                  <a:pt x="557" y="156"/>
                  <a:pt x="557" y="156"/>
                </a:cubicBezTo>
                <a:cubicBezTo>
                  <a:pt x="450" y="152"/>
                  <a:pt x="348" y="97"/>
                  <a:pt x="288" y="0"/>
                </a:cubicBezTo>
                <a:close/>
              </a:path>
            </a:pathLst>
          </a:custGeom>
          <a:solidFill>
            <a:srgbClr val="4a7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9"/>
          <p:cNvSpPr/>
          <p:nvPr/>
        </p:nvSpPr>
        <p:spPr>
          <a:xfrm>
            <a:off x="5165640" y="1303200"/>
            <a:ext cx="1557360" cy="1360800"/>
          </a:xfrm>
          <a:custGeom>
            <a:avLst/>
            <a:gdLst/>
            <a:ahLst/>
            <a:rect l="l" t="t" r="r" b="b"/>
            <a:pathLst>
              <a:path w="557" h="487">
                <a:moveTo>
                  <a:pt x="0" y="321"/>
                </a:moveTo>
                <a:cubicBezTo>
                  <a:pt x="288" y="487"/>
                  <a:pt x="288" y="487"/>
                  <a:pt x="288" y="487"/>
                </a:cubicBezTo>
                <a:cubicBezTo>
                  <a:pt x="315" y="443"/>
                  <a:pt x="354" y="404"/>
                  <a:pt x="403" y="376"/>
                </a:cubicBezTo>
                <a:cubicBezTo>
                  <a:pt x="451" y="348"/>
                  <a:pt x="504" y="334"/>
                  <a:pt x="557" y="332"/>
                </a:cubicBezTo>
                <a:cubicBezTo>
                  <a:pt x="557" y="0"/>
                  <a:pt x="557" y="0"/>
                  <a:pt x="557" y="0"/>
                </a:cubicBezTo>
                <a:cubicBezTo>
                  <a:pt x="320" y="3"/>
                  <a:pt x="114" y="131"/>
                  <a:pt x="0" y="321"/>
                </a:cubicBezTo>
                <a:close/>
              </a:path>
            </a:pathLst>
          </a:custGeom>
          <a:solidFill>
            <a:srgbClr val="b541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46"/>
          <p:cNvSpPr/>
          <p:nvPr/>
        </p:nvSpPr>
        <p:spPr>
          <a:xfrm>
            <a:off x="6780240" y="1303200"/>
            <a:ext cx="155880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268" y="488"/>
                </a:moveTo>
                <a:cubicBezTo>
                  <a:pt x="557" y="321"/>
                  <a:pt x="557" y="321"/>
                  <a:pt x="557" y="321"/>
                </a:cubicBezTo>
                <a:cubicBezTo>
                  <a:pt x="443" y="131"/>
                  <a:pt x="236" y="3"/>
                  <a:pt x="0" y="0"/>
                </a:cubicBezTo>
                <a:cubicBezTo>
                  <a:pt x="0" y="332"/>
                  <a:pt x="0" y="332"/>
                  <a:pt x="0" y="332"/>
                </a:cubicBezTo>
                <a:cubicBezTo>
                  <a:pt x="106" y="336"/>
                  <a:pt x="209" y="391"/>
                  <a:pt x="268" y="488"/>
                </a:cubicBezTo>
                <a:close/>
              </a:path>
            </a:pathLst>
          </a:custGeom>
          <a:solidFill>
            <a:srgbClr val="6bd1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45"/>
          <p:cNvSpPr/>
          <p:nvPr/>
        </p:nvSpPr>
        <p:spPr>
          <a:xfrm>
            <a:off x="7558200" y="2247840"/>
            <a:ext cx="1039680" cy="1798560"/>
          </a:xfrm>
          <a:custGeom>
            <a:avLst/>
            <a:gdLst/>
            <a:ahLst/>
            <a:rect l="l" t="t" r="r" b="b"/>
            <a:pathLst>
              <a:path w="372" h="643">
                <a:moveTo>
                  <a:pt x="289" y="0"/>
                </a:moveTo>
                <a:cubicBezTo>
                  <a:pt x="0" y="167"/>
                  <a:pt x="0" y="167"/>
                  <a:pt x="0" y="167"/>
                </a:cubicBezTo>
                <a:cubicBezTo>
                  <a:pt x="54" y="267"/>
                  <a:pt x="51" y="383"/>
                  <a:pt x="0" y="477"/>
                </a:cubicBezTo>
                <a:cubicBezTo>
                  <a:pt x="289" y="643"/>
                  <a:pt x="289" y="643"/>
                  <a:pt x="289" y="643"/>
                </a:cubicBezTo>
                <a:cubicBezTo>
                  <a:pt x="342" y="548"/>
                  <a:pt x="372" y="439"/>
                  <a:pt x="372" y="322"/>
                </a:cubicBezTo>
                <a:cubicBezTo>
                  <a:pt x="372" y="205"/>
                  <a:pt x="342" y="96"/>
                  <a:pt x="289" y="0"/>
                </a:cubicBezTo>
                <a:close/>
              </a:path>
            </a:pathLst>
          </a:custGeom>
          <a:solidFill>
            <a:srgbClr val="62a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48"/>
          <p:cNvSpPr/>
          <p:nvPr/>
        </p:nvSpPr>
        <p:spPr>
          <a:xfrm>
            <a:off x="6780240" y="3630600"/>
            <a:ext cx="155880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154" y="112"/>
                </a:moveTo>
                <a:cubicBezTo>
                  <a:pt x="105" y="140"/>
                  <a:pt x="52" y="154"/>
                  <a:pt x="0" y="156"/>
                </a:cubicBezTo>
                <a:cubicBezTo>
                  <a:pt x="0" y="488"/>
                  <a:pt x="0" y="488"/>
                  <a:pt x="0" y="488"/>
                </a:cubicBezTo>
                <a:cubicBezTo>
                  <a:pt x="236" y="485"/>
                  <a:pt x="443" y="357"/>
                  <a:pt x="557" y="167"/>
                </a:cubicBezTo>
                <a:cubicBezTo>
                  <a:pt x="268" y="0"/>
                  <a:pt x="268" y="0"/>
                  <a:pt x="268" y="0"/>
                </a:cubicBezTo>
                <a:cubicBezTo>
                  <a:pt x="241" y="45"/>
                  <a:pt x="202" y="84"/>
                  <a:pt x="154" y="112"/>
                </a:cubicBezTo>
                <a:close/>
              </a:path>
            </a:pathLst>
          </a:custGeom>
          <a:solidFill>
            <a:srgbClr val="589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4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5"/>
          <p:cNvSpPr/>
          <p:nvPr/>
        </p:nvSpPr>
        <p:spPr>
          <a:xfrm>
            <a:off x="5991120" y="2381400"/>
            <a:ext cx="1533600" cy="1533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6"/>
          <p:cNvSpPr/>
          <p:nvPr/>
        </p:nvSpPr>
        <p:spPr>
          <a:xfrm>
            <a:off x="6042600" y="29415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05775"/>
                </a:solidFill>
                <a:latin typeface="Arial"/>
                <a:ea typeface="宋体"/>
              </a:rPr>
              <a:t>Color pa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2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087281BE-B602-433A-BD38-AAE9EABF718E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4262400" y="1413000"/>
            <a:ext cx="43941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is a dummy text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lease ignore the following content as it is dummy tex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3" descr="Schach"/>
          <p:cNvPicPr/>
          <p:nvPr/>
        </p:nvPicPr>
        <p:blipFill>
          <a:blip r:embed="rId1"/>
          <a:srcRect l="0" t="0" r="26025" b="0"/>
          <a:stretch/>
        </p:blipFill>
        <p:spPr>
          <a:xfrm>
            <a:off x="333360" y="1527120"/>
            <a:ext cx="3794040" cy="342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2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AB0EBB88-7897-4BF5-9DE9-3B07F3864256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2828880" y="1455840"/>
            <a:ext cx="576900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is a dummy text. Please ignore the following content as it is dummy tex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2828880" y="3476520"/>
            <a:ext cx="576900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is a dummy text. Please ignore the following content as it is dummy tex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0" descr="Schach"/>
          <p:cNvPicPr/>
          <p:nvPr/>
        </p:nvPicPr>
        <p:blipFill>
          <a:blip r:embed="rId1"/>
          <a:srcRect l="0" t="0" r="5488" b="0"/>
          <a:stretch/>
        </p:blipFill>
        <p:spPr>
          <a:xfrm>
            <a:off x="343080" y="1482840"/>
            <a:ext cx="2338200" cy="1650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1" descr="Schach"/>
          <p:cNvPicPr/>
          <p:nvPr/>
        </p:nvPicPr>
        <p:blipFill>
          <a:blip r:embed="rId2"/>
          <a:srcRect l="0" t="0" r="5488" b="0"/>
          <a:stretch/>
        </p:blipFill>
        <p:spPr>
          <a:xfrm>
            <a:off x="343080" y="3540240"/>
            <a:ext cx="2338200" cy="165096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10248"/>
          <p:cNvSpPr/>
          <p:nvPr/>
        </p:nvSpPr>
        <p:spPr>
          <a:xfrm>
            <a:off x="2976480" y="85104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2afd9"/>
                </a:solidFill>
                <a:uFillTx/>
                <a:latin typeface="Arial"/>
                <a:ea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2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7FE35324-7104-477B-AF86-40F794D51F37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37960" y="1327320"/>
            <a:ext cx="39672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is a dummy text. Please ignore the following content as it is dummy tex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text here is meaningless as it is used to fill this slide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Object 11" descr=""/>
          <p:cNvPicPr/>
          <p:nvPr/>
        </p:nvPicPr>
        <p:blipFill>
          <a:blip r:embed="rId1"/>
          <a:stretch/>
        </p:blipFill>
        <p:spPr>
          <a:xfrm>
            <a:off x="4140360" y="1235160"/>
            <a:ext cx="4749480" cy="40640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2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4080-4CC2-43BC-8D40-EBF333AABF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005-03-15T07:48:11Z</cp:lastPrinted>
  <dcterms:modified xsi:type="dcterms:W3CDTF">2015-12-12T07:17:56Z</dcterms:modified>
  <cp:revision>5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_PPL_Language">
    <vt:r8>1031</vt:r8>
  </property>
</Properties>
</file>