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298-2DB8-4FC2-837B-4AC93D29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415-F476-4808-829B-CECB9D89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CB8-4F74-448D-9F2C-CFBEE4C1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465-56E1-4B9D-BF93-CD04D32A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E8FD-45C5-4DEE-B9BB-7D43CD9A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ADE6-A226-47EC-A114-0CD8A5AB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7ECB-E5A1-426D-9BFB-73F3B617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320B-1BBF-4220-A290-4988DFCB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FABE-12CB-4241-80B1-78FBAF20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EA5E-40AE-4146-A4F0-160DB72F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D8D4-1DF0-4ACE-925F-6A9492F4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F12-689C-423B-9333-88C3BAA8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4B4C-E714-430D-A484-CA1577F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0738-AF26-4BFC-B7AB-F6987DAB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A500-036F-4BB0-B360-9D538891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FE98-3CC2-46C6-8F5F-1A0CF2CC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4A73-0585-490A-99E3-8DDF060F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A4A-69B4-4AD8-87A4-0CC5217B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E29-D424-4019-A0A5-0CD70064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771-7EA3-45AC-80C8-DED5F2DD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8EF-E20B-4899-8710-B5C6B218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13C-0EE0-49B8-915E-CA88033C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C31-F560-4F0D-9494-99C3E09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808-8E01-4A05-8D49-FBABDA6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3" descr="corporate1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24"/>
              </a:spcBef>
              <a:buClr>
                <a:srgbClr val="33ccff"/>
              </a:buClr>
              <a:buSzPct val="12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24"/>
              </a:spcBef>
              <a:buClr>
                <a:srgbClr val="33ccff"/>
              </a:buClr>
              <a:buSzPct val="6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43E8-EC37-47CA-A430-DCFEFF04FBFC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1676-427A-4343-9728-76E580531A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2670-8365-4026-BC68-1F418AB627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058" descr="corporate1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24"/>
              </a:spcBef>
              <a:buClr>
                <a:srgbClr val="33ccff"/>
              </a:buClr>
              <a:buSzPct val="12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24"/>
              </a:spcBef>
              <a:buClr>
                <a:srgbClr val="33ccff"/>
              </a:buClr>
              <a:buSzPct val="6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24"/>
              </a:spcBef>
              <a:buClr>
                <a:srgbClr val="ffffff"/>
              </a:buClr>
              <a:buSzPct val="60000"/>
              <a:buFont typeface="Wingdings 2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宋体"/>
              </a:rPr>
              <a:t>Business 1 Templ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Presenter Na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2140200" y="11509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蓝色工作团队报告</a:t>
            </a:r>
            <a:r>
              <a:rPr b="0" lang="en-US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文本框 30722"/>
          <p:cNvSpPr/>
          <p:nvPr/>
        </p:nvSpPr>
        <p:spPr>
          <a:xfrm>
            <a:off x="676440" y="1905120"/>
            <a:ext cx="795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ou are free to use these templates for your personal and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presenta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文本框 30723"/>
          <p:cNvSpPr/>
          <p:nvPr/>
        </p:nvSpPr>
        <p:spPr>
          <a:xfrm>
            <a:off x="641520" y="3459240"/>
            <a:ext cx="3717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se these templates for your present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文本框 30724"/>
          <p:cNvSpPr/>
          <p:nvPr/>
        </p:nvSpPr>
        <p:spPr>
          <a:xfrm>
            <a:off x="4633920" y="3459240"/>
            <a:ext cx="3968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n’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sell or distribute these templates or include the graphics in your work for re-s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ass off any of our created content as your own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文本框 30725"/>
          <p:cNvSpPr/>
          <p:nvPr/>
        </p:nvSpPr>
        <p:spPr>
          <a:xfrm>
            <a:off x="133200" y="5708520"/>
            <a:ext cx="839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文本框 30726"/>
          <p:cNvSpPr/>
          <p:nvPr/>
        </p:nvSpPr>
        <p:spPr>
          <a:xfrm>
            <a:off x="700200" y="2801880"/>
            <a:ext cx="783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We have put a lot of work into developing all these templates and retain the copyright in them.  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You can use them freely providing that you do not redistribute or sell the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buClr>
                <a:srgbClr val="33ccff"/>
              </a:buClr>
              <a:buSzPct val="12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Sub Bull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18435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18436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矩形 18437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矩形 18438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99ff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矩形 18439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矩形 18440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cc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矩形 18441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矩形 18442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文本框 18443"/>
          <p:cNvSpPr/>
          <p:nvPr/>
        </p:nvSpPr>
        <p:spPr>
          <a:xfrm>
            <a:off x="144000" y="26827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文本框 18444"/>
          <p:cNvSpPr/>
          <p:nvPr/>
        </p:nvSpPr>
        <p:spPr>
          <a:xfrm>
            <a:off x="1462320" y="2560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文本框 18445"/>
          <p:cNvSpPr/>
          <p:nvPr/>
        </p:nvSpPr>
        <p:spPr>
          <a:xfrm>
            <a:off x="2412000" y="26827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文本框 18446"/>
          <p:cNvSpPr/>
          <p:nvPr/>
        </p:nvSpPr>
        <p:spPr>
          <a:xfrm>
            <a:off x="3692880" y="2560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文本框 18447"/>
          <p:cNvSpPr/>
          <p:nvPr/>
        </p:nvSpPr>
        <p:spPr>
          <a:xfrm>
            <a:off x="4777920" y="26827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文本框 18448"/>
          <p:cNvSpPr/>
          <p:nvPr/>
        </p:nvSpPr>
        <p:spPr>
          <a:xfrm>
            <a:off x="5725440" y="2682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文本框 18449"/>
          <p:cNvSpPr/>
          <p:nvPr/>
        </p:nvSpPr>
        <p:spPr>
          <a:xfrm>
            <a:off x="6659640" y="25606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文本框 18450"/>
          <p:cNvSpPr/>
          <p:nvPr/>
        </p:nvSpPr>
        <p:spPr>
          <a:xfrm>
            <a:off x="7740720" y="25588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0720"/>
            <a:ext cx="3803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图片 20483" descr="snowdrop"/>
          <p:cNvPicPr/>
          <p:nvPr/>
        </p:nvPicPr>
        <p:blipFill>
          <a:blip r:embed="rId1"/>
          <a:stretch/>
        </p:blipFill>
        <p:spPr>
          <a:xfrm>
            <a:off x="5805360" y="2152800"/>
            <a:ext cx="2094120" cy="3528720"/>
          </a:xfrm>
          <a:prstGeom prst="rect">
            <a:avLst/>
          </a:prstGeom>
          <a:ln w="38160">
            <a:solidFill>
              <a:srgbClr val="33ccff"/>
            </a:solidFill>
            <a:miter/>
          </a:ln>
        </p:spPr>
      </p:pic>
      <p:sp>
        <p:nvSpPr>
          <p:cNvPr id="15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ample Graph (3 colou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对象 22530" descr=""/>
          <p:cNvPicPr/>
          <p:nvPr/>
        </p:nvPicPr>
        <p:blipFill>
          <a:blip r:embed="rId1"/>
          <a:stretch/>
        </p:blipFill>
        <p:spPr>
          <a:xfrm>
            <a:off x="1374840" y="2062080"/>
            <a:ext cx="673236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xample of a t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31640" y="2044800"/>
          <a:ext cx="6229440" cy="316872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文本框 24604"/>
          <p:cNvSpPr/>
          <p:nvPr/>
        </p:nvSpPr>
        <p:spPr>
          <a:xfrm>
            <a:off x="2232000" y="562464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owerPoint does not allow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you to have nice default tables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– but you can cut and paste this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wo column bullet poi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0720"/>
            <a:ext cx="381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ullets go in he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2920" y="1980720"/>
            <a:ext cx="3814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nd also in he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2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ffff99"/>
                </a:solidFill>
                <a:uFillTx/>
                <a:latin typeface="Arial"/>
              </a:rPr>
              <a:t>Hyperlinks like th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ccccff"/>
                </a:solidFill>
                <a:uFillTx/>
                <a:latin typeface="Arial"/>
              </a:rPr>
              <a:t>Visited hyperlinks like th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7480" y="2136600"/>
          <a:ext cx="2995560" cy="1386000"/>
        </p:xfrm>
        <a:graphic>
          <a:graphicData uri="http://schemas.openxmlformats.org/drawingml/2006/table">
            <a:tbl>
              <a:tblPr/>
              <a:tblGrid>
                <a:gridCol w="1498680"/>
                <a:gridCol w="1496880"/>
              </a:tblGrid>
              <a:tr h="6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矩形 28686"/>
          <p:cNvSpPr/>
          <p:nvPr/>
        </p:nvSpPr>
        <p:spPr>
          <a:xfrm>
            <a:off x="792000" y="4568760"/>
            <a:ext cx="2232360" cy="13683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矩形 28687"/>
          <p:cNvSpPr/>
          <p:nvPr/>
        </p:nvSpPr>
        <p:spPr>
          <a:xfrm>
            <a:off x="3672000" y="4568760"/>
            <a:ext cx="2232000" cy="13683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6EE4-E54F-4EFA-B296-C6AC95016AF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7:53Z</dcterms:modified>
  <cp:revision>6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