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5100-02C7-4B15-BFC7-AF40721F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DFC2-1EDC-4B7E-8033-1467587B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59C2-3BD8-47D0-AC20-716A4869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4DFF-BD61-4497-992E-3A4BF6CA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0573-F975-43A7-9FFE-0D8B7BE6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11F0-825B-4A3E-8035-63A38B07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04EF-EB24-4AB1-8B45-FD774556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4939-46B6-4D97-8B09-DC1613DE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6863-9D52-4569-A4D6-E9B1EFBD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3807-B227-4762-A2F9-DAA008CA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9B08-A4A9-4987-8E7B-1CE7766E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117-1E33-41D3-B7EE-8052E8EC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3C1F-A8FA-4600-868C-9C07D093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15CF-12AB-4C63-A59A-39BBD3DA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1226-39E1-4111-A687-75095B06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C317-CC69-4314-B514-B0A731F6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2979-BBA4-4384-90A0-A4D72A25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D8A-4175-436F-940C-5E9B87F0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D43-D316-4E98-8052-5F43E8BC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870-6C44-4CDF-AA36-45ADF635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3258-4C2D-40E0-AA30-6F3A2419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431-E2BA-424D-994C-BA3F2D2D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7ABB-FA80-4BC0-977E-3F8CD2C3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509D-48F9-4B92-B7C0-C882F454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E99B-2F87-4317-A85E-1A7F64FA2A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56FF-3DCC-41DB-ABBC-06982DD29DB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645F-2699-4612-9A86-90FE1DBC781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1071720" y="7858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2068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41407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0"/>
          <p:cNvSpPr/>
          <p:nvPr/>
        </p:nvSpPr>
        <p:spPr>
          <a:xfrm>
            <a:off x="61408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"/>
          <p:cNvSpPr/>
          <p:nvPr/>
        </p:nvSpPr>
        <p:spPr>
          <a:xfrm>
            <a:off x="395280" y="1486080"/>
            <a:ext cx="84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迷你卡通恐龙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8"/>
          <p:cNvSpPr/>
          <p:nvPr/>
        </p:nvSpPr>
        <p:spPr>
          <a:xfrm>
            <a:off x="123408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41407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/>
          <p:cNvSpPr/>
          <p:nvPr/>
        </p:nvSpPr>
        <p:spPr>
          <a:xfrm>
            <a:off x="3929040" y="5072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4283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0364-B623-44F5-A78A-07220A472E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"/>
          <p:cNvSpPr/>
          <p:nvPr/>
        </p:nvSpPr>
        <p:spPr>
          <a:xfrm>
            <a:off x="6212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39978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1305720" y="1000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18547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8199"/>
          <p:cNvSpPr/>
          <p:nvPr/>
        </p:nvSpPr>
        <p:spPr>
          <a:xfrm>
            <a:off x="1116000" y="1700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17:06Z</dcterms:modified>
  <cp:revision>18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