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F7C1-6B79-414A-97A6-C854465F6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1D10-30E8-42B9-9C9A-D04403DB8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4EA1-F0E8-49C9-88CF-12A28E34D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CEAD-B897-499A-81A9-4C4E38FB6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18534-FDD3-4B32-82C0-40E7556B2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D5D71-B3B9-425E-A526-100657BE8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D8144-D174-4878-9A0C-F6AC264B3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F22B9-D219-4336-A92B-57E6891AE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3DDD1-C262-4BCC-AE8C-3C2F77D03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CEFF4-A739-4088-95A2-457EA81AB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4A6B5-D987-464F-A713-33A19069A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DA44-CA58-4C9A-9B17-2D87B3295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5C973-606A-4B8C-AF47-02841AA8D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33C8C-91E5-4396-9D85-9C429F749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37D08-75BE-43D4-8A49-7BC3B4FBD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AED77-089E-4290-8F88-59F21E0CA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5608E-C76D-4669-8B76-F654294B7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578E3F-0B20-4088-B9AA-7CC1E2017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28F2AF-4473-469E-8757-8A33096A0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5B1B01-3E61-44AF-9783-3EB4C4C65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87FD59-F7F6-4E19-AA44-30287D912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006EB6-26E0-43E0-813E-FCE36BDDF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4287-0BEF-46B5-940F-E6FCAA768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EE3D48-0B05-44B1-A34E-C2B44F332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FB564C-89FF-47C2-83AC-9E6A38E49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92A509-9EC6-443F-AE55-38B5A5E3E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09EB42-7606-48B6-8E68-7A6835A0F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9EC492-E4ED-4813-A449-EF79B3609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D019FC-954F-4ED2-BEAE-32F6D98CB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C7014F-6AC4-4B12-9F81-B6A9D6AF8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A344-DC16-45A5-99BA-7AA81521D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58AD-91C8-471B-AEB3-C2BEEBC30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DB5C-86EC-4DF4-948E-5A7793054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A305-3132-42F4-ACA8-982589E6E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9350-DD8A-4C55-BBBF-8D78B5F2A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B4E6-E6E4-4BE6-8907-2FEFB636B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452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05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57560" indent="-452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10440" indent="-90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10440" indent="-90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10440" indent="-90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20019-B3DF-436A-8B44-2C7BADF8DC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图片 1030" descr="C:\power_point_templates\light_boxes.gif"/>
          <p:cNvPicPr/>
          <p:nvPr/>
        </p:nvPicPr>
        <p:blipFill>
          <a:blip r:embed="rId3"/>
          <a:stretch/>
        </p:blipFill>
        <p:spPr>
          <a:xfrm>
            <a:off x="0" y="5486400"/>
            <a:ext cx="1600200" cy="1371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E130B-94DC-406B-845A-13D3A040F343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1AD81-34B9-40F7-8FBC-5C1DFD2A769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452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05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57560" indent="-452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10440" indent="-90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10440" indent="-90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10440" indent="-90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DC173-A983-4986-A59E-A2AD88710D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矩形 5123"/>
          <p:cNvSpPr/>
          <p:nvPr/>
        </p:nvSpPr>
        <p:spPr>
          <a:xfrm>
            <a:off x="1600200" y="1600200"/>
            <a:ext cx="6172200" cy="3657600"/>
          </a:xfrm>
          <a:prstGeom prst="rect">
            <a:avLst/>
          </a:prstGeom>
          <a:solidFill>
            <a:srgbClr val="b2b2b2">
              <a:alpha val="5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1371600" y="3047760"/>
            <a:ext cx="640080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1241280" y="684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Impact"/>
              </a:rPr>
              <a:t>蓝色拼图企业幻灯片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文本框 8199"/>
          <p:cNvSpPr/>
          <p:nvPr/>
        </p:nvSpPr>
        <p:spPr>
          <a:xfrm>
            <a:off x="2727360" y="279864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图片 7169" descr="C:\power_point_templates\light_boxes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D8170-FB3B-4EE4-9C54-C48B7172480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5T15:28:55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17:54Z</dcterms:modified>
  <cp:revision>6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