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9DE8-1146-4319-85CD-1D29D6C2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F94D-3C85-4CF5-8975-4431E789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D14F-DD2D-4213-B030-6F8AAF8D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F6C2-5377-4395-AFB1-FDD4C8A5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0560" y="289080"/>
            <a:ext cx="80866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A14C-673D-42FB-AE7B-FACEE53F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D8AB-B556-48D8-8A4C-D4B69E65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4A3E-8550-4141-BE46-AF6CC88A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62CE-7B1C-4D12-965F-C8107BE4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0560" y="289080"/>
            <a:ext cx="80866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78CF-D013-4D2F-BB1A-ECBC7B46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B726-4529-46D2-82B5-A0E42250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5B2B-5B7C-41C4-B18E-48EA123F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1F04-2B90-45E1-BE82-84A4D6DA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世博会0204-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AD4C-ACE3-415E-8F15-A2A467CC3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71280" y="5300640"/>
            <a:ext cx="176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1" marL="457200" indent="455760">
              <a:spcBef>
                <a:spcPts val="799"/>
              </a:spcBef>
              <a:buClr>
                <a:srgbClr val="000000"/>
              </a:buClr>
              <a:buFont typeface="黑体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2" marL="91296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3" marL="1371600" indent="-458640">
              <a:spcBef>
                <a:spcPts val="799"/>
              </a:spcBef>
              <a:buClr>
                <a:srgbClr val="000000"/>
              </a:buClr>
              <a:buFont typeface="黑体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4" marL="1828800" indent="-91584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5" marL="1828800" indent="-91584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6" marL="1828800" indent="-91584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7" name="Picture 17" descr="7"/>
          <p:cNvPicPr/>
          <p:nvPr/>
        </p:nvPicPr>
        <p:blipFill>
          <a:blip r:embed="rId3"/>
          <a:stretch/>
        </p:blipFill>
        <p:spPr>
          <a:xfrm>
            <a:off x="0" y="5734080"/>
            <a:ext cx="118728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4" descr="世博会0204-1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289080"/>
            <a:ext cx="80866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1" marL="457200" indent="455760">
              <a:spcBef>
                <a:spcPts val="799"/>
              </a:spcBef>
              <a:buClr>
                <a:srgbClr val="000000"/>
              </a:buClr>
              <a:buFont typeface="黑体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2" marL="91296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3" marL="1371600" indent="-458640">
              <a:spcBef>
                <a:spcPts val="799"/>
              </a:spcBef>
              <a:buClr>
                <a:srgbClr val="000000"/>
              </a:buClr>
              <a:buFont typeface="黑体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4" marL="1828800" indent="-91584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5" marL="1828800" indent="-91584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6" marL="1828800" indent="-91584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892600"/>
            <a:ext cx="77742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XXX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66840" y="479700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YYY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85" name="Picture 5" descr="7"/>
          <p:cNvPicPr/>
          <p:nvPr/>
        </p:nvPicPr>
        <p:blipFill>
          <a:blip r:embed="rId1"/>
          <a:stretch/>
        </p:blipFill>
        <p:spPr>
          <a:xfrm>
            <a:off x="3708360" y="189000"/>
            <a:ext cx="1440000" cy="136836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34920" y="6453360"/>
            <a:ext cx="5078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1547640" y="1628640"/>
            <a:ext cx="6529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蓝色企业幻灯片在线下载</a:t>
            </a:r>
            <a:endParaRPr b="1" lang="en-US" sz="4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68FE-6D10-4437-9775-68AF67F9914F}" type="slidenum">
              <a:rPr b="1" lang="zh-CN" sz="16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8200"/>
          <p:cNvSpPr/>
          <p:nvPr/>
        </p:nvSpPr>
        <p:spPr>
          <a:xfrm>
            <a:off x="755640" y="1701720"/>
            <a:ext cx="443376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8:4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28Z</dcterms:modified>
  <cp:revision>10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