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682-16F1-4A7D-BB3E-63E6AA3D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CDB-3770-4F6B-A1EA-F86F3918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971-31F3-4F8D-87D0-C218CC9B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186-C783-4D46-9EFA-02B67257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273-0D05-4B50-92A2-37E6A56D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7EE1-7D92-4DD6-84B2-9AA52578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96A4-2F55-4050-A174-9697A9D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D29-71F4-454C-AD9E-712B528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BE15-26E3-45B5-83AD-798ED1B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6B37-CADD-4C77-9A77-357BEDD8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BC3-F08D-4DC1-801B-2FD6106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3FF-1929-43DA-A04E-888BD75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5879-5916-40CE-BA12-40052171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78AD-1D98-4956-A6D7-E44DDE95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9F73-5D2A-48A6-BC0F-EA6C7BA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243E-4FCC-4E58-AD07-2AD6E31E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26E4-F640-4F40-B4FE-C93F59AA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2A8-C12A-4AE9-AD6B-06C1E899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BBD-226E-469B-8E72-C3F213C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31B-AB87-42ED-A211-063CEA1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124-11F5-4617-B9E1-1CA03C2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03F-C39A-41A9-882F-D869D48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F6C-2188-4B34-84F0-64DA3AA1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F9A-F03D-4E89-947E-6887E37A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D71-E989-4D5A-9D6A-E632A6F4D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BC3-E9AE-4933-8742-6AC568A1309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B845-8672-4C96-AFA4-CC46E0153F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051"/>
          <p:cNvSpPr txBox="1"/>
          <p:nvPr/>
        </p:nvSpPr>
        <p:spPr>
          <a:xfrm>
            <a:off x="1042920" y="2276640"/>
            <a:ext cx="712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noFill/>
                <a:latin typeface="Arial"/>
              </a:rPr>
              <a:t>绿色企业</a:t>
            </a:r>
            <a:r>
              <a:rPr b="0" lang="en-US" sz="4000" spc="-1" strike="noStrike">
                <a:ln w="0">
                  <a:noFill/>
                </a:ln>
                <a:noFill/>
                <a:latin typeface="Arial"/>
              </a:rPr>
              <a:t>PPT</a:t>
            </a:r>
            <a:r>
              <a:rPr b="0" lang="zh-CN" sz="4000" spc="-1" strike="noStrike">
                <a:ln w="0">
                  <a:noFill/>
                </a:ln>
                <a:noFill/>
                <a:latin typeface="Arial"/>
              </a:rPr>
              <a:t>模板在线下载</a:t>
            </a:r>
            <a:endParaRPr b="0" lang="en-US" sz="4000" spc="-1" strike="noStrike">
              <a:ln w="0">
                <a:noFill/>
              </a:ln>
              <a:noFill/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9F26-4C3C-4719-87AC-43D6488C2D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75"/>
          <p:cNvSpPr txBox="1"/>
          <p:nvPr/>
        </p:nvSpPr>
        <p:spPr>
          <a:xfrm>
            <a:off x="684360" y="26028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在此处添加演示文稿标题</a:t>
            </a:r>
            <a:endParaRPr b="0" lang="en-US" sz="1800" spc="-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89" name="文本框 3076"/>
          <p:cNvSpPr/>
          <p:nvPr/>
        </p:nvSpPr>
        <p:spPr>
          <a:xfrm>
            <a:off x="3578760" y="235116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77"/>
          <p:cNvSpPr/>
          <p:nvPr/>
        </p:nvSpPr>
        <p:spPr>
          <a:xfrm>
            <a:off x="3578760" y="3141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78"/>
          <p:cNvSpPr/>
          <p:nvPr/>
        </p:nvSpPr>
        <p:spPr>
          <a:xfrm>
            <a:off x="3578760" y="3933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079"/>
          <p:cNvSpPr/>
          <p:nvPr/>
        </p:nvSpPr>
        <p:spPr>
          <a:xfrm>
            <a:off x="2627280" y="256536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3080"/>
          <p:cNvSpPr/>
          <p:nvPr/>
        </p:nvSpPr>
        <p:spPr>
          <a:xfrm>
            <a:off x="2627280" y="3336840"/>
            <a:ext cx="144360" cy="14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3081"/>
          <p:cNvSpPr/>
          <p:nvPr/>
        </p:nvSpPr>
        <p:spPr>
          <a:xfrm>
            <a:off x="2627280" y="411012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