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EEE-9311-4D5C-B61B-53410EC1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EDC-22E0-4C25-9F17-E5DC5295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A4D-4BA0-48C4-B357-819E84BC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B89-9D2F-4E52-863E-C73CC820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FBA3-0B05-40FB-8969-C2A49327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2F0-64DE-46B0-9F2C-AFA1C601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8B39-4E5D-4032-A7D1-DCA5F54A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94DA-C2E4-47CA-8C83-42B54813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4F3A-F547-402E-8993-E1EB4363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6740-E67A-43CD-B4DF-139673EE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3814-B604-4D04-9E22-15873541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61C-950C-41B6-98F1-37A3A4B3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AB39-F789-4CDA-A50C-A0E6E4A1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6D16-EBE8-41E3-A908-1B9932A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ABC0-4425-490D-958A-A94DC223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F3D7-23E7-480F-9098-A9231B63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77A2-817F-4CBF-BC62-5BB23AF8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A7AD-D7C2-4300-8EDF-3A7C81AF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7706-CB1D-4F12-9A61-33E76868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CA8B-874D-444F-9501-5EB5FE0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9B9D-1D18-451E-9D65-5AD105F6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85AA-487A-4D35-9DE9-63699126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32F-4D9D-4AAF-923E-EDE87F61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FEC4-1BCB-49BB-9098-93BD824F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8350-DF4B-4540-A277-0E2E32D5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78B3-DF6A-46ED-A392-6202B34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CD41-6310-4EB8-B764-C439460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BC1E-FA96-4E97-8C54-F7B4573D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70EE-E53F-4A5F-AB9D-9F77AF5F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83360" y="3674160"/>
            <a:ext cx="2944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D814-0BA4-446B-94CA-0A37A825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C6E-AAC0-466F-9845-3468AEE4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CF1-C38B-41BC-A03B-EFC7E80F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E59-B187-4E36-8F43-C079FB1F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0E6-2F05-48DD-BDED-BC0E2E02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416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683-EA8D-4B90-9538-A033295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4160"/>
            <a:ext cx="9144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903-C0E0-48B4-8B01-9E462850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D38-2848-4C22-8EC9-2DBFAE65FECF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9A15-F37A-4029-B06E-10492881107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0238-E746-473A-8F9D-FFB88C336E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B9EF-A6A0-4E4E-90B9-A7E911153DEB}" type="slidenum">
              <a:rPr b="1" lang="en-US" sz="9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99"/>
                </a:solidFill>
                <a:latin typeface="Impact"/>
              </a:rPr>
              <a:t>Nth Grid</a:t>
            </a:r>
            <a:endParaRPr b="0" lang="en-US" sz="7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893880" y="685800"/>
            <a:ext cx="76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蓝色网格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998D-051C-43E2-B723-A8D727AE34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2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0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