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E03-2063-49BA-B216-1B53A43F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AD8-2989-4422-A3E4-96CED931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64F0-C447-412B-8086-761EEF77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BB1-9AF4-4315-A17B-E82FA81C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4047-7FA7-473C-AA9D-62892A36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833C-E9D0-46CA-AD02-F6F3797C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5555-EFAE-4EA8-AECC-C2C08F36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EB15-ADE7-46E5-A377-A69C91E6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835C-9BDD-49C7-9678-FA5774F3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8760" y="115560"/>
            <a:ext cx="506088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DD0D-92B1-4D59-A269-2FD50D61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1882-48E6-46AF-BD1B-C49EFB92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AB0-0FD9-4F12-BFF5-360D39E7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D276-4F4F-4E8E-80DA-45412DD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CFA1-ECEA-4E59-8C28-AE0F8246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4BAE-8AD6-4797-BA2A-3C7E9465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DE6E-4DAA-4210-8456-6E8B2AC9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87F0-5853-4910-95CD-8EA7A6F0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80C0D-50D5-42E8-AF9D-C4746121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5C5C-A4A2-4D65-B566-2373C4F8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DB9C-5AB2-47EF-AEE2-2E2D3EB5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8C078-065D-45D4-8B9F-03726A49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BCAD-404B-4753-B222-AD852B4C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085C-5364-4567-8972-82CFD05B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8760" y="115560"/>
            <a:ext cx="506088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A82C-B468-42DC-9E16-DC46ACB2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BB7D-57F0-46C9-9D97-79F3E11A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73FDD-C94F-4DB6-B355-DE21129F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C210-4D2D-4A12-B1E3-69446891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0B79-822F-4CD3-AADC-78FD353A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6C64C-6E76-4253-9942-0122B9D2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1AB9-52C4-436D-9A76-DAB8D8E5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43B-8303-429B-9A9E-FC20A8EC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EB3-AB6A-4614-B0EF-C4DECCC9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8760" y="115560"/>
            <a:ext cx="506088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75C-DD5C-476E-B63B-AC606F2A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081-9634-4F01-B96A-BB30E48B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E09-80A5-40FB-8078-E1F4C66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AD9-009F-4472-9C5A-CDC1CC73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Blue-Crush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7DC3-A3E9-466B-9630-A12FF9B07F0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306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A92B-E15C-4B6F-86DB-F08766F8BEE2}" type="slidenum">
              <a: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1052640"/>
            <a:ext cx="914400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矩形 8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79FB-DA33-43B0-9C9D-9549F85AD0B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68F7-60BC-4B1C-8A08-8F55E5F962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Blue-Crush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7"/>
          <p:cNvSpPr/>
          <p:nvPr/>
        </p:nvSpPr>
        <p:spPr>
          <a:xfrm>
            <a:off x="0" y="1052640"/>
            <a:ext cx="914400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6" descr="Blue-Crush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矩形 7"/>
          <p:cNvSpPr/>
          <p:nvPr/>
        </p:nvSpPr>
        <p:spPr>
          <a:xfrm>
            <a:off x="0" y="4797360"/>
            <a:ext cx="9144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0" y="4653000"/>
            <a:ext cx="9144000" cy="1443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12"/>
          <p:cNvSpPr/>
          <p:nvPr/>
        </p:nvSpPr>
        <p:spPr>
          <a:xfrm>
            <a:off x="0" y="4832280"/>
            <a:ext cx="9144000" cy="0"/>
          </a:xfrm>
          <a:prstGeom prst="line">
            <a:avLst/>
          </a:prstGeom>
          <a:ln w="3240">
            <a:solidFill>
              <a:srgbClr val="4a7eb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4"/>
          <p:cNvSpPr/>
          <p:nvPr/>
        </p:nvSpPr>
        <p:spPr>
          <a:xfrm>
            <a:off x="0" y="6485040"/>
            <a:ext cx="9144000" cy="0"/>
          </a:xfrm>
          <a:prstGeom prst="line">
            <a:avLst/>
          </a:prstGeom>
          <a:ln w="3240">
            <a:solidFill>
              <a:srgbClr val="4a7eb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F567-64C9-45EB-97BE-5FB459838F3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83064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4CA4-44DD-4BCA-A76E-85457371C604}" type="slidenum">
              <a: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63200" y="1630440"/>
            <a:ext cx="73947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Calibri"/>
                <a:ea typeface="微软雅黑"/>
              </a:rPr>
              <a:t>蓝色演讲报告</a:t>
            </a:r>
            <a:r>
              <a:rPr b="1" lang="en-US" sz="4000" spc="-1" strike="noStrike">
                <a:solidFill>
                  <a:srgbClr val="ffff00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Calibri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74920" y="2708280"/>
            <a:ext cx="5834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微软雅黑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4112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『</a:t>
            </a:r>
            <a:r>
              <a:rPr b="1" lang="zh-CN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演讲人</a:t>
            </a:r>
            <a:r>
              <a:rPr b="1" lang="en-US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』</a:t>
            </a:r>
            <a:r>
              <a:rPr b="1" lang="zh-CN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：</a:t>
            </a:r>
            <a:r>
              <a:rPr b="1" lang="en-US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1p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340000" y="57326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『</a:t>
            </a:r>
            <a:r>
              <a:rPr b="1" lang="zh-CN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时   间</a:t>
            </a:r>
            <a:r>
              <a:rPr b="1" lang="en-US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』</a:t>
            </a:r>
            <a:r>
              <a:rPr b="1" lang="zh-CN" sz="2400" spc="-1" strike="noStrike">
                <a:solidFill>
                  <a:srgbClr val="4f81bd"/>
                </a:solidFill>
                <a:latin typeface="微软雅黑"/>
                <a:ea typeface="微软雅黑"/>
              </a:rPr>
              <a:t>：夏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6155"/>
          <p:cNvSpPr/>
          <p:nvPr/>
        </p:nvSpPr>
        <p:spPr>
          <a:xfrm>
            <a:off x="34920" y="6093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5060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</a:rPr>
              <a:t>目  录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『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contents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』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6831000" y="651996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4B6F-B29F-4322-9C02-BCCD588036D2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组合 12"/>
          <p:cNvGrpSpPr/>
          <p:nvPr/>
        </p:nvGrpSpPr>
        <p:grpSpPr>
          <a:xfrm>
            <a:off x="1347840" y="1989000"/>
            <a:ext cx="6280200" cy="503280"/>
            <a:chOff x="1347840" y="1989000"/>
            <a:chExt cx="6280200" cy="503280"/>
          </a:xfrm>
        </p:grpSpPr>
        <p:sp>
          <p:nvSpPr>
            <p:cNvPr id="142" name="直接连接符 7"/>
            <p:cNvSpPr/>
            <p:nvPr/>
          </p:nvSpPr>
          <p:spPr>
            <a:xfrm>
              <a:off x="1419840" y="2478960"/>
              <a:ext cx="5688720" cy="0"/>
            </a:xfrm>
            <a:prstGeom prst="line">
              <a:avLst/>
            </a:prstGeom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圆角矩形 5"/>
            <p:cNvSpPr/>
            <p:nvPr/>
          </p:nvSpPr>
          <p:spPr>
            <a:xfrm>
              <a:off x="1347840" y="1989000"/>
              <a:ext cx="504000" cy="503280"/>
            </a:xfrm>
            <a:prstGeom prst="roundRect">
              <a:avLst>
                <a:gd name="adj" fmla="val 8241"/>
              </a:avLst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接连接符 8"/>
            <p:cNvSpPr/>
            <p:nvPr/>
          </p:nvSpPr>
          <p:spPr>
            <a:xfrm>
              <a:off x="7108560" y="2451600"/>
              <a:ext cx="504000" cy="0"/>
            </a:xfrm>
            <a:prstGeom prst="line">
              <a:avLst/>
            </a:prstGeom>
            <a:ln w="7632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Box 10"/>
            <p:cNvSpPr/>
            <p:nvPr/>
          </p:nvSpPr>
          <p:spPr>
            <a:xfrm>
              <a:off x="1995840" y="1989000"/>
              <a:ext cx="51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11"/>
            <p:cNvSpPr/>
            <p:nvPr/>
          </p:nvSpPr>
          <p:spPr>
            <a:xfrm>
              <a:off x="7196040" y="1989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DFPYeaSong-B5"/>
                  <a:ea typeface="DFPYeaSong-B5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13"/>
          <p:cNvGrpSpPr/>
          <p:nvPr/>
        </p:nvGrpSpPr>
        <p:grpSpPr>
          <a:xfrm>
            <a:off x="1347840" y="2949480"/>
            <a:ext cx="6280200" cy="503280"/>
            <a:chOff x="1347840" y="2949480"/>
            <a:chExt cx="6280200" cy="503280"/>
          </a:xfrm>
        </p:grpSpPr>
        <p:sp>
          <p:nvSpPr>
            <p:cNvPr id="148" name="直接连接符 14"/>
            <p:cNvSpPr/>
            <p:nvPr/>
          </p:nvSpPr>
          <p:spPr>
            <a:xfrm>
              <a:off x="1419840" y="3439440"/>
              <a:ext cx="5688720" cy="0"/>
            </a:xfrm>
            <a:prstGeom prst="line">
              <a:avLst/>
            </a:prstGeom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圆角矩形 15"/>
            <p:cNvSpPr/>
            <p:nvPr/>
          </p:nvSpPr>
          <p:spPr>
            <a:xfrm>
              <a:off x="1347840" y="2949480"/>
              <a:ext cx="504000" cy="503280"/>
            </a:xfrm>
            <a:prstGeom prst="roundRect">
              <a:avLst>
                <a:gd name="adj" fmla="val 8241"/>
              </a:avLst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直接连接符 16"/>
            <p:cNvSpPr/>
            <p:nvPr/>
          </p:nvSpPr>
          <p:spPr>
            <a:xfrm>
              <a:off x="7108560" y="3412080"/>
              <a:ext cx="504000" cy="0"/>
            </a:xfrm>
            <a:prstGeom prst="line">
              <a:avLst/>
            </a:prstGeom>
            <a:ln w="7632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17"/>
            <p:cNvSpPr/>
            <p:nvPr/>
          </p:nvSpPr>
          <p:spPr>
            <a:xfrm>
              <a:off x="1995840" y="2949480"/>
              <a:ext cx="51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8"/>
            <p:cNvSpPr/>
            <p:nvPr/>
          </p:nvSpPr>
          <p:spPr>
            <a:xfrm>
              <a:off x="7196040" y="29494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DFPYeaSong-B5"/>
                  <a:ea typeface="DFPYeaSong-B5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19"/>
          <p:cNvGrpSpPr/>
          <p:nvPr/>
        </p:nvGrpSpPr>
        <p:grpSpPr>
          <a:xfrm>
            <a:off x="1347840" y="3908520"/>
            <a:ext cx="6319800" cy="504720"/>
            <a:chOff x="1347840" y="3908520"/>
            <a:chExt cx="6319800" cy="504720"/>
          </a:xfrm>
        </p:grpSpPr>
        <p:sp>
          <p:nvSpPr>
            <p:cNvPr id="154" name="直接连接符 20"/>
            <p:cNvSpPr/>
            <p:nvPr/>
          </p:nvSpPr>
          <p:spPr>
            <a:xfrm>
              <a:off x="1419480" y="4399920"/>
              <a:ext cx="5687640" cy="0"/>
            </a:xfrm>
            <a:prstGeom prst="line">
              <a:avLst/>
            </a:prstGeom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圆角矩形 21"/>
            <p:cNvSpPr/>
            <p:nvPr/>
          </p:nvSpPr>
          <p:spPr>
            <a:xfrm>
              <a:off x="1347840" y="3908520"/>
              <a:ext cx="503640" cy="504720"/>
            </a:xfrm>
            <a:custGeom>
              <a:avLst/>
              <a:gdLst>
                <a:gd name="textAreaLeft" fmla="*/ 11880 w 503640"/>
                <a:gd name="textAreaRight" fmla="*/ 491760 w 503640"/>
                <a:gd name="textAreaTop" fmla="*/ 11880 h 504720"/>
                <a:gd name="textAreaBottom" fmla="*/ 492840 h 504720"/>
              </a:gdLst>
              <a:ahLst/>
              <a:rect l="textAreaLeft" t="textAreaTop" r="textAreaRight" b="textAreaBottom"/>
              <a:pathLst>
                <a:path w="21600" h="21646">
                  <a:moveTo>
                    <a:pt x="1780" y="0"/>
                  </a:moveTo>
                  <a:arcTo wR="1780" hR="1780" stAng="16200000" swAng="-5400000"/>
                  <a:lnTo>
                    <a:pt x="0" y="19866"/>
                  </a:lnTo>
                  <a:arcTo wR="1780" hR="1780" stAng="10800000" swAng="-5400000"/>
                  <a:lnTo>
                    <a:pt x="19820" y="21646"/>
                  </a:lnTo>
                  <a:arcTo wR="1780" hR="1780" stAng="5400000" swAng="-5400000"/>
                  <a:lnTo>
                    <a:pt x="21600" y="1780"/>
                  </a:lnTo>
                  <a:arcTo wR="1780" hR="1780" stAng="0" swAng="-5400000"/>
                  <a:close/>
                </a:path>
              </a:pathLst>
            </a:cu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 22"/>
            <p:cNvSpPr/>
            <p:nvPr/>
          </p:nvSpPr>
          <p:spPr>
            <a:xfrm>
              <a:off x="7107480" y="4372560"/>
              <a:ext cx="503640" cy="0"/>
            </a:xfrm>
            <a:prstGeom prst="line">
              <a:avLst/>
            </a:prstGeom>
            <a:ln w="7632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23"/>
            <p:cNvSpPr/>
            <p:nvPr/>
          </p:nvSpPr>
          <p:spPr>
            <a:xfrm>
              <a:off x="1995480" y="3908520"/>
              <a:ext cx="51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24"/>
            <p:cNvSpPr/>
            <p:nvPr/>
          </p:nvSpPr>
          <p:spPr>
            <a:xfrm>
              <a:off x="7107480" y="3908520"/>
              <a:ext cx="56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DFPYeaSong-B5"/>
                  <a:ea typeface="DFPYeaSong-B5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组合 25"/>
          <p:cNvGrpSpPr/>
          <p:nvPr/>
        </p:nvGrpSpPr>
        <p:grpSpPr>
          <a:xfrm>
            <a:off x="1347840" y="4869000"/>
            <a:ext cx="6319800" cy="504720"/>
            <a:chOff x="1347840" y="4869000"/>
            <a:chExt cx="6319800" cy="504720"/>
          </a:xfrm>
        </p:grpSpPr>
        <p:sp>
          <p:nvSpPr>
            <p:cNvPr id="160" name="直接连接符 26"/>
            <p:cNvSpPr/>
            <p:nvPr/>
          </p:nvSpPr>
          <p:spPr>
            <a:xfrm>
              <a:off x="1419480" y="5360400"/>
              <a:ext cx="5687640" cy="0"/>
            </a:xfrm>
            <a:prstGeom prst="line">
              <a:avLst/>
            </a:prstGeom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圆角矩形 27"/>
            <p:cNvSpPr/>
            <p:nvPr/>
          </p:nvSpPr>
          <p:spPr>
            <a:xfrm>
              <a:off x="1347840" y="4869000"/>
              <a:ext cx="503640" cy="504720"/>
            </a:xfrm>
            <a:custGeom>
              <a:avLst/>
              <a:gdLst>
                <a:gd name="textAreaLeft" fmla="*/ 11880 w 503640"/>
                <a:gd name="textAreaRight" fmla="*/ 491760 w 503640"/>
                <a:gd name="textAreaTop" fmla="*/ 11880 h 504720"/>
                <a:gd name="textAreaBottom" fmla="*/ 492840 h 504720"/>
              </a:gdLst>
              <a:ahLst/>
              <a:rect l="textAreaLeft" t="textAreaTop" r="textAreaRight" b="textAreaBottom"/>
              <a:pathLst>
                <a:path w="21600" h="21646">
                  <a:moveTo>
                    <a:pt x="1780" y="0"/>
                  </a:moveTo>
                  <a:arcTo wR="1780" hR="1780" stAng="16200000" swAng="-5400000"/>
                  <a:lnTo>
                    <a:pt x="0" y="19866"/>
                  </a:lnTo>
                  <a:arcTo wR="1780" hR="1780" stAng="10800000" swAng="-5400000"/>
                  <a:lnTo>
                    <a:pt x="19820" y="21646"/>
                  </a:lnTo>
                  <a:arcTo wR="1780" hR="1780" stAng="5400000" swAng="-5400000"/>
                  <a:lnTo>
                    <a:pt x="21600" y="1780"/>
                  </a:lnTo>
                  <a:arcTo wR="1780" hR="1780" stAng="0" swAng="-5400000"/>
                  <a:close/>
                </a:path>
              </a:pathLst>
            </a:cu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00"/>
                  </a:solidFill>
                  <a:latin typeface="DFPYeaSong-B5"/>
                  <a:ea typeface="DFPYeaSong-B5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直接连接符 28"/>
            <p:cNvSpPr/>
            <p:nvPr/>
          </p:nvSpPr>
          <p:spPr>
            <a:xfrm>
              <a:off x="7107480" y="5333040"/>
              <a:ext cx="503640" cy="0"/>
            </a:xfrm>
            <a:prstGeom prst="line">
              <a:avLst/>
            </a:prstGeom>
            <a:ln w="76320">
              <a:solidFill>
                <a:srgbClr val="37609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29"/>
            <p:cNvSpPr/>
            <p:nvPr/>
          </p:nvSpPr>
          <p:spPr>
            <a:xfrm>
              <a:off x="1995480" y="4869000"/>
              <a:ext cx="51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f81bd"/>
                  </a:solidFill>
                  <a:latin typeface="微软雅黑"/>
                  <a:ea typeface="微软雅黑"/>
                </a:rPr>
                <a:t>一级标题在此点此输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Box 30"/>
            <p:cNvSpPr/>
            <p:nvPr/>
          </p:nvSpPr>
          <p:spPr>
            <a:xfrm>
              <a:off x="7107480" y="4869000"/>
              <a:ext cx="56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81bd"/>
                  </a:solidFill>
                  <a:latin typeface="DFPYeaSong-B5"/>
                  <a:ea typeface="DFPYeaSong-B5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矩形 2"/>
          <p:cNvSpPr/>
          <p:nvPr/>
        </p:nvSpPr>
        <p:spPr>
          <a:xfrm>
            <a:off x="2764080" y="6093000"/>
            <a:ext cx="36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ww.1ppt.com/moban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8760" y="115560"/>
            <a:ext cx="6716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</a:rPr>
              <a:t>目录名称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831000" y="651996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6BC4-0CED-4096-97CF-B4D62C59918E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05F2-0F8C-4D70-A33A-C1159328DD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1"/>
          <p:cNvSpPr/>
          <p:nvPr/>
        </p:nvSpPr>
        <p:spPr>
          <a:xfrm>
            <a:off x="6831000" y="651996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85CE-E93E-4C3C-8BA1-B025A1A3A1B6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47280" y="1628280"/>
            <a:ext cx="8101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微软雅黑"/>
              </a:rPr>
              <a:t>THANKS FOR YOUR LINSTEN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867280" y="2708280"/>
            <a:ext cx="2810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谢谢您的聆听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13:1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7:59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