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475-E3DA-4D5C-BA48-EC0C258E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476-EEF6-4E84-BDC6-A7A38C3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9A9-2B68-47F0-A692-AF4E9F95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9A2-9B5F-4BC3-9FBD-CA3440EE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E677-AE43-4FA0-BFCA-3BB35989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14FB-A614-4507-83BF-81F42BDF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9385-DF91-4D18-AEC7-C571649C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6739-3B82-416E-8520-E2E0833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2302-CE74-43A6-9302-161E56BF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4A1A-3AFF-4163-8B4B-25277888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1462-8C5F-452D-BA2A-8A94505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08F-14C8-4181-B601-92C68F5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FDBA-765A-4AE6-B3B8-88860CB7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ED57-2300-40EA-A88A-70A16D4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D0FA-1076-4161-9B0D-E564883A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D034-8E6D-4B7E-B70C-6773D617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E645-6C0B-4FB2-9032-EF08F4EA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494D-DAD0-46FC-9CB9-32908B80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D2C0-0CB5-4D2C-BEE1-526671ED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6707-CF8E-4A90-8359-9D1C847D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A04F-AE73-4D66-892E-4EB97835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A88F-64F8-438D-8292-4794AB69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AA0-4D1D-455B-A36D-B4E1D6CF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CA88-FE27-4146-B6AF-C3419CD2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65A3-D542-4810-9060-C5917F4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3445-A3F3-43AC-9877-23607B8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5952-504F-43E0-84FE-E662433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F436-EFF0-46C2-B636-AFF7DF6F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FA15-4C23-4B93-9FEC-9288A669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E3D7-72E7-4541-BBA9-585FBBCF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B8B-50BC-470E-B7AE-B194B0C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E0A-A4B0-4020-877C-774B481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B73-0F0A-4BD1-9588-8B3AA711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F87-5968-4631-B239-D94C601E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7B2-5F42-4748-8ED8-B0CE4A2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891-A55E-4912-9CCA-181EFD83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920-9790-48F1-A671-957B0A022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860C-C322-4868-9061-AC1BAB8D24F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259C-ABD2-42AE-9F01-77DCEFB4C5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FFEC-65F2-41E6-8F79-2450B382F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little italy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580920" y="4266720"/>
            <a:ext cx="487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YOUR SUBTITLE GOES HERE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357280" y="1371600"/>
            <a:ext cx="48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米白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0F8A-3E71-4E05-A9AD-AA1475BD59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123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transitional pag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6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32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