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EC7D-55CC-4501-972C-C3950F3A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199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330-F78E-4A40-8D57-4B0CCAD1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C850-7C34-4D5D-844F-863203E4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001D-93BC-4BA0-9D3B-E0EA69F3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912B-1035-4959-8D05-E6F07865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5121-06AF-4C33-87F6-6DB67C93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C4C7-9AC3-429E-992C-153ACB25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3102-6611-4D63-AA61-EFD79650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8D75-C9B0-4906-A1D7-06E75864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39BD-051E-4BA8-A56E-25E12373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DE5F-A8FF-4AF4-A36D-91C30525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B91D-4028-4C35-ABBB-24F0FC15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954C-88F8-4A38-8458-E42D5E7B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BF1E-9FCD-46D1-B077-D566B7E4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199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9909-25E5-4E32-A31D-0AD0B568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64FA-1513-4C23-9471-BE2190CF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EFD7-0AD5-4B25-88AE-40E9099E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3838D-5B4F-4735-B2E0-D2F31BDF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18189-3047-418F-9C45-797E1D5A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F6A9D-830D-4B67-9D42-2AFE4453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D93EF-829F-4883-BBF0-62E58A9A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91CC5-81F1-49C5-9FF7-2D170465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A47E-C944-4750-91DF-F38B3CB0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4D2FA-6244-4C35-BEF0-16FC6BC8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6444D-3B54-4D4B-B24D-8A9D992F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6EE12-B26B-45D7-9321-B168FED4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5EE41-AB9F-4B84-8BB8-B3E977E0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38199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16D4E-A6F9-4CC3-94F7-C6CBEE5A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EAF6B-D1A7-4463-A8E7-0FECF3BE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D87EA-B3BB-446C-9EBC-06A247BD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A293-20F0-4C34-B332-0A416218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88BD-7C81-44DB-A63E-D7DCC9E5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307E-EB42-4E73-8110-81FED8D2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22C1-E01B-4CBE-BC82-06A739EA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8D6E-07F9-4751-88C1-258C22D1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C1EC-AE92-40C2-91BC-DF93FE7A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Bold IT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2032-0016-4FE3-BEFB-BDEBB8F66180}" type="slidenum">
              <a:rPr b="0" lang="en-US" sz="1000" spc="-1" strike="noStrike">
                <a:solidFill>
                  <a:srgbClr val="ffffff"/>
                </a:solidFill>
                <a:latin typeface="Eras Bold ITC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8107-8363-4AE4-97BD-055640C4B1A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5F81-37A9-4B7D-BA35-96BC754833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65F3-A636-472F-8A2D-D695ED63B928}" type="slidenum">
              <a:rPr b="0" lang="en-US" sz="900" spc="-1" strike="noStrike">
                <a:solidFill>
                  <a:srgbClr val="ffffff"/>
                </a:solidFill>
                <a:latin typeface="Eras Bold ITC"/>
                <a:ea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800240"/>
            <a:ext cx="4479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SCIENCE FRI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548640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Your Subtitle Goes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1328400" y="533520"/>
            <a:ext cx="52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Arial"/>
                <a:ea typeface="Arial"/>
              </a:rPr>
              <a:t>美国流星</a:t>
            </a:r>
            <a:r>
              <a:rPr b="0" lang="zh-CN" sz="4000" spc="-1" strike="noStrike">
                <a:solidFill>
                  <a:srgbClr val="f2f2f2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f2f2f2"/>
                </a:solidFill>
                <a:latin typeface="Arial"/>
                <a:ea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32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subtopic goes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761760"/>
            <a:ext cx="632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3A55-8F95-4EBA-8CCD-EAD4B5D3B1B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5943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ITIONAL P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16:3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7:07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