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62A0-4CC0-4713-801C-BE3F92A9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92000" y="395856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D5E5-F9E8-4D61-A2E6-B2DCC57C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0784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9200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0784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6F23-BC2E-46D8-BBED-B8C68BF7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7808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6380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69200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7808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6380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CBFB-4F9A-4FDC-A341-1E19AF53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63E7-81EC-4FA6-93F2-F3B11AD5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9200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AB22-63D0-4F42-901D-3EB68E53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69F0-999D-45B2-A039-29A4DBFA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0784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1373-9A09-445B-B48A-1AB404C1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B7C5E-880E-4189-9728-1D7AC95D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92000" y="333360"/>
            <a:ext cx="705636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5ED2-DBEC-43E4-A100-A8F09AED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0784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69200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03A7-F77C-4DF2-B59D-5240A8B7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69200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454E-F864-4CE0-B141-A5541557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0784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0784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B9F3-7471-446B-A52D-E342A246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0784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92000" y="395856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D36E-5054-42C7-84F8-B801699D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692000" y="395856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0E39-6A41-4E9B-85AC-538FEE42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0784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69200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0784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0CD1-DE94-417B-8A7F-5C20F43B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7808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6380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69200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07808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6380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7130-70CD-46F4-A0DA-AD8F418C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ABC5F-790E-4B31-B27A-A258E0BD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9200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7CFF8-BA34-4F0F-BCC2-2FCCFD70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E158B-74D8-49BA-B990-4B387E71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0784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53910-77AE-4832-8DAF-59EA71F3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85701-94A8-4979-B89E-12CC6782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0A4C-D1BA-4379-8D03-E1C51259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692000" y="333360"/>
            <a:ext cx="705636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EA0C0-AD57-4C2B-86B0-E58DE983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0784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69200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88568-0DB0-406A-B41A-AC551E1A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0784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0784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C71CA-6792-477E-AA6F-4766919A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0784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692000" y="395856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1F2CC-3423-4AE1-BEF2-11A3AF54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692000" y="395856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6BB47-5FD9-40DB-92A6-7F85550A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0784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9200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30784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7ACE8-C9A6-4D43-B95F-1AF1C29B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07808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63800" y="137160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69200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07808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63800" y="3958560"/>
            <a:ext cx="2271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C8309-7527-413E-86C5-9EC9DD70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0784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9734-7985-4586-909A-C4F36011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C402-912E-407B-9AA1-24A390DF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92000" y="333360"/>
            <a:ext cx="7056360" cy="44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9213-7245-490F-8047-70947F3A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0784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69200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80EE-C6EF-40C6-AE4D-B61443D2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34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0784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07840" y="395856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3B45-5582-48E7-9540-B78F0165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9200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07840" y="1371600"/>
            <a:ext cx="344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692000" y="3958560"/>
            <a:ext cx="7056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787C-D100-4ACE-BBBF-BC81CDFE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9200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790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96680" y="647712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432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굴림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2228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8FCB-2AC7-4F37-A494-AAF05C89297E}" type="slidenum">
              <a:rPr b="1" lang="ko-KR" sz="1200" spc="-1" strike="noStrike">
                <a:solidFill>
                  <a:srgbClr val="000000"/>
                </a:solidFill>
                <a:latin typeface="Verdan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828800" y="1219320"/>
            <a:ext cx="6477120" cy="360"/>
            <a:chOff x="1828800" y="1219320"/>
            <a:chExt cx="6477120" cy="360"/>
          </a:xfrm>
        </p:grpSpPr>
        <p:sp>
          <p:nvSpPr>
            <p:cNvPr id="6" name="直接连接符 12320"/>
            <p:cNvSpPr/>
            <p:nvPr/>
          </p:nvSpPr>
          <p:spPr>
            <a:xfrm>
              <a:off x="1828800" y="1219320"/>
              <a:ext cx="6477120" cy="0"/>
            </a:xfrm>
            <a:prstGeom prst="line">
              <a:avLst/>
            </a:prstGeom>
            <a:ln cap="rnd" w="38160">
              <a:solidFill>
                <a:srgbClr val="7790d7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 txBox="1"/>
            <p:nvPr/>
          </p:nvSpPr>
          <p:spPr>
            <a:xfrm>
              <a:off x="1828800" y="1219320"/>
              <a:ext cx="6477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4F44-3218-4DA7-BB13-D07E9F00897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FC0F-BB5A-4C04-AD90-B258D34083E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69200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790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22FE-9F23-4C1F-9C8E-8136688BA662}" type="slidenum">
              <a:rPr b="1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1842840"/>
            <a:ext cx="699444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  <a:ea typeface="굴림"/>
              </a:rPr>
              <a:t>梦幻钟表企业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  <a:ea typeface="굴림"/>
              </a:rPr>
              <a:t>PPT</a:t>
            </a:r>
            <a:r>
              <a:rPr b="0" lang="en-US" sz="4000" spc="-1" strike="noStrike">
                <a:solidFill>
                  <a:srgbClr val="003366"/>
                </a:solidFill>
                <a:latin typeface="Arial"/>
                <a:ea typeface="굴림"/>
              </a:rPr>
              <a:t>模板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굴림"/>
              </a:rPr>
              <a:t>下载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05120" y="3352680"/>
            <a:ext cx="6476760" cy="360"/>
            <a:chOff x="1905120" y="3352680"/>
            <a:chExt cx="6476760" cy="360"/>
          </a:xfrm>
        </p:grpSpPr>
        <p:sp>
          <p:nvSpPr>
            <p:cNvPr id="128" name="直接连接符 33795"/>
            <p:cNvSpPr/>
            <p:nvPr/>
          </p:nvSpPr>
          <p:spPr>
            <a:xfrm>
              <a:off x="1905120" y="3352680"/>
              <a:ext cx="6476760" cy="0"/>
            </a:xfrm>
            <a:prstGeom prst="line">
              <a:avLst/>
            </a:prstGeom>
            <a:ln cap="rnd" w="38160">
              <a:solidFill>
                <a:srgbClr val="7790d7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1905120" y="3352680"/>
              <a:ext cx="6476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页脚占位符 1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692360" y="3809880"/>
            <a:ext cx="6983280" cy="6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  <a:ea typeface="굴림"/>
              </a:rPr>
              <a:t>Related Docum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9200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790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Competi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0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0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Streng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0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790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页脚占位符 1"/>
          <p:cNvSpPr/>
          <p:nvPr/>
        </p:nvSpPr>
        <p:spPr>
          <a:xfrm>
            <a:off x="5943600" y="6477120"/>
            <a:ext cx="2895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  <a:ea typeface="굴림"/>
              </a:rPr>
              <a:t>Chart Docum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内容占位符 35843" descr=""/>
          <p:cNvPicPr/>
          <p:nvPr/>
        </p:nvPicPr>
        <p:blipFill>
          <a:blip r:embed="rId1"/>
          <a:stretch/>
        </p:blipFill>
        <p:spPr>
          <a:xfrm>
            <a:off x="1692360" y="1841400"/>
            <a:ext cx="7056360" cy="4013280"/>
          </a:xfrm>
          <a:prstGeom prst="rect">
            <a:avLst/>
          </a:prstGeom>
          <a:ln w="0">
            <a:noFill/>
          </a:ln>
        </p:spPr>
      </p:pic>
      <p:sp>
        <p:nvSpPr>
          <p:cNvPr id="138" name="页脚占位符 1"/>
          <p:cNvSpPr/>
          <p:nvPr/>
        </p:nvSpPr>
        <p:spPr>
          <a:xfrm>
            <a:off x="5943600" y="6477120"/>
            <a:ext cx="2895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ae7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e2ae7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72C2-9788-42F4-9B90-6F4D5C28881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056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  <a:ea typeface="굴림"/>
              </a:rPr>
              <a:t>Schedule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692000" y="1371600"/>
            <a:ext cx="7056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790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Review high-level schedule mileston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37891"/>
          <p:cNvGrpSpPr/>
          <p:nvPr/>
        </p:nvGrpSpPr>
        <p:grpSpPr>
          <a:xfrm>
            <a:off x="1909080" y="4578480"/>
            <a:ext cx="6932880" cy="865800"/>
            <a:chOff x="1909080" y="4578480"/>
            <a:chExt cx="6932880" cy="865800"/>
          </a:xfrm>
        </p:grpSpPr>
        <p:sp>
          <p:nvSpPr>
            <p:cNvPr id="147" name="右箭头 37892"/>
            <p:cNvSpPr/>
            <p:nvPr/>
          </p:nvSpPr>
          <p:spPr>
            <a:xfrm>
              <a:off x="1989000" y="4578480"/>
              <a:ext cx="6852960" cy="763560"/>
            </a:xfrm>
            <a:prstGeom prst="rightArrow">
              <a:avLst>
                <a:gd name="adj1" fmla="val 36602"/>
                <a:gd name="adj2" fmla="val 36814"/>
              </a:avLst>
            </a:prstGeom>
            <a:gradFill rotWithShape="0">
              <a:gsLst>
                <a:gs pos="0">
                  <a:srgbClr val="7790d7"/>
                </a:gs>
                <a:gs pos="100000">
                  <a:srgbClr val="3fc5cf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47568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文本框 37893"/>
            <p:cNvSpPr/>
            <p:nvPr/>
          </p:nvSpPr>
          <p:spPr>
            <a:xfrm>
              <a:off x="1909080" y="5137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J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文本框 37894"/>
            <p:cNvSpPr/>
            <p:nvPr/>
          </p:nvSpPr>
          <p:spPr>
            <a:xfrm>
              <a:off x="2472840" y="513720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Fe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文本框 37895"/>
            <p:cNvSpPr/>
            <p:nvPr/>
          </p:nvSpPr>
          <p:spPr>
            <a:xfrm>
              <a:off x="3072600" y="513720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文本框 37896"/>
            <p:cNvSpPr/>
            <p:nvPr/>
          </p:nvSpPr>
          <p:spPr>
            <a:xfrm>
              <a:off x="3711240" y="5137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p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37897"/>
            <p:cNvSpPr/>
            <p:nvPr/>
          </p:nvSpPr>
          <p:spPr>
            <a:xfrm>
              <a:off x="4321800" y="513720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a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文本框 37898"/>
            <p:cNvSpPr/>
            <p:nvPr/>
          </p:nvSpPr>
          <p:spPr>
            <a:xfrm>
              <a:off x="4996440" y="513720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J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文本框 37899"/>
            <p:cNvSpPr/>
            <p:nvPr/>
          </p:nvSpPr>
          <p:spPr>
            <a:xfrm>
              <a:off x="5572080" y="51372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Ju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文本框 37900"/>
            <p:cNvSpPr/>
            <p:nvPr/>
          </p:nvSpPr>
          <p:spPr>
            <a:xfrm>
              <a:off x="6211080" y="513720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37901"/>
            <p:cNvSpPr/>
            <p:nvPr/>
          </p:nvSpPr>
          <p:spPr>
            <a:xfrm>
              <a:off x="6809760" y="513720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O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文本框 37902"/>
            <p:cNvSpPr/>
            <p:nvPr/>
          </p:nvSpPr>
          <p:spPr>
            <a:xfrm>
              <a:off x="7398720" y="5137200"/>
              <a:ext cx="51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o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文本框 37903"/>
            <p:cNvSpPr/>
            <p:nvPr/>
          </p:nvSpPr>
          <p:spPr>
            <a:xfrm>
              <a:off x="8048520" y="513720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e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流程图: 过程 37904"/>
          <p:cNvSpPr/>
          <p:nvPr/>
        </p:nvSpPr>
        <p:spPr>
          <a:xfrm>
            <a:off x="2071800" y="3141720"/>
            <a:ext cx="2609640" cy="239760"/>
          </a:xfrm>
          <a:prstGeom prst="flowChartProcess">
            <a:avLst/>
          </a:prstGeom>
          <a:solidFill>
            <a:srgbClr val="7790d7"/>
          </a:solidFill>
          <a:ln w="0">
            <a:noFill/>
          </a:ln>
          <a:effectLst>
            <a:outerShdw dist="17819" dir="2700000" blurRad="0" rotWithShape="0">
              <a:srgbClr val="4756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Ph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流程图: 过程 37905"/>
          <p:cNvSpPr/>
          <p:nvPr/>
        </p:nvSpPr>
        <p:spPr>
          <a:xfrm>
            <a:off x="4681440" y="3621240"/>
            <a:ext cx="2040120" cy="239400"/>
          </a:xfrm>
          <a:prstGeom prst="flowChartProcess">
            <a:avLst/>
          </a:prstGeom>
          <a:solidFill>
            <a:srgbClr val="3fc5cf"/>
          </a:solidFill>
          <a:ln w="0">
            <a:noFill/>
          </a:ln>
          <a:effectLst>
            <a:outerShdw dist="17819" dir="2700000" blurRad="0" rotWithShape="0">
              <a:srgbClr val="2676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Ph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流程图: 过程 37906"/>
          <p:cNvSpPr/>
          <p:nvPr/>
        </p:nvSpPr>
        <p:spPr>
          <a:xfrm>
            <a:off x="6721560" y="4098960"/>
            <a:ext cx="1793880" cy="239760"/>
          </a:xfrm>
          <a:prstGeom prst="flowChartProcess">
            <a:avLst/>
          </a:prstGeom>
          <a:solidFill>
            <a:srgbClr val="c3be00"/>
          </a:solidFill>
          <a:ln w="0">
            <a:noFill/>
          </a:ln>
          <a:effectLst>
            <a:outerShdw dist="17819" dir="2700000" blurRad="0" rotWithShape="0">
              <a:srgbClr val="75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Phas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页脚占位符 1"/>
          <p:cNvSpPr/>
          <p:nvPr/>
        </p:nvSpPr>
        <p:spPr>
          <a:xfrm>
            <a:off x="5943600" y="6477120"/>
            <a:ext cx="2895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9:21:5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4:24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