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8F8D-D8DF-43D7-8466-7947EDA17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5A1-7EFF-4B93-9DF7-A06287B1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DB13-4FD6-424A-BBC3-04132A2C7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BBF-6468-4830-8A47-7819896F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FD9C-D8C4-4AD9-84BE-D05CEC310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3BA5-FCF1-4A80-A198-01D88BA2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CAC0-F8EB-4391-A6A3-C47BB0A55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3784E-777C-448C-97CA-DC7104D0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4E387-DACD-4FC4-B747-14BDA3848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D458-4921-41C0-89EC-13C6978A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1058-FDC7-4581-8CA2-00A60A44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B5A2-AEF1-4749-8631-C63512FE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A872-2A0F-4F63-9300-F8CF1337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0D28E-41BD-45B0-B20E-9491EEFD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E0DB0-0F7B-4E54-96AC-D456F4CE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BABE-5E44-406B-BD11-C3E5D14AC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98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4040" y="119664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9528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98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4040" y="3866400"/>
            <a:ext cx="26895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0E3F-AB85-40C8-9C84-3EC39D52A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0EA8-3BCA-459E-9952-1AA2B4087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084B-068C-460C-9CC7-1178DCCD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B32-3089-4888-AD4B-93822EDCC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260280"/>
            <a:ext cx="835344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88A-4441-46BA-9DC8-4DD197AB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48E-5176-442C-9037-A90E7DEE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5680" y="386640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5DA-3A5C-47F4-8480-5EF57DD5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5680" y="1196640"/>
            <a:ext cx="407628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5280" y="3866400"/>
            <a:ext cx="8353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53BD-6DC9-47F8-8671-E0991A94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11111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371600" indent="-4572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4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5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6" marL="1828800" indent="-914400"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49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b4b4b"/>
                </a:solidFill>
                <a:latin typeface="Arial"/>
                <a:ea typeface="Arial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1464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b4b4b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C463-1826-4D15-BAB8-F4DA1029C294}" type="slidenum">
              <a:rPr b="0" lang="zh-CN" sz="1200" spc="-1" strike="noStrike">
                <a:solidFill>
                  <a:srgbClr val="4b4b4b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8D8E5-7C3F-44AE-81ED-F1696FBD46A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656A6-DBB6-4A64-AAB8-C97AAB4A5CA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副标题 7"/>
          <p:cNvSpPr/>
          <p:nvPr/>
        </p:nvSpPr>
        <p:spPr>
          <a:xfrm>
            <a:off x="395280" y="4221000"/>
            <a:ext cx="83534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适用于年会年终报告的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c00000"/>
                </a:solidFill>
                <a:latin typeface="Arial"/>
                <a:ea typeface="微软雅黑"/>
              </a:rPr>
              <a:t>素材辑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495360" y="4033800"/>
            <a:ext cx="7993080" cy="360"/>
            <a:chOff x="495360" y="4033800"/>
            <a:chExt cx="7993080" cy="360"/>
          </a:xfrm>
        </p:grpSpPr>
        <p:sp>
          <p:nvSpPr>
            <p:cNvPr id="84" name="直接连接符 5"/>
            <p:cNvSpPr/>
            <p:nvPr/>
          </p:nvSpPr>
          <p:spPr>
            <a:xfrm>
              <a:off x="495360" y="4033800"/>
              <a:ext cx="799308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5" name=""/>
            <p:cNvSpPr txBox="1"/>
            <p:nvPr/>
          </p:nvSpPr>
          <p:spPr>
            <a:xfrm>
              <a:off x="495360" y="4033800"/>
              <a:ext cx="79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86" name="组合 3075"/>
          <p:cNvGrpSpPr/>
          <p:nvPr/>
        </p:nvGrpSpPr>
        <p:grpSpPr>
          <a:xfrm>
            <a:off x="3263400" y="835200"/>
            <a:ext cx="5295960" cy="2601720"/>
            <a:chOff x="3263400" y="835200"/>
            <a:chExt cx="5295960" cy="2601720"/>
          </a:xfrm>
        </p:grpSpPr>
        <p:sp>
          <p:nvSpPr>
            <p:cNvPr id="87" name="Rectangle 75"/>
            <p:cNvSpPr/>
            <p:nvPr/>
          </p:nvSpPr>
          <p:spPr>
            <a:xfrm rot="11122200">
              <a:off x="4320360" y="281592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8" name="组合 3077"/>
            <p:cNvGrpSpPr/>
            <p:nvPr/>
          </p:nvGrpSpPr>
          <p:grpSpPr>
            <a:xfrm>
              <a:off x="5779800" y="907920"/>
              <a:ext cx="1500120" cy="1614600"/>
              <a:chOff x="5779800" y="907920"/>
              <a:chExt cx="1500120" cy="1614600"/>
            </a:xfrm>
          </p:grpSpPr>
          <p:sp>
            <p:nvSpPr>
              <p:cNvPr id="89" name="Rectangle 48"/>
              <p:cNvSpPr/>
              <p:nvPr/>
            </p:nvSpPr>
            <p:spPr>
              <a:xfrm>
                <a:off x="5779800" y="90792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0" name="TextBox 49"/>
              <p:cNvSpPr/>
              <p:nvPr/>
            </p:nvSpPr>
            <p:spPr>
              <a:xfrm>
                <a:off x="6181920" y="108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1" name="Oval 50"/>
              <p:cNvSpPr/>
              <p:nvPr/>
            </p:nvSpPr>
            <p:spPr>
              <a:xfrm>
                <a:off x="588420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2" name="Oval 51"/>
              <p:cNvSpPr/>
              <p:nvPr/>
            </p:nvSpPr>
            <p:spPr>
              <a:xfrm>
                <a:off x="705492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3" name="TextBox 52"/>
              <p:cNvSpPr/>
              <p:nvPr/>
            </p:nvSpPr>
            <p:spPr>
              <a:xfrm>
                <a:off x="5779800" y="11131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94" name="Rectangle 53"/>
            <p:cNvSpPr/>
            <p:nvPr/>
          </p:nvSpPr>
          <p:spPr>
            <a:xfrm rot="10800000">
              <a:off x="584100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5" name="Rectangle 54"/>
            <p:cNvSpPr/>
            <p:nvPr/>
          </p:nvSpPr>
          <p:spPr>
            <a:xfrm rot="11122200">
              <a:off x="7061760" y="262440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96" name="Rectangle 55"/>
            <p:cNvSpPr/>
            <p:nvPr/>
          </p:nvSpPr>
          <p:spPr>
            <a:xfrm rot="10800000">
              <a:off x="326340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97" name="组合 3086"/>
            <p:cNvGrpSpPr/>
            <p:nvPr/>
          </p:nvGrpSpPr>
          <p:grpSpPr>
            <a:xfrm>
              <a:off x="3263760" y="912960"/>
              <a:ext cx="1500120" cy="1614960"/>
              <a:chOff x="3263760" y="912960"/>
              <a:chExt cx="1500120" cy="1614960"/>
            </a:xfrm>
          </p:grpSpPr>
          <p:sp>
            <p:nvSpPr>
              <p:cNvPr id="98" name="Rectangle 57"/>
              <p:cNvSpPr/>
              <p:nvPr/>
            </p:nvSpPr>
            <p:spPr>
              <a:xfrm>
                <a:off x="3263760" y="91296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99" name="TextBox 58"/>
              <p:cNvSpPr/>
              <p:nvPr/>
            </p:nvSpPr>
            <p:spPr>
              <a:xfrm>
                <a:off x="3665880" y="10933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0" name="Oval 59"/>
              <p:cNvSpPr/>
              <p:nvPr/>
            </p:nvSpPr>
            <p:spPr>
              <a:xfrm>
                <a:off x="336816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1" name="Oval 60"/>
              <p:cNvSpPr/>
              <p:nvPr/>
            </p:nvSpPr>
            <p:spPr>
              <a:xfrm>
                <a:off x="453888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2" name="TextBox 61"/>
              <p:cNvSpPr/>
              <p:nvPr/>
            </p:nvSpPr>
            <p:spPr>
              <a:xfrm>
                <a:off x="3263760" y="11185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3092"/>
            <p:cNvGrpSpPr/>
            <p:nvPr/>
          </p:nvGrpSpPr>
          <p:grpSpPr>
            <a:xfrm>
              <a:off x="4340880" y="913680"/>
              <a:ext cx="1953000" cy="2005200"/>
              <a:chOff x="4340880" y="913680"/>
              <a:chExt cx="1953000" cy="2005200"/>
            </a:xfrm>
          </p:grpSpPr>
          <p:sp>
            <p:nvSpPr>
              <p:cNvPr id="104" name="Rectangle 63"/>
              <p:cNvSpPr/>
              <p:nvPr/>
            </p:nvSpPr>
            <p:spPr>
              <a:xfrm rot="1201800">
                <a:off x="4566960" y="11224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5" name="TextBox 64"/>
              <p:cNvSpPr/>
              <p:nvPr/>
            </p:nvSpPr>
            <p:spPr>
              <a:xfrm rot="1201800">
                <a:off x="4942800" y="126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6" name="Oval 65"/>
              <p:cNvSpPr/>
              <p:nvPr/>
            </p:nvSpPr>
            <p:spPr>
              <a:xfrm rot="1201800">
                <a:off x="4919400" y="1064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7" name="Oval 66"/>
              <p:cNvSpPr/>
              <p:nvPr/>
            </p:nvSpPr>
            <p:spPr>
              <a:xfrm rot="1201800">
                <a:off x="6019200" y="146556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08" name="TextBox 67"/>
              <p:cNvSpPr/>
              <p:nvPr/>
            </p:nvSpPr>
            <p:spPr>
              <a:xfrm rot="1201800">
                <a:off x="4725360" y="134424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09" name="组合 3098"/>
            <p:cNvGrpSpPr/>
            <p:nvPr/>
          </p:nvGrpSpPr>
          <p:grpSpPr>
            <a:xfrm>
              <a:off x="6872040" y="835200"/>
              <a:ext cx="1687320" cy="1762560"/>
              <a:chOff x="6872040" y="835200"/>
              <a:chExt cx="1687320" cy="1762560"/>
            </a:xfrm>
          </p:grpSpPr>
          <p:sp>
            <p:nvSpPr>
              <p:cNvPr id="110" name="Rectangle 69"/>
              <p:cNvSpPr/>
              <p:nvPr/>
            </p:nvSpPr>
            <p:spPr>
              <a:xfrm rot="21168000">
                <a:off x="6965280" y="9226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1" name="TextBox 70"/>
              <p:cNvSpPr/>
              <p:nvPr/>
            </p:nvSpPr>
            <p:spPr>
              <a:xfrm rot="21168000">
                <a:off x="7377840" y="108144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5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2" name="Oval 71"/>
              <p:cNvSpPr/>
              <p:nvPr/>
            </p:nvSpPr>
            <p:spPr>
              <a:xfrm rot="21168000">
                <a:off x="6996240" y="110160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3" name="Oval 72"/>
              <p:cNvSpPr/>
              <p:nvPr/>
            </p:nvSpPr>
            <p:spPr>
              <a:xfrm rot="21168000">
                <a:off x="8157960" y="9547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14" name="TextBox 73"/>
              <p:cNvSpPr/>
              <p:nvPr/>
            </p:nvSpPr>
            <p:spPr>
              <a:xfrm rot="21168000">
                <a:off x="6907680" y="1119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3143160"/>
            <a:ext cx="83534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201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5</a:t>
            </a: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年 新年礼包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矩形 204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0" y="6303960"/>
            <a:ext cx="9144000" cy="4680"/>
            <a:chOff x="0" y="6303960"/>
            <a:chExt cx="9144000" cy="4680"/>
          </a:xfrm>
        </p:grpSpPr>
        <p:sp>
          <p:nvSpPr>
            <p:cNvPr id="118" name="直接连接符 40"/>
            <p:cNvSpPr/>
            <p:nvPr/>
          </p:nvSpPr>
          <p:spPr>
            <a:xfrm>
              <a:off x="0" y="6303960"/>
              <a:ext cx="9144000" cy="4680"/>
            </a:xfrm>
            <a:prstGeom prst="line">
              <a:avLst/>
            </a:prstGeom>
            <a:ln w="936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0" y="6303960"/>
              <a:ext cx="9144000" cy="4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2120" bIns="-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363600" y="6308280"/>
            <a:ext cx="835344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Aft>
                <a:spcPts val="400"/>
              </a:spcAft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111111"/>
              </a:solidFill>
              <a:latin typeface="Arial"/>
              <a:ea typeface="微软雅黑"/>
            </a:endParaRPr>
          </a:p>
        </p:txBody>
      </p:sp>
      <p:sp>
        <p:nvSpPr>
          <p:cNvPr id="121" name="文本框 6155"/>
          <p:cNvSpPr/>
          <p:nvPr/>
        </p:nvSpPr>
        <p:spPr>
          <a:xfrm>
            <a:off x="139680" y="58374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1111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1111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文本框 2"/>
          <p:cNvSpPr/>
          <p:nvPr/>
        </p:nvSpPr>
        <p:spPr>
          <a:xfrm>
            <a:off x="1956960" y="22860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年会年终报告的</a:t>
            </a:r>
            <a:r>
              <a:rPr b="0" lang="en-US" sz="4000" spc="-1" strike="noStrike">
                <a:solidFill>
                  <a:srgbClr val="c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ktangel 70"/>
          <p:cNvSpPr/>
          <p:nvPr/>
        </p:nvSpPr>
        <p:spPr>
          <a:xfrm flipV="1">
            <a:off x="0" y="2703960"/>
            <a:ext cx="9144000" cy="18558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61" name="组合 15362"/>
          <p:cNvGrpSpPr/>
          <p:nvPr/>
        </p:nvGrpSpPr>
        <p:grpSpPr>
          <a:xfrm>
            <a:off x="504720" y="1257480"/>
            <a:ext cx="8181720" cy="4343400"/>
            <a:chOff x="504720" y="1257480"/>
            <a:chExt cx="8181720" cy="4343400"/>
          </a:xfrm>
        </p:grpSpPr>
        <p:grpSp>
          <p:nvGrpSpPr>
            <p:cNvPr id="662" name="组合 15363"/>
            <p:cNvGrpSpPr/>
            <p:nvPr/>
          </p:nvGrpSpPr>
          <p:grpSpPr>
            <a:xfrm>
              <a:off x="504720" y="1257480"/>
              <a:ext cx="8031600" cy="4343400"/>
              <a:chOff x="504720" y="1257480"/>
              <a:chExt cx="8031600" cy="4343400"/>
            </a:xfrm>
          </p:grpSpPr>
          <p:sp>
            <p:nvSpPr>
              <p:cNvPr id="663" name="Wave 136"/>
              <p:cNvSpPr/>
              <p:nvPr/>
            </p:nvSpPr>
            <p:spPr>
              <a:xfrm>
                <a:off x="4519440" y="1257480"/>
                <a:ext cx="4016880" cy="4343400"/>
              </a:xfrm>
              <a:custGeom>
                <a:avLst/>
                <a:gdLst>
                  <a:gd name="textAreaLeft" fmla="*/ 0 w 4016880"/>
                  <a:gd name="textAreaRight" fmla="*/ 401724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64" name="Wave 135"/>
              <p:cNvSpPr/>
              <p:nvPr/>
            </p:nvSpPr>
            <p:spPr>
              <a:xfrm flipH="1">
                <a:off x="504720" y="1257480"/>
                <a:ext cx="4016880" cy="4343400"/>
              </a:xfrm>
              <a:custGeom>
                <a:avLst/>
                <a:gdLst>
                  <a:gd name="textAreaLeft" fmla="*/ 360 w 4016880"/>
                  <a:gd name="textAreaRight" fmla="*/ 4017600 w 4016880"/>
                  <a:gd name="textAreaTop" fmla="*/ 365400 h 4343400"/>
                  <a:gd name="textAreaBottom" fmla="*/ 3978000 h 4343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909"/>
                    </a:moveTo>
                    <a:cubicBezTo>
                      <a:pt x="7200" y="-2311"/>
                      <a:pt x="14400" y="4129"/>
                      <a:pt x="21600" y="909"/>
                    </a:cubicBezTo>
                    <a:lnTo>
                      <a:pt x="21600" y="20691"/>
                    </a:lnTo>
                    <a:cubicBezTo>
                      <a:pt x="14400" y="23911"/>
                      <a:pt x="7200" y="17471"/>
                      <a:pt x="0" y="20691"/>
                    </a:cubicBezTo>
                    <a:close/>
                  </a:path>
                </a:pathLst>
              </a:custGeom>
              <a:solidFill>
                <a:srgbClr val="343434"/>
              </a:solidFill>
              <a:ln w="9360">
                <a:solidFill>
                  <a:srgbClr val="1c1c1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665" name="Rektangel 274"/>
            <p:cNvSpPr/>
            <p:nvPr/>
          </p:nvSpPr>
          <p:spPr>
            <a:xfrm rot="10800000">
              <a:off x="8253360" y="3617640"/>
              <a:ext cx="433080" cy="1274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6" name="Wave 131"/>
            <p:cNvSpPr/>
            <p:nvPr/>
          </p:nvSpPr>
          <p:spPr>
            <a:xfrm flipH="1">
              <a:off x="633240" y="1357200"/>
              <a:ext cx="3888000" cy="4137120"/>
            </a:xfrm>
            <a:custGeom>
              <a:avLst/>
              <a:gdLst>
                <a:gd name="textAreaLeft" fmla="*/ 360 w 3888000"/>
                <a:gd name="textAreaRight" fmla="*/ 388872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7" name="Wave 132"/>
            <p:cNvSpPr/>
            <p:nvPr/>
          </p:nvSpPr>
          <p:spPr>
            <a:xfrm>
              <a:off x="4519440" y="1357200"/>
              <a:ext cx="3888000" cy="4137120"/>
            </a:xfrm>
            <a:custGeom>
              <a:avLst/>
              <a:gdLst>
                <a:gd name="textAreaLeft" fmla="*/ 0 w 3888000"/>
                <a:gd name="textAreaRight" fmla="*/ 3888360 w 388800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8" name="Wave 133"/>
            <p:cNvSpPr/>
            <p:nvPr/>
          </p:nvSpPr>
          <p:spPr>
            <a:xfrm>
              <a:off x="4519440" y="1379520"/>
              <a:ext cx="3774960" cy="4137120"/>
            </a:xfrm>
            <a:custGeom>
              <a:avLst/>
              <a:gdLst>
                <a:gd name="textAreaLeft" fmla="*/ 0 w 3774960"/>
                <a:gd name="textAreaRight" fmla="*/ 3775320 w 37749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69" name="Rektangel 274"/>
            <p:cNvSpPr/>
            <p:nvPr/>
          </p:nvSpPr>
          <p:spPr>
            <a:xfrm>
              <a:off x="504720" y="2049480"/>
              <a:ext cx="433080" cy="1276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0" name="Wave 134"/>
            <p:cNvSpPr/>
            <p:nvPr/>
          </p:nvSpPr>
          <p:spPr>
            <a:xfrm flipH="1">
              <a:off x="810360" y="1357200"/>
              <a:ext cx="3708360" cy="4137120"/>
            </a:xfrm>
            <a:custGeom>
              <a:avLst/>
              <a:gdLst>
                <a:gd name="textAreaLeft" fmla="*/ -360 w 3708360"/>
                <a:gd name="textAreaRight" fmla="*/ 3708360 w 3708360"/>
                <a:gd name="textAreaTop" fmla="*/ 348480 h 4137120"/>
                <a:gd name="textAreaBottom" fmla="*/ 3788640 h 413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910"/>
                  </a:moveTo>
                  <a:cubicBezTo>
                    <a:pt x="7200" y="-2314"/>
                    <a:pt x="14400" y="4134"/>
                    <a:pt x="21600" y="910"/>
                  </a:cubicBezTo>
                  <a:lnTo>
                    <a:pt x="21600" y="20690"/>
                  </a:lnTo>
                  <a:cubicBezTo>
                    <a:pt x="14400" y="23914"/>
                    <a:pt x="7200" y="17466"/>
                    <a:pt x="0" y="20690"/>
                  </a:cubicBezTo>
                  <a:close/>
                </a:path>
              </a:pathLst>
            </a:custGeom>
            <a:solidFill>
              <a:srgbClr val="d9d9d9"/>
            </a:solidFill>
            <a:ln w="93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1" name="TextBox 123"/>
            <p:cNvSpPr/>
            <p:nvPr/>
          </p:nvSpPr>
          <p:spPr>
            <a:xfrm>
              <a:off x="912600" y="155412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</a:rPr>
                <a:t>2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2" name="TextBox 124"/>
            <p:cNvSpPr/>
            <p:nvPr/>
          </p:nvSpPr>
          <p:spPr>
            <a:xfrm>
              <a:off x="2589120" y="147816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111111"/>
                  </a:solidFill>
                  <a:latin typeface="Arial"/>
                  <a:ea typeface="宋体"/>
                </a:rPr>
                <a:t>0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3" name="TextBox 125"/>
            <p:cNvSpPr/>
            <p:nvPr/>
          </p:nvSpPr>
          <p:spPr>
            <a:xfrm>
              <a:off x="4748040" y="141624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74" name="TextBox 126"/>
            <p:cNvSpPr/>
            <p:nvPr/>
          </p:nvSpPr>
          <p:spPr>
            <a:xfrm>
              <a:off x="6272280" y="1504800"/>
              <a:ext cx="1320840" cy="34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0" spc="-1" strike="noStrike">
                  <a:solidFill>
                    <a:srgbClr val="ff0000"/>
                  </a:solidFill>
                  <a:latin typeface="Arial"/>
                  <a:ea typeface="宋体"/>
                </a:rPr>
                <a:t>5</a:t>
              </a:r>
              <a:endParaRPr b="0" lang="en-US" sz="220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6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2292-2D88-44F1-9C1D-0B34676417A3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</a:t>
            </a:r>
            <a:r>
              <a:rPr b="0" i="1" lang="zh-CN" sz="3200" spc="-1" strike="noStrike" u="sng">
                <a:solidFill>
                  <a:srgbClr val="777777"/>
                </a:solidFill>
                <a:uFillTx/>
                <a:latin typeface="Arial"/>
              </a:rPr>
              <a:t>5</a:t>
            </a: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8" name="Rectangle 156"/>
          <p:cNvSpPr/>
          <p:nvPr/>
        </p:nvSpPr>
        <p:spPr>
          <a:xfrm>
            <a:off x="0" y="3948120"/>
            <a:ext cx="9144000" cy="2604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9" name="Ellipse 98"/>
          <p:cNvSpPr/>
          <p:nvPr/>
        </p:nvSpPr>
        <p:spPr>
          <a:xfrm>
            <a:off x="4546440" y="5618160"/>
            <a:ext cx="3164040" cy="5540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80" name="组合 16388"/>
          <p:cNvGrpSpPr/>
          <p:nvPr/>
        </p:nvGrpSpPr>
        <p:grpSpPr>
          <a:xfrm>
            <a:off x="3852720" y="1389600"/>
            <a:ext cx="4323240" cy="4318560"/>
            <a:chOff x="3852720" y="1389600"/>
            <a:chExt cx="4323240" cy="4318560"/>
          </a:xfrm>
        </p:grpSpPr>
        <p:sp>
          <p:nvSpPr>
            <p:cNvPr id="681" name="Ellipse 44"/>
            <p:cNvSpPr/>
            <p:nvPr/>
          </p:nvSpPr>
          <p:spPr>
            <a:xfrm rot="21051600">
              <a:off x="4127760" y="1665360"/>
              <a:ext cx="3772800" cy="3767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2" name="Ellipse 45"/>
            <p:cNvSpPr/>
            <p:nvPr/>
          </p:nvSpPr>
          <p:spPr>
            <a:xfrm>
              <a:off x="4662360" y="1743120"/>
              <a:ext cx="2738520" cy="20476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83" name="Måne 31"/>
            <p:cNvSpPr/>
            <p:nvPr/>
          </p:nvSpPr>
          <p:spPr>
            <a:xfrm rot="16551600">
              <a:off x="5092920" y="2794680"/>
              <a:ext cx="1658520" cy="3662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2847" y="734"/>
                    <a:pt x="4093" y="5080"/>
                    <a:pt x="4093" y="10800"/>
                  </a:cubicBezTo>
                  <a:cubicBezTo>
                    <a:pt x="4093" y="16520"/>
                    <a:pt x="12847" y="20866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84" name="组合 16392"/>
          <p:cNvGrpSpPr/>
          <p:nvPr/>
        </p:nvGrpSpPr>
        <p:grpSpPr>
          <a:xfrm>
            <a:off x="4647960" y="1989000"/>
            <a:ext cx="2718000" cy="2926800"/>
            <a:chOff x="4647960" y="1989000"/>
            <a:chExt cx="2718000" cy="2926800"/>
          </a:xfrm>
        </p:grpSpPr>
        <p:sp>
          <p:nvSpPr>
            <p:cNvPr id="685" name="TextBox 230"/>
            <p:cNvSpPr/>
            <p:nvPr/>
          </p:nvSpPr>
          <p:spPr>
            <a:xfrm>
              <a:off x="5148360" y="1989000"/>
              <a:ext cx="1684440" cy="268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0" spc="-1" strike="noStrike">
                  <a:solidFill>
                    <a:srgbClr val="111111"/>
                  </a:solidFill>
                  <a:latin typeface="微软雅黑"/>
                  <a:ea typeface="微软雅黑"/>
                </a:rPr>
                <a:t>1</a:t>
              </a:r>
              <a:endParaRPr b="0" lang="en-US" sz="17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686" name="组合 16394"/>
            <p:cNvGrpSpPr/>
            <p:nvPr/>
          </p:nvGrpSpPr>
          <p:grpSpPr>
            <a:xfrm>
              <a:off x="4647960" y="2706840"/>
              <a:ext cx="2718000" cy="2208960"/>
              <a:chOff x="4647960" y="2706840"/>
              <a:chExt cx="2718000" cy="2208960"/>
            </a:xfrm>
          </p:grpSpPr>
          <p:sp>
            <p:nvSpPr>
              <p:cNvPr id="687" name="Freeform 3"/>
              <p:cNvSpPr/>
              <p:nvPr/>
            </p:nvSpPr>
            <p:spPr>
              <a:xfrm rot="1227600">
                <a:off x="6904080" y="29077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8" name="Freeform 4"/>
              <p:cNvSpPr/>
              <p:nvPr/>
            </p:nvSpPr>
            <p:spPr>
              <a:xfrm>
                <a:off x="6794640" y="3582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89" name="Freeform 5"/>
              <p:cNvSpPr/>
              <p:nvPr/>
            </p:nvSpPr>
            <p:spPr>
              <a:xfrm rot="21036000">
                <a:off x="6681960" y="271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0" name="Freeform 6"/>
              <p:cNvSpPr/>
              <p:nvPr/>
            </p:nvSpPr>
            <p:spPr>
              <a:xfrm rot="20536200">
                <a:off x="6731280" y="3016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1" name="Freeform 7"/>
              <p:cNvSpPr/>
              <p:nvPr/>
            </p:nvSpPr>
            <p:spPr>
              <a:xfrm rot="1904400">
                <a:off x="7005960" y="3186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2" name="Freeform 8"/>
              <p:cNvSpPr/>
              <p:nvPr/>
            </p:nvSpPr>
            <p:spPr>
              <a:xfrm rot="21013200">
                <a:off x="6849360" y="334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3" name="Freeform 9"/>
              <p:cNvSpPr/>
              <p:nvPr/>
            </p:nvSpPr>
            <p:spPr>
              <a:xfrm rot="3228000">
                <a:off x="7091280" y="34599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4" name="Freeform 10"/>
              <p:cNvSpPr/>
              <p:nvPr/>
            </p:nvSpPr>
            <p:spPr>
              <a:xfrm rot="4053000">
                <a:off x="7038720" y="37350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5" name="Freeform 11"/>
              <p:cNvSpPr/>
              <p:nvPr/>
            </p:nvSpPr>
            <p:spPr>
              <a:xfrm rot="273600">
                <a:off x="6738840" y="38394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6" name="Freeform 12"/>
              <p:cNvSpPr/>
              <p:nvPr/>
            </p:nvSpPr>
            <p:spPr>
              <a:xfrm rot="4999200">
                <a:off x="7015680" y="3938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7" name="Freeform 13"/>
              <p:cNvSpPr/>
              <p:nvPr/>
            </p:nvSpPr>
            <p:spPr>
              <a:xfrm rot="1173600">
                <a:off x="6580440" y="40240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8" name="Freeform 14"/>
              <p:cNvSpPr/>
              <p:nvPr/>
            </p:nvSpPr>
            <p:spPr>
              <a:xfrm rot="6093000">
                <a:off x="6862680" y="416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99" name="Freeform 15"/>
              <p:cNvSpPr/>
              <p:nvPr/>
            </p:nvSpPr>
            <p:spPr>
              <a:xfrm rot="3612000">
                <a:off x="6165360" y="42883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0" name="Freeform 16"/>
              <p:cNvSpPr/>
              <p:nvPr/>
            </p:nvSpPr>
            <p:spPr>
              <a:xfrm rot="6442200">
                <a:off x="6648120" y="434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1" name="Freeform 17"/>
              <p:cNvSpPr/>
              <p:nvPr/>
            </p:nvSpPr>
            <p:spPr>
              <a:xfrm rot="2014200">
                <a:off x="6390720" y="41706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2" name="Freeform 18"/>
              <p:cNvSpPr/>
              <p:nvPr/>
            </p:nvSpPr>
            <p:spPr>
              <a:xfrm rot="6928800">
                <a:off x="6443640" y="4469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3" name="Freeform 19"/>
              <p:cNvSpPr/>
              <p:nvPr/>
            </p:nvSpPr>
            <p:spPr>
              <a:xfrm rot="7521600">
                <a:off x="6164280" y="456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4" name="Freeform 20"/>
              <p:cNvSpPr/>
              <p:nvPr/>
            </p:nvSpPr>
            <p:spPr>
              <a:xfrm flipH="1">
                <a:off x="5058000" y="3582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5" name="Freeform 21"/>
              <p:cNvSpPr/>
              <p:nvPr/>
            </p:nvSpPr>
            <p:spPr>
              <a:xfrm flipH="1" rot="564000">
                <a:off x="5170320" y="271728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6" name="Freeform 22"/>
              <p:cNvSpPr/>
              <p:nvPr/>
            </p:nvSpPr>
            <p:spPr>
              <a:xfrm flipH="1" rot="20414400">
                <a:off x="4950000" y="29091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7" name="Freeform 23"/>
              <p:cNvSpPr/>
              <p:nvPr/>
            </p:nvSpPr>
            <p:spPr>
              <a:xfrm flipH="1" rot="1063800">
                <a:off x="5120640" y="3016440"/>
                <a:ext cx="161280" cy="36216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8" name="Freeform 24"/>
              <p:cNvSpPr/>
              <p:nvPr/>
            </p:nvSpPr>
            <p:spPr>
              <a:xfrm flipH="1" rot="19695600">
                <a:off x="4846320" y="31863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09" name="Freeform 25"/>
              <p:cNvSpPr/>
              <p:nvPr/>
            </p:nvSpPr>
            <p:spPr>
              <a:xfrm flipH="1" rot="586800">
                <a:off x="5003280" y="33472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0" name="Freeform 26"/>
              <p:cNvSpPr/>
              <p:nvPr/>
            </p:nvSpPr>
            <p:spPr>
              <a:xfrm flipH="1" rot="18372000">
                <a:off x="4760640" y="3459960"/>
                <a:ext cx="16164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1" name="Freeform 27"/>
              <p:cNvSpPr/>
              <p:nvPr/>
            </p:nvSpPr>
            <p:spPr>
              <a:xfrm flipH="1" rot="17547000">
                <a:off x="4812840" y="373500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2" name="Freeform 28"/>
              <p:cNvSpPr/>
              <p:nvPr/>
            </p:nvSpPr>
            <p:spPr>
              <a:xfrm flipH="1" rot="21326400">
                <a:off x="5113080" y="383940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3" name="Freeform 29"/>
              <p:cNvSpPr/>
              <p:nvPr/>
            </p:nvSpPr>
            <p:spPr>
              <a:xfrm flipH="1" rot="16600800">
                <a:off x="4835880" y="3938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4" name="Freeform 30"/>
              <p:cNvSpPr/>
              <p:nvPr/>
            </p:nvSpPr>
            <p:spPr>
              <a:xfrm flipH="1" rot="20426400">
                <a:off x="5271480" y="402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5" name="Freeform 31"/>
              <p:cNvSpPr/>
              <p:nvPr/>
            </p:nvSpPr>
            <p:spPr>
              <a:xfrm flipH="1" rot="15507000">
                <a:off x="4989240" y="416268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6" name="Freeform 32"/>
              <p:cNvSpPr/>
              <p:nvPr/>
            </p:nvSpPr>
            <p:spPr>
              <a:xfrm flipH="1" rot="17988000">
                <a:off x="5685480" y="428832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7" name="Freeform 33"/>
              <p:cNvSpPr/>
              <p:nvPr/>
            </p:nvSpPr>
            <p:spPr>
              <a:xfrm flipH="1" rot="15157800">
                <a:off x="5202720" y="434268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8" name="Freeform 34"/>
              <p:cNvSpPr/>
              <p:nvPr/>
            </p:nvSpPr>
            <p:spPr>
              <a:xfrm flipH="1" rot="19585800">
                <a:off x="5460480" y="4170600"/>
                <a:ext cx="161280" cy="36144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19" name="Freeform 35"/>
              <p:cNvSpPr/>
              <p:nvPr/>
            </p:nvSpPr>
            <p:spPr>
              <a:xfrm flipH="1" rot="14671200">
                <a:off x="5408640" y="446976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0" name="Freeform 36"/>
              <p:cNvSpPr/>
              <p:nvPr/>
            </p:nvSpPr>
            <p:spPr>
              <a:xfrm flipH="1" rot="14078400">
                <a:off x="5686560" y="4564440"/>
                <a:ext cx="161280" cy="361800"/>
              </a:xfrm>
              <a:custGeom>
                <a:avLst/>
                <a:gdLst/>
                <a:ahLst/>
                <a:rect l="l" t="t" r="r" b="b"/>
                <a:pathLst>
                  <a:path w="305008" h="683383">
                    <a:moveTo>
                      <a:pt x="18334" y="13334"/>
                    </a:moveTo>
                    <a:cubicBezTo>
                      <a:pt x="0" y="26668"/>
                      <a:pt x="11667" y="125009"/>
                      <a:pt x="18334" y="193347"/>
                    </a:cubicBezTo>
                    <a:cubicBezTo>
                      <a:pt x="25001" y="261685"/>
                      <a:pt x="36668" y="358359"/>
                      <a:pt x="58335" y="423364"/>
                    </a:cubicBezTo>
                    <a:cubicBezTo>
                      <a:pt x="80002" y="488369"/>
                      <a:pt x="111669" y="541706"/>
                      <a:pt x="148337" y="583376"/>
                    </a:cubicBezTo>
                    <a:cubicBezTo>
                      <a:pt x="185005" y="625046"/>
                      <a:pt x="253340" y="683383"/>
                      <a:pt x="278341" y="673382"/>
                    </a:cubicBezTo>
                    <a:cubicBezTo>
                      <a:pt x="303342" y="663381"/>
                      <a:pt x="305008" y="585042"/>
                      <a:pt x="298341" y="523371"/>
                    </a:cubicBezTo>
                    <a:cubicBezTo>
                      <a:pt x="291674" y="461700"/>
                      <a:pt x="266674" y="371693"/>
                      <a:pt x="238340" y="303355"/>
                    </a:cubicBezTo>
                    <a:cubicBezTo>
                      <a:pt x="210006" y="235017"/>
                      <a:pt x="165005" y="163345"/>
                      <a:pt x="128337" y="113341"/>
                    </a:cubicBezTo>
                    <a:cubicBezTo>
                      <a:pt x="91669" y="63337"/>
                      <a:pt x="36668" y="0"/>
                      <a:pt x="18334" y="13334"/>
                    </a:cubicBezTo>
                    <a:close/>
                  </a:path>
                </a:pathLst>
              </a:custGeom>
              <a:solidFill>
                <a:srgbClr val="938953"/>
              </a:solidFill>
              <a:ln w="9360">
                <a:solidFill>
                  <a:srgbClr val="49442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721" name="组合 16429"/>
          <p:cNvGrpSpPr/>
          <p:nvPr/>
        </p:nvGrpSpPr>
        <p:grpSpPr>
          <a:xfrm>
            <a:off x="914400" y="4379760"/>
            <a:ext cx="2567160" cy="1095480"/>
            <a:chOff x="914400" y="4379760"/>
            <a:chExt cx="2567160" cy="1095480"/>
          </a:xfrm>
        </p:grpSpPr>
        <p:sp>
          <p:nvSpPr>
            <p:cNvPr id="722" name="Rounded Rectangle 27"/>
            <p:cNvSpPr/>
            <p:nvPr/>
          </p:nvSpPr>
          <p:spPr>
            <a:xfrm flipH="1" rot="16200000">
              <a:off x="1535760" y="377388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3" name="Round Same Side Corner Rectangle 141"/>
            <p:cNvSpPr/>
            <p:nvPr/>
          </p:nvSpPr>
          <p:spPr>
            <a:xfrm>
              <a:off x="914400" y="437976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24" name="Rektangel 76"/>
            <p:cNvSpPr/>
            <p:nvPr/>
          </p:nvSpPr>
          <p:spPr>
            <a:xfrm>
              <a:off x="1047600" y="440820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25" name="组合 16433"/>
            <p:cNvGrpSpPr/>
            <p:nvPr/>
          </p:nvGrpSpPr>
          <p:grpSpPr>
            <a:xfrm>
              <a:off x="1082520" y="4863960"/>
              <a:ext cx="403200" cy="403200"/>
              <a:chOff x="1082520" y="4863960"/>
              <a:chExt cx="403200" cy="403200"/>
            </a:xfrm>
          </p:grpSpPr>
          <p:sp>
            <p:nvSpPr>
              <p:cNvPr id="726" name="Ellipse 53"/>
              <p:cNvSpPr/>
              <p:nvPr/>
            </p:nvSpPr>
            <p:spPr>
              <a:xfrm>
                <a:off x="1082520" y="486396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27" name="Tekstboks 54"/>
              <p:cNvSpPr/>
              <p:nvPr/>
            </p:nvSpPr>
            <p:spPr>
              <a:xfrm>
                <a:off x="1167840" y="48700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3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28" name="Tekstboks 72"/>
            <p:cNvSpPr/>
            <p:nvPr/>
          </p:nvSpPr>
          <p:spPr>
            <a:xfrm>
              <a:off x="1560960" y="487656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29" name="组合 16437"/>
          <p:cNvGrpSpPr/>
          <p:nvPr/>
        </p:nvGrpSpPr>
        <p:grpSpPr>
          <a:xfrm>
            <a:off x="914400" y="3017880"/>
            <a:ext cx="2567160" cy="1095480"/>
            <a:chOff x="914400" y="3017880"/>
            <a:chExt cx="2567160" cy="1095480"/>
          </a:xfrm>
        </p:grpSpPr>
        <p:sp>
          <p:nvSpPr>
            <p:cNvPr id="730" name="Rounded Rectangle 27"/>
            <p:cNvSpPr/>
            <p:nvPr/>
          </p:nvSpPr>
          <p:spPr>
            <a:xfrm flipH="1" rot="16200000">
              <a:off x="1535760" y="241200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1" name="Round Same Side Corner Rectangle 162"/>
            <p:cNvSpPr/>
            <p:nvPr/>
          </p:nvSpPr>
          <p:spPr>
            <a:xfrm>
              <a:off x="914400" y="301788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2" name="Rektangel 76"/>
            <p:cNvSpPr/>
            <p:nvPr/>
          </p:nvSpPr>
          <p:spPr>
            <a:xfrm>
              <a:off x="1047600" y="304632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33" name="组合 16441"/>
            <p:cNvGrpSpPr/>
            <p:nvPr/>
          </p:nvGrpSpPr>
          <p:grpSpPr>
            <a:xfrm>
              <a:off x="1082520" y="3502080"/>
              <a:ext cx="403200" cy="403200"/>
              <a:chOff x="1082520" y="3502080"/>
              <a:chExt cx="403200" cy="403200"/>
            </a:xfrm>
          </p:grpSpPr>
          <p:sp>
            <p:nvSpPr>
              <p:cNvPr id="734" name="Ellipse 53"/>
              <p:cNvSpPr/>
              <p:nvPr/>
            </p:nvSpPr>
            <p:spPr>
              <a:xfrm>
                <a:off x="1082520" y="350208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35" name="Tekstboks 54"/>
              <p:cNvSpPr/>
              <p:nvPr/>
            </p:nvSpPr>
            <p:spPr>
              <a:xfrm>
                <a:off x="1167840" y="35082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36" name="Tekstboks 72"/>
            <p:cNvSpPr/>
            <p:nvPr/>
          </p:nvSpPr>
          <p:spPr>
            <a:xfrm>
              <a:off x="1560960" y="351468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37" name="组合 16445"/>
          <p:cNvGrpSpPr/>
          <p:nvPr/>
        </p:nvGrpSpPr>
        <p:grpSpPr>
          <a:xfrm>
            <a:off x="914400" y="1709640"/>
            <a:ext cx="2567160" cy="1095480"/>
            <a:chOff x="914400" y="1709640"/>
            <a:chExt cx="2567160" cy="1095480"/>
          </a:xfrm>
        </p:grpSpPr>
        <p:sp>
          <p:nvSpPr>
            <p:cNvPr id="738" name="Rounded Rectangle 27"/>
            <p:cNvSpPr/>
            <p:nvPr/>
          </p:nvSpPr>
          <p:spPr>
            <a:xfrm flipH="1" rot="16200000">
              <a:off x="1535760" y="1103760"/>
              <a:ext cx="1079640" cy="2322720"/>
            </a:xfrm>
            <a:custGeom>
              <a:avLst/>
              <a:gdLst>
                <a:gd name="textAreaLeft" fmla="*/ 24840 w 1079640"/>
                <a:gd name="textAreaRight" fmla="*/ 1054800 w 1079640"/>
                <a:gd name="textAreaTop" fmla="*/ 24840 h 2322720"/>
                <a:gd name="textAreaBottom" fmla="*/ 2297880 h 2322720"/>
              </a:gdLst>
              <a:ahLst/>
              <a:rect l="textAreaLeft" t="textAreaTop" r="textAreaRight" b="textAreaBottom"/>
              <a:pathLst>
                <a:path w="21600" h="46462">
                  <a:moveTo>
                    <a:pt x="1699" y="0"/>
                  </a:moveTo>
                  <a:arcTo wR="1699" hR="1699" stAng="16200000" swAng="-5400000"/>
                  <a:lnTo>
                    <a:pt x="0" y="44763"/>
                  </a:lnTo>
                  <a:arcTo wR="1699" hR="1699" stAng="10800000" swAng="-5400000"/>
                  <a:lnTo>
                    <a:pt x="19901" y="46462"/>
                  </a:lnTo>
                  <a:arcTo wR="1699" hR="1699" stAng="5400000" swAng="-5400000"/>
                  <a:lnTo>
                    <a:pt x="21600" y="1699"/>
                  </a:lnTo>
                  <a:arcTo wR="1699" hR="1699" stAng="0" swAng="-5400000"/>
                  <a:close/>
                </a:path>
              </a:pathLst>
            </a:custGeom>
            <a:solidFill>
              <a:srgbClr val="ffffff"/>
            </a:solidFill>
            <a:ln w="6480">
              <a:solidFill>
                <a:srgbClr val="a5a5a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39" name="Round Same Side Corner Rectangle 170"/>
            <p:cNvSpPr/>
            <p:nvPr/>
          </p:nvSpPr>
          <p:spPr>
            <a:xfrm>
              <a:off x="914400" y="1709640"/>
              <a:ext cx="2322720" cy="314280"/>
            </a:xfrm>
            <a:custGeom>
              <a:avLst/>
              <a:gdLst/>
              <a:ahLst/>
              <a:rect l="l" t="t" r="r" b="b"/>
              <a:pathLst>
                <a:path w="2323948" h="314325">
                  <a:moveTo>
                    <a:pt x="87313" y="0"/>
                  </a:moveTo>
                  <a:lnTo>
                    <a:pt x="2236634" y="0"/>
                  </a:lnTo>
                  <a:cubicBezTo>
                    <a:pt x="2284856" y="0"/>
                    <a:pt x="2323947" y="39091"/>
                    <a:pt x="2323947" y="87313"/>
                  </a:cubicBezTo>
                  <a:lnTo>
                    <a:pt x="2323948" y="314325"/>
                  </a:lnTo>
                  <a:lnTo>
                    <a:pt x="2323948" y="314325"/>
                  </a:lnTo>
                  <a:lnTo>
                    <a:pt x="0" y="314325"/>
                  </a:lnTo>
                  <a:lnTo>
                    <a:pt x="0" y="314325"/>
                  </a:lnTo>
                  <a:lnTo>
                    <a:pt x="0" y="87313"/>
                  </a:lnTo>
                  <a:cubicBezTo>
                    <a:pt x="0" y="39091"/>
                    <a:pt x="39091" y="0"/>
                    <a:pt x="87313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0" name="Rektangel 76"/>
            <p:cNvSpPr/>
            <p:nvPr/>
          </p:nvSpPr>
          <p:spPr>
            <a:xfrm>
              <a:off x="1047600" y="1738080"/>
              <a:ext cx="24339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741" name="组合 16449"/>
            <p:cNvGrpSpPr/>
            <p:nvPr/>
          </p:nvGrpSpPr>
          <p:grpSpPr>
            <a:xfrm>
              <a:off x="1082520" y="2193840"/>
              <a:ext cx="403200" cy="403200"/>
              <a:chOff x="1082520" y="2193840"/>
              <a:chExt cx="403200" cy="403200"/>
            </a:xfrm>
          </p:grpSpPr>
          <p:sp>
            <p:nvSpPr>
              <p:cNvPr id="742" name="Ellipse 53"/>
              <p:cNvSpPr/>
              <p:nvPr/>
            </p:nvSpPr>
            <p:spPr>
              <a:xfrm>
                <a:off x="1082520" y="2193840"/>
                <a:ext cx="403200" cy="403200"/>
              </a:xfrm>
              <a:prstGeom prst="ellipse">
                <a:avLst/>
              </a:prstGeom>
              <a:solidFill>
                <a:srgbClr val="ffffff">
                  <a:alpha val="61000"/>
                </a:srgbClr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743" name="Tekstboks 54"/>
              <p:cNvSpPr/>
              <p:nvPr/>
            </p:nvSpPr>
            <p:spPr>
              <a:xfrm>
                <a:off x="1167840" y="21999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151616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744" name="Tekstboks 72"/>
            <p:cNvSpPr/>
            <p:nvPr/>
          </p:nvSpPr>
          <p:spPr>
            <a:xfrm>
              <a:off x="1560960" y="2206440"/>
              <a:ext cx="13831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74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FF39-D62A-43BD-A72B-12F2E8F1861E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747" name="组合 17410"/>
          <p:cNvGrpSpPr/>
          <p:nvPr/>
        </p:nvGrpSpPr>
        <p:grpSpPr>
          <a:xfrm>
            <a:off x="1886040" y="1320840"/>
            <a:ext cx="3022560" cy="3022560"/>
            <a:chOff x="1886040" y="1320840"/>
            <a:chExt cx="3022560" cy="3022560"/>
          </a:xfrm>
        </p:grpSpPr>
        <p:sp>
          <p:nvSpPr>
            <p:cNvPr id="748" name="Oval 5"/>
            <p:cNvSpPr/>
            <p:nvPr/>
          </p:nvSpPr>
          <p:spPr>
            <a:xfrm>
              <a:off x="1886040" y="1320840"/>
              <a:ext cx="3022560" cy="302256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49" name="Oval 6"/>
            <p:cNvSpPr/>
            <p:nvPr/>
          </p:nvSpPr>
          <p:spPr>
            <a:xfrm>
              <a:off x="2332800" y="1767600"/>
              <a:ext cx="2129040" cy="212904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0" name="Oval 7"/>
            <p:cNvSpPr/>
            <p:nvPr/>
          </p:nvSpPr>
          <p:spPr>
            <a:xfrm>
              <a:off x="2841480" y="2276280"/>
              <a:ext cx="1111320" cy="111132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1" name="Oval 8"/>
            <p:cNvSpPr/>
            <p:nvPr/>
          </p:nvSpPr>
          <p:spPr>
            <a:xfrm>
              <a:off x="3300840" y="2718720"/>
              <a:ext cx="201600" cy="201600"/>
            </a:xfrm>
            <a:prstGeom prst="ellipse">
              <a:avLst/>
            </a:prstGeom>
            <a:solidFill>
              <a:srgbClr val="ffffff"/>
            </a:solidFill>
            <a:ln w="27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52" name="组合 17415"/>
          <p:cNvGrpSpPr/>
          <p:nvPr/>
        </p:nvGrpSpPr>
        <p:grpSpPr>
          <a:xfrm>
            <a:off x="1096560" y="1987200"/>
            <a:ext cx="2319480" cy="1340640"/>
            <a:chOff x="1096560" y="1987200"/>
            <a:chExt cx="2319480" cy="1340640"/>
          </a:xfrm>
        </p:grpSpPr>
        <p:sp>
          <p:nvSpPr>
            <p:cNvPr id="753" name="Freeform 18"/>
            <p:cNvSpPr/>
            <p:nvPr/>
          </p:nvSpPr>
          <p:spPr>
            <a:xfrm flipH="1" rot="20722800">
              <a:off x="1172160" y="2046240"/>
              <a:ext cx="555120" cy="67464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4" name="Freeform 19"/>
            <p:cNvSpPr/>
            <p:nvPr/>
          </p:nvSpPr>
          <p:spPr>
            <a:xfrm flipH="1" rot="20722800">
              <a:off x="1149120" y="2567160"/>
              <a:ext cx="673560" cy="4867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5" name="Freeform 20"/>
            <p:cNvSpPr/>
            <p:nvPr/>
          </p:nvSpPr>
          <p:spPr>
            <a:xfrm flipH="1" rot="20722800">
              <a:off x="1302120" y="2233440"/>
              <a:ext cx="2039040" cy="85032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56" name="组合 17419"/>
          <p:cNvGrpSpPr/>
          <p:nvPr/>
        </p:nvGrpSpPr>
        <p:grpSpPr>
          <a:xfrm>
            <a:off x="1194840" y="4820760"/>
            <a:ext cx="1684440" cy="627840"/>
            <a:chOff x="1194840" y="4820760"/>
            <a:chExt cx="1684440" cy="627840"/>
          </a:xfrm>
        </p:grpSpPr>
        <p:sp>
          <p:nvSpPr>
            <p:cNvPr id="757" name="Freeform 18"/>
            <p:cNvSpPr/>
            <p:nvPr/>
          </p:nvSpPr>
          <p:spPr>
            <a:xfrm flipH="1" rot="21049800">
              <a:off x="1276560" y="4853160"/>
              <a:ext cx="416520" cy="30852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8" name="Freeform 19"/>
            <p:cNvSpPr/>
            <p:nvPr/>
          </p:nvSpPr>
          <p:spPr>
            <a:xfrm flipH="1" rot="21049800">
              <a:off x="1209240" y="5095440"/>
              <a:ext cx="505080" cy="22248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59" name="Freeform 20"/>
            <p:cNvSpPr/>
            <p:nvPr/>
          </p:nvSpPr>
          <p:spPr>
            <a:xfrm flipH="1" rot="21049800">
              <a:off x="1328400" y="4939920"/>
              <a:ext cx="1528920" cy="38916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0" name="组合 17423"/>
          <p:cNvGrpSpPr/>
          <p:nvPr/>
        </p:nvGrpSpPr>
        <p:grpSpPr>
          <a:xfrm>
            <a:off x="1166400" y="4910040"/>
            <a:ext cx="1992600" cy="742680"/>
            <a:chOff x="1166400" y="4910040"/>
            <a:chExt cx="1992600" cy="742680"/>
          </a:xfrm>
        </p:grpSpPr>
        <p:sp>
          <p:nvSpPr>
            <p:cNvPr id="761" name="Freeform 18"/>
            <p:cNvSpPr/>
            <p:nvPr/>
          </p:nvSpPr>
          <p:spPr>
            <a:xfrm flipH="1" rot="21049800">
              <a:off x="1263600" y="4947840"/>
              <a:ext cx="492480" cy="36540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2" name="Freeform 19"/>
            <p:cNvSpPr/>
            <p:nvPr/>
          </p:nvSpPr>
          <p:spPr>
            <a:xfrm flipH="1" rot="21049800">
              <a:off x="1183320" y="5234760"/>
              <a:ext cx="597240" cy="2635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3" name="Freeform 20"/>
            <p:cNvSpPr/>
            <p:nvPr/>
          </p:nvSpPr>
          <p:spPr>
            <a:xfrm flipH="1" rot="21049800">
              <a:off x="1324800" y="5051160"/>
              <a:ext cx="1808280" cy="46044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4" name="组合 17427"/>
          <p:cNvGrpSpPr/>
          <p:nvPr/>
        </p:nvGrpSpPr>
        <p:grpSpPr>
          <a:xfrm>
            <a:off x="1196280" y="4994280"/>
            <a:ext cx="1983600" cy="964800"/>
            <a:chOff x="1196280" y="4994280"/>
            <a:chExt cx="1983600" cy="964800"/>
          </a:xfrm>
        </p:grpSpPr>
        <p:sp>
          <p:nvSpPr>
            <p:cNvPr id="765" name="Freeform 18"/>
            <p:cNvSpPr/>
            <p:nvPr/>
          </p:nvSpPr>
          <p:spPr>
            <a:xfrm flipH="1" rot="20588400">
              <a:off x="1269360" y="5240880"/>
              <a:ext cx="492120" cy="365400"/>
            </a:xfrm>
            <a:custGeom>
              <a:avLst/>
              <a:gdLst/>
              <a:ahLst/>
              <a:rect l="l" t="t" r="r" b="b"/>
              <a:pathLst>
                <a:path w="310" h="230">
                  <a:moveTo>
                    <a:pt x="0" y="208"/>
                  </a:moveTo>
                  <a:lnTo>
                    <a:pt x="0" y="208"/>
                  </a:lnTo>
                  <a:lnTo>
                    <a:pt x="0" y="200"/>
                  </a:lnTo>
                  <a:lnTo>
                    <a:pt x="6" y="180"/>
                  </a:lnTo>
                  <a:lnTo>
                    <a:pt x="12" y="168"/>
                  </a:lnTo>
                  <a:lnTo>
                    <a:pt x="20" y="152"/>
                  </a:lnTo>
                  <a:lnTo>
                    <a:pt x="30" y="136"/>
                  </a:lnTo>
                  <a:lnTo>
                    <a:pt x="44" y="118"/>
                  </a:lnTo>
                  <a:lnTo>
                    <a:pt x="60" y="100"/>
                  </a:lnTo>
                  <a:lnTo>
                    <a:pt x="80" y="84"/>
                  </a:lnTo>
                  <a:lnTo>
                    <a:pt x="106" y="66"/>
                  </a:lnTo>
                  <a:lnTo>
                    <a:pt x="136" y="50"/>
                  </a:lnTo>
                  <a:lnTo>
                    <a:pt x="170" y="34"/>
                  </a:lnTo>
                  <a:lnTo>
                    <a:pt x="210" y="20"/>
                  </a:lnTo>
                  <a:lnTo>
                    <a:pt x="256" y="8"/>
                  </a:lnTo>
                  <a:lnTo>
                    <a:pt x="310" y="0"/>
                  </a:lnTo>
                  <a:lnTo>
                    <a:pt x="310" y="0"/>
                  </a:lnTo>
                  <a:lnTo>
                    <a:pt x="302" y="10"/>
                  </a:lnTo>
                  <a:lnTo>
                    <a:pt x="294" y="22"/>
                  </a:lnTo>
                  <a:lnTo>
                    <a:pt x="284" y="36"/>
                  </a:lnTo>
                  <a:lnTo>
                    <a:pt x="276" y="56"/>
                  </a:lnTo>
                  <a:lnTo>
                    <a:pt x="268" y="78"/>
                  </a:lnTo>
                  <a:lnTo>
                    <a:pt x="262" y="102"/>
                  </a:lnTo>
                  <a:lnTo>
                    <a:pt x="262" y="128"/>
                  </a:lnTo>
                  <a:lnTo>
                    <a:pt x="262" y="128"/>
                  </a:lnTo>
                  <a:lnTo>
                    <a:pt x="262" y="164"/>
                  </a:lnTo>
                  <a:lnTo>
                    <a:pt x="264" y="170"/>
                  </a:lnTo>
                  <a:lnTo>
                    <a:pt x="264" y="170"/>
                  </a:lnTo>
                  <a:lnTo>
                    <a:pt x="266" y="162"/>
                  </a:lnTo>
                  <a:lnTo>
                    <a:pt x="268" y="156"/>
                  </a:lnTo>
                  <a:lnTo>
                    <a:pt x="4" y="230"/>
                  </a:lnTo>
                  <a:lnTo>
                    <a:pt x="0" y="20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6" name="Freeform 19"/>
            <p:cNvSpPr/>
            <p:nvPr/>
          </p:nvSpPr>
          <p:spPr>
            <a:xfrm flipH="1" rot="20588400">
              <a:off x="1221120" y="5528880"/>
              <a:ext cx="596880" cy="263520"/>
            </a:xfrm>
            <a:custGeom>
              <a:avLst/>
              <a:gdLst/>
              <a:ahLst/>
              <a:rect l="l" t="t" r="r" b="b"/>
              <a:pathLst>
                <a:path w="376" h="166">
                  <a:moveTo>
                    <a:pt x="6" y="86"/>
                  </a:moveTo>
                  <a:lnTo>
                    <a:pt x="6" y="86"/>
                  </a:lnTo>
                  <a:lnTo>
                    <a:pt x="12" y="92"/>
                  </a:lnTo>
                  <a:lnTo>
                    <a:pt x="24" y="106"/>
                  </a:lnTo>
                  <a:lnTo>
                    <a:pt x="36" y="116"/>
                  </a:lnTo>
                  <a:lnTo>
                    <a:pt x="50" y="126"/>
                  </a:lnTo>
                  <a:lnTo>
                    <a:pt x="66" y="136"/>
                  </a:lnTo>
                  <a:lnTo>
                    <a:pt x="86" y="146"/>
                  </a:lnTo>
                  <a:lnTo>
                    <a:pt x="108" y="154"/>
                  </a:lnTo>
                  <a:lnTo>
                    <a:pt x="136" y="160"/>
                  </a:lnTo>
                  <a:lnTo>
                    <a:pt x="166" y="164"/>
                  </a:lnTo>
                  <a:lnTo>
                    <a:pt x="200" y="166"/>
                  </a:lnTo>
                  <a:lnTo>
                    <a:pt x="238" y="164"/>
                  </a:lnTo>
                  <a:lnTo>
                    <a:pt x="280" y="158"/>
                  </a:lnTo>
                  <a:lnTo>
                    <a:pt x="326" y="148"/>
                  </a:lnTo>
                  <a:lnTo>
                    <a:pt x="376" y="132"/>
                  </a:lnTo>
                  <a:lnTo>
                    <a:pt x="376" y="132"/>
                  </a:lnTo>
                  <a:lnTo>
                    <a:pt x="364" y="128"/>
                  </a:lnTo>
                  <a:lnTo>
                    <a:pt x="352" y="120"/>
                  </a:lnTo>
                  <a:lnTo>
                    <a:pt x="338" y="110"/>
                  </a:lnTo>
                  <a:lnTo>
                    <a:pt x="322" y="98"/>
                  </a:lnTo>
                  <a:lnTo>
                    <a:pt x="304" y="82"/>
                  </a:lnTo>
                  <a:lnTo>
                    <a:pt x="290" y="62"/>
                  </a:lnTo>
                  <a:lnTo>
                    <a:pt x="276" y="38"/>
                  </a:lnTo>
                  <a:lnTo>
                    <a:pt x="276" y="38"/>
                  </a:lnTo>
                  <a:lnTo>
                    <a:pt x="262" y="6"/>
                  </a:lnTo>
                  <a:lnTo>
                    <a:pt x="260" y="0"/>
                  </a:lnTo>
                  <a:lnTo>
                    <a:pt x="260" y="0"/>
                  </a:lnTo>
                  <a:lnTo>
                    <a:pt x="266" y="6"/>
                  </a:lnTo>
                  <a:lnTo>
                    <a:pt x="270" y="12"/>
                  </a:lnTo>
                  <a:lnTo>
                    <a:pt x="0" y="62"/>
                  </a:lnTo>
                  <a:lnTo>
                    <a:pt x="6" y="8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67" name="Freeform 20"/>
            <p:cNvSpPr/>
            <p:nvPr/>
          </p:nvSpPr>
          <p:spPr>
            <a:xfrm flipH="1" rot="20588400">
              <a:off x="1344960" y="5246280"/>
              <a:ext cx="1806840" cy="460440"/>
            </a:xfrm>
            <a:custGeom>
              <a:avLst/>
              <a:gdLst/>
              <a:ahLst/>
              <a:rect l="l" t="t" r="r" b="b"/>
              <a:pathLst>
                <a:path w="1138" h="290">
                  <a:moveTo>
                    <a:pt x="1118" y="0"/>
                  </a:moveTo>
                  <a:lnTo>
                    <a:pt x="1118" y="0"/>
                  </a:lnTo>
                  <a:lnTo>
                    <a:pt x="1062" y="18"/>
                  </a:lnTo>
                  <a:lnTo>
                    <a:pt x="996" y="36"/>
                  </a:lnTo>
                  <a:lnTo>
                    <a:pt x="922" y="54"/>
                  </a:lnTo>
                  <a:lnTo>
                    <a:pt x="846" y="72"/>
                  </a:lnTo>
                  <a:lnTo>
                    <a:pt x="846" y="72"/>
                  </a:lnTo>
                  <a:lnTo>
                    <a:pt x="698" y="100"/>
                  </a:lnTo>
                  <a:lnTo>
                    <a:pt x="568" y="124"/>
                  </a:lnTo>
                  <a:lnTo>
                    <a:pt x="440" y="146"/>
                  </a:lnTo>
                  <a:lnTo>
                    <a:pt x="174" y="216"/>
                  </a:lnTo>
                  <a:lnTo>
                    <a:pt x="180" y="236"/>
                  </a:lnTo>
                  <a:lnTo>
                    <a:pt x="180" y="236"/>
                  </a:lnTo>
                  <a:lnTo>
                    <a:pt x="144" y="242"/>
                  </a:lnTo>
                  <a:lnTo>
                    <a:pt x="110" y="250"/>
                  </a:lnTo>
                  <a:lnTo>
                    <a:pt x="78" y="260"/>
                  </a:lnTo>
                  <a:lnTo>
                    <a:pt x="52" y="268"/>
                  </a:lnTo>
                  <a:lnTo>
                    <a:pt x="14" y="284"/>
                  </a:lnTo>
                  <a:lnTo>
                    <a:pt x="0" y="290"/>
                  </a:lnTo>
                  <a:lnTo>
                    <a:pt x="0" y="290"/>
                  </a:lnTo>
                  <a:lnTo>
                    <a:pt x="60" y="288"/>
                  </a:lnTo>
                  <a:lnTo>
                    <a:pt x="112" y="284"/>
                  </a:lnTo>
                  <a:lnTo>
                    <a:pt x="156" y="276"/>
                  </a:lnTo>
                  <a:lnTo>
                    <a:pt x="188" y="270"/>
                  </a:lnTo>
                  <a:lnTo>
                    <a:pt x="190" y="282"/>
                  </a:lnTo>
                  <a:lnTo>
                    <a:pt x="462" y="220"/>
                  </a:lnTo>
                  <a:lnTo>
                    <a:pt x="462" y="220"/>
                  </a:lnTo>
                  <a:lnTo>
                    <a:pt x="504" y="206"/>
                  </a:lnTo>
                  <a:lnTo>
                    <a:pt x="552" y="192"/>
                  </a:lnTo>
                  <a:lnTo>
                    <a:pt x="656" y="164"/>
                  </a:lnTo>
                  <a:lnTo>
                    <a:pt x="768" y="136"/>
                  </a:lnTo>
                  <a:lnTo>
                    <a:pt x="878" y="112"/>
                  </a:lnTo>
                  <a:lnTo>
                    <a:pt x="1062" y="74"/>
                  </a:lnTo>
                  <a:lnTo>
                    <a:pt x="1138" y="60"/>
                  </a:lnTo>
                  <a:lnTo>
                    <a:pt x="1118" y="0"/>
                  </a:ln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68" name="组合 17431"/>
          <p:cNvGrpSpPr/>
          <p:nvPr/>
        </p:nvGrpSpPr>
        <p:grpSpPr>
          <a:xfrm>
            <a:off x="5715000" y="1773360"/>
            <a:ext cx="2819520" cy="2292120"/>
            <a:chOff x="5715000" y="1773360"/>
            <a:chExt cx="2819520" cy="2292120"/>
          </a:xfrm>
        </p:grpSpPr>
        <p:sp>
          <p:nvSpPr>
            <p:cNvPr id="769" name="Rektangel med enkelt afrundet hjørne 11"/>
            <p:cNvSpPr/>
            <p:nvPr/>
          </p:nvSpPr>
          <p:spPr>
            <a:xfrm flipH="1" rot="10800000">
              <a:off x="5715000" y="1893960"/>
              <a:ext cx="2818080" cy="2171520"/>
            </a:xfrm>
            <a:custGeom>
              <a:avLst/>
              <a:gdLst/>
              <a:ahLst/>
              <a:rect l="l" t="t" r="r" b="b"/>
              <a:pathLst>
                <a:path w="3902152" h="1705104">
                  <a:moveTo>
                    <a:pt x="0" y="0"/>
                  </a:moveTo>
                  <a:lnTo>
                    <a:pt x="3617962" y="0"/>
                  </a:lnTo>
                  <a:lnTo>
                    <a:pt x="3617961" y="0"/>
                  </a:lnTo>
                  <a:cubicBezTo>
                    <a:pt x="3774915" y="0"/>
                    <a:pt x="3902152" y="127236"/>
                    <a:pt x="3902152" y="284190"/>
                  </a:cubicBezTo>
                  <a:lnTo>
                    <a:pt x="3902152" y="1705104"/>
                  </a:lnTo>
                  <a:lnTo>
                    <a:pt x="0" y="1705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70" name="Rektangel 12"/>
            <p:cNvSpPr/>
            <p:nvPr/>
          </p:nvSpPr>
          <p:spPr>
            <a:xfrm>
              <a:off x="5715000" y="1773360"/>
              <a:ext cx="2819520" cy="1659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771" name="Text Box 52"/>
          <p:cNvSpPr/>
          <p:nvPr/>
        </p:nvSpPr>
        <p:spPr>
          <a:xfrm>
            <a:off x="5867280" y="2133720"/>
            <a:ext cx="2590920" cy="16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3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8EAF-3C72-4CDF-85E8-B71CD2D98DA4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4" name="文本框 8199"/>
          <p:cNvSpPr/>
          <p:nvPr/>
        </p:nvSpPr>
        <p:spPr>
          <a:xfrm>
            <a:off x="2921040" y="4927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777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443320" y="4818240"/>
            <a:ext cx="4109760" cy="1137960"/>
          </a:xfrm>
          <a:prstGeom prst="rect">
            <a:avLst/>
          </a:prstGeom>
          <a:ln w="0">
            <a:noFill/>
          </a:ln>
        </p:spPr>
      </p:pic>
      <p:grpSp>
        <p:nvGrpSpPr>
          <p:cNvPr id="778" name="组合 19460"/>
          <p:cNvGrpSpPr/>
          <p:nvPr/>
        </p:nvGrpSpPr>
        <p:grpSpPr>
          <a:xfrm>
            <a:off x="2776680" y="1838160"/>
            <a:ext cx="3471840" cy="3467160"/>
            <a:chOff x="2776680" y="1838160"/>
            <a:chExt cx="3471840" cy="3467160"/>
          </a:xfrm>
        </p:grpSpPr>
        <p:sp>
          <p:nvSpPr>
            <p:cNvPr id="779" name="Oval 6"/>
            <p:cNvSpPr/>
            <p:nvPr/>
          </p:nvSpPr>
          <p:spPr>
            <a:xfrm>
              <a:off x="2776680" y="1838160"/>
              <a:ext cx="3471840" cy="346716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0" name="Oval 8"/>
            <p:cNvSpPr/>
            <p:nvPr/>
          </p:nvSpPr>
          <p:spPr>
            <a:xfrm>
              <a:off x="2787840" y="1847520"/>
              <a:ext cx="3449520" cy="3448080"/>
            </a:xfrm>
            <a:prstGeom prst="ellipse">
              <a:avLst/>
            </a:prstGeom>
            <a:solidFill>
              <a:srgbClr val="9f9f9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1" name="Oval 9"/>
            <p:cNvSpPr/>
            <p:nvPr/>
          </p:nvSpPr>
          <p:spPr>
            <a:xfrm>
              <a:off x="3143520" y="2203200"/>
              <a:ext cx="2739960" cy="2738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2" name="Oval 10"/>
            <p:cNvSpPr/>
            <p:nvPr/>
          </p:nvSpPr>
          <p:spPr>
            <a:xfrm>
              <a:off x="3486240" y="2544480"/>
              <a:ext cx="2052720" cy="2054520"/>
            </a:xfrm>
            <a:prstGeom prst="ellipse">
              <a:avLst/>
            </a:prstGeom>
            <a:solidFill>
              <a:srgbClr val="333333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3" name="Oval 11"/>
            <p:cNvSpPr/>
            <p:nvPr/>
          </p:nvSpPr>
          <p:spPr>
            <a:xfrm>
              <a:off x="3810240" y="2869920"/>
              <a:ext cx="1407960" cy="14036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4" name="Oval 12"/>
            <p:cNvSpPr/>
            <p:nvPr/>
          </p:nvSpPr>
          <p:spPr>
            <a:xfrm flipV="1">
              <a:off x="4091040" y="3148560"/>
              <a:ext cx="846360" cy="846360"/>
            </a:xfrm>
            <a:prstGeom prst="ellipse">
              <a:avLst/>
            </a:prstGeom>
            <a:solidFill>
              <a:srgbClr val="c0504d"/>
            </a:solidFill>
            <a:ln w="9360">
              <a:solidFill>
                <a:srgbClr val="e2e2e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5" name="Text Box 67"/>
            <p:cNvSpPr/>
            <p:nvPr/>
          </p:nvSpPr>
          <p:spPr>
            <a:xfrm>
              <a:off x="4395960" y="19015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6" name="Text Box 67"/>
            <p:cNvSpPr/>
            <p:nvPr/>
          </p:nvSpPr>
          <p:spPr>
            <a:xfrm>
              <a:off x="4395960" y="223020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7" name="Text Box 67"/>
            <p:cNvSpPr/>
            <p:nvPr/>
          </p:nvSpPr>
          <p:spPr>
            <a:xfrm>
              <a:off x="4395960" y="2589120"/>
              <a:ext cx="264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88" name="Text Box 67"/>
            <p:cNvSpPr/>
            <p:nvPr/>
          </p:nvSpPr>
          <p:spPr>
            <a:xfrm>
              <a:off x="4395960" y="2896920"/>
              <a:ext cx="264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89" name="组合 19471"/>
          <p:cNvGrpSpPr/>
          <p:nvPr/>
        </p:nvGrpSpPr>
        <p:grpSpPr>
          <a:xfrm>
            <a:off x="3753000" y="2957400"/>
            <a:ext cx="609480" cy="609480"/>
            <a:chOff x="3753000" y="2957400"/>
            <a:chExt cx="609480" cy="609480"/>
          </a:xfrm>
        </p:grpSpPr>
        <p:sp>
          <p:nvSpPr>
            <p:cNvPr id="790" name="Oval 113"/>
            <p:cNvSpPr/>
            <p:nvPr/>
          </p:nvSpPr>
          <p:spPr>
            <a:xfrm>
              <a:off x="3848400" y="30528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1" name="Oval 115"/>
            <p:cNvSpPr/>
            <p:nvPr/>
          </p:nvSpPr>
          <p:spPr>
            <a:xfrm>
              <a:off x="3969000" y="317340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2" name="Oval 116"/>
            <p:cNvSpPr/>
            <p:nvPr/>
          </p:nvSpPr>
          <p:spPr>
            <a:xfrm>
              <a:off x="3753000" y="29574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93" name="组合 19475"/>
          <p:cNvGrpSpPr/>
          <p:nvPr/>
        </p:nvGrpSpPr>
        <p:grpSpPr>
          <a:xfrm>
            <a:off x="4879800" y="2747880"/>
            <a:ext cx="609480" cy="609480"/>
            <a:chOff x="4879800" y="2747880"/>
            <a:chExt cx="609480" cy="609480"/>
          </a:xfrm>
        </p:grpSpPr>
        <p:sp>
          <p:nvSpPr>
            <p:cNvPr id="794" name="Oval 136"/>
            <p:cNvSpPr/>
            <p:nvPr/>
          </p:nvSpPr>
          <p:spPr>
            <a:xfrm>
              <a:off x="4975200" y="284328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5" name="Oval 137"/>
            <p:cNvSpPr/>
            <p:nvPr/>
          </p:nvSpPr>
          <p:spPr>
            <a:xfrm>
              <a:off x="5095800" y="29638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6" name="Oval 138"/>
            <p:cNvSpPr/>
            <p:nvPr/>
          </p:nvSpPr>
          <p:spPr>
            <a:xfrm>
              <a:off x="4879800" y="274788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797" name="组合 19479"/>
          <p:cNvGrpSpPr/>
          <p:nvPr/>
        </p:nvGrpSpPr>
        <p:grpSpPr>
          <a:xfrm>
            <a:off x="4260960" y="3441600"/>
            <a:ext cx="609480" cy="609480"/>
            <a:chOff x="4260960" y="3441600"/>
            <a:chExt cx="609480" cy="609480"/>
          </a:xfrm>
        </p:grpSpPr>
        <p:sp>
          <p:nvSpPr>
            <p:cNvPr id="798" name="Oval 140"/>
            <p:cNvSpPr/>
            <p:nvPr/>
          </p:nvSpPr>
          <p:spPr>
            <a:xfrm>
              <a:off x="4356360" y="3537000"/>
              <a:ext cx="419040" cy="419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799" name="Oval 141"/>
            <p:cNvSpPr/>
            <p:nvPr/>
          </p:nvSpPr>
          <p:spPr>
            <a:xfrm>
              <a:off x="4476960" y="365760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00" name="Oval 142"/>
            <p:cNvSpPr/>
            <p:nvPr/>
          </p:nvSpPr>
          <p:spPr>
            <a:xfrm>
              <a:off x="4260960" y="3441600"/>
              <a:ext cx="60948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801" name="Rectangle 7"/>
          <p:cNvSpPr/>
          <p:nvPr/>
        </p:nvSpPr>
        <p:spPr>
          <a:xfrm>
            <a:off x="324000" y="1797120"/>
            <a:ext cx="2301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Fast and effective creation of your presentation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7280280" y="1515960"/>
            <a:ext cx="15588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Appealing visualization of your contents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3" name="Rectangle 7"/>
          <p:cNvSpPr/>
          <p:nvPr/>
        </p:nvSpPr>
        <p:spPr>
          <a:xfrm>
            <a:off x="6299280" y="4664160"/>
            <a:ext cx="134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777777"/>
                </a:solidFill>
                <a:latin typeface="Arial"/>
                <a:ea typeface="微软雅黑"/>
              </a:rPr>
              <a:t>Improved performing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04" name="组合 19486"/>
          <p:cNvGrpSpPr/>
          <p:nvPr/>
        </p:nvGrpSpPr>
        <p:grpSpPr>
          <a:xfrm>
            <a:off x="2106720" y="2133360"/>
            <a:ext cx="1953720" cy="1729080"/>
            <a:chOff x="2106720" y="2133360"/>
            <a:chExt cx="1953720" cy="1729080"/>
          </a:xfrm>
        </p:grpSpPr>
        <p:grpSp>
          <p:nvGrpSpPr>
            <p:cNvPr id="805" name="组合 19487"/>
            <p:cNvGrpSpPr/>
            <p:nvPr/>
          </p:nvGrpSpPr>
          <p:grpSpPr>
            <a:xfrm>
              <a:off x="2106720" y="2133360"/>
              <a:ext cx="1864440" cy="1729080"/>
              <a:chOff x="2106720" y="2133360"/>
              <a:chExt cx="1864440" cy="1729080"/>
            </a:xfrm>
          </p:grpSpPr>
          <p:sp>
            <p:nvSpPr>
              <p:cNvPr id="806" name="Freeform 205"/>
              <p:cNvSpPr/>
              <p:nvPr/>
            </p:nvSpPr>
            <p:spPr>
              <a:xfrm rot="19522800">
                <a:off x="3013920" y="2694240"/>
                <a:ext cx="779040" cy="86940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7" name="Freeform 206"/>
              <p:cNvSpPr/>
              <p:nvPr/>
            </p:nvSpPr>
            <p:spPr>
              <a:xfrm rot="19522800">
                <a:off x="2218680" y="2894400"/>
                <a:ext cx="1069200" cy="72828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8" name="Freeform 207"/>
              <p:cNvSpPr/>
              <p:nvPr/>
            </p:nvSpPr>
            <p:spPr>
              <a:xfrm rot="19522800">
                <a:off x="2413800" y="2266200"/>
                <a:ext cx="816840" cy="111492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09" name="Freeform 208"/>
              <p:cNvSpPr/>
              <p:nvPr/>
            </p:nvSpPr>
            <p:spPr>
              <a:xfrm rot="19522800">
                <a:off x="2652480" y="2757960"/>
                <a:ext cx="640440" cy="88596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0" name="Freeform 209"/>
              <p:cNvSpPr/>
              <p:nvPr/>
            </p:nvSpPr>
            <p:spPr>
              <a:xfrm rot="19522800">
                <a:off x="2528640" y="2636280"/>
                <a:ext cx="926280" cy="67356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11" name="组合 19493"/>
            <p:cNvGrpSpPr/>
            <p:nvPr/>
          </p:nvGrpSpPr>
          <p:grpSpPr>
            <a:xfrm>
              <a:off x="3672000" y="3090240"/>
              <a:ext cx="388440" cy="304200"/>
              <a:chOff x="3672000" y="3090240"/>
              <a:chExt cx="388440" cy="304200"/>
            </a:xfrm>
          </p:grpSpPr>
          <p:sp>
            <p:nvSpPr>
              <p:cNvPr id="812" name="Freeform 211"/>
              <p:cNvSpPr/>
              <p:nvPr/>
            </p:nvSpPr>
            <p:spPr>
              <a:xfrm rot="19522800">
                <a:off x="3905280" y="3192480"/>
                <a:ext cx="129960" cy="1278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3" name="Freeform 212"/>
              <p:cNvSpPr/>
              <p:nvPr/>
            </p:nvSpPr>
            <p:spPr>
              <a:xfrm rot="19522800">
                <a:off x="3712680" y="3134880"/>
                <a:ext cx="224640" cy="21420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14" name="组合 19496"/>
            <p:cNvGrpSpPr/>
            <p:nvPr/>
          </p:nvGrpSpPr>
          <p:grpSpPr>
            <a:xfrm>
              <a:off x="3688200" y="3145680"/>
              <a:ext cx="268560" cy="167040"/>
              <a:chOff x="3688200" y="3145680"/>
              <a:chExt cx="268560" cy="167040"/>
            </a:xfrm>
          </p:grpSpPr>
          <p:sp>
            <p:nvSpPr>
              <p:cNvPr id="815" name="Freeform 214"/>
              <p:cNvSpPr/>
              <p:nvPr/>
            </p:nvSpPr>
            <p:spPr>
              <a:xfrm rot="19522800">
                <a:off x="3732480" y="3180960"/>
                <a:ext cx="127800" cy="10440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6" name="Freeform 215"/>
              <p:cNvSpPr/>
              <p:nvPr/>
            </p:nvSpPr>
            <p:spPr>
              <a:xfrm rot="19522800">
                <a:off x="3707280" y="3173760"/>
                <a:ext cx="133560" cy="1098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7" name="Freeform 216"/>
              <p:cNvSpPr/>
              <p:nvPr/>
            </p:nvSpPr>
            <p:spPr>
              <a:xfrm rot="19522800">
                <a:off x="3755160" y="3187080"/>
                <a:ext cx="123480" cy="9900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8" name="Freeform 217"/>
              <p:cNvSpPr/>
              <p:nvPr/>
            </p:nvSpPr>
            <p:spPr>
              <a:xfrm rot="19522800">
                <a:off x="3821760" y="3205440"/>
                <a:ext cx="104400" cy="8352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19" name="Freeform 218"/>
              <p:cNvSpPr/>
              <p:nvPr/>
            </p:nvSpPr>
            <p:spPr>
              <a:xfrm rot="19522800">
                <a:off x="3803040" y="3200040"/>
                <a:ext cx="108000" cy="892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0" name="Freeform 219"/>
              <p:cNvSpPr/>
              <p:nvPr/>
            </p:nvSpPr>
            <p:spPr>
              <a:xfrm rot="19522800">
                <a:off x="3841920" y="3209400"/>
                <a:ext cx="100080" cy="8172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组合 19503"/>
          <p:cNvGrpSpPr/>
          <p:nvPr/>
        </p:nvGrpSpPr>
        <p:grpSpPr>
          <a:xfrm>
            <a:off x="5178240" y="1873440"/>
            <a:ext cx="1999800" cy="1701720"/>
            <a:chOff x="5178240" y="1873440"/>
            <a:chExt cx="1999800" cy="1701720"/>
          </a:xfrm>
        </p:grpSpPr>
        <p:grpSp>
          <p:nvGrpSpPr>
            <p:cNvPr id="822" name="组合 19504"/>
            <p:cNvGrpSpPr/>
            <p:nvPr/>
          </p:nvGrpSpPr>
          <p:grpSpPr>
            <a:xfrm>
              <a:off x="5263200" y="1873440"/>
              <a:ext cx="1914840" cy="1701720"/>
              <a:chOff x="5263200" y="1873440"/>
              <a:chExt cx="1914840" cy="1701720"/>
            </a:xfrm>
          </p:grpSpPr>
          <p:sp>
            <p:nvSpPr>
              <p:cNvPr id="823" name="Freeform 239"/>
              <p:cNvSpPr/>
              <p:nvPr/>
            </p:nvSpPr>
            <p:spPr>
              <a:xfrm rot="7222800">
                <a:off x="5446080" y="2473920"/>
                <a:ext cx="778320" cy="86976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00060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4" name="Freeform 240"/>
              <p:cNvSpPr/>
              <p:nvPr/>
            </p:nvSpPr>
            <p:spPr>
              <a:xfrm rot="7222800">
                <a:off x="5836680" y="2154240"/>
                <a:ext cx="1068480" cy="72864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69a2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5" name="Freeform 241"/>
              <p:cNvSpPr/>
              <p:nvPr/>
            </p:nvSpPr>
            <p:spPr>
              <a:xfrm rot="7222800">
                <a:off x="6082560" y="2383560"/>
                <a:ext cx="816480" cy="111456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8cb8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6" name="Freeform 242"/>
              <p:cNvSpPr/>
              <p:nvPr/>
            </p:nvSpPr>
            <p:spPr>
              <a:xfrm rot="7222800">
                <a:off x="5874840" y="2216160"/>
                <a:ext cx="638640" cy="88740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61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27" name="Freeform 243"/>
              <p:cNvSpPr/>
              <p:nvPr/>
            </p:nvSpPr>
            <p:spPr>
              <a:xfrm rot="7222800">
                <a:off x="5811840" y="2536560"/>
                <a:ext cx="924120" cy="67464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28" name="组合 19510"/>
            <p:cNvGrpSpPr/>
            <p:nvPr/>
          </p:nvGrpSpPr>
          <p:grpSpPr>
            <a:xfrm>
              <a:off x="5178240" y="2832840"/>
              <a:ext cx="375120" cy="303480"/>
              <a:chOff x="5178240" y="2832840"/>
              <a:chExt cx="375120" cy="303480"/>
            </a:xfrm>
          </p:grpSpPr>
          <p:sp>
            <p:nvSpPr>
              <p:cNvPr id="829" name="Freeform 245"/>
              <p:cNvSpPr/>
              <p:nvPr/>
            </p:nvSpPr>
            <p:spPr>
              <a:xfrm rot="7222800">
                <a:off x="5201640" y="2968560"/>
                <a:ext cx="129960" cy="1296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744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0" name="Freeform 246"/>
              <p:cNvSpPr/>
              <p:nvPr/>
            </p:nvSpPr>
            <p:spPr>
              <a:xfrm rot="7222800">
                <a:off x="5290200" y="2876400"/>
                <a:ext cx="225360" cy="21600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31" name="组合 19513"/>
            <p:cNvGrpSpPr/>
            <p:nvPr/>
          </p:nvGrpSpPr>
          <p:grpSpPr>
            <a:xfrm>
              <a:off x="5281200" y="2889000"/>
              <a:ext cx="254880" cy="178920"/>
              <a:chOff x="5281200" y="2889000"/>
              <a:chExt cx="254880" cy="178920"/>
            </a:xfrm>
          </p:grpSpPr>
          <p:sp>
            <p:nvSpPr>
              <p:cNvPr id="832" name="Freeform 248"/>
              <p:cNvSpPr/>
              <p:nvPr/>
            </p:nvSpPr>
            <p:spPr>
              <a:xfrm rot="7222800">
                <a:off x="5374440" y="2930040"/>
                <a:ext cx="124560" cy="10512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3" name="Freeform 249"/>
              <p:cNvSpPr/>
              <p:nvPr/>
            </p:nvSpPr>
            <p:spPr>
              <a:xfrm rot="7222800">
                <a:off x="5390280" y="2917800"/>
                <a:ext cx="130320" cy="11052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4" name="Freeform 250"/>
              <p:cNvSpPr/>
              <p:nvPr/>
            </p:nvSpPr>
            <p:spPr>
              <a:xfrm rot="7222800">
                <a:off x="5351760" y="2935440"/>
                <a:ext cx="119880" cy="986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5" name="Freeform 251"/>
              <p:cNvSpPr/>
              <p:nvPr/>
            </p:nvSpPr>
            <p:spPr>
              <a:xfrm rot="7222800">
                <a:off x="5309280" y="2961000"/>
                <a:ext cx="102600" cy="8280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6" name="Freeform 252"/>
              <p:cNvSpPr/>
              <p:nvPr/>
            </p:nvSpPr>
            <p:spPr>
              <a:xfrm rot="7222800">
                <a:off x="5323320" y="2952000"/>
                <a:ext cx="105840" cy="892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37" name="Freeform 253"/>
              <p:cNvSpPr/>
              <p:nvPr/>
            </p:nvSpPr>
            <p:spPr>
              <a:xfrm rot="7222800">
                <a:off x="5292720" y="2962080"/>
                <a:ext cx="97920" cy="828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001c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838" name="组合 19520"/>
          <p:cNvGrpSpPr/>
          <p:nvPr/>
        </p:nvGrpSpPr>
        <p:grpSpPr>
          <a:xfrm>
            <a:off x="4561560" y="3744000"/>
            <a:ext cx="1553040" cy="1597320"/>
            <a:chOff x="4561560" y="3744000"/>
            <a:chExt cx="1553040" cy="1597320"/>
          </a:xfrm>
        </p:grpSpPr>
        <p:grpSp>
          <p:nvGrpSpPr>
            <p:cNvPr id="839" name="组合 19521"/>
            <p:cNvGrpSpPr/>
            <p:nvPr/>
          </p:nvGrpSpPr>
          <p:grpSpPr>
            <a:xfrm>
              <a:off x="4620240" y="3796560"/>
              <a:ext cx="1494360" cy="1544760"/>
              <a:chOff x="4620240" y="3796560"/>
              <a:chExt cx="1494360" cy="1544760"/>
            </a:xfrm>
          </p:grpSpPr>
          <p:sp>
            <p:nvSpPr>
              <p:cNvPr id="840" name="Freeform 277"/>
              <p:cNvSpPr/>
              <p:nvPr/>
            </p:nvSpPr>
            <p:spPr>
              <a:xfrm rot="10843800">
                <a:off x="4625640" y="3801240"/>
                <a:ext cx="755640" cy="844200"/>
              </a:xfrm>
              <a:custGeom>
                <a:avLst/>
                <a:gdLst/>
                <a:ahLst/>
                <a:rect l="l" t="t" r="r" b="b"/>
                <a:pathLst>
                  <a:path w="365" h="456">
                    <a:moveTo>
                      <a:pt x="306" y="321"/>
                    </a:moveTo>
                    <a:cubicBezTo>
                      <a:pt x="210" y="212"/>
                      <a:pt x="210" y="212"/>
                      <a:pt x="210" y="212"/>
                    </a:cubicBezTo>
                    <a:cubicBezTo>
                      <a:pt x="23" y="42"/>
                      <a:pt x="23" y="42"/>
                      <a:pt x="23" y="42"/>
                    </a:cubicBezTo>
                    <a:cubicBezTo>
                      <a:pt x="23" y="42"/>
                      <a:pt x="0" y="0"/>
                      <a:pt x="23" y="86"/>
                    </a:cubicBezTo>
                    <a:cubicBezTo>
                      <a:pt x="145" y="276"/>
                      <a:pt x="145" y="276"/>
                      <a:pt x="145" y="276"/>
                    </a:cubicBezTo>
                    <a:cubicBezTo>
                      <a:pt x="238" y="382"/>
                      <a:pt x="238" y="382"/>
                      <a:pt x="238" y="382"/>
                    </a:cubicBezTo>
                    <a:cubicBezTo>
                      <a:pt x="326" y="451"/>
                      <a:pt x="326" y="451"/>
                      <a:pt x="326" y="451"/>
                    </a:cubicBezTo>
                    <a:cubicBezTo>
                      <a:pt x="326" y="451"/>
                      <a:pt x="364" y="456"/>
                      <a:pt x="365" y="412"/>
                    </a:cubicBezTo>
                    <a:lnTo>
                      <a:pt x="306" y="321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1" name="Freeform 278"/>
              <p:cNvSpPr/>
              <p:nvPr/>
            </p:nvSpPr>
            <p:spPr>
              <a:xfrm rot="10843800">
                <a:off x="5071680" y="4132800"/>
                <a:ext cx="1038240" cy="707400"/>
              </a:xfrm>
              <a:custGeom>
                <a:avLst/>
                <a:gdLst/>
                <a:ahLst/>
                <a:rect l="l" t="t" r="r" b="b"/>
                <a:pathLst>
                  <a:path w="501" h="383">
                    <a:moveTo>
                      <a:pt x="201" y="0"/>
                    </a:moveTo>
                    <a:cubicBezTo>
                      <a:pt x="201" y="0"/>
                      <a:pt x="36" y="6"/>
                      <a:pt x="27" y="50"/>
                    </a:cubicBezTo>
                    <a:cubicBezTo>
                      <a:pt x="0" y="179"/>
                      <a:pt x="431" y="383"/>
                      <a:pt x="431" y="383"/>
                    </a:cubicBezTo>
                    <a:cubicBezTo>
                      <a:pt x="501" y="317"/>
                      <a:pt x="501" y="317"/>
                      <a:pt x="501" y="317"/>
                    </a:cubicBezTo>
                    <a:lnTo>
                      <a:pt x="201" y="0"/>
                    </a:ln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2" name="Freeform 279"/>
              <p:cNvSpPr/>
              <p:nvPr/>
            </p:nvSpPr>
            <p:spPr>
              <a:xfrm rot="10843800">
                <a:off x="4896000" y="4254120"/>
                <a:ext cx="792000" cy="1082160"/>
              </a:xfrm>
              <a:custGeom>
                <a:avLst/>
                <a:gdLst/>
                <a:ahLst/>
                <a:rect l="l" t="t" r="r" b="b"/>
                <a:pathLst>
                  <a:path w="383" h="586">
                    <a:moveTo>
                      <a:pt x="126" y="5"/>
                    </a:moveTo>
                    <a:cubicBezTo>
                      <a:pt x="53" y="8"/>
                      <a:pt x="0" y="269"/>
                      <a:pt x="0" y="269"/>
                    </a:cubicBezTo>
                    <a:cubicBezTo>
                      <a:pt x="300" y="586"/>
                      <a:pt x="300" y="586"/>
                      <a:pt x="300" y="586"/>
                    </a:cubicBezTo>
                    <a:cubicBezTo>
                      <a:pt x="383" y="442"/>
                      <a:pt x="383" y="442"/>
                      <a:pt x="383" y="442"/>
                    </a:cubicBezTo>
                    <a:cubicBezTo>
                      <a:pt x="383" y="442"/>
                      <a:pt x="252" y="0"/>
                      <a:pt x="126" y="5"/>
                    </a:cubicBezTo>
                    <a:close/>
                  </a:path>
                </a:pathLst>
              </a:cu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3" name="Freeform 280"/>
              <p:cNvSpPr/>
              <p:nvPr/>
            </p:nvSpPr>
            <p:spPr>
              <a:xfrm rot="10843800">
                <a:off x="5075280" y="3979080"/>
                <a:ext cx="620640" cy="860040"/>
              </a:xfrm>
              <a:custGeom>
                <a:avLst/>
                <a:gdLst/>
                <a:ahLst/>
                <a:rect l="l" t="t" r="r" b="b"/>
                <a:pathLst>
                  <a:path w="300" h="466">
                    <a:moveTo>
                      <a:pt x="0" y="0"/>
                    </a:moveTo>
                    <a:cubicBezTo>
                      <a:pt x="0" y="0"/>
                      <a:pt x="5" y="219"/>
                      <a:pt x="40" y="280"/>
                    </a:cubicBezTo>
                    <a:cubicBezTo>
                      <a:pt x="77" y="344"/>
                      <a:pt x="269" y="466"/>
                      <a:pt x="269" y="466"/>
                    </a:cubicBezTo>
                    <a:cubicBezTo>
                      <a:pt x="300" y="317"/>
                      <a:pt x="300" y="317"/>
                      <a:pt x="300" y="317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4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4" name="Freeform 281"/>
              <p:cNvSpPr/>
              <p:nvPr/>
            </p:nvSpPr>
            <p:spPr>
              <a:xfrm rot="10843800">
                <a:off x="4793760" y="4250880"/>
                <a:ext cx="898560" cy="655200"/>
              </a:xfrm>
              <a:custGeom>
                <a:avLst/>
                <a:gdLst/>
                <a:ahLst/>
                <a:rect l="l" t="t" r="r" b="b"/>
                <a:pathLst>
                  <a:path w="435" h="354">
                    <a:moveTo>
                      <a:pt x="0" y="37"/>
                    </a:moveTo>
                    <a:cubicBezTo>
                      <a:pt x="0" y="37"/>
                      <a:pt x="219" y="0"/>
                      <a:pt x="279" y="35"/>
                    </a:cubicBezTo>
                    <a:cubicBezTo>
                      <a:pt x="346" y="73"/>
                      <a:pt x="435" y="300"/>
                      <a:pt x="435" y="300"/>
                    </a:cubicBezTo>
                    <a:cubicBezTo>
                      <a:pt x="300" y="354"/>
                      <a:pt x="300" y="354"/>
                      <a:pt x="300" y="354"/>
                    </a:cubicBez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6d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45" name="组合 19527"/>
            <p:cNvGrpSpPr/>
            <p:nvPr/>
          </p:nvGrpSpPr>
          <p:grpSpPr>
            <a:xfrm>
              <a:off x="4561560" y="3744000"/>
              <a:ext cx="281520" cy="262080"/>
              <a:chOff x="4561560" y="3744000"/>
              <a:chExt cx="281520" cy="262080"/>
            </a:xfrm>
          </p:grpSpPr>
          <p:sp>
            <p:nvSpPr>
              <p:cNvPr id="846" name="Freeform 283"/>
              <p:cNvSpPr/>
              <p:nvPr/>
            </p:nvSpPr>
            <p:spPr>
              <a:xfrm rot="10843800">
                <a:off x="4562280" y="3744360"/>
                <a:ext cx="127080" cy="12492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61" y="68"/>
                    </a:moveTo>
                    <a:cubicBezTo>
                      <a:pt x="3" y="16"/>
                      <a:pt x="3" y="16"/>
                      <a:pt x="3" y="16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3"/>
                      <a:pt x="4" y="4"/>
                      <a:pt x="8" y="0"/>
                    </a:cubicBezTo>
                    <a:cubicBezTo>
                      <a:pt x="10" y="3"/>
                      <a:pt x="10" y="3"/>
                      <a:pt x="10" y="3"/>
                    </a:cubicBezTo>
                    <a:cubicBezTo>
                      <a:pt x="61" y="67"/>
                      <a:pt x="61" y="67"/>
                      <a:pt x="61" y="67"/>
                    </a:cubicBezTo>
                    <a:lnTo>
                      <a:pt x="61" y="68"/>
                    </a:lnTo>
                    <a:close/>
                  </a:path>
                </a:pathLst>
              </a:custGeom>
              <a:solidFill>
                <a:srgbClr val="65656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47" name="Freeform 284"/>
              <p:cNvSpPr/>
              <p:nvPr/>
            </p:nvSpPr>
            <p:spPr>
              <a:xfrm rot="10843800">
                <a:off x="4624200" y="3797280"/>
                <a:ext cx="217440" cy="207360"/>
              </a:xfrm>
              <a:custGeom>
                <a:avLst/>
                <a:gdLst/>
                <a:ahLst/>
                <a:rect l="l" t="t" r="r" b="b"/>
                <a:pathLst>
                  <a:path w="106" h="113">
                    <a:moveTo>
                      <a:pt x="60" y="0"/>
                    </a:moveTo>
                    <a:cubicBezTo>
                      <a:pt x="60" y="0"/>
                      <a:pt x="62" y="20"/>
                      <a:pt x="41" y="41"/>
                    </a:cubicBezTo>
                    <a:cubicBezTo>
                      <a:pt x="17" y="63"/>
                      <a:pt x="0" y="56"/>
                      <a:pt x="0" y="56"/>
                    </a:cubicBezTo>
                    <a:cubicBezTo>
                      <a:pt x="64" y="106"/>
                      <a:pt x="64" y="106"/>
                      <a:pt x="64" y="106"/>
                    </a:cubicBezTo>
                    <a:cubicBezTo>
                      <a:pt x="64" y="106"/>
                      <a:pt x="106" y="113"/>
                      <a:pt x="103" y="67"/>
                    </a:cubicBez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48" name="组合 19530"/>
            <p:cNvGrpSpPr/>
            <p:nvPr/>
          </p:nvGrpSpPr>
          <p:grpSpPr>
            <a:xfrm>
              <a:off x="4633200" y="3815640"/>
              <a:ext cx="198360" cy="175320"/>
              <a:chOff x="4633200" y="3815640"/>
              <a:chExt cx="198360" cy="175320"/>
            </a:xfrm>
          </p:grpSpPr>
          <p:sp>
            <p:nvSpPr>
              <p:cNvPr id="849" name="Freeform 286"/>
              <p:cNvSpPr/>
              <p:nvPr/>
            </p:nvSpPr>
            <p:spPr>
              <a:xfrm rot="10843800">
                <a:off x="4687560" y="3871080"/>
                <a:ext cx="123840" cy="100080"/>
              </a:xfrm>
              <a:custGeom>
                <a:avLst/>
                <a:gdLst/>
                <a:ahLst/>
                <a:rect l="l" t="t" r="r" b="b"/>
                <a:pathLst>
                  <a:path w="60" h="55">
                    <a:moveTo>
                      <a:pt x="57" y="0"/>
                    </a:moveTo>
                    <a:cubicBezTo>
                      <a:pt x="58" y="15"/>
                      <a:pt x="53" y="31"/>
                      <a:pt x="41" y="41"/>
                    </a:cubicBezTo>
                    <a:cubicBezTo>
                      <a:pt x="30" y="51"/>
                      <a:pt x="14" y="53"/>
                      <a:pt x="0" y="50"/>
                    </a:cubicBezTo>
                    <a:cubicBezTo>
                      <a:pt x="14" y="55"/>
                      <a:pt x="31" y="53"/>
                      <a:pt x="43" y="42"/>
                    </a:cubicBezTo>
                    <a:cubicBezTo>
                      <a:pt x="55" y="32"/>
                      <a:pt x="60" y="16"/>
                      <a:pt x="5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0" name="Freeform 287"/>
              <p:cNvSpPr/>
              <p:nvPr/>
            </p:nvSpPr>
            <p:spPr>
              <a:xfrm rot="10843800">
                <a:off x="4700160" y="388368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63" h="58">
                    <a:moveTo>
                      <a:pt x="60" y="0"/>
                    </a:moveTo>
                    <a:cubicBezTo>
                      <a:pt x="61" y="16"/>
                      <a:pt x="56" y="33"/>
                      <a:pt x="43" y="43"/>
                    </a:cubicBezTo>
                    <a:cubicBezTo>
                      <a:pt x="31" y="54"/>
                      <a:pt x="15" y="57"/>
                      <a:pt x="0" y="53"/>
                    </a:cubicBezTo>
                    <a:cubicBezTo>
                      <a:pt x="15" y="58"/>
                      <a:pt x="32" y="55"/>
                      <a:pt x="45" y="45"/>
                    </a:cubicBezTo>
                    <a:cubicBezTo>
                      <a:pt x="58" y="34"/>
                      <a:pt x="63" y="17"/>
                      <a:pt x="60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1" name="Freeform 288"/>
              <p:cNvSpPr/>
              <p:nvPr/>
            </p:nvSpPr>
            <p:spPr>
              <a:xfrm rot="10843800">
                <a:off x="4674600" y="3861720"/>
                <a:ext cx="120600" cy="95040"/>
              </a:xfrm>
              <a:custGeom>
                <a:avLst/>
                <a:gdLst/>
                <a:ahLst/>
                <a:rect l="l" t="t" r="r" b="b"/>
                <a:pathLst>
                  <a:path w="58" h="52">
                    <a:moveTo>
                      <a:pt x="55" y="0"/>
                    </a:moveTo>
                    <a:cubicBezTo>
                      <a:pt x="57" y="15"/>
                      <a:pt x="52" y="29"/>
                      <a:pt x="40" y="39"/>
                    </a:cubicBezTo>
                    <a:cubicBezTo>
                      <a:pt x="29" y="48"/>
                      <a:pt x="14" y="51"/>
                      <a:pt x="0" y="48"/>
                    </a:cubicBezTo>
                    <a:cubicBezTo>
                      <a:pt x="15" y="52"/>
                      <a:pt x="30" y="50"/>
                      <a:pt x="41" y="40"/>
                    </a:cubicBezTo>
                    <a:cubicBezTo>
                      <a:pt x="53" y="30"/>
                      <a:pt x="58" y="15"/>
                      <a:pt x="5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2" name="Freeform 289"/>
              <p:cNvSpPr/>
              <p:nvPr/>
            </p:nvSpPr>
            <p:spPr>
              <a:xfrm rot="10843800">
                <a:off x="4646160" y="3825000"/>
                <a:ext cx="101880" cy="81000"/>
              </a:xfrm>
              <a:custGeom>
                <a:avLst/>
                <a:gdLst/>
                <a:ahLst/>
                <a:rect l="l" t="t" r="r" b="b"/>
                <a:pathLst>
                  <a:path w="49" h="44">
                    <a:moveTo>
                      <a:pt x="47" y="0"/>
                    </a:moveTo>
                    <a:cubicBezTo>
                      <a:pt x="48" y="12"/>
                      <a:pt x="44" y="25"/>
                      <a:pt x="34" y="33"/>
                    </a:cubicBezTo>
                    <a:cubicBezTo>
                      <a:pt x="25" y="41"/>
                      <a:pt x="12" y="43"/>
                      <a:pt x="0" y="40"/>
                    </a:cubicBezTo>
                    <a:cubicBezTo>
                      <a:pt x="12" y="44"/>
                      <a:pt x="25" y="42"/>
                      <a:pt x="35" y="34"/>
                    </a:cubicBezTo>
                    <a:cubicBezTo>
                      <a:pt x="45" y="26"/>
                      <a:pt x="49" y="12"/>
                      <a:pt x="47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3" name="Freeform 290"/>
              <p:cNvSpPr/>
              <p:nvPr/>
            </p:nvSpPr>
            <p:spPr>
              <a:xfrm rot="10843800">
                <a:off x="4654080" y="3836520"/>
                <a:ext cx="106560" cy="85680"/>
              </a:xfrm>
              <a:custGeom>
                <a:avLst/>
                <a:gdLst/>
                <a:ahLst/>
                <a:rect l="l" t="t" r="r" b="b"/>
                <a:pathLst>
                  <a:path w="51" h="47">
                    <a:moveTo>
                      <a:pt x="49" y="0"/>
                    </a:moveTo>
                    <a:cubicBezTo>
                      <a:pt x="50" y="13"/>
                      <a:pt x="46" y="26"/>
                      <a:pt x="35" y="35"/>
                    </a:cubicBezTo>
                    <a:cubicBezTo>
                      <a:pt x="26" y="43"/>
                      <a:pt x="12" y="46"/>
                      <a:pt x="0" y="42"/>
                    </a:cubicBezTo>
                    <a:cubicBezTo>
                      <a:pt x="12" y="47"/>
                      <a:pt x="26" y="45"/>
                      <a:pt x="37" y="36"/>
                    </a:cubicBezTo>
                    <a:cubicBezTo>
                      <a:pt x="47" y="27"/>
                      <a:pt x="51" y="13"/>
                      <a:pt x="49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54" name="Freeform 291"/>
              <p:cNvSpPr/>
              <p:nvPr/>
            </p:nvSpPr>
            <p:spPr>
              <a:xfrm rot="10843800">
                <a:off x="4633560" y="3816000"/>
                <a:ext cx="96840" cy="79200"/>
              </a:xfrm>
              <a:custGeom>
                <a:avLst/>
                <a:gdLst/>
                <a:ahLst/>
                <a:rect l="l" t="t" r="r" b="b"/>
                <a:pathLst>
                  <a:path w="47" h="43">
                    <a:moveTo>
                      <a:pt x="45" y="0"/>
                    </a:moveTo>
                    <a:cubicBezTo>
                      <a:pt x="46" y="12"/>
                      <a:pt x="42" y="24"/>
                      <a:pt x="33" y="32"/>
                    </a:cubicBezTo>
                    <a:cubicBezTo>
                      <a:pt x="24" y="39"/>
                      <a:pt x="12" y="42"/>
                      <a:pt x="0" y="39"/>
                    </a:cubicBezTo>
                    <a:cubicBezTo>
                      <a:pt x="12" y="43"/>
                      <a:pt x="25" y="41"/>
                      <a:pt x="34" y="33"/>
                    </a:cubicBezTo>
                    <a:cubicBezTo>
                      <a:pt x="43" y="25"/>
                      <a:pt x="47" y="12"/>
                      <a:pt x="45" y="0"/>
                    </a:cubicBezTo>
                    <a:close/>
                  </a:path>
                </a:pathLst>
              </a:custGeom>
              <a:solidFill>
                <a:srgbClr val="3e101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85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61F6-6359-4C71-A4E5-DF22148AD426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"/>
                            </p:stCondLst>
                            <p:childTnLst>
                              <p:par>
                                <p:cTn id="9" dur="indefinite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100"/>
                            </p:stCondLst>
                            <p:childTnLst>
                              <p:par>
                                <p:cTn id="1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3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400"/>
                            </p:stCondLst>
                            <p:childTnLst>
                              <p:par>
                                <p:cTn id="21" dur="indefinite" nodeType="after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00"/>
                            </p:stCondLst>
                            <p:childTnLst>
                              <p:par>
                                <p:cTn id="2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dur="indefinite" nodeType="afterEffect" fill="hold" presetClass="entr" presetID="2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6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9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6FE3-A72C-41E7-933A-808844F6E81A}" type="slidenum">
              <a:rPr b="0" lang="zh-CN" sz="1400" spc="-1" strike="noStrike">
                <a:solidFill>
                  <a:srgbClr val="111111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395280" y="3573000"/>
            <a:ext cx="8353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 Black"/>
                <a:ea typeface="微软雅黑"/>
              </a:rPr>
              <a:t>感谢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 type="subTitle"/>
          </p:nvPr>
        </p:nvSpPr>
        <p:spPr>
          <a:xfrm>
            <a:off x="395280" y="4723920"/>
            <a:ext cx="835344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00000"/>
                </a:solidFill>
                <a:latin typeface="Arial"/>
                <a:ea typeface="微软雅黑"/>
              </a:rPr>
              <a:t>此处填写名称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495360" y="4581360"/>
            <a:ext cx="7993080" cy="360"/>
            <a:chOff x="495360" y="4581360"/>
            <a:chExt cx="7993080" cy="360"/>
          </a:xfrm>
        </p:grpSpPr>
        <p:sp>
          <p:nvSpPr>
            <p:cNvPr id="863" name="直接连接符 9"/>
            <p:cNvSpPr/>
            <p:nvPr/>
          </p:nvSpPr>
          <p:spPr>
            <a:xfrm>
              <a:off x="495360" y="4581360"/>
              <a:ext cx="7993080" cy="0"/>
            </a:xfrm>
            <a:prstGeom prst="line">
              <a:avLst/>
            </a:prstGeom>
            <a:ln w="9360">
              <a:solidFill>
                <a:srgbClr val="c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64" name=""/>
            <p:cNvSpPr txBox="1"/>
            <p:nvPr/>
          </p:nvSpPr>
          <p:spPr>
            <a:xfrm>
              <a:off x="495360" y="4581360"/>
              <a:ext cx="79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865" name="组合 20484"/>
          <p:cNvGrpSpPr/>
          <p:nvPr/>
        </p:nvGrpSpPr>
        <p:grpSpPr>
          <a:xfrm>
            <a:off x="1979280" y="835200"/>
            <a:ext cx="5295600" cy="2601720"/>
            <a:chOff x="1979280" y="835200"/>
            <a:chExt cx="5295600" cy="2601720"/>
          </a:xfrm>
        </p:grpSpPr>
        <p:sp>
          <p:nvSpPr>
            <p:cNvPr id="866" name="Rectangle 75"/>
            <p:cNvSpPr/>
            <p:nvPr/>
          </p:nvSpPr>
          <p:spPr>
            <a:xfrm rot="11122200">
              <a:off x="3036240" y="2815920"/>
              <a:ext cx="1418400" cy="55584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67" name="组合 20486"/>
            <p:cNvGrpSpPr/>
            <p:nvPr/>
          </p:nvGrpSpPr>
          <p:grpSpPr>
            <a:xfrm>
              <a:off x="4495320" y="907920"/>
              <a:ext cx="1500120" cy="1614600"/>
              <a:chOff x="4495320" y="907920"/>
              <a:chExt cx="1500120" cy="1614600"/>
            </a:xfrm>
          </p:grpSpPr>
          <p:sp>
            <p:nvSpPr>
              <p:cNvPr id="868" name="Rectangle 48"/>
              <p:cNvSpPr/>
              <p:nvPr/>
            </p:nvSpPr>
            <p:spPr>
              <a:xfrm>
                <a:off x="4495320" y="90792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69" name="TextBox 49"/>
              <p:cNvSpPr/>
              <p:nvPr/>
            </p:nvSpPr>
            <p:spPr>
              <a:xfrm>
                <a:off x="4897440" y="108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1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0" name="Oval 50"/>
              <p:cNvSpPr/>
              <p:nvPr/>
            </p:nvSpPr>
            <p:spPr>
              <a:xfrm>
                <a:off x="459972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1" name="Oval 51"/>
              <p:cNvSpPr/>
              <p:nvPr/>
            </p:nvSpPr>
            <p:spPr>
              <a:xfrm>
                <a:off x="5770440" y="100980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2" name="TextBox 52"/>
              <p:cNvSpPr/>
              <p:nvPr/>
            </p:nvSpPr>
            <p:spPr>
              <a:xfrm>
                <a:off x="4495320" y="11131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873" name="Rectangle 53"/>
            <p:cNvSpPr/>
            <p:nvPr/>
          </p:nvSpPr>
          <p:spPr>
            <a:xfrm rot="10800000">
              <a:off x="455652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4" name="Rectangle 54"/>
            <p:cNvSpPr/>
            <p:nvPr/>
          </p:nvSpPr>
          <p:spPr>
            <a:xfrm rot="11122200">
              <a:off x="5777280" y="2624400"/>
              <a:ext cx="141840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875" name="Rectangle 55"/>
            <p:cNvSpPr/>
            <p:nvPr/>
          </p:nvSpPr>
          <p:spPr>
            <a:xfrm rot="10800000">
              <a:off x="1979280" y="2498760"/>
              <a:ext cx="1500120" cy="554760"/>
            </a:xfrm>
            <a:prstGeom prst="rect">
              <a:avLst/>
            </a:prstGeom>
            <a:solidFill>
              <a:srgbClr val="e8e8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876" name="组合 20495"/>
            <p:cNvGrpSpPr/>
            <p:nvPr/>
          </p:nvGrpSpPr>
          <p:grpSpPr>
            <a:xfrm>
              <a:off x="1979640" y="912960"/>
              <a:ext cx="1500120" cy="1614960"/>
              <a:chOff x="1979640" y="912960"/>
              <a:chExt cx="1500120" cy="1614960"/>
            </a:xfrm>
          </p:grpSpPr>
          <p:sp>
            <p:nvSpPr>
              <p:cNvPr id="877" name="Rectangle 57"/>
              <p:cNvSpPr/>
              <p:nvPr/>
            </p:nvSpPr>
            <p:spPr>
              <a:xfrm>
                <a:off x="1979640" y="912960"/>
                <a:ext cx="1500120" cy="1588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8" name="TextBox 58"/>
              <p:cNvSpPr/>
              <p:nvPr/>
            </p:nvSpPr>
            <p:spPr>
              <a:xfrm>
                <a:off x="2381760" y="10933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2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79" name="Oval 59"/>
              <p:cNvSpPr/>
              <p:nvPr/>
            </p:nvSpPr>
            <p:spPr>
              <a:xfrm>
                <a:off x="208404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0" name="Oval 60"/>
              <p:cNvSpPr/>
              <p:nvPr/>
            </p:nvSpPr>
            <p:spPr>
              <a:xfrm>
                <a:off x="3254760" y="101484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1" name="TextBox 61"/>
              <p:cNvSpPr/>
              <p:nvPr/>
            </p:nvSpPr>
            <p:spPr>
              <a:xfrm>
                <a:off x="1979640" y="111852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82" name="组合 20501"/>
            <p:cNvGrpSpPr/>
            <p:nvPr/>
          </p:nvGrpSpPr>
          <p:grpSpPr>
            <a:xfrm>
              <a:off x="3056400" y="913680"/>
              <a:ext cx="1953000" cy="2005200"/>
              <a:chOff x="3056400" y="913680"/>
              <a:chExt cx="1953000" cy="2005200"/>
            </a:xfrm>
          </p:grpSpPr>
          <p:sp>
            <p:nvSpPr>
              <p:cNvPr id="883" name="Rectangle 63"/>
              <p:cNvSpPr/>
              <p:nvPr/>
            </p:nvSpPr>
            <p:spPr>
              <a:xfrm rot="1201800">
                <a:off x="3282480" y="11224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4" name="TextBox 64"/>
              <p:cNvSpPr/>
              <p:nvPr/>
            </p:nvSpPr>
            <p:spPr>
              <a:xfrm rot="1201800">
                <a:off x="3658320" y="126792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800" spc="-1" strike="noStrike">
                    <a:solidFill>
                      <a:srgbClr val="d00202"/>
                    </a:solidFill>
                    <a:latin typeface="Arial Bold"/>
                  </a:rPr>
                  <a:t>0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5" name="Oval 65"/>
              <p:cNvSpPr/>
              <p:nvPr/>
            </p:nvSpPr>
            <p:spPr>
              <a:xfrm rot="1201800">
                <a:off x="3634920" y="106488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6" name="Oval 66"/>
              <p:cNvSpPr/>
              <p:nvPr/>
            </p:nvSpPr>
            <p:spPr>
              <a:xfrm rot="1201800">
                <a:off x="4734720" y="146556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87" name="TextBox 67"/>
              <p:cNvSpPr/>
              <p:nvPr/>
            </p:nvSpPr>
            <p:spPr>
              <a:xfrm rot="1201800">
                <a:off x="3440880" y="134424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888" name="组合 20507"/>
            <p:cNvGrpSpPr/>
            <p:nvPr/>
          </p:nvGrpSpPr>
          <p:grpSpPr>
            <a:xfrm>
              <a:off x="5587560" y="835200"/>
              <a:ext cx="1687320" cy="1762560"/>
              <a:chOff x="5587560" y="835200"/>
              <a:chExt cx="1687320" cy="1762560"/>
            </a:xfrm>
          </p:grpSpPr>
          <p:sp>
            <p:nvSpPr>
              <p:cNvPr id="889" name="Rectangle 69"/>
              <p:cNvSpPr/>
              <p:nvPr/>
            </p:nvSpPr>
            <p:spPr>
              <a:xfrm rot="21168000">
                <a:off x="5680800" y="922680"/>
                <a:ext cx="1500120" cy="15872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0" name="TextBox 70"/>
              <p:cNvSpPr/>
              <p:nvPr/>
            </p:nvSpPr>
            <p:spPr>
              <a:xfrm rot="21168000">
                <a:off x="6093360" y="1081440"/>
                <a:ext cx="656280" cy="14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8800" spc="-1" strike="noStrike">
                    <a:solidFill>
                      <a:srgbClr val="d00202"/>
                    </a:solidFill>
                    <a:latin typeface="Arial Bold"/>
                    <a:ea typeface="宋体"/>
                  </a:rPr>
                  <a:t>5</a:t>
                </a:r>
                <a:endParaRPr b="0" lang="en-US" sz="8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1" name="Oval 71"/>
              <p:cNvSpPr/>
              <p:nvPr/>
            </p:nvSpPr>
            <p:spPr>
              <a:xfrm rot="21168000">
                <a:off x="5711760" y="1101600"/>
                <a:ext cx="140040" cy="14004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2" name="Oval 72"/>
              <p:cNvSpPr/>
              <p:nvPr/>
            </p:nvSpPr>
            <p:spPr>
              <a:xfrm rot="21168000">
                <a:off x="6873480" y="954720"/>
                <a:ext cx="140040" cy="140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893" name="TextBox 73"/>
              <p:cNvSpPr/>
              <p:nvPr/>
            </p:nvSpPr>
            <p:spPr>
              <a:xfrm rot="21168000">
                <a:off x="5623200" y="1119600"/>
                <a:ext cx="1500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2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阵列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24" name="组合 4098"/>
          <p:cNvGrpSpPr/>
          <p:nvPr/>
        </p:nvGrpSpPr>
        <p:grpSpPr>
          <a:xfrm>
            <a:off x="1332000" y="1268280"/>
            <a:ext cx="1881000" cy="1906560"/>
            <a:chOff x="1332000" y="1268280"/>
            <a:chExt cx="1881000" cy="1906560"/>
          </a:xfrm>
        </p:grpSpPr>
        <p:grpSp>
          <p:nvGrpSpPr>
            <p:cNvPr id="125" name="组合 4099"/>
            <p:cNvGrpSpPr/>
            <p:nvPr/>
          </p:nvGrpSpPr>
          <p:grpSpPr>
            <a:xfrm>
              <a:off x="1332000" y="1268280"/>
              <a:ext cx="1881000" cy="1906560"/>
              <a:chOff x="1332000" y="1268280"/>
              <a:chExt cx="1881000" cy="1906560"/>
            </a:xfrm>
          </p:grpSpPr>
          <p:sp>
            <p:nvSpPr>
              <p:cNvPr id="126" name="Freeform 11"/>
              <p:cNvSpPr/>
              <p:nvPr/>
            </p:nvSpPr>
            <p:spPr>
              <a:xfrm>
                <a:off x="1332000" y="1304640"/>
                <a:ext cx="1849320" cy="187020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27" name="Freeform 8"/>
              <p:cNvSpPr/>
              <p:nvPr/>
            </p:nvSpPr>
            <p:spPr>
              <a:xfrm>
                <a:off x="1333440" y="1268280"/>
                <a:ext cx="1879560" cy="181800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ff65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28" name="组合 4102"/>
            <p:cNvGrpSpPr/>
            <p:nvPr/>
          </p:nvGrpSpPr>
          <p:grpSpPr>
            <a:xfrm>
              <a:off x="1585800" y="1520640"/>
              <a:ext cx="380880" cy="459720"/>
              <a:chOff x="1585800" y="1520640"/>
              <a:chExt cx="380880" cy="459720"/>
            </a:xfrm>
          </p:grpSpPr>
          <p:sp>
            <p:nvSpPr>
              <p:cNvPr id="129" name="TextBox 26"/>
              <p:cNvSpPr/>
              <p:nvPr/>
            </p:nvSpPr>
            <p:spPr>
              <a:xfrm>
                <a:off x="1617480" y="1520640"/>
                <a:ext cx="317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1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0" name="Freeform 27"/>
              <p:cNvSpPr/>
              <p:nvPr/>
            </p:nvSpPr>
            <p:spPr>
              <a:xfrm>
                <a:off x="1585800" y="1557000"/>
                <a:ext cx="380880" cy="38916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31" name="TextBox 45"/>
            <p:cNvSpPr/>
            <p:nvPr/>
          </p:nvSpPr>
          <p:spPr>
            <a:xfrm rot="21025800">
              <a:off x="1607040" y="1818720"/>
              <a:ext cx="1307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32" name="组合 4106"/>
          <p:cNvGrpSpPr/>
          <p:nvPr/>
        </p:nvGrpSpPr>
        <p:grpSpPr>
          <a:xfrm>
            <a:off x="1479600" y="1465200"/>
            <a:ext cx="6217560" cy="4421160"/>
            <a:chOff x="1479600" y="1465200"/>
            <a:chExt cx="6217560" cy="4421160"/>
          </a:xfrm>
        </p:grpSpPr>
        <p:grpSp>
          <p:nvGrpSpPr>
            <p:cNvPr id="133" name="组合 4107"/>
            <p:cNvGrpSpPr/>
            <p:nvPr/>
          </p:nvGrpSpPr>
          <p:grpSpPr>
            <a:xfrm>
              <a:off x="1479600" y="3671640"/>
              <a:ext cx="1879920" cy="1915920"/>
              <a:chOff x="1479600" y="3671640"/>
              <a:chExt cx="1879920" cy="1915920"/>
            </a:xfrm>
          </p:grpSpPr>
          <p:sp>
            <p:nvSpPr>
              <p:cNvPr id="134" name="Freeform 19"/>
              <p:cNvSpPr/>
              <p:nvPr/>
            </p:nvSpPr>
            <p:spPr>
              <a:xfrm>
                <a:off x="1479600" y="3715920"/>
                <a:ext cx="1850040" cy="187164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5" name="Freeform 4"/>
              <p:cNvSpPr/>
              <p:nvPr/>
            </p:nvSpPr>
            <p:spPr>
              <a:xfrm>
                <a:off x="1479600" y="3671640"/>
                <a:ext cx="1879920" cy="181908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538c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136" name="组合 4110"/>
            <p:cNvGrpSpPr/>
            <p:nvPr/>
          </p:nvGrpSpPr>
          <p:grpSpPr>
            <a:xfrm>
              <a:off x="5680800" y="3850920"/>
              <a:ext cx="2016360" cy="2035440"/>
              <a:chOff x="5680800" y="3850920"/>
              <a:chExt cx="2016360" cy="2035440"/>
            </a:xfrm>
          </p:grpSpPr>
          <p:sp>
            <p:nvSpPr>
              <p:cNvPr id="137" name="Freeform 20"/>
              <p:cNvSpPr/>
              <p:nvPr/>
            </p:nvSpPr>
            <p:spPr>
              <a:xfrm flipH="1" rot="21277800">
                <a:off x="5763960" y="3933000"/>
                <a:ext cx="1849320" cy="1870560"/>
              </a:xfrm>
              <a:custGeom>
                <a:avLst/>
                <a:gdLst/>
                <a:ahLst/>
                <a:rect l="l" t="t" r="r" b="b"/>
                <a:pathLst>
                  <a:path w="1850051" h="1870136">
                    <a:moveTo>
                      <a:pt x="0" y="200014"/>
                    </a:moveTo>
                    <a:lnTo>
                      <a:pt x="180005" y="1870136"/>
                    </a:lnTo>
                    <a:lnTo>
                      <a:pt x="1850051" y="1530111"/>
                    </a:lnTo>
                    <a:lnTo>
                      <a:pt x="1470040" y="0"/>
                    </a:lnTo>
                    <a:lnTo>
                      <a:pt x="0" y="200014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38" name="Freeform 5"/>
              <p:cNvSpPr/>
              <p:nvPr/>
            </p:nvSpPr>
            <p:spPr>
              <a:xfrm flipH="1">
                <a:off x="5708160" y="3850920"/>
                <a:ext cx="1879560" cy="1818360"/>
              </a:xfrm>
              <a:custGeom>
                <a:avLst/>
                <a:gdLst/>
                <a:ahLst/>
                <a:rect l="l" t="t" r="r" b="b"/>
                <a:pathLst>
                  <a:path w="1880052" h="1818466">
                    <a:moveTo>
                      <a:pt x="0" y="206682"/>
                    </a:moveTo>
                    <a:cubicBezTo>
                      <a:pt x="248340" y="113342"/>
                      <a:pt x="1296702" y="25002"/>
                      <a:pt x="1560043" y="6667"/>
                    </a:cubicBezTo>
                    <a:cubicBezTo>
                      <a:pt x="1580043" y="86673"/>
                      <a:pt x="1565044" y="0"/>
                      <a:pt x="1580044" y="96674"/>
                    </a:cubicBezTo>
                    <a:cubicBezTo>
                      <a:pt x="1595044" y="193348"/>
                      <a:pt x="1621711" y="418363"/>
                      <a:pt x="1650045" y="586709"/>
                    </a:cubicBezTo>
                    <a:cubicBezTo>
                      <a:pt x="1678379" y="755055"/>
                      <a:pt x="1711714" y="943402"/>
                      <a:pt x="1750048" y="1106747"/>
                    </a:cubicBezTo>
                    <a:cubicBezTo>
                      <a:pt x="1788382" y="1270092"/>
                      <a:pt x="1876718" y="1485108"/>
                      <a:pt x="1880052" y="1566781"/>
                    </a:cubicBezTo>
                    <a:cubicBezTo>
                      <a:pt x="1830050" y="1576338"/>
                      <a:pt x="1863385" y="1580115"/>
                      <a:pt x="1770049" y="1596783"/>
                    </a:cubicBezTo>
                    <a:cubicBezTo>
                      <a:pt x="1676713" y="1613451"/>
                      <a:pt x="1320036" y="1666788"/>
                      <a:pt x="1320036" y="1666788"/>
                    </a:cubicBezTo>
                    <a:cubicBezTo>
                      <a:pt x="1086696" y="1701790"/>
                      <a:pt x="550016" y="1818466"/>
                      <a:pt x="370011" y="1806798"/>
                    </a:cubicBezTo>
                    <a:cubicBezTo>
                      <a:pt x="290113" y="1691790"/>
                      <a:pt x="275008" y="1706791"/>
                      <a:pt x="240007" y="1596783"/>
                    </a:cubicBezTo>
                    <a:cubicBezTo>
                      <a:pt x="205006" y="1486775"/>
                      <a:pt x="188339" y="1318429"/>
                      <a:pt x="160005" y="1146750"/>
                    </a:cubicBezTo>
                    <a:cubicBezTo>
                      <a:pt x="131671" y="975071"/>
                      <a:pt x="95003" y="723386"/>
                      <a:pt x="70002" y="566708"/>
                    </a:cubicBezTo>
                    <a:cubicBezTo>
                      <a:pt x="45001" y="410030"/>
                      <a:pt x="30001" y="389417"/>
                      <a:pt x="0" y="206682"/>
                    </a:cubicBezTo>
                    <a:close/>
                  </a:path>
                </a:pathLst>
              </a:custGeom>
              <a:solidFill>
                <a:srgbClr val="e9d1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39" name="Rectangle 6"/>
            <p:cNvSpPr/>
            <p:nvPr/>
          </p:nvSpPr>
          <p:spPr>
            <a:xfrm rot="344400">
              <a:off x="3618000" y="3992400"/>
              <a:ext cx="1676160" cy="167652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40" name="组合 4114"/>
            <p:cNvGrpSpPr/>
            <p:nvPr/>
          </p:nvGrpSpPr>
          <p:grpSpPr>
            <a:xfrm>
              <a:off x="5708880" y="1465200"/>
              <a:ext cx="1828800" cy="1740600"/>
              <a:chOff x="5708880" y="1465200"/>
              <a:chExt cx="1828800" cy="1740600"/>
            </a:xfrm>
          </p:grpSpPr>
          <p:sp>
            <p:nvSpPr>
              <p:cNvPr id="141" name="Freeform 15"/>
              <p:cNvSpPr/>
              <p:nvPr/>
            </p:nvSpPr>
            <p:spPr>
              <a:xfrm>
                <a:off x="5838840" y="1595160"/>
                <a:ext cx="1679760" cy="1610640"/>
              </a:xfrm>
              <a:custGeom>
                <a:avLst/>
                <a:gdLst/>
                <a:ahLst/>
                <a:rect l="l" t="t" r="r" b="b"/>
                <a:pathLst>
                  <a:path w="1680046" h="1610117">
                    <a:moveTo>
                      <a:pt x="1670046" y="60004"/>
                    </a:moveTo>
                    <a:cubicBezTo>
                      <a:pt x="1673379" y="576708"/>
                      <a:pt x="1676713" y="1093413"/>
                      <a:pt x="1680046" y="1610117"/>
                    </a:cubicBezTo>
                    <a:lnTo>
                      <a:pt x="0" y="1590115"/>
                    </a:lnTo>
                    <a:lnTo>
                      <a:pt x="200006" y="0"/>
                    </a:lnTo>
                    <a:lnTo>
                      <a:pt x="1670046" y="60004"/>
                    </a:lnTo>
                    <a:close/>
                  </a:path>
                </a:pathLst>
              </a:cu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42" name="Freeform 7"/>
              <p:cNvSpPr/>
              <p:nvPr/>
            </p:nvSpPr>
            <p:spPr>
              <a:xfrm>
                <a:off x="5708880" y="1465200"/>
                <a:ext cx="1828800" cy="1693080"/>
              </a:xfrm>
              <a:custGeom>
                <a:avLst/>
                <a:gdLst/>
                <a:ahLst/>
                <a:rect l="l" t="t" r="r" b="b"/>
                <a:pathLst>
                  <a:path w="1828800" h="1692679">
                    <a:moveTo>
                      <a:pt x="152400" y="16279"/>
                    </a:moveTo>
                    <a:cubicBezTo>
                      <a:pt x="711200" y="16279"/>
                      <a:pt x="1491204" y="0"/>
                      <a:pt x="1828800" y="16279"/>
                    </a:cubicBezTo>
                    <a:cubicBezTo>
                      <a:pt x="1780413" y="324626"/>
                      <a:pt x="1727200" y="1133879"/>
                      <a:pt x="1676400" y="1692679"/>
                    </a:cubicBezTo>
                    <a:lnTo>
                      <a:pt x="0" y="1692679"/>
                    </a:lnTo>
                    <a:lnTo>
                      <a:pt x="152400" y="16279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43" name="Rectangle 10"/>
            <p:cNvSpPr/>
            <p:nvPr/>
          </p:nvSpPr>
          <p:spPr>
            <a:xfrm>
              <a:off x="3516120" y="1782720"/>
              <a:ext cx="1676160" cy="1676520"/>
            </a:xfrm>
            <a:prstGeom prst="rect">
              <a:avLst/>
            </a:prstGeom>
            <a:solidFill>
              <a:srgbClr val="72a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44" name="组合 4118"/>
            <p:cNvGrpSpPr/>
            <p:nvPr/>
          </p:nvGrpSpPr>
          <p:grpSpPr>
            <a:xfrm>
              <a:off x="3719520" y="1888920"/>
              <a:ext cx="382320" cy="459720"/>
              <a:chOff x="3719520" y="1888920"/>
              <a:chExt cx="382320" cy="459720"/>
            </a:xfrm>
          </p:grpSpPr>
          <p:sp>
            <p:nvSpPr>
              <p:cNvPr id="145" name="TextBox 30"/>
              <p:cNvSpPr/>
              <p:nvPr/>
            </p:nvSpPr>
            <p:spPr>
              <a:xfrm>
                <a:off x="3751920" y="1888920"/>
                <a:ext cx="317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2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46" name="Freeform 31"/>
              <p:cNvSpPr/>
              <p:nvPr/>
            </p:nvSpPr>
            <p:spPr>
              <a:xfrm>
                <a:off x="3719520" y="1938240"/>
                <a:ext cx="382320" cy="38880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47" name="TextBox 33"/>
            <p:cNvSpPr/>
            <p:nvPr/>
          </p:nvSpPr>
          <p:spPr>
            <a:xfrm>
              <a:off x="6037920" y="15570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8" name="Oval 35"/>
            <p:cNvSpPr/>
            <p:nvPr/>
          </p:nvSpPr>
          <p:spPr>
            <a:xfrm>
              <a:off x="6037200" y="1595160"/>
              <a:ext cx="353880" cy="42372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49" name="TextBox 36"/>
            <p:cNvSpPr/>
            <p:nvPr/>
          </p:nvSpPr>
          <p:spPr>
            <a:xfrm>
              <a:off x="1649520" y="385092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0" name="Oval 37"/>
            <p:cNvSpPr/>
            <p:nvPr/>
          </p:nvSpPr>
          <p:spPr>
            <a:xfrm rot="2920800">
              <a:off x="1650240" y="3940560"/>
              <a:ext cx="353880" cy="32688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1" name="TextBox 38"/>
            <p:cNvSpPr/>
            <p:nvPr/>
          </p:nvSpPr>
          <p:spPr>
            <a:xfrm>
              <a:off x="3751920" y="395964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2" name="Freeform 39"/>
            <p:cNvSpPr/>
            <p:nvPr/>
          </p:nvSpPr>
          <p:spPr>
            <a:xfrm>
              <a:off x="3746520" y="4049640"/>
              <a:ext cx="345960" cy="355320"/>
            </a:xfrm>
            <a:custGeom>
              <a:avLst/>
              <a:gdLst/>
              <a:ahLst/>
              <a:rect l="l" t="t" r="r" b="b"/>
              <a:pathLst>
                <a:path w="346676" h="355026">
                  <a:moveTo>
                    <a:pt x="306675" y="71672"/>
                  </a:moveTo>
                  <a:cubicBezTo>
                    <a:pt x="286675" y="43337"/>
                    <a:pt x="260007" y="18335"/>
                    <a:pt x="216673" y="11668"/>
                  </a:cubicBezTo>
                  <a:cubicBezTo>
                    <a:pt x="173339" y="5001"/>
                    <a:pt x="81669" y="0"/>
                    <a:pt x="46668" y="31669"/>
                  </a:cubicBezTo>
                  <a:cubicBezTo>
                    <a:pt x="11667" y="63338"/>
                    <a:pt x="0" y="153345"/>
                    <a:pt x="6667" y="201682"/>
                  </a:cubicBezTo>
                  <a:cubicBezTo>
                    <a:pt x="13334" y="250019"/>
                    <a:pt x="43335" y="300023"/>
                    <a:pt x="86669" y="321691"/>
                  </a:cubicBezTo>
                  <a:cubicBezTo>
                    <a:pt x="130004" y="343359"/>
                    <a:pt x="225006" y="355026"/>
                    <a:pt x="266674" y="331691"/>
                  </a:cubicBezTo>
                  <a:cubicBezTo>
                    <a:pt x="308342" y="308356"/>
                    <a:pt x="326676" y="225016"/>
                    <a:pt x="336676" y="181680"/>
                  </a:cubicBezTo>
                  <a:cubicBezTo>
                    <a:pt x="346676" y="138344"/>
                    <a:pt x="326675" y="100007"/>
                    <a:pt x="306675" y="71672"/>
                  </a:cubicBez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153" name="组合 4127"/>
            <p:cNvGrpSpPr/>
            <p:nvPr/>
          </p:nvGrpSpPr>
          <p:grpSpPr>
            <a:xfrm>
              <a:off x="6081480" y="3939480"/>
              <a:ext cx="381600" cy="459720"/>
              <a:chOff x="6081480" y="3939480"/>
              <a:chExt cx="381600" cy="459720"/>
            </a:xfrm>
          </p:grpSpPr>
          <p:sp>
            <p:nvSpPr>
              <p:cNvPr id="154" name="TextBox 41"/>
              <p:cNvSpPr/>
              <p:nvPr/>
            </p:nvSpPr>
            <p:spPr>
              <a:xfrm>
                <a:off x="6103080" y="3939480"/>
                <a:ext cx="31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6</a:t>
                </a:r>
                <a:endParaRPr b="0" lang="en-US" sz="2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155" name="Freeform 42"/>
              <p:cNvSpPr/>
              <p:nvPr/>
            </p:nvSpPr>
            <p:spPr>
              <a:xfrm>
                <a:off x="6081480" y="3981240"/>
                <a:ext cx="381600" cy="387360"/>
              </a:xfrm>
              <a:custGeom>
                <a:avLst/>
                <a:gdLst/>
                <a:ahLst/>
                <a:rect l="l" t="t" r="r" b="b"/>
                <a:pathLst>
                  <a:path w="475014" h="483369">
                    <a:moveTo>
                      <a:pt x="263341" y="80006"/>
                    </a:moveTo>
                    <a:cubicBezTo>
                      <a:pt x="189172" y="90006"/>
                      <a:pt x="115004" y="100007"/>
                      <a:pt x="73336" y="140010"/>
                    </a:cubicBezTo>
                    <a:cubicBezTo>
                      <a:pt x="31668" y="180013"/>
                      <a:pt x="0" y="266686"/>
                      <a:pt x="13334" y="320023"/>
                    </a:cubicBezTo>
                    <a:cubicBezTo>
                      <a:pt x="26668" y="373360"/>
                      <a:pt x="86670" y="440033"/>
                      <a:pt x="153338" y="460034"/>
                    </a:cubicBezTo>
                    <a:cubicBezTo>
                      <a:pt x="220006" y="480035"/>
                      <a:pt x="361677" y="483369"/>
                      <a:pt x="413345" y="440032"/>
                    </a:cubicBezTo>
                    <a:cubicBezTo>
                      <a:pt x="465013" y="396696"/>
                      <a:pt x="475014" y="273354"/>
                      <a:pt x="463347" y="200015"/>
                    </a:cubicBezTo>
                    <a:cubicBezTo>
                      <a:pt x="451680" y="126676"/>
                      <a:pt x="397511" y="63338"/>
                      <a:pt x="343343" y="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156" name="TextBox 46"/>
            <p:cNvSpPr/>
            <p:nvPr/>
          </p:nvSpPr>
          <p:spPr>
            <a:xfrm>
              <a:off x="3516840" y="2439360"/>
              <a:ext cx="165492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7" name="TextBox 47"/>
            <p:cNvSpPr/>
            <p:nvPr/>
          </p:nvSpPr>
          <p:spPr>
            <a:xfrm>
              <a:off x="5749920" y="2130840"/>
              <a:ext cx="171396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8" name="TextBox 48"/>
            <p:cNvSpPr/>
            <p:nvPr/>
          </p:nvSpPr>
          <p:spPr>
            <a:xfrm rot="20984400">
              <a:off x="1595520" y="430236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59" name="TextBox 49"/>
            <p:cNvSpPr/>
            <p:nvPr/>
          </p:nvSpPr>
          <p:spPr>
            <a:xfrm rot="365400">
              <a:off x="3648960" y="460728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0" name="TextBox 50"/>
            <p:cNvSpPr/>
            <p:nvPr/>
          </p:nvSpPr>
          <p:spPr>
            <a:xfrm rot="365400">
              <a:off x="5867280" y="4484520"/>
              <a:ext cx="159660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7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7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1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ADD0-B5D4-4C31-8D10-4A753115B8A5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组合 5121"/>
          <p:cNvGrpSpPr/>
          <p:nvPr/>
        </p:nvGrpSpPr>
        <p:grpSpPr>
          <a:xfrm>
            <a:off x="304560" y="5233680"/>
            <a:ext cx="2338200" cy="740160"/>
            <a:chOff x="304560" y="5233680"/>
            <a:chExt cx="2338200" cy="740160"/>
          </a:xfrm>
        </p:grpSpPr>
        <p:sp>
          <p:nvSpPr>
            <p:cNvPr id="163" name="Rektangel 23"/>
            <p:cNvSpPr/>
            <p:nvPr/>
          </p:nvSpPr>
          <p:spPr>
            <a:xfrm flipH="1">
              <a:off x="304200" y="5492880"/>
              <a:ext cx="2328840" cy="480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64" name="Ligebenet trapez 25"/>
            <p:cNvSpPr/>
            <p:nvPr/>
          </p:nvSpPr>
          <p:spPr>
            <a:xfrm flipH="1" flipV="1">
              <a:off x="304200" y="5233320"/>
              <a:ext cx="233820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65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Rektangel 23"/>
          <p:cNvSpPr/>
          <p:nvPr/>
        </p:nvSpPr>
        <p:spPr>
          <a:xfrm flipH="1">
            <a:off x="1065960" y="5011560"/>
            <a:ext cx="2328840" cy="481320"/>
          </a:xfrm>
          <a:prstGeom prst="rect">
            <a:avLst/>
          </a:prstGeom>
          <a:solidFill>
            <a:srgbClr val="ffe0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Ligebenet trapez 25"/>
          <p:cNvSpPr/>
          <p:nvPr/>
        </p:nvSpPr>
        <p:spPr>
          <a:xfrm flipH="1" flipV="1">
            <a:off x="1066680" y="4753080"/>
            <a:ext cx="2338560" cy="258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849" y="21600"/>
                </a:lnTo>
                <a:lnTo>
                  <a:pt x="1775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68" name="组合 5127"/>
          <p:cNvGrpSpPr/>
          <p:nvPr/>
        </p:nvGrpSpPr>
        <p:grpSpPr>
          <a:xfrm>
            <a:off x="1981080" y="4274640"/>
            <a:ext cx="2338560" cy="740160"/>
            <a:chOff x="1981080" y="4274640"/>
            <a:chExt cx="2338560" cy="740160"/>
          </a:xfrm>
        </p:grpSpPr>
        <p:sp>
          <p:nvSpPr>
            <p:cNvPr id="169" name="Rektangel 23"/>
            <p:cNvSpPr/>
            <p:nvPr/>
          </p:nvSpPr>
          <p:spPr>
            <a:xfrm flipH="1">
              <a:off x="1981080" y="4533840"/>
              <a:ext cx="2329200" cy="480960"/>
            </a:xfrm>
            <a:prstGeom prst="rect">
              <a:avLst/>
            </a:prstGeom>
            <a:solidFill>
              <a:srgbClr val="ffba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0" name="Ligebenet trapez 25"/>
            <p:cNvSpPr/>
            <p:nvPr/>
          </p:nvSpPr>
          <p:spPr>
            <a:xfrm flipH="1" flipV="1">
              <a:off x="1981080" y="427428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1" name="组合 5130"/>
          <p:cNvGrpSpPr/>
          <p:nvPr/>
        </p:nvGrpSpPr>
        <p:grpSpPr>
          <a:xfrm>
            <a:off x="2971800" y="3795480"/>
            <a:ext cx="2338560" cy="740160"/>
            <a:chOff x="2971800" y="3795480"/>
            <a:chExt cx="2338560" cy="740160"/>
          </a:xfrm>
        </p:grpSpPr>
        <p:sp>
          <p:nvSpPr>
            <p:cNvPr id="172" name="Rektangel 23"/>
            <p:cNvSpPr/>
            <p:nvPr/>
          </p:nvSpPr>
          <p:spPr>
            <a:xfrm flipH="1">
              <a:off x="2971800" y="4054680"/>
              <a:ext cx="2329200" cy="480960"/>
            </a:xfrm>
            <a:prstGeom prst="rect">
              <a:avLst/>
            </a:prstGeom>
            <a:solidFill>
              <a:srgbClr val="ff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3" name="Ligebenet trapez 25"/>
            <p:cNvSpPr/>
            <p:nvPr/>
          </p:nvSpPr>
          <p:spPr>
            <a:xfrm flipH="1" flipV="1">
              <a:off x="2971800" y="379512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4" name="组合 5133"/>
          <p:cNvGrpSpPr/>
          <p:nvPr/>
        </p:nvGrpSpPr>
        <p:grpSpPr>
          <a:xfrm>
            <a:off x="3886200" y="3317400"/>
            <a:ext cx="2338560" cy="740160"/>
            <a:chOff x="3886200" y="3317400"/>
            <a:chExt cx="2338560" cy="740160"/>
          </a:xfrm>
        </p:grpSpPr>
        <p:sp>
          <p:nvSpPr>
            <p:cNvPr id="175" name="Rektangel 23"/>
            <p:cNvSpPr/>
            <p:nvPr/>
          </p:nvSpPr>
          <p:spPr>
            <a:xfrm flipH="1">
              <a:off x="3886200" y="3576600"/>
              <a:ext cx="2329200" cy="480960"/>
            </a:xfrm>
            <a:prstGeom prst="rect">
              <a:avLst/>
            </a:prstGeom>
            <a:solidFill>
              <a:srgbClr val="ff64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6" name="Ligebenet trapez 25"/>
            <p:cNvSpPr/>
            <p:nvPr/>
          </p:nvSpPr>
          <p:spPr>
            <a:xfrm flipH="1" flipV="1">
              <a:off x="3886200" y="331704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77" name="组合 5136"/>
          <p:cNvGrpSpPr/>
          <p:nvPr/>
        </p:nvGrpSpPr>
        <p:grpSpPr>
          <a:xfrm>
            <a:off x="4800600" y="2838240"/>
            <a:ext cx="2338560" cy="740160"/>
            <a:chOff x="4800600" y="2838240"/>
            <a:chExt cx="2338560" cy="740160"/>
          </a:xfrm>
        </p:grpSpPr>
        <p:sp>
          <p:nvSpPr>
            <p:cNvPr id="178" name="Rektangel 23"/>
            <p:cNvSpPr/>
            <p:nvPr/>
          </p:nvSpPr>
          <p:spPr>
            <a:xfrm flipH="1">
              <a:off x="4800600" y="3097440"/>
              <a:ext cx="2329200" cy="480960"/>
            </a:xfrm>
            <a:prstGeom prst="rect">
              <a:avLst/>
            </a:prstGeom>
            <a:solidFill>
              <a:srgbClr val="ff4e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79" name="Ligebenet trapez 25"/>
            <p:cNvSpPr/>
            <p:nvPr/>
          </p:nvSpPr>
          <p:spPr>
            <a:xfrm flipH="1" flipV="1">
              <a:off x="4800600" y="283788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80" name="组合 5139"/>
          <p:cNvGrpSpPr/>
          <p:nvPr/>
        </p:nvGrpSpPr>
        <p:grpSpPr>
          <a:xfrm>
            <a:off x="5715000" y="2371320"/>
            <a:ext cx="2338560" cy="740160"/>
            <a:chOff x="5715000" y="2371320"/>
            <a:chExt cx="2338560" cy="740160"/>
          </a:xfrm>
        </p:grpSpPr>
        <p:sp>
          <p:nvSpPr>
            <p:cNvPr id="181" name="Rektangel 23"/>
            <p:cNvSpPr/>
            <p:nvPr/>
          </p:nvSpPr>
          <p:spPr>
            <a:xfrm flipH="1">
              <a:off x="5715000" y="2630520"/>
              <a:ext cx="2329200" cy="480960"/>
            </a:xfrm>
            <a:prstGeom prst="rect">
              <a:avLst/>
            </a:prstGeom>
            <a:solidFill>
              <a:srgbClr val="ff2c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2" name="Ligebenet trapez 25"/>
            <p:cNvSpPr/>
            <p:nvPr/>
          </p:nvSpPr>
          <p:spPr>
            <a:xfrm flipH="1" flipV="1">
              <a:off x="5715000" y="2370960"/>
              <a:ext cx="233856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83" name="组合 5142"/>
          <p:cNvGrpSpPr/>
          <p:nvPr/>
        </p:nvGrpSpPr>
        <p:grpSpPr>
          <a:xfrm>
            <a:off x="6524280" y="1891800"/>
            <a:ext cx="2338200" cy="740160"/>
            <a:chOff x="6524280" y="1891800"/>
            <a:chExt cx="2338200" cy="740160"/>
          </a:xfrm>
        </p:grpSpPr>
        <p:sp>
          <p:nvSpPr>
            <p:cNvPr id="184" name="Rektangel 23"/>
            <p:cNvSpPr/>
            <p:nvPr/>
          </p:nvSpPr>
          <p:spPr>
            <a:xfrm flipH="1">
              <a:off x="6523920" y="2151000"/>
              <a:ext cx="2328840" cy="4809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85" name="Ligebenet trapez 25"/>
            <p:cNvSpPr/>
            <p:nvPr/>
          </p:nvSpPr>
          <p:spPr>
            <a:xfrm flipH="1" flipV="1">
              <a:off x="6523920" y="1891440"/>
              <a:ext cx="2338200" cy="258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708" y="21600"/>
                  </a:lnTo>
                  <a:lnTo>
                    <a:pt x="20892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186" name="TextBox 31"/>
          <p:cNvSpPr/>
          <p:nvPr/>
        </p:nvSpPr>
        <p:spPr>
          <a:xfrm>
            <a:off x="771480" y="560556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TextBox 32"/>
          <p:cNvSpPr/>
          <p:nvPr/>
        </p:nvSpPr>
        <p:spPr>
          <a:xfrm>
            <a:off x="1598760" y="51260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8" name="TextBox 33"/>
          <p:cNvSpPr/>
          <p:nvPr/>
        </p:nvSpPr>
        <p:spPr>
          <a:xfrm>
            <a:off x="2523960" y="464832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TextBox 34"/>
          <p:cNvSpPr/>
          <p:nvPr/>
        </p:nvSpPr>
        <p:spPr>
          <a:xfrm>
            <a:off x="3510000" y="41702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TextBox 35"/>
          <p:cNvSpPr/>
          <p:nvPr/>
        </p:nvSpPr>
        <p:spPr>
          <a:xfrm>
            <a:off x="4387680" y="368136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1" name="TextBox 36"/>
          <p:cNvSpPr/>
          <p:nvPr/>
        </p:nvSpPr>
        <p:spPr>
          <a:xfrm>
            <a:off x="5338800" y="321300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2" name="TextBox 37"/>
          <p:cNvSpPr/>
          <p:nvPr/>
        </p:nvSpPr>
        <p:spPr>
          <a:xfrm>
            <a:off x="6353280" y="2744640"/>
            <a:ext cx="17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3" name="TextBox 38"/>
          <p:cNvSpPr/>
          <p:nvPr/>
        </p:nvSpPr>
        <p:spPr>
          <a:xfrm>
            <a:off x="6991200" y="2244600"/>
            <a:ext cx="171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Rektangel 23"/>
          <p:cNvSpPr/>
          <p:nvPr/>
        </p:nvSpPr>
        <p:spPr>
          <a:xfrm flipH="1">
            <a:off x="304200" y="5973840"/>
            <a:ext cx="2328840" cy="4809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195" name="组合 5154"/>
          <p:cNvGrpSpPr/>
          <p:nvPr/>
        </p:nvGrpSpPr>
        <p:grpSpPr>
          <a:xfrm>
            <a:off x="7218360" y="1278000"/>
            <a:ext cx="985680" cy="852480"/>
            <a:chOff x="7218360" y="1278000"/>
            <a:chExt cx="985680" cy="852480"/>
          </a:xfrm>
        </p:grpSpPr>
        <p:sp>
          <p:nvSpPr>
            <p:cNvPr id="196" name="Ellipse 59"/>
            <p:cNvSpPr/>
            <p:nvPr/>
          </p:nvSpPr>
          <p:spPr>
            <a:xfrm>
              <a:off x="7218360" y="1931760"/>
              <a:ext cx="985680" cy="19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197" name="5-Point Star 49"/>
            <p:cNvSpPr/>
            <p:nvPr/>
          </p:nvSpPr>
          <p:spPr>
            <a:xfrm>
              <a:off x="7373160" y="1278000"/>
              <a:ext cx="703800" cy="703440"/>
            </a:xfrm>
            <a:custGeom>
              <a:avLst/>
              <a:gdLst/>
              <a:ahLst/>
              <a:rect l="l" t="t" r="r" b="b"/>
              <a:pathLst>
                <a:path w="703759" h="703758">
                  <a:moveTo>
                    <a:pt x="0" y="268810"/>
                  </a:moveTo>
                  <a:lnTo>
                    <a:pt x="268813" y="268812"/>
                  </a:lnTo>
                  <a:lnTo>
                    <a:pt x="351879" y="0"/>
                  </a:lnTo>
                  <a:lnTo>
                    <a:pt x="434945" y="268812"/>
                  </a:lnTo>
                  <a:lnTo>
                    <a:pt x="703758" y="268810"/>
                  </a:lnTo>
                  <a:lnTo>
                    <a:pt x="486283" y="434944"/>
                  </a:lnTo>
                  <a:lnTo>
                    <a:pt x="569352" y="703756"/>
                  </a:lnTo>
                  <a:lnTo>
                    <a:pt x="351879" y="537619"/>
                  </a:lnTo>
                  <a:lnTo>
                    <a:pt x="134406" y="703756"/>
                  </a:lnTo>
                  <a:lnTo>
                    <a:pt x="217475" y="434944"/>
                  </a:lnTo>
                  <a:close/>
                </a:path>
              </a:pathLst>
            </a:custGeom>
            <a:solidFill>
              <a:srgbClr val="ff9d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732960" y="4513320"/>
            <a:ext cx="360" cy="792000"/>
            <a:chOff x="732960" y="4513320"/>
            <a:chExt cx="360" cy="792000"/>
          </a:xfrm>
        </p:grpSpPr>
        <p:sp>
          <p:nvSpPr>
            <p:cNvPr id="199" name="Line 33"/>
            <p:cNvSpPr/>
            <p:nvPr/>
          </p:nvSpPr>
          <p:spPr>
            <a:xfrm flipV="1">
              <a:off x="7333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10800000">
              <a:off x="7329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1" name="Rektangel 64"/>
          <p:cNvSpPr/>
          <p:nvPr/>
        </p:nvSpPr>
        <p:spPr>
          <a:xfrm>
            <a:off x="85680" y="3652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357800" y="2677680"/>
            <a:ext cx="1440" cy="792360"/>
            <a:chOff x="4357800" y="2677680"/>
            <a:chExt cx="1440" cy="792360"/>
          </a:xfrm>
        </p:grpSpPr>
        <p:sp>
          <p:nvSpPr>
            <p:cNvPr id="203" name="Line 33"/>
            <p:cNvSpPr/>
            <p:nvPr/>
          </p:nvSpPr>
          <p:spPr>
            <a:xfrm flipV="1">
              <a:off x="4357800" y="2677680"/>
              <a:ext cx="144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4357800" y="2677680"/>
              <a:ext cx="144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5" name="Rektangel 64"/>
          <p:cNvSpPr/>
          <p:nvPr/>
        </p:nvSpPr>
        <p:spPr>
          <a:xfrm>
            <a:off x="3710160" y="18176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445840" y="3623760"/>
            <a:ext cx="2160" cy="792360"/>
            <a:chOff x="2445840" y="3623760"/>
            <a:chExt cx="2160" cy="792360"/>
          </a:xfrm>
        </p:grpSpPr>
        <p:sp>
          <p:nvSpPr>
            <p:cNvPr id="207" name="Line 33"/>
            <p:cNvSpPr/>
            <p:nvPr/>
          </p:nvSpPr>
          <p:spPr>
            <a:xfrm flipV="1">
              <a:off x="2446200" y="362376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08" name=""/>
            <p:cNvSpPr txBox="1"/>
            <p:nvPr/>
          </p:nvSpPr>
          <p:spPr>
            <a:xfrm rot="10800000">
              <a:off x="2445840" y="362376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09" name="Rektangel 64"/>
          <p:cNvSpPr/>
          <p:nvPr/>
        </p:nvSpPr>
        <p:spPr>
          <a:xfrm>
            <a:off x="1798560" y="27637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063760" y="4513320"/>
            <a:ext cx="360" cy="792000"/>
            <a:chOff x="5063760" y="4513320"/>
            <a:chExt cx="360" cy="792000"/>
          </a:xfrm>
        </p:grpSpPr>
        <p:sp>
          <p:nvSpPr>
            <p:cNvPr id="211" name="Line 33"/>
            <p:cNvSpPr/>
            <p:nvPr/>
          </p:nvSpPr>
          <p:spPr>
            <a:xfrm flipV="1">
              <a:off x="5064120" y="451332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2" name=""/>
            <p:cNvSpPr txBox="1"/>
            <p:nvPr/>
          </p:nvSpPr>
          <p:spPr>
            <a:xfrm rot="10800000">
              <a:off x="5063760" y="451332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13" name="Rektangel 64"/>
          <p:cNvSpPr/>
          <p:nvPr/>
        </p:nvSpPr>
        <p:spPr>
          <a:xfrm>
            <a:off x="4359240" y="525780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8421840" y="2629080"/>
            <a:ext cx="1440" cy="792000"/>
            <a:chOff x="8421840" y="2629080"/>
            <a:chExt cx="1440" cy="792000"/>
          </a:xfrm>
        </p:grpSpPr>
        <p:sp>
          <p:nvSpPr>
            <p:cNvPr id="215" name="Line 33"/>
            <p:cNvSpPr/>
            <p:nvPr/>
          </p:nvSpPr>
          <p:spPr>
            <a:xfrm flipV="1">
              <a:off x="8421840" y="2629080"/>
              <a:ext cx="144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 rot="10800000">
              <a:off x="8421840" y="2629080"/>
              <a:ext cx="144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17" name="Rektangel 64"/>
          <p:cNvSpPr/>
          <p:nvPr/>
        </p:nvSpPr>
        <p:spPr>
          <a:xfrm>
            <a:off x="7716960" y="33526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2971440" y="5492880"/>
            <a:ext cx="360" cy="792000"/>
            <a:chOff x="2971440" y="5492880"/>
            <a:chExt cx="360" cy="792000"/>
          </a:xfrm>
        </p:grpSpPr>
        <p:sp>
          <p:nvSpPr>
            <p:cNvPr id="219" name="Line 33"/>
            <p:cNvSpPr/>
            <p:nvPr/>
          </p:nvSpPr>
          <p:spPr>
            <a:xfrm flipV="1">
              <a:off x="2971800" y="5492880"/>
              <a:ext cx="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 rot="10800000">
              <a:off x="2971440" y="5492880"/>
              <a:ext cx="36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1" name="Rektangel 64"/>
          <p:cNvSpPr/>
          <p:nvPr/>
        </p:nvSpPr>
        <p:spPr>
          <a:xfrm>
            <a:off x="2916360" y="588492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125760" y="1698120"/>
            <a:ext cx="2160" cy="792360"/>
            <a:chOff x="6125760" y="1698120"/>
            <a:chExt cx="2160" cy="792360"/>
          </a:xfrm>
        </p:grpSpPr>
        <p:sp>
          <p:nvSpPr>
            <p:cNvPr id="223" name="Line 33"/>
            <p:cNvSpPr/>
            <p:nvPr/>
          </p:nvSpPr>
          <p:spPr>
            <a:xfrm flipV="1">
              <a:off x="6126120" y="1698120"/>
              <a:ext cx="1800" cy="79236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 rot="10800000">
              <a:off x="6125760" y="1698120"/>
              <a:ext cx="1800" cy="792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5" name="Rektangel 64"/>
          <p:cNvSpPr/>
          <p:nvPr/>
        </p:nvSpPr>
        <p:spPr>
          <a:xfrm>
            <a:off x="5478480" y="838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703560" y="3575160"/>
            <a:ext cx="2160" cy="792000"/>
            <a:chOff x="6703560" y="3575160"/>
            <a:chExt cx="2160" cy="792000"/>
          </a:xfrm>
        </p:grpSpPr>
        <p:sp>
          <p:nvSpPr>
            <p:cNvPr id="227" name="Line 33"/>
            <p:cNvSpPr/>
            <p:nvPr/>
          </p:nvSpPr>
          <p:spPr>
            <a:xfrm flipV="1">
              <a:off x="6703920" y="3575160"/>
              <a:ext cx="1800" cy="7920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 rot="10800000">
              <a:off x="6703560" y="3575160"/>
              <a:ext cx="1800" cy="792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29" name="Rektangel 64"/>
          <p:cNvSpPr/>
          <p:nvPr/>
        </p:nvSpPr>
        <p:spPr>
          <a:xfrm>
            <a:off x="5999040" y="426708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7695720" y="990360"/>
            <a:ext cx="360" cy="228600"/>
            <a:chOff x="7695720" y="990360"/>
            <a:chExt cx="360" cy="228600"/>
          </a:xfrm>
        </p:grpSpPr>
        <p:sp>
          <p:nvSpPr>
            <p:cNvPr id="231" name="Line 33"/>
            <p:cNvSpPr/>
            <p:nvPr/>
          </p:nvSpPr>
          <p:spPr>
            <a:xfrm flipV="1">
              <a:off x="7696080" y="990360"/>
              <a:ext cx="0" cy="228600"/>
            </a:xfrm>
            <a:prstGeom prst="line">
              <a:avLst/>
            </a:prstGeom>
            <a:ln w="19080">
              <a:solidFill>
                <a:srgbClr val="343637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32" name=""/>
            <p:cNvSpPr txBox="1"/>
            <p:nvPr/>
          </p:nvSpPr>
          <p:spPr>
            <a:xfrm rot="10800000">
              <a:off x="7695720" y="990360"/>
              <a:ext cx="360" cy="228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33" name="Rektangel 64"/>
          <p:cNvSpPr/>
          <p:nvPr/>
        </p:nvSpPr>
        <p:spPr>
          <a:xfrm>
            <a:off x="7070760" y="177840"/>
            <a:ext cx="1441440" cy="5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E386-8D34-4B7D-BCD5-254BD5A5AFA0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37" name="组合 6146"/>
          <p:cNvGrpSpPr/>
          <p:nvPr/>
        </p:nvGrpSpPr>
        <p:grpSpPr>
          <a:xfrm>
            <a:off x="1692360" y="1219320"/>
            <a:ext cx="5851440" cy="5163840"/>
            <a:chOff x="1692360" y="1219320"/>
            <a:chExt cx="5851440" cy="5163840"/>
          </a:xfrm>
        </p:grpSpPr>
        <p:sp>
          <p:nvSpPr>
            <p:cNvPr id="238" name="TextBox 89"/>
            <p:cNvSpPr/>
            <p:nvPr/>
          </p:nvSpPr>
          <p:spPr>
            <a:xfrm>
              <a:off x="3565440" y="1973160"/>
              <a:ext cx="21366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39" name="TextBox 90"/>
            <p:cNvSpPr/>
            <p:nvPr/>
          </p:nvSpPr>
          <p:spPr>
            <a:xfrm>
              <a:off x="2628720" y="4014720"/>
              <a:ext cx="3987720" cy="36828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0" name="TextBox 91"/>
            <p:cNvSpPr/>
            <p:nvPr/>
          </p:nvSpPr>
          <p:spPr>
            <a:xfrm>
              <a:off x="2146320" y="5022720"/>
              <a:ext cx="4924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1" name="TextBox 92"/>
            <p:cNvSpPr/>
            <p:nvPr/>
          </p:nvSpPr>
          <p:spPr>
            <a:xfrm>
              <a:off x="1692360" y="6013440"/>
              <a:ext cx="585144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2" name="Isosceles Triangle 85"/>
            <p:cNvSpPr/>
            <p:nvPr/>
          </p:nvSpPr>
          <p:spPr>
            <a:xfrm>
              <a:off x="3565440" y="1219320"/>
              <a:ext cx="2136600" cy="75564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3" name="Trapezoid 86"/>
            <p:cNvSpPr/>
            <p:nvPr/>
          </p:nvSpPr>
          <p:spPr>
            <a:xfrm flipV="1">
              <a:off x="3105000" y="2342160"/>
              <a:ext cx="306540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312" y="21600"/>
                  </a:lnTo>
                  <a:lnTo>
                    <a:pt x="18288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4" name="Trapezoid 87"/>
            <p:cNvSpPr/>
            <p:nvPr/>
          </p:nvSpPr>
          <p:spPr>
            <a:xfrm flipV="1">
              <a:off x="2628720" y="3363840"/>
              <a:ext cx="3998880" cy="63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532" y="21600"/>
                  </a:lnTo>
                  <a:lnTo>
                    <a:pt x="19068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5" name="Trapezoid 88"/>
            <p:cNvSpPr/>
            <p:nvPr/>
          </p:nvSpPr>
          <p:spPr>
            <a:xfrm flipV="1">
              <a:off x="2146320" y="4382280"/>
              <a:ext cx="493884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55" y="21600"/>
                  </a:lnTo>
                  <a:lnTo>
                    <a:pt x="19545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6" name="Trapezoid 89"/>
            <p:cNvSpPr/>
            <p:nvPr/>
          </p:nvSpPr>
          <p:spPr>
            <a:xfrm flipV="1">
              <a:off x="1692360" y="5361480"/>
              <a:ext cx="5851440" cy="639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735" y="21600"/>
                  </a:lnTo>
                  <a:lnTo>
                    <a:pt x="19865" y="21600"/>
                  </a:lnTo>
                  <a:lnTo>
                    <a:pt x="21600" y="0"/>
                  </a:lnTo>
                  <a:close/>
                </a:path>
              </a:pathLst>
            </a:custGeom>
            <a:solidFill>
              <a:srgbClr val="7f7f7f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47" name="TextBox 98"/>
            <p:cNvSpPr/>
            <p:nvPr/>
          </p:nvSpPr>
          <p:spPr>
            <a:xfrm>
              <a:off x="3105000" y="2994120"/>
              <a:ext cx="3065400" cy="369720"/>
            </a:xfrm>
            <a:prstGeom prst="rect">
              <a:avLst/>
            </a:prstGeom>
            <a:solidFill>
              <a:srgbClr val="a5a5a5"/>
            </a:solidFill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248" name="TextBox 63"/>
          <p:cNvSpPr/>
          <p:nvPr/>
        </p:nvSpPr>
        <p:spPr>
          <a:xfrm>
            <a:off x="3971880" y="1979640"/>
            <a:ext cx="13510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alue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9" name="TextBox 65"/>
          <p:cNvSpPr/>
          <p:nvPr/>
        </p:nvSpPr>
        <p:spPr>
          <a:xfrm>
            <a:off x="3043080" y="4019400"/>
            <a:ext cx="32036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s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TextBox 66"/>
          <p:cNvSpPr/>
          <p:nvPr/>
        </p:nvSpPr>
        <p:spPr>
          <a:xfrm>
            <a:off x="2614680" y="5029200"/>
            <a:ext cx="409104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rategic goal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TextBox 68"/>
          <p:cNvSpPr/>
          <p:nvPr/>
        </p:nvSpPr>
        <p:spPr>
          <a:xfrm>
            <a:off x="2171880" y="6019920"/>
            <a:ext cx="49924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actics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2" name="Rectangle 74"/>
          <p:cNvSpPr/>
          <p:nvPr/>
        </p:nvSpPr>
        <p:spPr>
          <a:xfrm>
            <a:off x="3505320" y="2987640"/>
            <a:ext cx="2286000" cy="380880"/>
          </a:xfrm>
          <a:prstGeom prst="rect">
            <a:avLst/>
          </a:prstGeom>
          <a:solidFill>
            <a:srgbClr val="3e7fcd"/>
          </a:solidFill>
          <a:ln w="9360">
            <a:solidFill>
              <a:srgbClr val="4a7d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Isosceles Triangle 59"/>
          <p:cNvSpPr/>
          <p:nvPr/>
        </p:nvSpPr>
        <p:spPr>
          <a:xfrm>
            <a:off x="3983040" y="1225440"/>
            <a:ext cx="1339920" cy="755640"/>
          </a:xfrm>
          <a:prstGeom prst="triangle">
            <a:avLst>
              <a:gd name="adj" fmla="val 50000"/>
            </a:avLst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Trapezoid 60"/>
          <p:cNvSpPr/>
          <p:nvPr/>
        </p:nvSpPr>
        <p:spPr>
          <a:xfrm flipV="1">
            <a:off x="3505320" y="2347200"/>
            <a:ext cx="228600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4439" y="21600"/>
                </a:lnTo>
                <a:lnTo>
                  <a:pt x="1716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Trapezoid 61"/>
          <p:cNvSpPr/>
          <p:nvPr/>
        </p:nvSpPr>
        <p:spPr>
          <a:xfrm flipV="1">
            <a:off x="3043080" y="3368520"/>
            <a:ext cx="3203640" cy="640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3170" y="21600"/>
                </a:lnTo>
                <a:lnTo>
                  <a:pt x="18430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Trapezoid 62"/>
          <p:cNvSpPr/>
          <p:nvPr/>
        </p:nvSpPr>
        <p:spPr>
          <a:xfrm flipV="1">
            <a:off x="2614680" y="4388760"/>
            <a:ext cx="409104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346" y="21600"/>
                </a:lnTo>
                <a:lnTo>
                  <a:pt x="19254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7" name="Trapezoid 67"/>
          <p:cNvSpPr/>
          <p:nvPr/>
        </p:nvSpPr>
        <p:spPr>
          <a:xfrm flipV="1">
            <a:off x="2171880" y="5368320"/>
            <a:ext cx="4992480" cy="639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1979" y="21600"/>
                </a:lnTo>
                <a:lnTo>
                  <a:pt x="19621" y="21600"/>
                </a:lnTo>
                <a:lnTo>
                  <a:pt x="21600" y="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TextBox 64"/>
          <p:cNvSpPr/>
          <p:nvPr/>
        </p:nvSpPr>
        <p:spPr>
          <a:xfrm>
            <a:off x="3505320" y="2998800"/>
            <a:ext cx="228600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ision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259" name="组合 6168"/>
          <p:cNvGrpSpPr/>
          <p:nvPr/>
        </p:nvGrpSpPr>
        <p:grpSpPr>
          <a:xfrm>
            <a:off x="4027320" y="159840"/>
            <a:ext cx="1257480" cy="1580040"/>
            <a:chOff x="4027320" y="159840"/>
            <a:chExt cx="1257480" cy="1580040"/>
          </a:xfrm>
        </p:grpSpPr>
        <p:sp>
          <p:nvSpPr>
            <p:cNvPr id="260" name="Oval 5"/>
            <p:cNvSpPr/>
            <p:nvPr/>
          </p:nvSpPr>
          <p:spPr>
            <a:xfrm>
              <a:off x="4027320" y="482760"/>
              <a:ext cx="1257480" cy="125712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1" name="Ellipse 43"/>
            <p:cNvSpPr/>
            <p:nvPr/>
          </p:nvSpPr>
          <p:spPr>
            <a:xfrm>
              <a:off x="4127760" y="591480"/>
              <a:ext cx="1056600" cy="1053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2" name="Oval 7"/>
            <p:cNvSpPr/>
            <p:nvPr/>
          </p:nvSpPr>
          <p:spPr>
            <a:xfrm>
              <a:off x="4130640" y="591480"/>
              <a:ext cx="1050480" cy="1049400"/>
            </a:xfrm>
            <a:prstGeom prst="ellipse">
              <a:avLst/>
            </a:prstGeom>
            <a:solidFill>
              <a:srgbClr val="bfbfbf"/>
            </a:solidFill>
            <a:ln w="79200">
              <a:solidFill>
                <a:srgbClr val="5959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263" name="Måne 120"/>
            <p:cNvSpPr/>
            <p:nvPr/>
          </p:nvSpPr>
          <p:spPr>
            <a:xfrm rot="16551600">
              <a:off x="4428000" y="906120"/>
              <a:ext cx="455400" cy="978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485" y="963"/>
                    <a:pt x="5370" y="5080"/>
                    <a:pt x="5370" y="10800"/>
                  </a:cubicBezTo>
                  <a:cubicBezTo>
                    <a:pt x="5370" y="16520"/>
                    <a:pt x="13485" y="20637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264" name="组合 6173"/>
            <p:cNvGrpSpPr/>
            <p:nvPr/>
          </p:nvGrpSpPr>
          <p:grpSpPr>
            <a:xfrm>
              <a:off x="4188600" y="645840"/>
              <a:ext cx="934560" cy="936000"/>
              <a:chOff x="4188600" y="645840"/>
              <a:chExt cx="934560" cy="936000"/>
            </a:xfrm>
          </p:grpSpPr>
          <p:grpSp>
            <p:nvGrpSpPr>
              <p:cNvPr id="265" name="组合 6174"/>
              <p:cNvGrpSpPr/>
              <p:nvPr/>
            </p:nvGrpSpPr>
            <p:grpSpPr>
              <a:xfrm>
                <a:off x="4678560" y="645840"/>
                <a:ext cx="1080" cy="936000"/>
                <a:chOff x="4678560" y="645840"/>
                <a:chExt cx="1080" cy="936000"/>
              </a:xfrm>
            </p:grpSpPr>
            <p:grpSp>
              <p:nvGrpSpPr>
                <p:cNvPr id="266" name=""/>
                <p:cNvGrpSpPr/>
                <p:nvPr/>
              </p:nvGrpSpPr>
              <p:grpSpPr>
                <a:xfrm>
                  <a:off x="4678560" y="1502640"/>
                  <a:ext cx="1080" cy="79200"/>
                  <a:chOff x="4678560" y="1502640"/>
                  <a:chExt cx="1080" cy="79200"/>
                </a:xfrm>
              </p:grpSpPr>
              <p:sp>
                <p:nvSpPr>
                  <p:cNvPr id="267" name="Straight Connector 55"/>
                  <p:cNvSpPr/>
                  <p:nvPr/>
                </p:nvSpPr>
                <p:spPr>
                  <a:xfrm flipH="1">
                    <a:off x="4678560" y="1502640"/>
                    <a:ext cx="108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 txBox="1"/>
                  <p:nvPr/>
                </p:nvSpPr>
                <p:spPr>
                  <a:xfrm rot="5400000">
                    <a:off x="4639320" y="15415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9" name=""/>
                <p:cNvGrpSpPr/>
                <p:nvPr/>
              </p:nvGrpSpPr>
              <p:grpSpPr>
                <a:xfrm>
                  <a:off x="4678560" y="645840"/>
                  <a:ext cx="1080" cy="79200"/>
                  <a:chOff x="4678560" y="645840"/>
                  <a:chExt cx="1080" cy="79200"/>
                </a:xfrm>
              </p:grpSpPr>
              <p:sp>
                <p:nvSpPr>
                  <p:cNvPr id="270" name="Straight Connector 56"/>
                  <p:cNvSpPr/>
                  <p:nvPr/>
                </p:nvSpPr>
                <p:spPr>
                  <a:xfrm flipH="1">
                    <a:off x="4678560" y="645840"/>
                    <a:ext cx="1080" cy="792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0" bIns="324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 txBox="1"/>
                  <p:nvPr/>
                </p:nvSpPr>
                <p:spPr>
                  <a:xfrm rot="5400000">
                    <a:off x="4639320" y="6847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2" name="组合 6177"/>
              <p:cNvGrpSpPr/>
              <p:nvPr/>
            </p:nvGrpSpPr>
            <p:grpSpPr>
              <a:xfrm>
                <a:off x="4188600" y="1114560"/>
                <a:ext cx="934560" cy="3240"/>
                <a:chOff x="4188600" y="1114560"/>
                <a:chExt cx="934560" cy="3240"/>
              </a:xfrm>
            </p:grpSpPr>
            <p:grpSp>
              <p:nvGrpSpPr>
                <p:cNvPr id="273" name=""/>
                <p:cNvGrpSpPr/>
                <p:nvPr/>
              </p:nvGrpSpPr>
              <p:grpSpPr>
                <a:xfrm>
                  <a:off x="5043960" y="1116720"/>
                  <a:ext cx="79200" cy="1080"/>
                  <a:chOff x="5043960" y="1116720"/>
                  <a:chExt cx="79200" cy="1080"/>
                </a:xfrm>
              </p:grpSpPr>
              <p:sp>
                <p:nvSpPr>
                  <p:cNvPr id="274" name="Straight Connector 53"/>
                  <p:cNvSpPr/>
                  <p:nvPr/>
                </p:nvSpPr>
                <p:spPr>
                  <a:xfrm>
                    <a:off x="5043960" y="1116720"/>
                    <a:ext cx="79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 txBox="1"/>
                  <p:nvPr/>
                </p:nvSpPr>
                <p:spPr>
                  <a:xfrm>
                    <a:off x="5043960" y="111672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"/>
                <p:cNvGrpSpPr/>
                <p:nvPr/>
              </p:nvGrpSpPr>
              <p:grpSpPr>
                <a:xfrm>
                  <a:off x="4188600" y="1114560"/>
                  <a:ext cx="79200" cy="1080"/>
                  <a:chOff x="4188600" y="1114560"/>
                  <a:chExt cx="79200" cy="1080"/>
                </a:xfrm>
              </p:grpSpPr>
              <p:sp>
                <p:nvSpPr>
                  <p:cNvPr id="277" name="Straight Connector 18"/>
                  <p:cNvSpPr/>
                  <p:nvPr/>
                </p:nvSpPr>
                <p:spPr>
                  <a:xfrm>
                    <a:off x="4188600" y="1114560"/>
                    <a:ext cx="79200" cy="1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 txBox="1"/>
                  <p:nvPr/>
                </p:nvSpPr>
                <p:spPr>
                  <a:xfrm>
                    <a:off x="4188600" y="1114560"/>
                    <a:ext cx="792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9" name="组合 6180"/>
            <p:cNvGrpSpPr/>
            <p:nvPr/>
          </p:nvGrpSpPr>
          <p:grpSpPr>
            <a:xfrm>
              <a:off x="4253040" y="705960"/>
              <a:ext cx="807120" cy="806400"/>
              <a:chOff x="4253040" y="705960"/>
              <a:chExt cx="807120" cy="806400"/>
            </a:xfrm>
          </p:grpSpPr>
          <p:grpSp>
            <p:nvGrpSpPr>
              <p:cNvPr id="280" name="组合 6181"/>
              <p:cNvGrpSpPr/>
              <p:nvPr/>
            </p:nvGrpSpPr>
            <p:grpSpPr>
              <a:xfrm>
                <a:off x="4419720" y="705960"/>
                <a:ext cx="494280" cy="806400"/>
                <a:chOff x="4419720" y="705960"/>
                <a:chExt cx="494280" cy="806400"/>
              </a:xfrm>
            </p:grpSpPr>
            <p:grpSp>
              <p:nvGrpSpPr>
                <p:cNvPr id="281" name=""/>
                <p:cNvGrpSpPr/>
                <p:nvPr/>
              </p:nvGrpSpPr>
              <p:grpSpPr>
                <a:xfrm>
                  <a:off x="4885200" y="1465920"/>
                  <a:ext cx="28800" cy="46440"/>
                  <a:chOff x="4885200" y="1465920"/>
                  <a:chExt cx="28800" cy="46440"/>
                </a:xfrm>
              </p:grpSpPr>
              <p:sp>
                <p:nvSpPr>
                  <p:cNvPr id="282" name="Straight Connector 33"/>
                  <p:cNvSpPr/>
                  <p:nvPr/>
                </p:nvSpPr>
                <p:spPr>
                  <a:xfrm>
                    <a:off x="4885920" y="1465920"/>
                    <a:ext cx="277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 txBox="1"/>
                  <p:nvPr/>
                </p:nvSpPr>
                <p:spPr>
                  <a:xfrm rot="3511800">
                    <a:off x="4872600" y="1488600"/>
                    <a:ext cx="540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4419720" y="705960"/>
                  <a:ext cx="28800" cy="46440"/>
                  <a:chOff x="4419720" y="705960"/>
                  <a:chExt cx="28800" cy="46440"/>
                </a:xfrm>
              </p:grpSpPr>
              <p:sp>
                <p:nvSpPr>
                  <p:cNvPr id="285" name="Straight Connector 50"/>
                  <p:cNvSpPr/>
                  <p:nvPr/>
                </p:nvSpPr>
                <p:spPr>
                  <a:xfrm>
                    <a:off x="4420440" y="705960"/>
                    <a:ext cx="27720" cy="464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 txBox="1"/>
                  <p:nvPr/>
                </p:nvSpPr>
                <p:spPr>
                  <a:xfrm rot="3511800">
                    <a:off x="4407120" y="728640"/>
                    <a:ext cx="54000" cy="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080" bIns="-46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组合 6184"/>
              <p:cNvGrpSpPr/>
              <p:nvPr/>
            </p:nvGrpSpPr>
            <p:grpSpPr>
              <a:xfrm>
                <a:off x="4253040" y="871200"/>
                <a:ext cx="807120" cy="493200"/>
                <a:chOff x="4253040" y="871200"/>
                <a:chExt cx="807120" cy="493200"/>
              </a:xfrm>
            </p:grpSpPr>
            <p:grpSp>
              <p:nvGrpSpPr>
                <p:cNvPr id="288" name=""/>
                <p:cNvGrpSpPr/>
                <p:nvPr/>
              </p:nvGrpSpPr>
              <p:grpSpPr>
                <a:xfrm>
                  <a:off x="5014080" y="871200"/>
                  <a:ext cx="46080" cy="28440"/>
                  <a:chOff x="5014080" y="871200"/>
                  <a:chExt cx="46080" cy="28440"/>
                </a:xfrm>
              </p:grpSpPr>
              <p:sp>
                <p:nvSpPr>
                  <p:cNvPr id="289" name="Straight Connector 47"/>
                  <p:cNvSpPr/>
                  <p:nvPr/>
                </p:nvSpPr>
                <p:spPr>
                  <a:xfrm flipV="1">
                    <a:off x="5014080" y="871200"/>
                    <a:ext cx="46080" cy="2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 txBox="1"/>
                  <p:nvPr/>
                </p:nvSpPr>
                <p:spPr>
                  <a:xfrm rot="19711800">
                    <a:off x="5010120" y="884880"/>
                    <a:ext cx="5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1" name=""/>
                <p:cNvGrpSpPr/>
                <p:nvPr/>
              </p:nvGrpSpPr>
              <p:grpSpPr>
                <a:xfrm>
                  <a:off x="4253040" y="1335960"/>
                  <a:ext cx="46080" cy="28440"/>
                  <a:chOff x="4253040" y="1335960"/>
                  <a:chExt cx="46080" cy="28440"/>
                </a:xfrm>
              </p:grpSpPr>
              <p:sp>
                <p:nvSpPr>
                  <p:cNvPr id="292" name="Straight Connector 32"/>
                  <p:cNvSpPr/>
                  <p:nvPr/>
                </p:nvSpPr>
                <p:spPr>
                  <a:xfrm flipV="1">
                    <a:off x="4253040" y="1335960"/>
                    <a:ext cx="46080" cy="280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720" bIns="-1872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"/>
                  <p:cNvSpPr txBox="1"/>
                  <p:nvPr/>
                </p:nvSpPr>
                <p:spPr>
                  <a:xfrm rot="19711800">
                    <a:off x="4249080" y="1349640"/>
                    <a:ext cx="540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4" name="组合 6187"/>
            <p:cNvGrpSpPr/>
            <p:nvPr/>
          </p:nvGrpSpPr>
          <p:grpSpPr>
            <a:xfrm>
              <a:off x="4247280" y="703440"/>
              <a:ext cx="831960" cy="831240"/>
              <a:chOff x="4247280" y="703440"/>
              <a:chExt cx="831960" cy="831240"/>
            </a:xfrm>
          </p:grpSpPr>
          <p:grpSp>
            <p:nvGrpSpPr>
              <p:cNvPr id="295" name="组合 6188"/>
              <p:cNvGrpSpPr/>
              <p:nvPr/>
            </p:nvGrpSpPr>
            <p:grpSpPr>
              <a:xfrm>
                <a:off x="4247280" y="874440"/>
                <a:ext cx="831960" cy="452520"/>
                <a:chOff x="4247280" y="874440"/>
                <a:chExt cx="831960" cy="45252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5031360" y="1300320"/>
                  <a:ext cx="47880" cy="26640"/>
                  <a:chOff x="5031360" y="1300320"/>
                  <a:chExt cx="47880" cy="26640"/>
                </a:xfrm>
              </p:grpSpPr>
              <p:sp>
                <p:nvSpPr>
                  <p:cNvPr id="297" name="Straight Connector 43"/>
                  <p:cNvSpPr/>
                  <p:nvPr/>
                </p:nvSpPr>
                <p:spPr>
                  <a:xfrm>
                    <a:off x="5031720" y="1300320"/>
                    <a:ext cx="46800" cy="26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"/>
                  <p:cNvSpPr txBox="1"/>
                  <p:nvPr/>
                </p:nvSpPr>
                <p:spPr>
                  <a:xfrm rot="1708800">
                    <a:off x="5028120" y="131292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"/>
                <p:cNvGrpSpPr/>
                <p:nvPr/>
              </p:nvGrpSpPr>
              <p:grpSpPr>
                <a:xfrm>
                  <a:off x="4247280" y="874440"/>
                  <a:ext cx="47880" cy="26640"/>
                  <a:chOff x="4247280" y="874440"/>
                  <a:chExt cx="47880" cy="26640"/>
                </a:xfrm>
              </p:grpSpPr>
              <p:sp>
                <p:nvSpPr>
                  <p:cNvPr id="300" name="Straight Connector 44"/>
                  <p:cNvSpPr/>
                  <p:nvPr/>
                </p:nvSpPr>
                <p:spPr>
                  <a:xfrm>
                    <a:off x="4247640" y="874440"/>
                    <a:ext cx="47160" cy="266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"/>
                  <p:cNvSpPr txBox="1"/>
                  <p:nvPr/>
                </p:nvSpPr>
                <p:spPr>
                  <a:xfrm rot="1708800">
                    <a:off x="4244040" y="88704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组合 6191"/>
              <p:cNvGrpSpPr/>
              <p:nvPr/>
            </p:nvGrpSpPr>
            <p:grpSpPr>
              <a:xfrm>
                <a:off x="4429440" y="703440"/>
                <a:ext cx="451800" cy="831240"/>
                <a:chOff x="4429440" y="703440"/>
                <a:chExt cx="451800" cy="831240"/>
              </a:xfrm>
            </p:grpSpPr>
            <p:grpSp>
              <p:nvGrpSpPr>
                <p:cNvPr id="303" name=""/>
                <p:cNvGrpSpPr/>
                <p:nvPr/>
              </p:nvGrpSpPr>
              <p:grpSpPr>
                <a:xfrm>
                  <a:off x="4854600" y="703440"/>
                  <a:ext cx="26640" cy="47880"/>
                  <a:chOff x="4854600" y="703440"/>
                  <a:chExt cx="26640" cy="47880"/>
                </a:xfrm>
              </p:grpSpPr>
              <p:sp>
                <p:nvSpPr>
                  <p:cNvPr id="304" name="Straight Connector 41"/>
                  <p:cNvSpPr/>
                  <p:nvPr/>
                </p:nvSpPr>
                <p:spPr>
                  <a:xfrm flipV="1">
                    <a:off x="4854600" y="703800"/>
                    <a:ext cx="2664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 txBox="1"/>
                  <p:nvPr/>
                </p:nvSpPr>
                <p:spPr>
                  <a:xfrm rot="17908800">
                    <a:off x="4840920" y="72684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4429440" y="1486800"/>
                  <a:ext cx="26640" cy="47880"/>
                  <a:chOff x="4429440" y="1486800"/>
                  <a:chExt cx="26640" cy="47880"/>
                </a:xfrm>
              </p:grpSpPr>
              <p:sp>
                <p:nvSpPr>
                  <p:cNvPr id="307" name="Straight Connector 42"/>
                  <p:cNvSpPr/>
                  <p:nvPr/>
                </p:nvSpPr>
                <p:spPr>
                  <a:xfrm flipV="1">
                    <a:off x="4429440" y="1487160"/>
                    <a:ext cx="26640" cy="47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" bIns="36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 txBox="1"/>
                  <p:nvPr/>
                </p:nvSpPr>
                <p:spPr>
                  <a:xfrm rot="17908800">
                    <a:off x="4415760" y="1510200"/>
                    <a:ext cx="54000" cy="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720" bIns="-45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309" name="Block Arc 12"/>
            <p:cNvSpPr/>
            <p:nvPr/>
          </p:nvSpPr>
          <p:spPr>
            <a:xfrm rot="16908600">
              <a:off x="4524840" y="183960"/>
              <a:ext cx="261720" cy="261000"/>
            </a:xfrm>
            <a:custGeom>
              <a:avLst/>
              <a:gdLst/>
              <a:ahLst/>
              <a:rect l="l" t="t" r="r" b="b"/>
              <a:pathLst>
                <a:path w="368300" h="366713">
                  <a:moveTo>
                    <a:pt x="0" y="183357"/>
                  </a:moveTo>
                  <a:lnTo>
                    <a:pt x="0" y="183357"/>
                  </a:lnTo>
                  <a:cubicBezTo>
                    <a:pt x="0" y="82091"/>
                    <a:pt x="82446" y="0"/>
                    <a:pt x="184150" y="0"/>
                  </a:cubicBezTo>
                  <a:cubicBezTo>
                    <a:pt x="285853" y="0"/>
                    <a:pt x="368300" y="82091"/>
                    <a:pt x="368300" y="183357"/>
                  </a:cubicBezTo>
                  <a:cubicBezTo>
                    <a:pt x="368300" y="284622"/>
                    <a:pt x="285853" y="366714"/>
                    <a:pt x="184150" y="366714"/>
                  </a:cubicBezTo>
                  <a:cubicBezTo>
                    <a:pt x="103740" y="366714"/>
                    <a:pt x="32628" y="314766"/>
                    <a:pt x="8491" y="238395"/>
                  </a:cubicBezTo>
                  <a:lnTo>
                    <a:pt x="23998" y="233536"/>
                  </a:lnTo>
                  <a:lnTo>
                    <a:pt x="23997" y="233536"/>
                  </a:lnTo>
                  <a:cubicBezTo>
                    <a:pt x="46010" y="303129"/>
                    <a:pt x="110842" y="350464"/>
                    <a:pt x="184150" y="350464"/>
                  </a:cubicBezTo>
                  <a:cubicBezTo>
                    <a:pt x="276879" y="350464"/>
                    <a:pt x="352051" y="275647"/>
                    <a:pt x="352051" y="183357"/>
                  </a:cubicBezTo>
                  <a:cubicBezTo>
                    <a:pt x="352051" y="91066"/>
                    <a:pt x="276879" y="16250"/>
                    <a:pt x="184150" y="16250"/>
                  </a:cubicBezTo>
                  <a:cubicBezTo>
                    <a:pt x="91420" y="16250"/>
                    <a:pt x="16249" y="91066"/>
                    <a:pt x="16249" y="183357"/>
                  </a:cubicBezTo>
                  <a:lnTo>
                    <a:pt x="0" y="183357"/>
                  </a:lnTo>
                  <a:close/>
                </a:path>
              </a:pathLst>
            </a:custGeom>
            <a:solidFill>
              <a:srgbClr val="bfbfbf"/>
            </a:solidFill>
            <a:ln w="936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4618080" y="393840"/>
              <a:ext cx="75960" cy="88560"/>
            </a:xfrm>
            <a:prstGeom prst="rect">
              <a:avLst/>
            </a:pr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311" name="组合 6196"/>
            <p:cNvGrpSpPr/>
            <p:nvPr/>
          </p:nvGrpSpPr>
          <p:grpSpPr>
            <a:xfrm>
              <a:off x="4417200" y="871920"/>
              <a:ext cx="525960" cy="523440"/>
              <a:chOff x="4417200" y="871920"/>
              <a:chExt cx="525960" cy="523440"/>
            </a:xfrm>
          </p:grpSpPr>
          <p:grpSp>
            <p:nvGrpSpPr>
              <p:cNvPr id="312" name="组合 6197"/>
              <p:cNvGrpSpPr/>
              <p:nvPr/>
            </p:nvGrpSpPr>
            <p:grpSpPr>
              <a:xfrm>
                <a:off x="4417200" y="871920"/>
                <a:ext cx="525960" cy="523440"/>
                <a:chOff x="4417200" y="871920"/>
                <a:chExt cx="525960" cy="523440"/>
              </a:xfrm>
            </p:grpSpPr>
            <p:sp>
              <p:nvSpPr>
                <p:cNvPr id="313" name="Isosceles Triangle 34"/>
                <p:cNvSpPr/>
                <p:nvPr/>
              </p:nvSpPr>
              <p:spPr>
                <a:xfrm>
                  <a:off x="4624200" y="8719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14" name="Isosceles Triangle 35"/>
                <p:cNvSpPr/>
                <p:nvPr/>
              </p:nvSpPr>
              <p:spPr>
                <a:xfrm flipV="1">
                  <a:off x="4624200" y="1134720"/>
                  <a:ext cx="114120" cy="2602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315" name="组合 6200"/>
                <p:cNvGrpSpPr/>
                <p:nvPr/>
              </p:nvGrpSpPr>
              <p:grpSpPr>
                <a:xfrm>
                  <a:off x="4417200" y="1076400"/>
                  <a:ext cx="525960" cy="113760"/>
                  <a:chOff x="4417200" y="1076400"/>
                  <a:chExt cx="525960" cy="113760"/>
                </a:xfrm>
              </p:grpSpPr>
              <p:sp>
                <p:nvSpPr>
                  <p:cNvPr id="316" name="Isosceles Triangle 37"/>
                  <p:cNvSpPr/>
                  <p:nvPr/>
                </p:nvSpPr>
                <p:spPr>
                  <a:xfrm rot="16200000">
                    <a:off x="4492440" y="100080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Isosceles Triangle 38"/>
                  <p:cNvSpPr/>
                  <p:nvPr/>
                </p:nvSpPr>
                <p:spPr>
                  <a:xfrm flipV="1" rot="16200000">
                    <a:off x="4756680" y="1003680"/>
                    <a:ext cx="110880" cy="261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" name="组合 6203"/>
              <p:cNvGrpSpPr/>
              <p:nvPr/>
            </p:nvGrpSpPr>
            <p:grpSpPr>
              <a:xfrm>
                <a:off x="4529880" y="981360"/>
                <a:ext cx="302040" cy="303840"/>
                <a:chOff x="4529880" y="981360"/>
                <a:chExt cx="302040" cy="303840"/>
              </a:xfrm>
            </p:grpSpPr>
            <p:sp>
              <p:nvSpPr>
                <p:cNvPr id="319" name="Isosceles Triangle 29"/>
                <p:cNvSpPr/>
                <p:nvPr/>
              </p:nvSpPr>
              <p:spPr>
                <a:xfrm rot="18900000">
                  <a:off x="4580280" y="98244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20" name="Isosceles Triangle 30"/>
                <p:cNvSpPr/>
                <p:nvPr/>
              </p:nvSpPr>
              <p:spPr>
                <a:xfrm flipV="1" rot="18900000">
                  <a:off x="4704120" y="1107720"/>
                  <a:ext cx="75960" cy="17460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59595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grpSp>
              <p:nvGrpSpPr>
                <p:cNvPr id="321" name="组合 6206"/>
                <p:cNvGrpSpPr/>
                <p:nvPr/>
              </p:nvGrpSpPr>
              <p:grpSpPr>
                <a:xfrm>
                  <a:off x="4531320" y="982800"/>
                  <a:ext cx="300600" cy="302400"/>
                  <a:chOff x="4531320" y="982800"/>
                  <a:chExt cx="300600" cy="302400"/>
                </a:xfrm>
              </p:grpSpPr>
              <p:sp>
                <p:nvSpPr>
                  <p:cNvPr id="322" name="Isosceles Triangle 32"/>
                  <p:cNvSpPr/>
                  <p:nvPr/>
                </p:nvSpPr>
                <p:spPr>
                  <a:xfrm rot="13500000">
                    <a:off x="4582440" y="1108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Isosceles Triangle 33"/>
                  <p:cNvSpPr/>
                  <p:nvPr/>
                </p:nvSpPr>
                <p:spPr>
                  <a:xfrm flipV="1" rot="13500000">
                    <a:off x="4706640" y="982800"/>
                    <a:ext cx="73800" cy="17604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5959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1880" bIns="118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4" name="组合 6209"/>
            <p:cNvGrpSpPr/>
            <p:nvPr/>
          </p:nvGrpSpPr>
          <p:grpSpPr>
            <a:xfrm>
              <a:off x="4634280" y="777240"/>
              <a:ext cx="87480" cy="678600"/>
              <a:chOff x="4634280" y="777240"/>
              <a:chExt cx="87480" cy="678600"/>
            </a:xfrm>
          </p:grpSpPr>
          <p:grpSp>
            <p:nvGrpSpPr>
              <p:cNvPr id="325" name="组合 6210"/>
              <p:cNvGrpSpPr/>
              <p:nvPr/>
            </p:nvGrpSpPr>
            <p:grpSpPr>
              <a:xfrm>
                <a:off x="4652640" y="777240"/>
                <a:ext cx="51840" cy="678600"/>
                <a:chOff x="4652640" y="777240"/>
                <a:chExt cx="51840" cy="678600"/>
              </a:xfrm>
            </p:grpSpPr>
            <p:sp>
              <p:nvSpPr>
                <p:cNvPr id="326" name="Isosceles Triangle 25"/>
                <p:cNvSpPr/>
                <p:nvPr/>
              </p:nvSpPr>
              <p:spPr>
                <a:xfrm flipH="1" rot="10800000">
                  <a:off x="4652640" y="111816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327" name="Isosceles Triangle 26"/>
                <p:cNvSpPr/>
                <p:nvPr/>
              </p:nvSpPr>
              <p:spPr>
                <a:xfrm flipH="1" flipV="1" rot="10800000">
                  <a:off x="4654080" y="777240"/>
                  <a:ext cx="50400" cy="3376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8" name="Oval 13"/>
              <p:cNvSpPr/>
              <p:nvPr/>
            </p:nvSpPr>
            <p:spPr>
              <a:xfrm flipH="1" rot="10800000">
                <a:off x="4633920" y="1085760"/>
                <a:ext cx="87480" cy="87480"/>
              </a:xfrm>
              <a:prstGeom prst="ellipse">
                <a:avLst/>
              </a:prstGeom>
              <a:solidFill>
                <a:srgbClr val="0c0c0c"/>
              </a:solidFill>
              <a:ln w="9360">
                <a:solidFill>
                  <a:srgbClr val="0c0c0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29" name="Oval 24"/>
              <p:cNvSpPr/>
              <p:nvPr/>
            </p:nvSpPr>
            <p:spPr>
              <a:xfrm flipH="1" rot="10800000">
                <a:off x="4660560" y="1110960"/>
                <a:ext cx="37800" cy="37800"/>
              </a:xfrm>
              <a:prstGeom prst="ellipse">
                <a:avLst/>
              </a:prstGeom>
              <a:solidFill>
                <a:srgbClr val="000000"/>
              </a:solidFill>
              <a:ln w="2232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330" name="TextBox 166"/>
            <p:cNvSpPr/>
            <p:nvPr/>
          </p:nvSpPr>
          <p:spPr>
            <a:xfrm>
              <a:off x="4571280" y="6861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N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1" name="TextBox 167"/>
            <p:cNvSpPr/>
            <p:nvPr/>
          </p:nvSpPr>
          <p:spPr>
            <a:xfrm>
              <a:off x="4571280" y="132732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S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2" name="TextBox 168"/>
            <p:cNvSpPr/>
            <p:nvPr/>
          </p:nvSpPr>
          <p:spPr>
            <a:xfrm>
              <a:off x="488628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3" name="TextBox 169"/>
            <p:cNvSpPr/>
            <p:nvPr/>
          </p:nvSpPr>
          <p:spPr>
            <a:xfrm>
              <a:off x="4224240" y="995760"/>
              <a:ext cx="195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34" name="Ellipse 45"/>
            <p:cNvSpPr/>
            <p:nvPr/>
          </p:nvSpPr>
          <p:spPr>
            <a:xfrm>
              <a:off x="4248000" y="683640"/>
              <a:ext cx="856440" cy="712080"/>
            </a:xfrm>
            <a:prstGeom prst="ellipse">
              <a:avLst/>
            </a:prstGeom>
            <a:solidFill>
              <a:srgbClr val="fff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35" name="TextBox 76"/>
          <p:cNvSpPr/>
          <p:nvPr/>
        </p:nvSpPr>
        <p:spPr>
          <a:xfrm>
            <a:off x="2811600" y="5481720"/>
            <a:ext cx="381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TextBox 77"/>
          <p:cNvSpPr/>
          <p:nvPr/>
        </p:nvSpPr>
        <p:spPr>
          <a:xfrm>
            <a:off x="3043080" y="4495680"/>
            <a:ext cx="32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TextBox 78"/>
          <p:cNvSpPr/>
          <p:nvPr/>
        </p:nvSpPr>
        <p:spPr>
          <a:xfrm>
            <a:off x="3505320" y="350028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8" name="TextBox 79"/>
          <p:cNvSpPr/>
          <p:nvPr/>
        </p:nvSpPr>
        <p:spPr>
          <a:xfrm>
            <a:off x="3971880" y="2438280"/>
            <a:ext cx="135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TextBox 80"/>
          <p:cNvSpPr/>
          <p:nvPr/>
        </p:nvSpPr>
        <p:spPr>
          <a:xfrm>
            <a:off x="3951360" y="17017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Rectangle 95"/>
          <p:cNvSpPr/>
          <p:nvPr/>
        </p:nvSpPr>
        <p:spPr>
          <a:xfrm>
            <a:off x="1143000" y="60022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1" name="Parallelogram 96"/>
          <p:cNvSpPr/>
          <p:nvPr/>
        </p:nvSpPr>
        <p:spPr>
          <a:xfrm>
            <a:off x="1143000" y="536256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Rectangle 97"/>
          <p:cNvSpPr/>
          <p:nvPr/>
        </p:nvSpPr>
        <p:spPr>
          <a:xfrm>
            <a:off x="1611360" y="498168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arallelogram 98"/>
          <p:cNvSpPr/>
          <p:nvPr/>
        </p:nvSpPr>
        <p:spPr>
          <a:xfrm>
            <a:off x="1611360" y="4343400"/>
            <a:ext cx="850680" cy="639720"/>
          </a:xfrm>
          <a:prstGeom prst="parallelogram">
            <a:avLst>
              <a:gd name="adj" fmla="val 7498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Rectangle 99"/>
          <p:cNvSpPr/>
          <p:nvPr/>
        </p:nvSpPr>
        <p:spPr>
          <a:xfrm>
            <a:off x="2081160" y="3962520"/>
            <a:ext cx="380880" cy="380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arallelogram 100"/>
          <p:cNvSpPr/>
          <p:nvPr/>
        </p:nvSpPr>
        <p:spPr>
          <a:xfrm>
            <a:off x="2081160" y="3322800"/>
            <a:ext cx="849240" cy="639720"/>
          </a:xfrm>
          <a:prstGeom prst="parallelogram">
            <a:avLst>
              <a:gd name="adj" fmla="val 7494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6" name="Rectangle 101"/>
          <p:cNvSpPr/>
          <p:nvPr/>
        </p:nvSpPr>
        <p:spPr>
          <a:xfrm>
            <a:off x="2549520" y="2941560"/>
            <a:ext cx="38088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arallelogram 102"/>
          <p:cNvSpPr/>
          <p:nvPr/>
        </p:nvSpPr>
        <p:spPr>
          <a:xfrm>
            <a:off x="2549520" y="2301840"/>
            <a:ext cx="849240" cy="639720"/>
          </a:xfrm>
          <a:prstGeom prst="parallelogram">
            <a:avLst>
              <a:gd name="adj" fmla="val 749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Up Arrow 104"/>
          <p:cNvSpPr/>
          <p:nvPr/>
        </p:nvSpPr>
        <p:spPr>
          <a:xfrm>
            <a:off x="2851200" y="1225440"/>
            <a:ext cx="730080" cy="1081080"/>
          </a:xfrm>
          <a:prstGeom prst="up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349" name="组合 6234"/>
          <p:cNvGrpSpPr/>
          <p:nvPr/>
        </p:nvGrpSpPr>
        <p:grpSpPr>
          <a:xfrm>
            <a:off x="2009880" y="6019920"/>
            <a:ext cx="285480" cy="307080"/>
            <a:chOff x="2009880" y="6019920"/>
            <a:chExt cx="285480" cy="307080"/>
          </a:xfrm>
        </p:grpSpPr>
        <p:sp>
          <p:nvSpPr>
            <p:cNvPr id="350" name="Ellipse 53"/>
            <p:cNvSpPr/>
            <p:nvPr/>
          </p:nvSpPr>
          <p:spPr>
            <a:xfrm>
              <a:off x="2009880" y="604980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1" name="Tekstboks 54"/>
            <p:cNvSpPr/>
            <p:nvPr/>
          </p:nvSpPr>
          <p:spPr>
            <a:xfrm>
              <a:off x="2017080" y="60199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1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2" name="组合 6237"/>
          <p:cNvGrpSpPr/>
          <p:nvPr/>
        </p:nvGrpSpPr>
        <p:grpSpPr>
          <a:xfrm>
            <a:off x="2490840" y="5060880"/>
            <a:ext cx="285480" cy="307080"/>
            <a:chOff x="2490840" y="5060880"/>
            <a:chExt cx="285480" cy="307080"/>
          </a:xfrm>
        </p:grpSpPr>
        <p:sp>
          <p:nvSpPr>
            <p:cNvPr id="353" name="Ellipse 53"/>
            <p:cNvSpPr/>
            <p:nvPr/>
          </p:nvSpPr>
          <p:spPr>
            <a:xfrm>
              <a:off x="2490840" y="5090760"/>
              <a:ext cx="27216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4" name="Tekstboks 54"/>
            <p:cNvSpPr/>
            <p:nvPr/>
          </p:nvSpPr>
          <p:spPr>
            <a:xfrm>
              <a:off x="2498040" y="506088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2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5" name="组合 6240"/>
          <p:cNvGrpSpPr/>
          <p:nvPr/>
        </p:nvGrpSpPr>
        <p:grpSpPr>
          <a:xfrm>
            <a:off x="2905200" y="4035600"/>
            <a:ext cx="285480" cy="307080"/>
            <a:chOff x="2905200" y="4035600"/>
            <a:chExt cx="285480" cy="307080"/>
          </a:xfrm>
        </p:grpSpPr>
        <p:sp>
          <p:nvSpPr>
            <p:cNvPr id="356" name="Ellipse 53"/>
            <p:cNvSpPr/>
            <p:nvPr/>
          </p:nvSpPr>
          <p:spPr>
            <a:xfrm>
              <a:off x="2905200" y="4065480"/>
              <a:ext cx="270720" cy="27144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57" name="Tekstboks 54"/>
            <p:cNvSpPr/>
            <p:nvPr/>
          </p:nvSpPr>
          <p:spPr>
            <a:xfrm>
              <a:off x="2912400" y="403560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3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58" name="组合 6243"/>
          <p:cNvGrpSpPr/>
          <p:nvPr/>
        </p:nvGrpSpPr>
        <p:grpSpPr>
          <a:xfrm>
            <a:off x="3367080" y="3014640"/>
            <a:ext cx="284760" cy="307080"/>
            <a:chOff x="3367080" y="3014640"/>
            <a:chExt cx="284760" cy="307080"/>
          </a:xfrm>
        </p:grpSpPr>
        <p:sp>
          <p:nvSpPr>
            <p:cNvPr id="359" name="Ellipse 53"/>
            <p:cNvSpPr/>
            <p:nvPr/>
          </p:nvSpPr>
          <p:spPr>
            <a:xfrm>
              <a:off x="3367080" y="304452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0" name="Tekstboks 54"/>
            <p:cNvSpPr/>
            <p:nvPr/>
          </p:nvSpPr>
          <p:spPr>
            <a:xfrm>
              <a:off x="3373560" y="301464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361" name="组合 6246"/>
          <p:cNvGrpSpPr/>
          <p:nvPr/>
        </p:nvGrpSpPr>
        <p:grpSpPr>
          <a:xfrm>
            <a:off x="3833640" y="1998720"/>
            <a:ext cx="284760" cy="307080"/>
            <a:chOff x="3833640" y="1998720"/>
            <a:chExt cx="284760" cy="307080"/>
          </a:xfrm>
        </p:grpSpPr>
        <p:sp>
          <p:nvSpPr>
            <p:cNvPr id="362" name="Ellipse 53"/>
            <p:cNvSpPr/>
            <p:nvPr/>
          </p:nvSpPr>
          <p:spPr>
            <a:xfrm>
              <a:off x="3833640" y="2028600"/>
              <a:ext cx="269280" cy="271800"/>
            </a:xfrm>
            <a:prstGeom prst="ellipse">
              <a:avLst/>
            </a:prstGeom>
            <a:solidFill>
              <a:srgbClr val="ffffff">
                <a:alpha val="61000"/>
              </a:srgbClr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363" name="Tekstboks 54"/>
            <p:cNvSpPr/>
            <p:nvPr/>
          </p:nvSpPr>
          <p:spPr>
            <a:xfrm>
              <a:off x="3840120" y="1998720"/>
              <a:ext cx="27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151616"/>
                  </a:solidFill>
                  <a:latin typeface="微软雅黑"/>
                  <a:ea typeface="微软雅黑"/>
                </a:rPr>
                <a:t>5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递进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E5960-0775-43C3-AE1E-A6EA1C3CD6A1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7" name="Rectangle 2"/>
          <p:cNvSpPr/>
          <p:nvPr/>
        </p:nvSpPr>
        <p:spPr>
          <a:xfrm>
            <a:off x="5029200" y="4721400"/>
            <a:ext cx="214632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8" name="Rectangle 3"/>
          <p:cNvSpPr/>
          <p:nvPr/>
        </p:nvSpPr>
        <p:spPr>
          <a:xfrm>
            <a:off x="466560" y="3716280"/>
            <a:ext cx="8210880" cy="147600"/>
          </a:xfrm>
          <a:prstGeom prst="rect">
            <a:avLst/>
          </a:prstGeom>
          <a:solidFill>
            <a:srgbClr val="1111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9" name="AutoShape 4"/>
          <p:cNvSpPr/>
          <p:nvPr/>
        </p:nvSpPr>
        <p:spPr>
          <a:xfrm>
            <a:off x="466560" y="3208320"/>
            <a:ext cx="8210880" cy="57636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0" name="AutoShape 5"/>
          <p:cNvSpPr/>
          <p:nvPr/>
        </p:nvSpPr>
        <p:spPr>
          <a:xfrm>
            <a:off x="466560" y="3208320"/>
            <a:ext cx="5905800" cy="576360"/>
          </a:xfrm>
          <a:prstGeom prst="roundRect">
            <a:avLst>
              <a:gd name="adj" fmla="val 50000"/>
            </a:avLst>
          </a:prstGeom>
          <a:solidFill>
            <a:srgbClr val="00589a"/>
          </a:solidFill>
          <a:ln w="9360">
            <a:solidFill>
              <a:srgbClr val="00589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700200" y="3208320"/>
            <a:ext cx="7759440" cy="73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372" name="组合 7175"/>
          <p:cNvGrpSpPr/>
          <p:nvPr/>
        </p:nvGrpSpPr>
        <p:grpSpPr>
          <a:xfrm>
            <a:off x="2124000" y="1913040"/>
            <a:ext cx="5976720" cy="1871280"/>
            <a:chOff x="2124000" y="1913040"/>
            <a:chExt cx="5976720" cy="1871280"/>
          </a:xfrm>
        </p:grpSpPr>
        <p:grpSp>
          <p:nvGrpSpPr>
            <p:cNvPr id="373" name=""/>
            <p:cNvGrpSpPr/>
            <p:nvPr/>
          </p:nvGrpSpPr>
          <p:grpSpPr>
            <a:xfrm>
              <a:off x="2124000" y="1913040"/>
              <a:ext cx="1080" cy="1871280"/>
              <a:chOff x="2124000" y="1913040"/>
              <a:chExt cx="1080" cy="1871280"/>
            </a:xfrm>
          </p:grpSpPr>
          <p:sp>
            <p:nvSpPr>
              <p:cNvPr id="374" name="Line 7"/>
              <p:cNvSpPr/>
              <p:nvPr/>
            </p:nvSpPr>
            <p:spPr>
              <a:xfrm>
                <a:off x="212400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 txBox="1"/>
              <p:nvPr/>
            </p:nvSpPr>
            <p:spPr>
              <a:xfrm>
                <a:off x="212400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76" name=""/>
            <p:cNvGrpSpPr/>
            <p:nvPr/>
          </p:nvGrpSpPr>
          <p:grpSpPr>
            <a:xfrm>
              <a:off x="3617640" y="1913040"/>
              <a:ext cx="1080" cy="1871280"/>
              <a:chOff x="3617640" y="1913040"/>
              <a:chExt cx="1080" cy="1871280"/>
            </a:xfrm>
          </p:grpSpPr>
          <p:sp>
            <p:nvSpPr>
              <p:cNvPr id="377" name="Line 8"/>
              <p:cNvSpPr/>
              <p:nvPr/>
            </p:nvSpPr>
            <p:spPr>
              <a:xfrm>
                <a:off x="3617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 txBox="1"/>
              <p:nvPr/>
            </p:nvSpPr>
            <p:spPr>
              <a:xfrm>
                <a:off x="3617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110920" y="1913040"/>
              <a:ext cx="1440" cy="1871280"/>
              <a:chOff x="5110920" y="1913040"/>
              <a:chExt cx="1440" cy="1871280"/>
            </a:xfrm>
          </p:grpSpPr>
          <p:sp>
            <p:nvSpPr>
              <p:cNvPr id="380" name="Line 9"/>
              <p:cNvSpPr/>
              <p:nvPr/>
            </p:nvSpPr>
            <p:spPr>
              <a:xfrm>
                <a:off x="5110920" y="1913040"/>
                <a:ext cx="144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 txBox="1"/>
              <p:nvPr/>
            </p:nvSpPr>
            <p:spPr>
              <a:xfrm>
                <a:off x="5110920" y="1913040"/>
                <a:ext cx="144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604560" y="1913040"/>
              <a:ext cx="1080" cy="1871280"/>
              <a:chOff x="6604560" y="1913040"/>
              <a:chExt cx="1080" cy="1871280"/>
            </a:xfrm>
          </p:grpSpPr>
          <p:sp>
            <p:nvSpPr>
              <p:cNvPr id="383" name="Line 10"/>
              <p:cNvSpPr/>
              <p:nvPr/>
            </p:nvSpPr>
            <p:spPr>
              <a:xfrm>
                <a:off x="660456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 txBox="1"/>
              <p:nvPr/>
            </p:nvSpPr>
            <p:spPr>
              <a:xfrm>
                <a:off x="660456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8099640" y="1913040"/>
              <a:ext cx="1080" cy="1871280"/>
              <a:chOff x="8099640" y="1913040"/>
              <a:chExt cx="1080" cy="1871280"/>
            </a:xfrm>
          </p:grpSpPr>
          <p:sp>
            <p:nvSpPr>
              <p:cNvPr id="386" name="Line 11"/>
              <p:cNvSpPr/>
              <p:nvPr/>
            </p:nvSpPr>
            <p:spPr>
              <a:xfrm>
                <a:off x="8099640" y="1913040"/>
                <a:ext cx="1080" cy="1871280"/>
              </a:xfrm>
              <a:prstGeom prst="line">
                <a:avLst/>
              </a:prstGeom>
              <a:ln w="936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 txBox="1"/>
              <p:nvPr/>
            </p:nvSpPr>
            <p:spPr>
              <a:xfrm>
                <a:off x="8099640" y="1913040"/>
                <a:ext cx="1080" cy="1871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 anchorCtr="1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388" name="WordArt 12"/>
          <p:cNvSpPr/>
          <p:nvPr/>
        </p:nvSpPr>
        <p:spPr>
          <a:xfrm>
            <a:off x="1303200" y="1913040"/>
            <a:ext cx="77652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89" name="WordArt 13"/>
          <p:cNvSpPr/>
          <p:nvPr/>
        </p:nvSpPr>
        <p:spPr>
          <a:xfrm>
            <a:off x="2787480" y="1913040"/>
            <a:ext cx="77652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0" name="WordArt 14"/>
          <p:cNvSpPr/>
          <p:nvPr/>
        </p:nvSpPr>
        <p:spPr>
          <a:xfrm>
            <a:off x="4281480" y="1913040"/>
            <a:ext cx="77616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1" name="WordArt 15"/>
          <p:cNvSpPr/>
          <p:nvPr/>
        </p:nvSpPr>
        <p:spPr>
          <a:xfrm>
            <a:off x="5775480" y="1913040"/>
            <a:ext cx="776160" cy="272880"/>
          </a:xfrm>
          <a:prstGeom prst="rect">
            <a:avLst/>
          </a:prstGeom>
          <a:solidFill>
            <a:srgbClr val="047b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2" name="WordArt 16"/>
          <p:cNvSpPr/>
          <p:nvPr/>
        </p:nvSpPr>
        <p:spPr>
          <a:xfrm>
            <a:off x="7277040" y="1913040"/>
            <a:ext cx="776520" cy="2728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3" name="AutoShape 17"/>
          <p:cNvSpPr/>
          <p:nvPr/>
        </p:nvSpPr>
        <p:spPr>
          <a:xfrm>
            <a:off x="5029200" y="3855960"/>
            <a:ext cx="2158920" cy="936720"/>
          </a:xfrm>
          <a:prstGeom prst="upArrowCallout">
            <a:avLst>
              <a:gd name="adj1" fmla="val 69149"/>
              <a:gd name="adj2" fmla="val 34582"/>
              <a:gd name="adj3" fmla="val 12704"/>
              <a:gd name="adj4" fmla="val 25421"/>
            </a:avLst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11111"/>
                </a:solidFill>
                <a:latin typeface="微软雅黑"/>
              </a:rPr>
              <a:t>此处添加文字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4" name="Rectangle 18"/>
          <p:cNvSpPr/>
          <p:nvPr/>
        </p:nvSpPr>
        <p:spPr>
          <a:xfrm>
            <a:off x="116892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5" name="Rectangle 19"/>
          <p:cNvSpPr/>
          <p:nvPr/>
        </p:nvSpPr>
        <p:spPr>
          <a:xfrm>
            <a:off x="268020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6" name="Rectangle 20"/>
          <p:cNvSpPr/>
          <p:nvPr/>
        </p:nvSpPr>
        <p:spPr>
          <a:xfrm>
            <a:off x="417384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7" name="Rectangle 21"/>
          <p:cNvSpPr/>
          <p:nvPr/>
        </p:nvSpPr>
        <p:spPr>
          <a:xfrm>
            <a:off x="7161480" y="327348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777777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8" name="Rectangle 23"/>
          <p:cNvSpPr/>
          <p:nvPr/>
        </p:nvSpPr>
        <p:spPr>
          <a:xfrm>
            <a:off x="2174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9" name="Rectangle 24"/>
          <p:cNvSpPr/>
          <p:nvPr/>
        </p:nvSpPr>
        <p:spPr>
          <a:xfrm>
            <a:off x="169236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0" name="Rectangle 25"/>
          <p:cNvSpPr/>
          <p:nvPr/>
        </p:nvSpPr>
        <p:spPr>
          <a:xfrm>
            <a:off x="320364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1" name="Rectangle 26"/>
          <p:cNvSpPr/>
          <p:nvPr/>
        </p:nvSpPr>
        <p:spPr>
          <a:xfrm>
            <a:off x="4697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2" name="Rectangle 27"/>
          <p:cNvSpPr/>
          <p:nvPr/>
        </p:nvSpPr>
        <p:spPr>
          <a:xfrm>
            <a:off x="6191280" y="2262240"/>
            <a:ext cx="190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77777"/>
                </a:solidFill>
                <a:latin typeface="微软雅黑"/>
              </a:rPr>
              <a:t>点击此处添加文字内容</a:t>
            </a:r>
            <a:endParaRPr b="0" lang="en-US" sz="1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4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9CB-4A4A-450A-AF55-CDA6BC672323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5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154"/>
          <p:cNvSpPr/>
          <p:nvPr/>
        </p:nvSpPr>
        <p:spPr>
          <a:xfrm>
            <a:off x="0" y="-38160"/>
            <a:ext cx="9144000" cy="21938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407" name="组合 9218"/>
          <p:cNvGrpSpPr/>
          <p:nvPr/>
        </p:nvGrpSpPr>
        <p:grpSpPr>
          <a:xfrm>
            <a:off x="174240" y="115920"/>
            <a:ext cx="9142920" cy="5218200"/>
            <a:chOff x="174240" y="115920"/>
            <a:chExt cx="9142920" cy="5218200"/>
          </a:xfrm>
        </p:grpSpPr>
        <p:grpSp>
          <p:nvGrpSpPr>
            <p:cNvPr id="408" name="组合 9219"/>
            <p:cNvGrpSpPr/>
            <p:nvPr/>
          </p:nvGrpSpPr>
          <p:grpSpPr>
            <a:xfrm>
              <a:off x="4776120" y="275760"/>
              <a:ext cx="947520" cy="947880"/>
              <a:chOff x="4776120" y="275760"/>
              <a:chExt cx="947520" cy="947880"/>
            </a:xfrm>
          </p:grpSpPr>
          <p:sp>
            <p:nvSpPr>
              <p:cNvPr id="409" name="Rektangel 40"/>
              <p:cNvSpPr/>
              <p:nvPr/>
            </p:nvSpPr>
            <p:spPr>
              <a:xfrm rot="13200">
                <a:off x="4777560" y="277560"/>
                <a:ext cx="943920" cy="9442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0" name="Billede 8" descr=""/>
              <p:cNvPicPr/>
              <p:nvPr/>
            </p:nvPicPr>
            <p:blipFill>
              <a:blip r:embed="rId1"/>
              <a:srcRect l="0" t="0" r="0" b="6929"/>
              <a:stretch/>
            </p:blipFill>
            <p:spPr>
              <a:xfrm rot="24000">
                <a:off x="4822920" y="311040"/>
                <a:ext cx="865440" cy="772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1" name="组合 9222"/>
            <p:cNvGrpSpPr/>
            <p:nvPr/>
          </p:nvGrpSpPr>
          <p:grpSpPr>
            <a:xfrm>
              <a:off x="4311000" y="355320"/>
              <a:ext cx="1028160" cy="1027800"/>
              <a:chOff x="4311000" y="355320"/>
              <a:chExt cx="1028160" cy="1027800"/>
            </a:xfrm>
          </p:grpSpPr>
          <p:sp>
            <p:nvSpPr>
              <p:cNvPr id="412" name="Rektangel 40"/>
              <p:cNvSpPr/>
              <p:nvPr/>
            </p:nvSpPr>
            <p:spPr>
              <a:xfrm rot="93000">
                <a:off x="4323960" y="368640"/>
                <a:ext cx="1001520" cy="10011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3" name="Billede 22" descr=""/>
              <p:cNvPicPr/>
              <p:nvPr/>
            </p:nvPicPr>
            <p:blipFill>
              <a:blip r:embed="rId2">
                <a:lum bright="18000"/>
              </a:blip>
              <a:srcRect l="0" t="0" r="0" b="16528"/>
              <a:stretch/>
            </p:blipFill>
            <p:spPr>
              <a:xfrm rot="63000">
                <a:off x="4356720" y="405360"/>
                <a:ext cx="940320" cy="758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4" name="组合 9225"/>
            <p:cNvGrpSpPr/>
            <p:nvPr/>
          </p:nvGrpSpPr>
          <p:grpSpPr>
            <a:xfrm>
              <a:off x="3791160" y="474840"/>
              <a:ext cx="1137240" cy="1136880"/>
              <a:chOff x="3791160" y="474840"/>
              <a:chExt cx="1137240" cy="1136880"/>
            </a:xfrm>
          </p:grpSpPr>
          <p:sp>
            <p:nvSpPr>
              <p:cNvPr id="415" name="Rektangel 40"/>
              <p:cNvSpPr/>
              <p:nvPr/>
            </p:nvSpPr>
            <p:spPr>
              <a:xfrm rot="66600">
                <a:off x="3801600" y="485280"/>
                <a:ext cx="1116000" cy="111564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6" name="Billede 10" descr=""/>
              <p:cNvPicPr/>
              <p:nvPr/>
            </p:nvPicPr>
            <p:blipFill>
              <a:blip r:embed="rId3"/>
              <a:srcRect l="11895" t="0" r="12483" b="2981"/>
              <a:stretch/>
            </p:blipFill>
            <p:spPr>
              <a:xfrm rot="75000">
                <a:off x="3857400" y="522360"/>
                <a:ext cx="1018080" cy="867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17" name="组合 9228"/>
            <p:cNvGrpSpPr/>
            <p:nvPr/>
          </p:nvGrpSpPr>
          <p:grpSpPr>
            <a:xfrm>
              <a:off x="3319560" y="600480"/>
              <a:ext cx="1254240" cy="1254240"/>
              <a:chOff x="3319560" y="600480"/>
              <a:chExt cx="1254240" cy="1254240"/>
            </a:xfrm>
          </p:grpSpPr>
          <p:sp>
            <p:nvSpPr>
              <p:cNvPr id="418" name="Rektangel 40"/>
              <p:cNvSpPr/>
              <p:nvPr/>
            </p:nvSpPr>
            <p:spPr>
              <a:xfrm rot="13200">
                <a:off x="3321720" y="602640"/>
                <a:ext cx="1249560" cy="12495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19" name="Billede 6" descr=""/>
              <p:cNvPicPr/>
              <p:nvPr/>
            </p:nvPicPr>
            <p:blipFill>
              <a:blip r:embed="rId4"/>
              <a:srcRect l="13817" t="3626" r="18272" b="12556"/>
              <a:stretch/>
            </p:blipFill>
            <p:spPr>
              <a:xfrm>
                <a:off x="3404520" y="652320"/>
                <a:ext cx="1082160" cy="1006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0" name="组合 9231"/>
            <p:cNvGrpSpPr/>
            <p:nvPr/>
          </p:nvGrpSpPr>
          <p:grpSpPr>
            <a:xfrm>
              <a:off x="2967120" y="814320"/>
              <a:ext cx="1238400" cy="1238400"/>
              <a:chOff x="2967120" y="814320"/>
              <a:chExt cx="1238400" cy="1238400"/>
            </a:xfrm>
          </p:grpSpPr>
          <p:sp>
            <p:nvSpPr>
              <p:cNvPr id="421" name="Rektangel 40"/>
              <p:cNvSpPr/>
              <p:nvPr/>
            </p:nvSpPr>
            <p:spPr>
              <a:xfrm rot="48000">
                <a:off x="2975400" y="822600"/>
                <a:ext cx="1221480" cy="12214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22" name="Billede 45" descr=""/>
              <p:cNvPicPr/>
              <p:nvPr/>
            </p:nvPicPr>
            <p:blipFill>
              <a:blip r:embed="rId5"/>
              <a:srcRect l="21126" t="0" r="0" b="0"/>
              <a:stretch/>
            </p:blipFill>
            <p:spPr>
              <a:xfrm rot="77400">
                <a:off x="3020040" y="882000"/>
                <a:ext cx="1106640" cy="9316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3" name="组合 9234"/>
            <p:cNvGrpSpPr/>
            <p:nvPr/>
          </p:nvGrpSpPr>
          <p:grpSpPr>
            <a:xfrm>
              <a:off x="2560320" y="1034280"/>
              <a:ext cx="1272960" cy="1272600"/>
              <a:chOff x="2560320" y="1034280"/>
              <a:chExt cx="1272960" cy="1272600"/>
            </a:xfrm>
          </p:grpSpPr>
          <p:sp>
            <p:nvSpPr>
              <p:cNvPr id="424" name="Rektangel 40"/>
              <p:cNvSpPr/>
              <p:nvPr/>
            </p:nvSpPr>
            <p:spPr>
              <a:xfrm rot="48000">
                <a:off x="2568960" y="1042920"/>
                <a:ext cx="1255320" cy="12553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25" name="Billede 15" descr=""/>
              <p:cNvPicPr/>
              <p:nvPr/>
            </p:nvPicPr>
            <p:blipFill>
              <a:blip r:embed="rId6"/>
              <a:srcRect l="0" t="0" r="14105" b="0"/>
              <a:stretch/>
            </p:blipFill>
            <p:spPr>
              <a:xfrm>
                <a:off x="2640240" y="1078920"/>
                <a:ext cx="1125720" cy="983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26" name="组合 9237"/>
            <p:cNvGrpSpPr/>
            <p:nvPr/>
          </p:nvGrpSpPr>
          <p:grpSpPr>
            <a:xfrm>
              <a:off x="1675800" y="115920"/>
              <a:ext cx="7636320" cy="5218200"/>
              <a:chOff x="1675800" y="115920"/>
              <a:chExt cx="7636320" cy="5218200"/>
            </a:xfrm>
          </p:grpSpPr>
          <p:sp>
            <p:nvSpPr>
              <p:cNvPr id="427" name="Freeform 174"/>
              <p:cNvSpPr/>
              <p:nvPr/>
            </p:nvSpPr>
            <p:spPr>
              <a:xfrm>
                <a:off x="1726560" y="115920"/>
                <a:ext cx="7585560" cy="5218200"/>
              </a:xfrm>
              <a:custGeom>
                <a:avLst/>
                <a:gdLst/>
                <a:ahLst/>
                <a:rect l="l" t="t" r="r" b="b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1111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28" name="Freeform 4"/>
              <p:cNvSpPr/>
              <p:nvPr/>
            </p:nvSpPr>
            <p:spPr>
              <a:xfrm>
                <a:off x="1675800" y="115920"/>
                <a:ext cx="7585560" cy="5218200"/>
              </a:xfrm>
              <a:custGeom>
                <a:avLst/>
                <a:gdLst/>
                <a:ahLst/>
                <a:rect l="l" t="t" r="r" b="b"/>
                <a:pathLst>
                  <a:path w="7585674" h="5218028">
                    <a:moveTo>
                      <a:pt x="77911" y="5159209"/>
                    </a:moveTo>
                    <a:cubicBezTo>
                      <a:pt x="0" y="5218028"/>
                      <a:pt x="76441" y="5001934"/>
                      <a:pt x="130830" y="4841719"/>
                    </a:cubicBezTo>
                    <a:cubicBezTo>
                      <a:pt x="185219" y="4681504"/>
                      <a:pt x="293998" y="4405170"/>
                      <a:pt x="404246" y="4197920"/>
                    </a:cubicBezTo>
                    <a:cubicBezTo>
                      <a:pt x="514494" y="3990670"/>
                      <a:pt x="658552" y="3784890"/>
                      <a:pt x="792320" y="3598218"/>
                    </a:cubicBezTo>
                    <a:cubicBezTo>
                      <a:pt x="926088" y="3411546"/>
                      <a:pt x="1056916" y="3248391"/>
                      <a:pt x="1206854" y="3077887"/>
                    </a:cubicBezTo>
                    <a:cubicBezTo>
                      <a:pt x="1356792" y="2907383"/>
                      <a:pt x="1521430" y="2728061"/>
                      <a:pt x="1691947" y="2575195"/>
                    </a:cubicBezTo>
                    <a:cubicBezTo>
                      <a:pt x="1862465" y="2422330"/>
                      <a:pt x="2046212" y="2292982"/>
                      <a:pt x="2229959" y="2160694"/>
                    </a:cubicBezTo>
                    <a:cubicBezTo>
                      <a:pt x="2413706" y="2028407"/>
                      <a:pt x="2613623" y="1894649"/>
                      <a:pt x="2794430" y="1781470"/>
                    </a:cubicBezTo>
                    <a:cubicBezTo>
                      <a:pt x="2975237" y="1668291"/>
                      <a:pt x="3139876" y="1577160"/>
                      <a:pt x="3314803" y="1481619"/>
                    </a:cubicBezTo>
                    <a:cubicBezTo>
                      <a:pt x="3489730" y="1386078"/>
                      <a:pt x="3639668" y="1300826"/>
                      <a:pt x="3843995" y="1208225"/>
                    </a:cubicBezTo>
                    <a:cubicBezTo>
                      <a:pt x="4048322" y="1115624"/>
                      <a:pt x="4299689" y="1020083"/>
                      <a:pt x="4540765" y="926012"/>
                    </a:cubicBezTo>
                    <a:cubicBezTo>
                      <a:pt x="4781841" y="831941"/>
                      <a:pt x="4999398" y="743749"/>
                      <a:pt x="5290454" y="643799"/>
                    </a:cubicBezTo>
                    <a:cubicBezTo>
                      <a:pt x="5581510" y="543849"/>
                      <a:pt x="5904905" y="433609"/>
                      <a:pt x="6287099" y="326309"/>
                    </a:cubicBezTo>
                    <a:cubicBezTo>
                      <a:pt x="6669293" y="219009"/>
                      <a:pt x="7367533" y="41156"/>
                      <a:pt x="7583620" y="0"/>
                    </a:cubicBezTo>
                    <a:cubicBezTo>
                      <a:pt x="7581440" y="87873"/>
                      <a:pt x="7585090" y="54384"/>
                      <a:pt x="7583620" y="79372"/>
                    </a:cubicBezTo>
                    <a:cubicBezTo>
                      <a:pt x="7582150" y="104360"/>
                      <a:pt x="7585674" y="103067"/>
                      <a:pt x="7574800" y="149926"/>
                    </a:cubicBezTo>
                    <a:cubicBezTo>
                      <a:pt x="7483661" y="192552"/>
                      <a:pt x="7230825" y="264575"/>
                      <a:pt x="7036788" y="335128"/>
                    </a:cubicBezTo>
                    <a:cubicBezTo>
                      <a:pt x="6842751" y="405681"/>
                      <a:pt x="6653123" y="470355"/>
                      <a:pt x="6410577" y="573245"/>
                    </a:cubicBezTo>
                    <a:cubicBezTo>
                      <a:pt x="6168031" y="676135"/>
                      <a:pt x="5851985" y="806953"/>
                      <a:pt x="5581509" y="952469"/>
                    </a:cubicBezTo>
                    <a:cubicBezTo>
                      <a:pt x="5311033" y="1097985"/>
                      <a:pt x="5011158" y="1287597"/>
                      <a:pt x="4787721" y="1446342"/>
                    </a:cubicBezTo>
                    <a:cubicBezTo>
                      <a:pt x="4564284" y="1605087"/>
                      <a:pt x="4402587" y="1744724"/>
                      <a:pt x="4240889" y="1904939"/>
                    </a:cubicBezTo>
                    <a:cubicBezTo>
                      <a:pt x="4079191" y="2065154"/>
                      <a:pt x="3930723" y="2241537"/>
                      <a:pt x="3817535" y="2407631"/>
                    </a:cubicBezTo>
                    <a:cubicBezTo>
                      <a:pt x="3704347" y="2573725"/>
                      <a:pt x="3626438" y="2729531"/>
                      <a:pt x="3561759" y="2901504"/>
                    </a:cubicBezTo>
                    <a:cubicBezTo>
                      <a:pt x="3497080" y="3073477"/>
                      <a:pt x="3454451" y="3246921"/>
                      <a:pt x="3429461" y="3439473"/>
                    </a:cubicBezTo>
                    <a:cubicBezTo>
                      <a:pt x="3404471" y="3632025"/>
                      <a:pt x="3401531" y="3861323"/>
                      <a:pt x="3411821" y="4056814"/>
                    </a:cubicBezTo>
                    <a:cubicBezTo>
                      <a:pt x="3422111" y="4252305"/>
                      <a:pt x="3450041" y="4427219"/>
                      <a:pt x="3491200" y="4612421"/>
                    </a:cubicBezTo>
                    <a:cubicBezTo>
                      <a:pt x="3532359" y="4797623"/>
                      <a:pt x="3516503" y="4706002"/>
                      <a:pt x="3658778" y="5168028"/>
                    </a:cubicBezTo>
                    <a:lnTo>
                      <a:pt x="77911" y="5159209"/>
                    </a:lnTo>
                    <a:close/>
                  </a:path>
                </a:pathLst>
              </a:cu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29" name="TextBox 155"/>
            <p:cNvSpPr/>
            <p:nvPr/>
          </p:nvSpPr>
          <p:spPr>
            <a:xfrm>
              <a:off x="3749760" y="4307040"/>
              <a:ext cx="2040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1</a:t>
              </a:r>
              <a:endParaRPr b="0" lang="en-US" sz="4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0" name="TextBox 157"/>
            <p:cNvSpPr/>
            <p:nvPr/>
          </p:nvSpPr>
          <p:spPr>
            <a:xfrm>
              <a:off x="3885480" y="3764520"/>
              <a:ext cx="16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endParaRPr b="0" lang="en-US" sz="3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1" name="TextBox 158"/>
            <p:cNvSpPr/>
            <p:nvPr/>
          </p:nvSpPr>
          <p:spPr>
            <a:xfrm>
              <a:off x="4038120" y="3240360"/>
              <a:ext cx="130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9</a:t>
              </a:r>
              <a:endParaRPr b="0" lang="en-US" sz="2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2" name="TextBox 159"/>
            <p:cNvSpPr/>
            <p:nvPr/>
          </p:nvSpPr>
          <p:spPr>
            <a:xfrm>
              <a:off x="4266720" y="2865240"/>
              <a:ext cx="1280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8</a:t>
              </a:r>
              <a:endParaRPr b="0" lang="en-US" sz="2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3" name="TextBox 160"/>
            <p:cNvSpPr/>
            <p:nvPr/>
          </p:nvSpPr>
          <p:spPr>
            <a:xfrm>
              <a:off x="4487760" y="2496600"/>
              <a:ext cx="91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7</a:t>
              </a:r>
              <a:endParaRPr b="0" lang="en-US" sz="2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4" name="TextBox 161"/>
            <p:cNvSpPr/>
            <p:nvPr/>
          </p:nvSpPr>
          <p:spPr>
            <a:xfrm>
              <a:off x="4780080" y="2183760"/>
              <a:ext cx="90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6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5" name="TextBox 162"/>
            <p:cNvSpPr/>
            <p:nvPr/>
          </p:nvSpPr>
          <p:spPr>
            <a:xfrm>
              <a:off x="5076000" y="1944720"/>
              <a:ext cx="11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5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6" name="TextBox 163"/>
            <p:cNvSpPr/>
            <p:nvPr/>
          </p:nvSpPr>
          <p:spPr>
            <a:xfrm>
              <a:off x="5333400" y="171324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4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7" name="TextBox 164"/>
            <p:cNvSpPr/>
            <p:nvPr/>
          </p:nvSpPr>
          <p:spPr>
            <a:xfrm>
              <a:off x="5664240" y="1509480"/>
              <a:ext cx="634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3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8" name="TextBox 165"/>
            <p:cNvSpPr/>
            <p:nvPr/>
          </p:nvSpPr>
          <p:spPr>
            <a:xfrm>
              <a:off x="5924880" y="1387800"/>
              <a:ext cx="448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2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39" name="TextBox 166"/>
            <p:cNvSpPr/>
            <p:nvPr/>
          </p:nvSpPr>
          <p:spPr>
            <a:xfrm>
              <a:off x="6191640" y="1268640"/>
              <a:ext cx="41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1</a:t>
              </a:r>
              <a:endParaRPr b="0" lang="en-US" sz="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40" name="组合 9251"/>
            <p:cNvGrpSpPr/>
            <p:nvPr/>
          </p:nvGrpSpPr>
          <p:grpSpPr>
            <a:xfrm>
              <a:off x="2204640" y="1299600"/>
              <a:ext cx="1290960" cy="1290960"/>
              <a:chOff x="2204640" y="1299600"/>
              <a:chExt cx="1290960" cy="1290960"/>
            </a:xfrm>
          </p:grpSpPr>
          <p:sp>
            <p:nvSpPr>
              <p:cNvPr id="441" name="Rektangel 40"/>
              <p:cNvSpPr/>
              <p:nvPr/>
            </p:nvSpPr>
            <p:spPr>
              <a:xfrm rot="13200">
                <a:off x="2207160" y="1301760"/>
                <a:ext cx="1285920" cy="12859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2" name="Billede 8" descr=""/>
              <p:cNvPicPr/>
              <p:nvPr/>
            </p:nvPicPr>
            <p:blipFill>
              <a:blip r:embed="rId7"/>
              <a:srcRect l="0" t="0" r="0" b="6943"/>
              <a:stretch/>
            </p:blipFill>
            <p:spPr>
              <a:xfrm rot="24000">
                <a:off x="2270160" y="1347840"/>
                <a:ext cx="1179360" cy="10519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3" name="组合 9254"/>
            <p:cNvGrpSpPr/>
            <p:nvPr/>
          </p:nvGrpSpPr>
          <p:grpSpPr>
            <a:xfrm>
              <a:off x="1651320" y="1656720"/>
              <a:ext cx="1395720" cy="1395720"/>
              <a:chOff x="1651320" y="1656720"/>
              <a:chExt cx="1395720" cy="1395720"/>
            </a:xfrm>
          </p:grpSpPr>
          <p:sp>
            <p:nvSpPr>
              <p:cNvPr id="444" name="Rektangel 40"/>
              <p:cNvSpPr/>
              <p:nvPr/>
            </p:nvSpPr>
            <p:spPr>
              <a:xfrm rot="93000">
                <a:off x="1669320" y="1674720"/>
                <a:ext cx="1359360" cy="1359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5" name="Billede 22" descr=""/>
              <p:cNvPicPr/>
              <p:nvPr/>
            </p:nvPicPr>
            <p:blipFill>
              <a:blip r:embed="rId8">
                <a:lum bright="18000"/>
              </a:blip>
              <a:srcRect l="0" t="0" r="0" b="16506"/>
              <a:stretch/>
            </p:blipFill>
            <p:spPr>
              <a:xfrm rot="63000">
                <a:off x="1713960" y="1724400"/>
                <a:ext cx="1276920" cy="1029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6" name="组合 9257"/>
            <p:cNvGrpSpPr/>
            <p:nvPr/>
          </p:nvGrpSpPr>
          <p:grpSpPr>
            <a:xfrm>
              <a:off x="1146960" y="2085840"/>
              <a:ext cx="1470240" cy="1470240"/>
              <a:chOff x="1146960" y="2085840"/>
              <a:chExt cx="1470240" cy="1470240"/>
            </a:xfrm>
          </p:grpSpPr>
          <p:sp>
            <p:nvSpPr>
              <p:cNvPr id="447" name="Rektangel 40"/>
              <p:cNvSpPr/>
              <p:nvPr/>
            </p:nvSpPr>
            <p:spPr>
              <a:xfrm rot="66600">
                <a:off x="1160640" y="2099520"/>
                <a:ext cx="1442520" cy="144252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48" name="Billede 10" descr=""/>
              <p:cNvPicPr/>
              <p:nvPr/>
            </p:nvPicPr>
            <p:blipFill>
              <a:blip r:embed="rId9"/>
              <a:srcRect l="11894" t="0" r="12474" b="2991"/>
              <a:stretch/>
            </p:blipFill>
            <p:spPr>
              <a:xfrm rot="75000">
                <a:off x="1233360" y="2148120"/>
                <a:ext cx="1315440" cy="11210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9" name="组合 9260"/>
            <p:cNvGrpSpPr/>
            <p:nvPr/>
          </p:nvGrpSpPr>
          <p:grpSpPr>
            <a:xfrm>
              <a:off x="579600" y="2496600"/>
              <a:ext cx="1626480" cy="1626480"/>
              <a:chOff x="579600" y="2496600"/>
              <a:chExt cx="1626480" cy="1626480"/>
            </a:xfrm>
          </p:grpSpPr>
          <p:sp>
            <p:nvSpPr>
              <p:cNvPr id="450" name="Rektangel 40"/>
              <p:cNvSpPr/>
              <p:nvPr/>
            </p:nvSpPr>
            <p:spPr>
              <a:xfrm rot="13200">
                <a:off x="582480" y="2499480"/>
                <a:ext cx="1620360" cy="1620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51" name="Billede 6" descr=""/>
              <p:cNvPicPr/>
              <p:nvPr/>
            </p:nvPicPr>
            <p:blipFill>
              <a:blip r:embed="rId10"/>
              <a:srcRect l="13820" t="3613" r="18282" b="12552"/>
              <a:stretch/>
            </p:blipFill>
            <p:spPr>
              <a:xfrm>
                <a:off x="691200" y="2563560"/>
                <a:ext cx="1402560" cy="13042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2" name="组合 9263"/>
            <p:cNvGrpSpPr/>
            <p:nvPr/>
          </p:nvGrpSpPr>
          <p:grpSpPr>
            <a:xfrm>
              <a:off x="174240" y="3312360"/>
              <a:ext cx="1636200" cy="1636200"/>
              <a:chOff x="174240" y="3312360"/>
              <a:chExt cx="1636200" cy="1636200"/>
            </a:xfrm>
          </p:grpSpPr>
          <p:sp>
            <p:nvSpPr>
              <p:cNvPr id="453" name="Rektangel 40"/>
              <p:cNvSpPr/>
              <p:nvPr/>
            </p:nvSpPr>
            <p:spPr>
              <a:xfrm rot="48000">
                <a:off x="185400" y="3323520"/>
                <a:ext cx="1613520" cy="161388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pic>
            <p:nvPicPr>
              <p:cNvPr id="454" name="Billede 45" descr=""/>
              <p:cNvPicPr/>
              <p:nvPr/>
            </p:nvPicPr>
            <p:blipFill>
              <a:blip r:embed="rId11"/>
              <a:srcRect l="21119" t="0" r="0" b="0"/>
              <a:stretch/>
            </p:blipFill>
            <p:spPr>
              <a:xfrm rot="77400">
                <a:off x="243720" y="3400920"/>
                <a:ext cx="1466280" cy="1231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55" name="Freeform 856"/>
            <p:cNvSpPr/>
            <p:nvPr/>
          </p:nvSpPr>
          <p:spPr>
            <a:xfrm>
              <a:off x="3429000" y="166680"/>
              <a:ext cx="5816880" cy="4978800"/>
            </a:xfrm>
            <a:custGeom>
              <a:avLst/>
              <a:gdLst/>
              <a:ahLst/>
              <a:rect l="l" t="t" r="r" b="b"/>
              <a:pathLst>
                <a:path w="5816600" h="4978400">
                  <a:moveTo>
                    <a:pt x="0" y="4978400"/>
                  </a:moveTo>
                  <a:cubicBezTo>
                    <a:pt x="7408" y="4826000"/>
                    <a:pt x="14817" y="4673600"/>
                    <a:pt x="38100" y="4521200"/>
                  </a:cubicBezTo>
                  <a:cubicBezTo>
                    <a:pt x="61383" y="4368800"/>
                    <a:pt x="95250" y="4222750"/>
                    <a:pt x="139700" y="4064000"/>
                  </a:cubicBezTo>
                  <a:cubicBezTo>
                    <a:pt x="184150" y="3905250"/>
                    <a:pt x="239183" y="3727450"/>
                    <a:pt x="304800" y="3568700"/>
                  </a:cubicBezTo>
                  <a:cubicBezTo>
                    <a:pt x="370417" y="3409950"/>
                    <a:pt x="446617" y="3261783"/>
                    <a:pt x="533400" y="3111500"/>
                  </a:cubicBezTo>
                  <a:cubicBezTo>
                    <a:pt x="620183" y="2961217"/>
                    <a:pt x="721783" y="2808817"/>
                    <a:pt x="825500" y="2667000"/>
                  </a:cubicBezTo>
                  <a:cubicBezTo>
                    <a:pt x="929217" y="2525183"/>
                    <a:pt x="1039283" y="2385483"/>
                    <a:pt x="1155700" y="2260600"/>
                  </a:cubicBezTo>
                  <a:cubicBezTo>
                    <a:pt x="1272117" y="2135717"/>
                    <a:pt x="1405467" y="2019300"/>
                    <a:pt x="1524000" y="1917700"/>
                  </a:cubicBezTo>
                  <a:cubicBezTo>
                    <a:pt x="1642533" y="1816100"/>
                    <a:pt x="1744133" y="1739900"/>
                    <a:pt x="1866900" y="1651000"/>
                  </a:cubicBezTo>
                  <a:cubicBezTo>
                    <a:pt x="1989667" y="1562100"/>
                    <a:pt x="2131483" y="1464733"/>
                    <a:pt x="2260600" y="1384300"/>
                  </a:cubicBezTo>
                  <a:cubicBezTo>
                    <a:pt x="2389717" y="1303867"/>
                    <a:pt x="2499783" y="1238250"/>
                    <a:pt x="2641600" y="1168400"/>
                  </a:cubicBezTo>
                  <a:cubicBezTo>
                    <a:pt x="2783417" y="1098550"/>
                    <a:pt x="3111500" y="965200"/>
                    <a:pt x="3111500" y="965200"/>
                  </a:cubicBezTo>
                  <a:cubicBezTo>
                    <a:pt x="3285067" y="891117"/>
                    <a:pt x="3429000" y="823658"/>
                    <a:pt x="3683000" y="723900"/>
                  </a:cubicBezTo>
                  <a:cubicBezTo>
                    <a:pt x="3937000" y="624142"/>
                    <a:pt x="4635500" y="366650"/>
                    <a:pt x="4635500" y="366650"/>
                  </a:cubicBezTo>
                  <a:lnTo>
                    <a:pt x="5816600" y="0"/>
                  </a:lnTo>
                </a:path>
              </a:pathLst>
            </a:custGeom>
            <a:noFill/>
            <a:ln w="19080">
              <a:solidFill>
                <a:srgbClr val="ffffff"/>
              </a:solidFill>
              <a:prstDash val="lg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6" name="TextBox 857"/>
            <p:cNvSpPr/>
            <p:nvPr/>
          </p:nvSpPr>
          <p:spPr>
            <a:xfrm>
              <a:off x="5675040" y="4578120"/>
              <a:ext cx="233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7" name="TextBox 858"/>
            <p:cNvSpPr/>
            <p:nvPr/>
          </p:nvSpPr>
          <p:spPr>
            <a:xfrm>
              <a:off x="5554440" y="3909240"/>
              <a:ext cx="233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6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8" name="TextBox 859"/>
            <p:cNvSpPr/>
            <p:nvPr/>
          </p:nvSpPr>
          <p:spPr>
            <a:xfrm>
              <a:off x="5547240" y="3361320"/>
              <a:ext cx="233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4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59" name="TextBox 860"/>
            <p:cNvSpPr/>
            <p:nvPr/>
          </p:nvSpPr>
          <p:spPr>
            <a:xfrm>
              <a:off x="5562000" y="3017880"/>
              <a:ext cx="2336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3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0" name="TextBox 861"/>
            <p:cNvSpPr/>
            <p:nvPr/>
          </p:nvSpPr>
          <p:spPr>
            <a:xfrm>
              <a:off x="5664240" y="2625480"/>
              <a:ext cx="233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2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1" name="TextBox 862"/>
            <p:cNvSpPr/>
            <p:nvPr/>
          </p:nvSpPr>
          <p:spPr>
            <a:xfrm>
              <a:off x="5892840" y="2339280"/>
              <a:ext cx="23360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1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2" name="TextBox 863"/>
            <p:cNvSpPr/>
            <p:nvPr/>
          </p:nvSpPr>
          <p:spPr>
            <a:xfrm>
              <a:off x="6146640" y="20430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3" name="TextBox 864"/>
            <p:cNvSpPr/>
            <p:nvPr/>
          </p:nvSpPr>
          <p:spPr>
            <a:xfrm>
              <a:off x="6358680" y="179676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464" name="TextBox 865"/>
            <p:cNvSpPr/>
            <p:nvPr/>
          </p:nvSpPr>
          <p:spPr>
            <a:xfrm>
              <a:off x="6748920" y="1495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5222880" y="4762800"/>
              <a:ext cx="441000" cy="1440"/>
              <a:chOff x="5222880" y="4762800"/>
              <a:chExt cx="441000" cy="1440"/>
            </a:xfrm>
          </p:grpSpPr>
          <p:sp>
            <p:nvSpPr>
              <p:cNvPr id="466" name="Straight Connector 867"/>
              <p:cNvSpPr/>
              <p:nvPr/>
            </p:nvSpPr>
            <p:spPr>
              <a:xfrm>
                <a:off x="5222880" y="4762800"/>
                <a:ext cx="4410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 txBox="1"/>
              <p:nvPr/>
            </p:nvSpPr>
            <p:spPr>
              <a:xfrm>
                <a:off x="5222880" y="4762800"/>
                <a:ext cx="4410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112000" y="4078440"/>
              <a:ext cx="442800" cy="1440"/>
              <a:chOff x="5112000" y="4078440"/>
              <a:chExt cx="442800" cy="1440"/>
            </a:xfrm>
          </p:grpSpPr>
          <p:sp>
            <p:nvSpPr>
              <p:cNvPr id="469" name="Straight Connector 869"/>
              <p:cNvSpPr/>
              <p:nvPr/>
            </p:nvSpPr>
            <p:spPr>
              <a:xfrm>
                <a:off x="5112000" y="4078440"/>
                <a:ext cx="442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 txBox="1"/>
              <p:nvPr/>
            </p:nvSpPr>
            <p:spPr>
              <a:xfrm>
                <a:off x="5112000" y="4078440"/>
                <a:ext cx="442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112000" y="3544920"/>
              <a:ext cx="406080" cy="1440"/>
              <a:chOff x="5112000" y="3544920"/>
              <a:chExt cx="406080" cy="1440"/>
            </a:xfrm>
          </p:grpSpPr>
          <p:sp>
            <p:nvSpPr>
              <p:cNvPr id="472" name="Straight Connector 870"/>
              <p:cNvSpPr/>
              <p:nvPr/>
            </p:nvSpPr>
            <p:spPr>
              <a:xfrm>
                <a:off x="5112000" y="3544920"/>
                <a:ext cx="40608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 txBox="1"/>
              <p:nvPr/>
            </p:nvSpPr>
            <p:spPr>
              <a:xfrm>
                <a:off x="5112000" y="3544920"/>
                <a:ext cx="4060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5227560" y="3164040"/>
              <a:ext cx="334800" cy="1440"/>
              <a:chOff x="5227560" y="3164040"/>
              <a:chExt cx="334800" cy="1440"/>
            </a:xfrm>
          </p:grpSpPr>
          <p:sp>
            <p:nvSpPr>
              <p:cNvPr id="475" name="Straight Connector 871"/>
              <p:cNvSpPr/>
              <p:nvPr/>
            </p:nvSpPr>
            <p:spPr>
              <a:xfrm>
                <a:off x="5227560" y="316404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 txBox="1"/>
              <p:nvPr/>
            </p:nvSpPr>
            <p:spPr>
              <a:xfrm>
                <a:off x="5227560" y="316404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5351400" y="2768760"/>
              <a:ext cx="333360" cy="1440"/>
              <a:chOff x="5351400" y="2768760"/>
              <a:chExt cx="333360" cy="1440"/>
            </a:xfrm>
          </p:grpSpPr>
          <p:sp>
            <p:nvSpPr>
              <p:cNvPr id="478" name="Straight Connector 872"/>
              <p:cNvSpPr/>
              <p:nvPr/>
            </p:nvSpPr>
            <p:spPr>
              <a:xfrm>
                <a:off x="5351400" y="276876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 txBox="1"/>
              <p:nvPr/>
            </p:nvSpPr>
            <p:spPr>
              <a:xfrm>
                <a:off x="5351400" y="276876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538960" y="2478240"/>
              <a:ext cx="334800" cy="1440"/>
              <a:chOff x="5538960" y="2478240"/>
              <a:chExt cx="334800" cy="1440"/>
            </a:xfrm>
          </p:grpSpPr>
          <p:sp>
            <p:nvSpPr>
              <p:cNvPr id="481" name="Straight Connector 873"/>
              <p:cNvSpPr/>
              <p:nvPr/>
            </p:nvSpPr>
            <p:spPr>
              <a:xfrm>
                <a:off x="5538960" y="247824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 txBox="1"/>
              <p:nvPr/>
            </p:nvSpPr>
            <p:spPr>
              <a:xfrm>
                <a:off x="5538960" y="247824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5791320" y="2184480"/>
              <a:ext cx="333360" cy="1440"/>
              <a:chOff x="5791320" y="2184480"/>
              <a:chExt cx="333360" cy="1440"/>
            </a:xfrm>
          </p:grpSpPr>
          <p:sp>
            <p:nvSpPr>
              <p:cNvPr id="484" name="Straight Connector 874"/>
              <p:cNvSpPr/>
              <p:nvPr/>
            </p:nvSpPr>
            <p:spPr>
              <a:xfrm>
                <a:off x="5791320" y="218448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 txBox="1"/>
              <p:nvPr/>
            </p:nvSpPr>
            <p:spPr>
              <a:xfrm>
                <a:off x="5791320" y="218448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6" name=""/>
            <p:cNvGrpSpPr/>
            <p:nvPr/>
          </p:nvGrpSpPr>
          <p:grpSpPr>
            <a:xfrm>
              <a:off x="6024600" y="1944720"/>
              <a:ext cx="333360" cy="1440"/>
              <a:chOff x="6024600" y="1944720"/>
              <a:chExt cx="333360" cy="1440"/>
            </a:xfrm>
          </p:grpSpPr>
          <p:sp>
            <p:nvSpPr>
              <p:cNvPr id="487" name="Straight Connector 875"/>
              <p:cNvSpPr/>
              <p:nvPr/>
            </p:nvSpPr>
            <p:spPr>
              <a:xfrm>
                <a:off x="6024600" y="194472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 txBox="1"/>
              <p:nvPr/>
            </p:nvSpPr>
            <p:spPr>
              <a:xfrm>
                <a:off x="6024600" y="194472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6400800" y="1617480"/>
              <a:ext cx="333360" cy="1440"/>
              <a:chOff x="6400800" y="1617480"/>
              <a:chExt cx="333360" cy="1440"/>
            </a:xfrm>
          </p:grpSpPr>
          <p:sp>
            <p:nvSpPr>
              <p:cNvPr id="490" name="Straight Connector 876"/>
              <p:cNvSpPr/>
              <p:nvPr/>
            </p:nvSpPr>
            <p:spPr>
              <a:xfrm>
                <a:off x="6400800" y="161748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 txBox="1"/>
              <p:nvPr/>
            </p:nvSpPr>
            <p:spPr>
              <a:xfrm>
                <a:off x="6400800" y="161748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92" name="TextBox 877"/>
            <p:cNvSpPr/>
            <p:nvPr/>
          </p:nvSpPr>
          <p:spPr>
            <a:xfrm>
              <a:off x="6981120" y="1334520"/>
              <a:ext cx="2336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9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6632640" y="1455840"/>
              <a:ext cx="333360" cy="1440"/>
              <a:chOff x="6632640" y="1455840"/>
              <a:chExt cx="333360" cy="1440"/>
            </a:xfrm>
          </p:grpSpPr>
          <p:sp>
            <p:nvSpPr>
              <p:cNvPr id="494" name="Straight Connector 878"/>
              <p:cNvSpPr/>
              <p:nvPr/>
            </p:nvSpPr>
            <p:spPr>
              <a:xfrm>
                <a:off x="6632640" y="1455840"/>
                <a:ext cx="33336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 txBox="1"/>
              <p:nvPr/>
            </p:nvSpPr>
            <p:spPr>
              <a:xfrm>
                <a:off x="6632640" y="1455840"/>
                <a:ext cx="3333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sp>
          <p:nvSpPr>
            <p:cNvPr id="496" name="TextBox 883"/>
            <p:cNvSpPr/>
            <p:nvPr/>
          </p:nvSpPr>
          <p:spPr>
            <a:xfrm>
              <a:off x="6540480" y="1639800"/>
              <a:ext cx="233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此处添加文字</a:t>
              </a:r>
              <a:endParaRPr b="0" lang="en-US" sz="1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6232680" y="1762200"/>
              <a:ext cx="334800" cy="1440"/>
              <a:chOff x="6232680" y="1762200"/>
              <a:chExt cx="334800" cy="1440"/>
            </a:xfrm>
          </p:grpSpPr>
          <p:sp>
            <p:nvSpPr>
              <p:cNvPr id="498" name="Straight Connector 884"/>
              <p:cNvSpPr/>
              <p:nvPr/>
            </p:nvSpPr>
            <p:spPr>
              <a:xfrm>
                <a:off x="6232680" y="1762200"/>
                <a:ext cx="334800" cy="1440"/>
              </a:xfrm>
              <a:prstGeom prst="line">
                <a:avLst/>
              </a:prstGeom>
              <a:ln w="25560">
                <a:solidFill>
                  <a:srgbClr val="11111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 txBox="1"/>
              <p:nvPr/>
            </p:nvSpPr>
            <p:spPr>
              <a:xfrm>
                <a:off x="6232680" y="1762200"/>
                <a:ext cx="3348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500" name="Rectangle 139"/>
          <p:cNvSpPr/>
          <p:nvPr/>
        </p:nvSpPr>
        <p:spPr>
          <a:xfrm>
            <a:off x="0" y="5257800"/>
            <a:ext cx="9144000" cy="16002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3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流程图示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2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F233-E5C4-4C77-AC0C-73E1553E60BB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1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图片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呈现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04" name="Rectangle 59"/>
          <p:cNvSpPr/>
          <p:nvPr/>
        </p:nvSpPr>
        <p:spPr>
          <a:xfrm>
            <a:off x="0" y="3774960"/>
            <a:ext cx="9144000" cy="23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05" name="组合 10243"/>
          <p:cNvGrpSpPr/>
          <p:nvPr/>
        </p:nvGrpSpPr>
        <p:grpSpPr>
          <a:xfrm>
            <a:off x="2643120" y="1555920"/>
            <a:ext cx="1828800" cy="3744720"/>
            <a:chOff x="2643120" y="1555920"/>
            <a:chExt cx="1828800" cy="3744720"/>
          </a:xfrm>
        </p:grpSpPr>
        <p:sp>
          <p:nvSpPr>
            <p:cNvPr id="506" name="Rectangle 219"/>
            <p:cNvSpPr/>
            <p:nvPr/>
          </p:nvSpPr>
          <p:spPr>
            <a:xfrm flipH="1">
              <a:off x="2643120" y="1555920"/>
              <a:ext cx="1828800" cy="32040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7" name="Rectangle 223"/>
            <p:cNvSpPr/>
            <p:nvPr/>
          </p:nvSpPr>
          <p:spPr>
            <a:xfrm flipH="1" flipV="1">
              <a:off x="2642760" y="2563920"/>
              <a:ext cx="1828800" cy="273672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8" name="Rounded Rectangle 229"/>
            <p:cNvSpPr/>
            <p:nvPr/>
          </p:nvSpPr>
          <p:spPr>
            <a:xfrm flipH="1" rot="10800000">
              <a:off x="30006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09" name="Rectangle 233"/>
            <p:cNvSpPr/>
            <p:nvPr/>
          </p:nvSpPr>
          <p:spPr>
            <a:xfrm flipH="1">
              <a:off x="2643120" y="1895400"/>
              <a:ext cx="182880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10" name="TextBox 92"/>
            <p:cNvSpPr/>
            <p:nvPr/>
          </p:nvSpPr>
          <p:spPr>
            <a:xfrm>
              <a:off x="297144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08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11" name="组合 10249"/>
            <p:cNvGrpSpPr/>
            <p:nvPr/>
          </p:nvGrpSpPr>
          <p:grpSpPr>
            <a:xfrm>
              <a:off x="4207680" y="1625400"/>
              <a:ext cx="182880" cy="182880"/>
              <a:chOff x="4207680" y="1625400"/>
              <a:chExt cx="182880" cy="182880"/>
            </a:xfrm>
          </p:grpSpPr>
          <p:sp>
            <p:nvSpPr>
              <p:cNvPr id="512" name="Oval 248"/>
              <p:cNvSpPr/>
              <p:nvPr/>
            </p:nvSpPr>
            <p:spPr>
              <a:xfrm>
                <a:off x="420768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513" name="组合 10251"/>
              <p:cNvGrpSpPr/>
              <p:nvPr/>
            </p:nvGrpSpPr>
            <p:grpSpPr>
              <a:xfrm>
                <a:off x="4277160" y="1662840"/>
                <a:ext cx="56880" cy="102240"/>
                <a:chOff x="4277160" y="1662840"/>
                <a:chExt cx="56880" cy="102240"/>
              </a:xfrm>
            </p:grpSpPr>
            <p:grpSp>
              <p:nvGrpSpPr>
                <p:cNvPr id="514" name=""/>
                <p:cNvGrpSpPr/>
                <p:nvPr/>
              </p:nvGrpSpPr>
              <p:grpSpPr>
                <a:xfrm>
                  <a:off x="4277160" y="1662840"/>
                  <a:ext cx="56880" cy="57600"/>
                  <a:chOff x="4277160" y="1662840"/>
                  <a:chExt cx="56880" cy="57600"/>
                </a:xfrm>
              </p:grpSpPr>
              <p:sp>
                <p:nvSpPr>
                  <p:cNvPr id="515" name="Straight Connector 250"/>
                  <p:cNvSpPr/>
                  <p:nvPr/>
                </p:nvSpPr>
                <p:spPr>
                  <a:xfrm>
                    <a:off x="4277160" y="166284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"/>
                  <p:cNvSpPr txBox="1"/>
                  <p:nvPr/>
                </p:nvSpPr>
                <p:spPr>
                  <a:xfrm rot="16200000">
                    <a:off x="4276800" y="166320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4277160" y="1707480"/>
                  <a:ext cx="56880" cy="57600"/>
                  <a:chOff x="4277160" y="1707480"/>
                  <a:chExt cx="56880" cy="57600"/>
                </a:xfrm>
              </p:grpSpPr>
              <p:sp>
                <p:nvSpPr>
                  <p:cNvPr id="518" name="Straight Connector 251"/>
                  <p:cNvSpPr/>
                  <p:nvPr/>
                </p:nvSpPr>
                <p:spPr>
                  <a:xfrm flipV="1">
                    <a:off x="4277160" y="170748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"/>
                  <p:cNvSpPr txBox="1"/>
                  <p:nvPr/>
                </p:nvSpPr>
                <p:spPr>
                  <a:xfrm rot="16200000">
                    <a:off x="4276800" y="170784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20" name="Round Same Side Corner Rectangle 58"/>
          <p:cNvSpPr/>
          <p:nvPr/>
        </p:nvSpPr>
        <p:spPr>
          <a:xfrm rot="16200000">
            <a:off x="-180720" y="2512440"/>
            <a:ext cx="3746520" cy="1828800"/>
          </a:xfrm>
          <a:custGeom>
            <a:avLst/>
            <a:gdLst/>
            <a:ahLst/>
            <a:rect l="l" t="t" r="r" b="b"/>
            <a:pathLst>
              <a:path w="3746500" h="1828800">
                <a:moveTo>
                  <a:pt x="112782" y="0"/>
                </a:moveTo>
                <a:lnTo>
                  <a:pt x="3633718" y="0"/>
                </a:lnTo>
                <a:lnTo>
                  <a:pt x="3633718" y="-1"/>
                </a:lnTo>
                <a:cubicBezTo>
                  <a:pt x="3696005" y="-1"/>
                  <a:pt x="3746500" y="50494"/>
                  <a:pt x="3746500" y="112782"/>
                </a:cubicBezTo>
                <a:lnTo>
                  <a:pt x="3746500" y="1828800"/>
                </a:lnTo>
                <a:lnTo>
                  <a:pt x="0" y="1828800"/>
                </a:lnTo>
                <a:lnTo>
                  <a:pt x="0" y="112782"/>
                </a:lnTo>
                <a:lnTo>
                  <a:pt x="-1" y="112781"/>
                </a:lnTo>
                <a:cubicBezTo>
                  <a:pt x="-1" y="50494"/>
                  <a:pt x="50494" y="-1"/>
                  <a:pt x="112782" y="-1"/>
                </a:cubicBezTo>
                <a:close/>
              </a:path>
            </a:pathLst>
          </a:cu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1" name="Round Single Corner Rectangle 218"/>
          <p:cNvSpPr/>
          <p:nvPr/>
        </p:nvSpPr>
        <p:spPr>
          <a:xfrm flipH="1">
            <a:off x="785880" y="1555920"/>
            <a:ext cx="1828800" cy="320400"/>
          </a:xfrm>
          <a:custGeom>
            <a:avLst/>
            <a:gdLst/>
            <a:ahLst/>
            <a:rect l="l" t="t" r="r" b="b"/>
            <a:pathLst>
              <a:path w="1828800" h="320622">
                <a:moveTo>
                  <a:pt x="0" y="0"/>
                </a:moveTo>
                <a:lnTo>
                  <a:pt x="1746734" y="0"/>
                </a:lnTo>
                <a:lnTo>
                  <a:pt x="1746734" y="-1"/>
                </a:lnTo>
                <a:cubicBezTo>
                  <a:pt x="1792057" y="-1"/>
                  <a:pt x="1828800" y="36742"/>
                  <a:pt x="1828800" y="82066"/>
                </a:cubicBezTo>
                <a:lnTo>
                  <a:pt x="1828800" y="320622"/>
                </a:lnTo>
                <a:lnTo>
                  <a:pt x="0" y="320622"/>
                </a:lnTo>
                <a:close/>
              </a:path>
            </a:pathLst>
          </a:cu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2" name="Rectangle 226"/>
          <p:cNvSpPr/>
          <p:nvPr/>
        </p:nvSpPr>
        <p:spPr>
          <a:xfrm flipH="1">
            <a:off x="785880" y="1895400"/>
            <a:ext cx="1828800" cy="635040"/>
          </a:xfrm>
          <a:prstGeom prst="rect">
            <a:avLst/>
          </a:prstGeom>
          <a:solidFill>
            <a:srgbClr val="0060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3" name="Rounded Rectangle 230"/>
          <p:cNvSpPr/>
          <p:nvPr/>
        </p:nvSpPr>
        <p:spPr>
          <a:xfrm flipH="1" rot="10800000">
            <a:off x="11433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007cb4"/>
          </a:solidFill>
          <a:ln w="9360">
            <a:solidFill>
              <a:srgbClr val="00608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4" name="TextBox 102"/>
          <p:cNvSpPr/>
          <p:nvPr/>
        </p:nvSpPr>
        <p:spPr>
          <a:xfrm>
            <a:off x="1114560" y="1938240"/>
            <a:ext cx="1171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  <a:ea typeface="微软雅黑"/>
              </a:rPr>
              <a:t>2007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25" name="组合 10259"/>
          <p:cNvGrpSpPr/>
          <p:nvPr/>
        </p:nvGrpSpPr>
        <p:grpSpPr>
          <a:xfrm>
            <a:off x="2355840" y="1625760"/>
            <a:ext cx="182520" cy="182520"/>
            <a:chOff x="2355840" y="1625760"/>
            <a:chExt cx="182520" cy="182520"/>
          </a:xfrm>
        </p:grpSpPr>
        <p:sp>
          <p:nvSpPr>
            <p:cNvPr id="526" name="Oval 238"/>
            <p:cNvSpPr/>
            <p:nvPr/>
          </p:nvSpPr>
          <p:spPr>
            <a:xfrm>
              <a:off x="2355840" y="1625760"/>
              <a:ext cx="182520" cy="182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27" name="组合 10261"/>
            <p:cNvGrpSpPr/>
            <p:nvPr/>
          </p:nvGrpSpPr>
          <p:grpSpPr>
            <a:xfrm>
              <a:off x="2426040" y="1663200"/>
              <a:ext cx="56880" cy="101880"/>
              <a:chOff x="2426040" y="1663200"/>
              <a:chExt cx="56880" cy="101880"/>
            </a:xfrm>
          </p:grpSpPr>
          <p:grpSp>
            <p:nvGrpSpPr>
              <p:cNvPr id="528" name=""/>
              <p:cNvGrpSpPr/>
              <p:nvPr/>
            </p:nvGrpSpPr>
            <p:grpSpPr>
              <a:xfrm>
                <a:off x="2426040" y="1663200"/>
                <a:ext cx="56880" cy="57600"/>
                <a:chOff x="2426040" y="1663200"/>
                <a:chExt cx="56880" cy="57600"/>
              </a:xfrm>
            </p:grpSpPr>
            <p:sp>
              <p:nvSpPr>
                <p:cNvPr id="529" name="Straight Connector 242"/>
                <p:cNvSpPr/>
                <p:nvPr/>
              </p:nvSpPr>
              <p:spPr>
                <a:xfrm>
                  <a:off x="2426040" y="166356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00608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 txBox="1"/>
                <p:nvPr/>
              </p:nvSpPr>
              <p:spPr>
                <a:xfrm rot="16200000">
                  <a:off x="2425680" y="166320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2426040" y="1707840"/>
                <a:ext cx="56880" cy="57240"/>
                <a:chOff x="2426040" y="1707840"/>
                <a:chExt cx="56880" cy="57240"/>
              </a:xfrm>
            </p:grpSpPr>
            <p:sp>
              <p:nvSpPr>
                <p:cNvPr id="532" name="Straight Connector 243"/>
                <p:cNvSpPr/>
                <p:nvPr/>
              </p:nvSpPr>
              <p:spPr>
                <a:xfrm flipV="1">
                  <a:off x="2426040" y="170784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00608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 txBox="1"/>
                <p:nvPr/>
              </p:nvSpPr>
              <p:spPr>
                <a:xfrm rot="16200000">
                  <a:off x="2425680" y="170784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34" name="组合 10264"/>
          <p:cNvGrpSpPr/>
          <p:nvPr/>
        </p:nvGrpSpPr>
        <p:grpSpPr>
          <a:xfrm>
            <a:off x="6347880" y="1555920"/>
            <a:ext cx="1835640" cy="3744360"/>
            <a:chOff x="6347880" y="1555920"/>
            <a:chExt cx="1835640" cy="3744360"/>
          </a:xfrm>
        </p:grpSpPr>
        <p:sp>
          <p:nvSpPr>
            <p:cNvPr id="535" name="Round Single Corner Rectangle 221"/>
            <p:cNvSpPr/>
            <p:nvPr/>
          </p:nvSpPr>
          <p:spPr>
            <a:xfrm>
              <a:off x="6351120" y="1555920"/>
              <a:ext cx="1829160" cy="320400"/>
            </a:xfrm>
            <a:custGeom>
              <a:avLst/>
              <a:gdLst/>
              <a:ahLst/>
              <a:rect l="l" t="t" r="r" b="b"/>
              <a:pathLst>
                <a:path w="1828420" h="320637">
                  <a:moveTo>
                    <a:pt x="0" y="0"/>
                  </a:moveTo>
                  <a:lnTo>
                    <a:pt x="1746350" y="0"/>
                  </a:lnTo>
                  <a:lnTo>
                    <a:pt x="1746350" y="-1"/>
                  </a:lnTo>
                  <a:cubicBezTo>
                    <a:pt x="1791676" y="-1"/>
                    <a:pt x="1828420" y="36743"/>
                    <a:pt x="1828420" y="82070"/>
                  </a:cubicBezTo>
                  <a:lnTo>
                    <a:pt x="1828420" y="320637"/>
                  </a:lnTo>
                  <a:lnTo>
                    <a:pt x="0" y="32063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6" name="Round Single Corner Rectangle 225"/>
            <p:cNvSpPr/>
            <p:nvPr/>
          </p:nvSpPr>
          <p:spPr>
            <a:xfrm flipV="1">
              <a:off x="6354360" y="2559960"/>
              <a:ext cx="1829160" cy="2739960"/>
            </a:xfrm>
            <a:custGeom>
              <a:avLst/>
              <a:gdLst/>
              <a:ahLst/>
              <a:rect l="l" t="t" r="r" b="b"/>
              <a:pathLst>
                <a:path w="1828420" h="2739700">
                  <a:moveTo>
                    <a:pt x="0" y="0"/>
                  </a:moveTo>
                  <a:lnTo>
                    <a:pt x="1702698" y="0"/>
                  </a:lnTo>
                  <a:lnTo>
                    <a:pt x="1702698" y="-1"/>
                  </a:lnTo>
                  <a:cubicBezTo>
                    <a:pt x="1772132" y="-1"/>
                    <a:pt x="1828420" y="56287"/>
                    <a:pt x="1828420" y="125722"/>
                  </a:cubicBezTo>
                  <a:lnTo>
                    <a:pt x="1828420" y="2739700"/>
                  </a:lnTo>
                  <a:lnTo>
                    <a:pt x="0" y="273970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7" name="Rounded Rectangle 231"/>
            <p:cNvSpPr/>
            <p:nvPr/>
          </p:nvSpPr>
          <p:spPr>
            <a:xfrm flipH="1" rot="10800000">
              <a:off x="6712200" y="4857840"/>
              <a:ext cx="1111320" cy="263520"/>
            </a:xfrm>
            <a:prstGeom prst="roundRect">
              <a:avLst>
                <a:gd name="adj" fmla="val 16667"/>
              </a:avLst>
            </a:prstGeom>
            <a:solidFill>
              <a:srgbClr val="737373"/>
            </a:solidFill>
            <a:ln w="9360">
              <a:solidFill>
                <a:srgbClr val="73737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8" name="Rectangle 236"/>
            <p:cNvSpPr/>
            <p:nvPr/>
          </p:nvSpPr>
          <p:spPr>
            <a:xfrm flipH="1">
              <a:off x="6347520" y="1895400"/>
              <a:ext cx="1829160" cy="634680"/>
            </a:xfrm>
            <a:prstGeom prst="rect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539" name="TextBox 113"/>
            <p:cNvSpPr/>
            <p:nvPr/>
          </p:nvSpPr>
          <p:spPr>
            <a:xfrm>
              <a:off x="6673680" y="1938240"/>
              <a:ext cx="11718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000" spc="-1" strike="noStrike">
                  <a:solidFill>
                    <a:srgbClr val="171717"/>
                  </a:solidFill>
                  <a:latin typeface="Arial"/>
                  <a:ea typeface="微软雅黑"/>
                </a:rPr>
                <a:t>2010</a:t>
              </a:r>
              <a:endParaRPr b="0" lang="en-US" sz="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40" name="组合 10270"/>
            <p:cNvGrpSpPr/>
            <p:nvPr/>
          </p:nvGrpSpPr>
          <p:grpSpPr>
            <a:xfrm>
              <a:off x="7857720" y="1625400"/>
              <a:ext cx="182880" cy="182880"/>
              <a:chOff x="7857720" y="1625400"/>
              <a:chExt cx="182880" cy="182880"/>
            </a:xfrm>
          </p:grpSpPr>
          <p:sp>
            <p:nvSpPr>
              <p:cNvPr id="541" name="Oval 253"/>
              <p:cNvSpPr/>
              <p:nvPr/>
            </p:nvSpPr>
            <p:spPr>
              <a:xfrm>
                <a:off x="7857720" y="1625400"/>
                <a:ext cx="182880" cy="182880"/>
              </a:xfrm>
              <a:prstGeom prst="ellipse">
                <a:avLst/>
              </a:prstGeom>
              <a:solidFill>
                <a:srgbClr val="0060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grpSp>
            <p:nvGrpSpPr>
              <p:cNvPr id="542" name="组合 10272"/>
              <p:cNvGrpSpPr/>
              <p:nvPr/>
            </p:nvGrpSpPr>
            <p:grpSpPr>
              <a:xfrm>
                <a:off x="7927560" y="1662840"/>
                <a:ext cx="56880" cy="102240"/>
                <a:chOff x="7927560" y="1662840"/>
                <a:chExt cx="56880" cy="102240"/>
              </a:xfrm>
            </p:grpSpPr>
            <p:grpSp>
              <p:nvGrpSpPr>
                <p:cNvPr id="543" name=""/>
                <p:cNvGrpSpPr/>
                <p:nvPr/>
              </p:nvGrpSpPr>
              <p:grpSpPr>
                <a:xfrm>
                  <a:off x="7927560" y="1662840"/>
                  <a:ext cx="56880" cy="57600"/>
                  <a:chOff x="7927560" y="1662840"/>
                  <a:chExt cx="56880" cy="57600"/>
                </a:xfrm>
              </p:grpSpPr>
              <p:sp>
                <p:nvSpPr>
                  <p:cNvPr id="544" name="Straight Connector 255"/>
                  <p:cNvSpPr/>
                  <p:nvPr/>
                </p:nvSpPr>
                <p:spPr>
                  <a:xfrm>
                    <a:off x="7927560" y="166284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 txBox="1"/>
                  <p:nvPr/>
                </p:nvSpPr>
                <p:spPr>
                  <a:xfrm rot="16200000">
                    <a:off x="7927200" y="166320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6" name=""/>
                <p:cNvGrpSpPr/>
                <p:nvPr/>
              </p:nvGrpSpPr>
              <p:grpSpPr>
                <a:xfrm>
                  <a:off x="7927560" y="1707480"/>
                  <a:ext cx="56880" cy="57600"/>
                  <a:chOff x="7927560" y="1707480"/>
                  <a:chExt cx="56880" cy="57600"/>
                </a:xfrm>
              </p:grpSpPr>
              <p:sp>
                <p:nvSpPr>
                  <p:cNvPr id="547" name="Straight Connector 256"/>
                  <p:cNvSpPr/>
                  <p:nvPr/>
                </p:nvSpPr>
                <p:spPr>
                  <a:xfrm flipV="1">
                    <a:off x="7927560" y="1707480"/>
                    <a:ext cx="56880" cy="57600"/>
                  </a:xfrm>
                  <a:prstGeom prst="line">
                    <a:avLst/>
                  </a:prstGeom>
                  <a:ln w="1908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 txBox="1"/>
                  <p:nvPr/>
                </p:nvSpPr>
                <p:spPr>
                  <a:xfrm rot="16200000">
                    <a:off x="7927200" y="1707840"/>
                    <a:ext cx="57600" cy="56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10080" bIns="100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111111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549" name="Rectangle 262"/>
          <p:cNvSpPr/>
          <p:nvPr/>
        </p:nvSpPr>
        <p:spPr>
          <a:xfrm flipH="1" rot="5400000">
            <a:off x="4042440" y="3015000"/>
            <a:ext cx="2738520" cy="1828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0" name="Rectangle 220"/>
          <p:cNvSpPr/>
          <p:nvPr/>
        </p:nvSpPr>
        <p:spPr>
          <a:xfrm flipH="1">
            <a:off x="4498920" y="1555920"/>
            <a:ext cx="1828800" cy="3204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1" name="Rectangle 227"/>
          <p:cNvSpPr/>
          <p:nvPr/>
        </p:nvSpPr>
        <p:spPr>
          <a:xfrm flipH="1">
            <a:off x="4495680" y="1895400"/>
            <a:ext cx="1828800" cy="6350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2" name="Rounded Rectangle 228"/>
          <p:cNvSpPr/>
          <p:nvPr/>
        </p:nvSpPr>
        <p:spPr>
          <a:xfrm flipH="1" rot="10800000">
            <a:off x="4856760" y="4857840"/>
            <a:ext cx="1111320" cy="26352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 w="9360">
            <a:solidFill>
              <a:srgbClr val="73737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3" name="TextBox 123"/>
          <p:cNvSpPr/>
          <p:nvPr/>
        </p:nvSpPr>
        <p:spPr>
          <a:xfrm>
            <a:off x="4800600" y="1938240"/>
            <a:ext cx="117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171717"/>
                </a:solidFill>
                <a:latin typeface="Arial"/>
                <a:ea typeface="微软雅黑"/>
              </a:rPr>
              <a:t>2009</a:t>
            </a:r>
            <a:endParaRPr b="0" lang="en-US" sz="3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54" name="组合 10280"/>
          <p:cNvGrpSpPr/>
          <p:nvPr/>
        </p:nvGrpSpPr>
        <p:grpSpPr>
          <a:xfrm>
            <a:off x="6046920" y="1625760"/>
            <a:ext cx="182520" cy="182520"/>
            <a:chOff x="6046920" y="1625760"/>
            <a:chExt cx="182520" cy="182520"/>
          </a:xfrm>
        </p:grpSpPr>
        <p:sp>
          <p:nvSpPr>
            <p:cNvPr id="555" name="Oval 258"/>
            <p:cNvSpPr/>
            <p:nvPr/>
          </p:nvSpPr>
          <p:spPr>
            <a:xfrm>
              <a:off x="6046920" y="1625760"/>
              <a:ext cx="182520" cy="182520"/>
            </a:xfrm>
            <a:prstGeom prst="ellipse">
              <a:avLst/>
            </a:prstGeom>
            <a:solidFill>
              <a:srgbClr val="0060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grpSp>
          <p:nvGrpSpPr>
            <p:cNvPr id="556" name="组合 10282"/>
            <p:cNvGrpSpPr/>
            <p:nvPr/>
          </p:nvGrpSpPr>
          <p:grpSpPr>
            <a:xfrm>
              <a:off x="6117120" y="1663200"/>
              <a:ext cx="56880" cy="101880"/>
              <a:chOff x="6117120" y="1663200"/>
              <a:chExt cx="56880" cy="101880"/>
            </a:xfrm>
          </p:grpSpPr>
          <p:grpSp>
            <p:nvGrpSpPr>
              <p:cNvPr id="557" name=""/>
              <p:cNvGrpSpPr/>
              <p:nvPr/>
            </p:nvGrpSpPr>
            <p:grpSpPr>
              <a:xfrm>
                <a:off x="6117120" y="1663200"/>
                <a:ext cx="56880" cy="57600"/>
                <a:chOff x="6117120" y="1663200"/>
                <a:chExt cx="56880" cy="57600"/>
              </a:xfrm>
            </p:grpSpPr>
            <p:sp>
              <p:nvSpPr>
                <p:cNvPr id="558" name="Straight Connector 260"/>
                <p:cNvSpPr/>
                <p:nvPr/>
              </p:nvSpPr>
              <p:spPr>
                <a:xfrm>
                  <a:off x="6117120" y="166356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 txBox="1"/>
                <p:nvPr/>
              </p:nvSpPr>
              <p:spPr>
                <a:xfrm rot="16200000">
                  <a:off x="6116760" y="166320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6117120" y="1707840"/>
                <a:ext cx="56880" cy="57240"/>
                <a:chOff x="6117120" y="1707840"/>
                <a:chExt cx="56880" cy="57240"/>
              </a:xfrm>
            </p:grpSpPr>
            <p:sp>
              <p:nvSpPr>
                <p:cNvPr id="561" name="Straight Connector 261"/>
                <p:cNvSpPr/>
                <p:nvPr/>
              </p:nvSpPr>
              <p:spPr>
                <a:xfrm flipV="1">
                  <a:off x="6117120" y="1707840"/>
                  <a:ext cx="56880" cy="5724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  <p:sp>
              <p:nvSpPr>
                <p:cNvPr id="562" name=""/>
                <p:cNvSpPr txBox="1"/>
                <p:nvPr/>
              </p:nvSpPr>
              <p:spPr>
                <a:xfrm rot="16200000">
                  <a:off x="6116760" y="1707840"/>
                  <a:ext cx="57240" cy="5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111111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63" name="Rektangel 613"/>
          <p:cNvSpPr/>
          <p:nvPr/>
        </p:nvSpPr>
        <p:spPr>
          <a:xfrm>
            <a:off x="99360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4" name="Rektangel 613"/>
          <p:cNvSpPr/>
          <p:nvPr/>
        </p:nvSpPr>
        <p:spPr>
          <a:xfrm>
            <a:off x="280512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5" name="Rektangel 613"/>
          <p:cNvSpPr/>
          <p:nvPr/>
        </p:nvSpPr>
        <p:spPr>
          <a:xfrm>
            <a:off x="4660920" y="1579680"/>
            <a:ext cx="123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6" name="Rektangel 613"/>
          <p:cNvSpPr/>
          <p:nvPr/>
        </p:nvSpPr>
        <p:spPr>
          <a:xfrm>
            <a:off x="6443640" y="1579680"/>
            <a:ext cx="123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此处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7" name="Rektangel 613"/>
          <p:cNvSpPr/>
          <p:nvPr/>
        </p:nvSpPr>
        <p:spPr>
          <a:xfrm>
            <a:off x="1185840" y="4843440"/>
            <a:ext cx="102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8" name="Rektangel 613"/>
          <p:cNvSpPr/>
          <p:nvPr/>
        </p:nvSpPr>
        <p:spPr>
          <a:xfrm>
            <a:off x="30416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9" name="Rektangel 613"/>
          <p:cNvSpPr/>
          <p:nvPr/>
        </p:nvSpPr>
        <p:spPr>
          <a:xfrm>
            <a:off x="489744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0" name="Rektangel 613"/>
          <p:cNvSpPr/>
          <p:nvPr/>
        </p:nvSpPr>
        <p:spPr>
          <a:xfrm>
            <a:off x="6745320" y="4830840"/>
            <a:ext cx="102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</a:rPr>
              <a:t>添加文字</a:t>
            </a:r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1" name="Afrundet rektangel 20"/>
          <p:cNvSpPr/>
          <p:nvPr/>
        </p:nvSpPr>
        <p:spPr>
          <a:xfrm>
            <a:off x="470232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2" name="Afrundet rektangel 45"/>
          <p:cNvSpPr/>
          <p:nvPr/>
        </p:nvSpPr>
        <p:spPr>
          <a:xfrm>
            <a:off x="2860560" y="301464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3" name="Afrundet rektangel 55"/>
          <p:cNvSpPr/>
          <p:nvPr/>
        </p:nvSpPr>
        <p:spPr>
          <a:xfrm>
            <a:off x="6572160" y="3016080"/>
            <a:ext cx="1371600" cy="1371600"/>
          </a:xfrm>
          <a:prstGeom prst="roundRect">
            <a:avLst>
              <a:gd name="adj" fmla="val 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4" name="Afrundet rektangel 60"/>
          <p:cNvSpPr/>
          <p:nvPr/>
        </p:nvSpPr>
        <p:spPr>
          <a:xfrm>
            <a:off x="1011240" y="3016080"/>
            <a:ext cx="1370160" cy="1371600"/>
          </a:xfrm>
          <a:custGeom>
            <a:avLst/>
            <a:gdLst>
              <a:gd name="textAreaLeft" fmla="*/ 0 w 1370160"/>
              <a:gd name="textAreaRight" fmla="*/ 1370520 w 137016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23">
                <a:moveTo>
                  <a:pt x="0" y="0"/>
                </a:moveTo>
                <a:arcTo wR="0" hR="0" stAng="16200000" swAng="-5400000"/>
                <a:lnTo>
                  <a:pt x="0" y="21623"/>
                </a:lnTo>
                <a:arcTo wR="0" hR="0" stAng="10800000" swAng="-5400000"/>
                <a:lnTo>
                  <a:pt x="21600" y="2162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5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0DB-DA6B-436F-A203-293D34ED6020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6" name="文本框 8199"/>
          <p:cNvSpPr/>
          <p:nvPr/>
        </p:nvSpPr>
        <p:spPr>
          <a:xfrm>
            <a:off x="2082960" y="59292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ktangel 26"/>
          <p:cNvSpPr/>
          <p:nvPr/>
        </p:nvSpPr>
        <p:spPr>
          <a:xfrm flipV="1" rot="10800000">
            <a:off x="0" y="-1080"/>
            <a:ext cx="9144000" cy="5165640"/>
          </a:xfrm>
          <a:prstGeom prst="rect">
            <a:avLst/>
          </a:prstGeom>
          <a:solidFill>
            <a:srgbClr val="f3f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9" name="TextBox 3"/>
          <p:cNvSpPr/>
          <p:nvPr/>
        </p:nvSpPr>
        <p:spPr>
          <a:xfrm>
            <a:off x="7621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2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0" name="TextBox 4"/>
          <p:cNvSpPr/>
          <p:nvPr/>
        </p:nvSpPr>
        <p:spPr>
          <a:xfrm>
            <a:off x="487692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0" spc="-1" strike="noStrike">
                <a:solidFill>
                  <a:srgbClr val="111111"/>
                </a:solidFill>
                <a:latin typeface="Arial Bold"/>
              </a:rPr>
              <a:t>1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1" name="TextBox 5"/>
          <p:cNvSpPr/>
          <p:nvPr/>
        </p:nvSpPr>
        <p:spPr>
          <a:xfrm>
            <a:off x="6629400" y="907920"/>
            <a:ext cx="22096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111111"/>
                </a:solidFill>
                <a:latin typeface="Arial Bold"/>
                <a:ea typeface="宋体"/>
              </a:rPr>
              <a:t>5</a:t>
            </a:r>
            <a:endParaRPr b="0" lang="en-US" sz="270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582" name="组合 12294"/>
          <p:cNvGrpSpPr/>
          <p:nvPr/>
        </p:nvGrpSpPr>
        <p:grpSpPr>
          <a:xfrm>
            <a:off x="2883960" y="1802880"/>
            <a:ext cx="3745080" cy="2581560"/>
            <a:chOff x="2883960" y="1802880"/>
            <a:chExt cx="3745080" cy="2581560"/>
          </a:xfrm>
        </p:grpSpPr>
        <p:grpSp>
          <p:nvGrpSpPr>
            <p:cNvPr id="583" name="组合 12295"/>
            <p:cNvGrpSpPr/>
            <p:nvPr/>
          </p:nvGrpSpPr>
          <p:grpSpPr>
            <a:xfrm>
              <a:off x="2883960" y="1802880"/>
              <a:ext cx="2065320" cy="2581560"/>
              <a:chOff x="2883960" y="1802880"/>
              <a:chExt cx="2065320" cy="2581560"/>
            </a:xfrm>
          </p:grpSpPr>
          <p:sp>
            <p:nvSpPr>
              <p:cNvPr id="584" name="Donut 15"/>
              <p:cNvSpPr/>
              <p:nvPr/>
            </p:nvSpPr>
            <p:spPr>
              <a:xfrm rot="10800000">
                <a:off x="2883960" y="1802880"/>
                <a:ext cx="1962360" cy="258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5" name="Donut 16"/>
              <p:cNvSpPr/>
              <p:nvPr/>
            </p:nvSpPr>
            <p:spPr>
              <a:xfrm rot="10800000">
                <a:off x="3061800" y="1896840"/>
                <a:ext cx="1832040" cy="2437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8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6" name="Oval 17"/>
              <p:cNvSpPr/>
              <p:nvPr/>
            </p:nvSpPr>
            <p:spPr>
              <a:xfrm rot="10800000">
                <a:off x="3061800" y="1896840"/>
                <a:ext cx="1832040" cy="2437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7" name="Donut 18"/>
              <p:cNvSpPr/>
              <p:nvPr/>
            </p:nvSpPr>
            <p:spPr>
              <a:xfrm rot="10800000">
                <a:off x="3428280" y="2339280"/>
                <a:ext cx="1079640" cy="150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641" y="10800"/>
                    </a:moveTo>
                    <a:cubicBezTo>
                      <a:pt x="2641" y="15306"/>
                      <a:pt x="6294" y="18959"/>
                      <a:pt x="10800" y="18959"/>
                    </a:cubicBezTo>
                    <a:cubicBezTo>
                      <a:pt x="15306" y="18959"/>
                      <a:pt x="18959" y="15306"/>
                      <a:pt x="18959" y="10800"/>
                    </a:cubicBezTo>
                    <a:cubicBezTo>
                      <a:pt x="18959" y="6294"/>
                      <a:pt x="15306" y="2641"/>
                      <a:pt x="10800" y="2641"/>
                    </a:cubicBezTo>
                    <a:cubicBezTo>
                      <a:pt x="6294" y="2641"/>
                      <a:pt x="2641" y="6294"/>
                      <a:pt x="2641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8" name="Oval 19"/>
              <p:cNvSpPr/>
              <p:nvPr/>
            </p:nvSpPr>
            <p:spPr>
              <a:xfrm rot="10800000">
                <a:off x="3872880" y="2961360"/>
                <a:ext cx="190440" cy="264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89" name="Donut 20"/>
              <p:cNvSpPr/>
              <p:nvPr/>
            </p:nvSpPr>
            <p:spPr>
              <a:xfrm rot="10800000">
                <a:off x="3655800" y="2656800"/>
                <a:ext cx="625320" cy="87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4168" y="10800"/>
                    </a:moveTo>
                    <a:cubicBezTo>
                      <a:pt x="4168" y="14463"/>
                      <a:pt x="7137" y="17432"/>
                      <a:pt x="10800" y="17432"/>
                    </a:cubicBezTo>
                    <a:cubicBezTo>
                      <a:pt x="14463" y="17432"/>
                      <a:pt x="17432" y="14463"/>
                      <a:pt x="17432" y="10800"/>
                    </a:cubicBezTo>
                    <a:cubicBezTo>
                      <a:pt x="17432" y="7137"/>
                      <a:pt x="14463" y="4168"/>
                      <a:pt x="10800" y="4168"/>
                    </a:cubicBezTo>
                    <a:cubicBezTo>
                      <a:pt x="7137" y="4168"/>
                      <a:pt x="4168" y="7137"/>
                      <a:pt x="4168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0" name="Donut 21"/>
              <p:cNvSpPr/>
              <p:nvPr/>
            </p:nvSpPr>
            <p:spPr>
              <a:xfrm rot="10800000">
                <a:off x="2986920" y="1802880"/>
                <a:ext cx="1962360" cy="2581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1" name="Donut 22"/>
              <p:cNvSpPr/>
              <p:nvPr/>
            </p:nvSpPr>
            <p:spPr>
              <a:xfrm rot="10800000">
                <a:off x="3241440" y="2075760"/>
                <a:ext cx="1454040" cy="2035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653" y="10800"/>
                    </a:moveTo>
                    <a:cubicBezTo>
                      <a:pt x="1653" y="15852"/>
                      <a:pt x="5748" y="19947"/>
                      <a:pt x="10800" y="19947"/>
                    </a:cubicBezTo>
                    <a:cubicBezTo>
                      <a:pt x="15852" y="19947"/>
                      <a:pt x="19947" y="15852"/>
                      <a:pt x="19947" y="10800"/>
                    </a:cubicBezTo>
                    <a:cubicBezTo>
                      <a:pt x="19947" y="5748"/>
                      <a:pt x="15852" y="1653"/>
                      <a:pt x="10800" y="1653"/>
                    </a:cubicBezTo>
                    <a:cubicBezTo>
                      <a:pt x="5748" y="1653"/>
                      <a:pt x="1653" y="5748"/>
                      <a:pt x="1653" y="10800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592" name="组合 12304"/>
            <p:cNvGrpSpPr/>
            <p:nvPr/>
          </p:nvGrpSpPr>
          <p:grpSpPr>
            <a:xfrm>
              <a:off x="3956040" y="2699280"/>
              <a:ext cx="2673000" cy="820080"/>
              <a:chOff x="3956040" y="2699280"/>
              <a:chExt cx="2673000" cy="820080"/>
            </a:xfrm>
          </p:grpSpPr>
          <p:sp>
            <p:nvSpPr>
              <p:cNvPr id="593" name="Pentagon 9"/>
              <p:cNvSpPr/>
              <p:nvPr/>
            </p:nvSpPr>
            <p:spPr>
              <a:xfrm rot="10800000">
                <a:off x="3956040" y="3060720"/>
                <a:ext cx="527040" cy="66600"/>
              </a:xfrm>
              <a:custGeom>
                <a:avLst/>
                <a:gdLst>
                  <a:gd name="textAreaLeft" fmla="*/ 0 w 527040"/>
                  <a:gd name="textAreaRight" fmla="*/ 527400 w 52704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6202" y="0"/>
                    </a:lnTo>
                    <a:lnTo>
                      <a:pt x="21600" y="10800"/>
                    </a:lnTo>
                    <a:lnTo>
                      <a:pt x="16202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solidFill>
                <a:srgbClr val="595959"/>
              </a:solidFill>
              <a:ln w="9360">
                <a:solidFill>
                  <a:srgbClr val="5959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4" name="Rectangle 10"/>
              <p:cNvSpPr/>
              <p:nvPr/>
            </p:nvSpPr>
            <p:spPr>
              <a:xfrm rot="10800000">
                <a:off x="4481640" y="3000600"/>
                <a:ext cx="185760" cy="187200"/>
              </a:xfrm>
              <a:prstGeom prst="rect">
                <a:avLst/>
              </a:prstGeom>
              <a:solidFill>
                <a:srgbClr val="595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5" name="Rectangle 11"/>
              <p:cNvSpPr/>
              <p:nvPr/>
            </p:nvSpPr>
            <p:spPr>
              <a:xfrm rot="10800000">
                <a:off x="4667400" y="3017880"/>
                <a:ext cx="1961640" cy="15228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6" name="Pie 12"/>
              <p:cNvSpPr/>
              <p:nvPr/>
            </p:nvSpPr>
            <p:spPr>
              <a:xfrm rot="16200000">
                <a:off x="5801760" y="2700000"/>
                <a:ext cx="695160" cy="943200"/>
              </a:xfrm>
              <a:custGeom>
                <a:avLst/>
                <a:gdLst/>
                <a:ahLst/>
                <a:rect l="l" t="t" r="r" b="b"/>
                <a:pathLst>
                  <a:path w="857455" h="1163458">
                    <a:moveTo>
                      <a:pt x="430403" y="1163453"/>
                    </a:moveTo>
                    <a:cubicBezTo>
                      <a:pt x="193624" y="1163453"/>
                      <a:pt x="1676" y="903004"/>
                      <a:pt x="1676" y="581724"/>
                    </a:cubicBezTo>
                    <a:cubicBezTo>
                      <a:pt x="1676" y="260444"/>
                      <a:pt x="193624" y="-5"/>
                      <a:pt x="430403" y="-5"/>
                    </a:cubicBezTo>
                    <a:lnTo>
                      <a:pt x="428727" y="581729"/>
                    </a:lnTo>
                    <a:close/>
                  </a:path>
                </a:pathLst>
              </a:custGeom>
              <a:solidFill>
                <a:srgbClr val="64646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7" name="Pie 13"/>
              <p:cNvSpPr/>
              <p:nvPr/>
            </p:nvSpPr>
            <p:spPr>
              <a:xfrm rot="5400000">
                <a:off x="5801040" y="2575800"/>
                <a:ext cx="695160" cy="941760"/>
              </a:xfrm>
              <a:custGeom>
                <a:avLst/>
                <a:gdLst/>
                <a:ahLst/>
                <a:rect l="l" t="t" r="r" b="b"/>
                <a:pathLst>
                  <a:path w="857455" h="1161500">
                    <a:moveTo>
                      <a:pt x="430400" y="1161495"/>
                    </a:moveTo>
                    <a:cubicBezTo>
                      <a:pt x="193621" y="1161495"/>
                      <a:pt x="1673" y="901484"/>
                      <a:pt x="1673" y="580745"/>
                    </a:cubicBezTo>
                    <a:cubicBezTo>
                      <a:pt x="1673" y="260006"/>
                      <a:pt x="193621" y="-5"/>
                      <a:pt x="430400" y="-5"/>
                    </a:cubicBezTo>
                    <a:lnTo>
                      <a:pt x="428727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598" name="Pie 14"/>
              <p:cNvSpPr/>
              <p:nvPr/>
            </p:nvSpPr>
            <p:spPr>
              <a:xfrm rot="16200000">
                <a:off x="5906520" y="2631600"/>
                <a:ext cx="484200" cy="941760"/>
              </a:xfrm>
              <a:custGeom>
                <a:avLst/>
                <a:gdLst/>
                <a:ahLst/>
                <a:rect l="l" t="t" r="r" b="b"/>
                <a:pathLst>
                  <a:path w="597086" h="1161500">
                    <a:moveTo>
                      <a:pt x="300216" y="1161490"/>
                    </a:moveTo>
                    <a:cubicBezTo>
                      <a:pt x="135335" y="1161490"/>
                      <a:pt x="1673" y="901479"/>
                      <a:pt x="1673" y="580740"/>
                    </a:cubicBezTo>
                    <a:cubicBezTo>
                      <a:pt x="1673" y="260001"/>
                      <a:pt x="135335" y="-10"/>
                      <a:pt x="300216" y="-10"/>
                    </a:cubicBezTo>
                    <a:lnTo>
                      <a:pt x="298543" y="58075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Ellipse 98"/>
          <p:cNvSpPr/>
          <p:nvPr/>
        </p:nvSpPr>
        <p:spPr>
          <a:xfrm>
            <a:off x="669960" y="4187880"/>
            <a:ext cx="222552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0" name="Ellipse 98"/>
          <p:cNvSpPr/>
          <p:nvPr/>
        </p:nvSpPr>
        <p:spPr>
          <a:xfrm>
            <a:off x="2989440" y="4210200"/>
            <a:ext cx="181116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1" name="Ellipse 98"/>
          <p:cNvSpPr/>
          <p:nvPr/>
        </p:nvSpPr>
        <p:spPr>
          <a:xfrm>
            <a:off x="543708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2" name="Ellipse 98"/>
          <p:cNvSpPr/>
          <p:nvPr/>
        </p:nvSpPr>
        <p:spPr>
          <a:xfrm>
            <a:off x="7113600" y="4210200"/>
            <a:ext cx="1344600" cy="349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3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19118-A49C-4457-A9D1-11CFEABCDD34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ktangel 70"/>
          <p:cNvSpPr/>
          <p:nvPr/>
        </p:nvSpPr>
        <p:spPr>
          <a:xfrm flipV="1">
            <a:off x="0" y="1773720"/>
            <a:ext cx="9144000" cy="185436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5" name="Rectangle 75"/>
          <p:cNvSpPr/>
          <p:nvPr/>
        </p:nvSpPr>
        <p:spPr>
          <a:xfrm rot="11122200">
            <a:off x="2265120" y="5215680"/>
            <a:ext cx="2119320" cy="8319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06" name="组合 13315"/>
          <p:cNvGrpSpPr/>
          <p:nvPr/>
        </p:nvGrpSpPr>
        <p:grpSpPr>
          <a:xfrm>
            <a:off x="1779480" y="730800"/>
            <a:ext cx="5614560" cy="2210760"/>
            <a:chOff x="1779480" y="730800"/>
            <a:chExt cx="5614560" cy="2210760"/>
          </a:xfrm>
        </p:grpSpPr>
        <p:grpSp>
          <p:nvGrpSpPr>
            <p:cNvPr id="607" name="组合 13316"/>
            <p:cNvGrpSpPr/>
            <p:nvPr/>
          </p:nvGrpSpPr>
          <p:grpSpPr>
            <a:xfrm>
              <a:off x="4447800" y="809640"/>
              <a:ext cx="1590840" cy="1809000"/>
              <a:chOff x="4447800" y="809640"/>
              <a:chExt cx="1590840" cy="1809000"/>
            </a:xfrm>
          </p:grpSpPr>
          <p:sp>
            <p:nvSpPr>
              <p:cNvPr id="608" name="Rectangle 35"/>
              <p:cNvSpPr/>
              <p:nvPr/>
            </p:nvSpPr>
            <p:spPr>
              <a:xfrm>
                <a:off x="4447800" y="8096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09" name="TextBox 36"/>
              <p:cNvSpPr/>
              <p:nvPr/>
            </p:nvSpPr>
            <p:spPr>
              <a:xfrm>
                <a:off x="4847040" y="10008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0" name="Oval 37"/>
              <p:cNvSpPr/>
              <p:nvPr/>
            </p:nvSpPr>
            <p:spPr>
              <a:xfrm>
                <a:off x="455868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1" name="Oval 38"/>
              <p:cNvSpPr/>
              <p:nvPr/>
            </p:nvSpPr>
            <p:spPr>
              <a:xfrm>
                <a:off x="5799960" y="91764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2" name="TextBox 39"/>
              <p:cNvSpPr/>
              <p:nvPr/>
            </p:nvSpPr>
            <p:spPr>
              <a:xfrm>
                <a:off x="4447800" y="102744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13" name="组合 13322"/>
            <p:cNvGrpSpPr/>
            <p:nvPr/>
          </p:nvGrpSpPr>
          <p:grpSpPr>
            <a:xfrm>
              <a:off x="1779480" y="815760"/>
              <a:ext cx="1590480" cy="1808640"/>
              <a:chOff x="1779480" y="815760"/>
              <a:chExt cx="1590480" cy="1808640"/>
            </a:xfrm>
          </p:grpSpPr>
          <p:sp>
            <p:nvSpPr>
              <p:cNvPr id="614" name="Rectangle 7"/>
              <p:cNvSpPr/>
              <p:nvPr/>
            </p:nvSpPr>
            <p:spPr>
              <a:xfrm>
                <a:off x="1779480" y="815760"/>
                <a:ext cx="1590480" cy="168300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5" name="TextBox 12"/>
              <p:cNvSpPr/>
              <p:nvPr/>
            </p:nvSpPr>
            <p:spPr>
              <a:xfrm>
                <a:off x="2205720" y="100656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111111"/>
                    </a:solidFill>
                    <a:latin typeface="Arial Bold"/>
                  </a:rPr>
                  <a:t>2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6" name="Oval 23"/>
              <p:cNvSpPr/>
              <p:nvPr/>
            </p:nvSpPr>
            <p:spPr>
              <a:xfrm>
                <a:off x="189036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7" name="Oval 24"/>
              <p:cNvSpPr/>
              <p:nvPr/>
            </p:nvSpPr>
            <p:spPr>
              <a:xfrm>
                <a:off x="3131640" y="9234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18" name="TextBox 26"/>
              <p:cNvSpPr/>
              <p:nvPr/>
            </p:nvSpPr>
            <p:spPr>
              <a:xfrm>
                <a:off x="1779480" y="1032840"/>
                <a:ext cx="1590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19" name="组合 13328"/>
            <p:cNvGrpSpPr/>
            <p:nvPr/>
          </p:nvGrpSpPr>
          <p:grpSpPr>
            <a:xfrm>
              <a:off x="2920320" y="815040"/>
              <a:ext cx="2071440" cy="2126520"/>
              <a:chOff x="2920320" y="815040"/>
              <a:chExt cx="2071440" cy="2126520"/>
            </a:xfrm>
          </p:grpSpPr>
          <p:sp>
            <p:nvSpPr>
              <p:cNvPr id="620" name="Rectangle 29"/>
              <p:cNvSpPr/>
              <p:nvPr/>
            </p:nvSpPr>
            <p:spPr>
              <a:xfrm rot="1201800">
                <a:off x="3160440" y="103644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1" name="TextBox 30"/>
              <p:cNvSpPr/>
              <p:nvPr/>
            </p:nvSpPr>
            <p:spPr>
              <a:xfrm rot="1201800">
                <a:off x="3524400" y="112248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0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2" name="Oval 31"/>
              <p:cNvSpPr/>
              <p:nvPr/>
            </p:nvSpPr>
            <p:spPr>
              <a:xfrm rot="1201800">
                <a:off x="3534840" y="97596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3" name="Oval 32"/>
              <p:cNvSpPr/>
              <p:nvPr/>
            </p:nvSpPr>
            <p:spPr>
              <a:xfrm rot="1201800">
                <a:off x="4701600" y="140112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4" name="TextBox 33"/>
              <p:cNvSpPr/>
              <p:nvPr/>
            </p:nvSpPr>
            <p:spPr>
              <a:xfrm rot="1201800">
                <a:off x="3329280" y="126468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  <p:grpSp>
          <p:nvGrpSpPr>
            <p:cNvPr id="625" name="组合 13334"/>
            <p:cNvGrpSpPr/>
            <p:nvPr/>
          </p:nvGrpSpPr>
          <p:grpSpPr>
            <a:xfrm>
              <a:off x="5604840" y="730800"/>
              <a:ext cx="1789200" cy="1937880"/>
              <a:chOff x="5604840" y="730800"/>
              <a:chExt cx="1789200" cy="1937880"/>
            </a:xfrm>
          </p:grpSpPr>
          <p:sp>
            <p:nvSpPr>
              <p:cNvPr id="626" name="Rectangle 41"/>
              <p:cNvSpPr/>
              <p:nvPr/>
            </p:nvSpPr>
            <p:spPr>
              <a:xfrm rot="21168000">
                <a:off x="5703840" y="823680"/>
                <a:ext cx="1590840" cy="1683360"/>
              </a:xfrm>
              <a:prstGeom prst="rect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7" name="TextBox 42"/>
              <p:cNvSpPr/>
              <p:nvPr/>
            </p:nvSpPr>
            <p:spPr>
              <a:xfrm rot="21168000">
                <a:off x="6142320" y="1013400"/>
                <a:ext cx="69588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0" spc="-1" strike="noStrike">
                    <a:solidFill>
                      <a:srgbClr val="000000"/>
                    </a:solidFill>
                    <a:latin typeface="Arial Bold"/>
                  </a:rPr>
                  <a:t>1</a:t>
                </a:r>
                <a:endParaRPr b="0" lang="en-US" sz="100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8" name="Oval 43"/>
              <p:cNvSpPr/>
              <p:nvPr/>
            </p:nvSpPr>
            <p:spPr>
              <a:xfrm rot="21168000">
                <a:off x="5737680" y="1014480"/>
                <a:ext cx="148680" cy="148680"/>
              </a:xfrm>
              <a:prstGeom prst="ellipse">
                <a:avLst/>
              </a:prstGeom>
              <a:solidFill>
                <a:srgbClr val="f2f2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29" name="Oval 44"/>
              <p:cNvSpPr/>
              <p:nvPr/>
            </p:nvSpPr>
            <p:spPr>
              <a:xfrm rot="21168000">
                <a:off x="6969600" y="858600"/>
                <a:ext cx="148680" cy="148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  <p:sp>
            <p:nvSpPr>
              <p:cNvPr id="630" name="TextBox 45"/>
              <p:cNvSpPr/>
              <p:nvPr/>
            </p:nvSpPr>
            <p:spPr>
              <a:xfrm rot="21168000">
                <a:off x="5643360" y="1026720"/>
                <a:ext cx="159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11111"/>
                    </a:solidFill>
                    <a:latin typeface="微软雅黑"/>
                  </a:rPr>
                  <a:t>YEAR</a:t>
                </a:r>
                <a:endParaRPr b="0" lang="en-US" sz="1400" spc="-1" strike="noStrike">
                  <a:solidFill>
                    <a:srgbClr val="111111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组合 13340"/>
          <p:cNvGrpSpPr/>
          <p:nvPr/>
        </p:nvGrpSpPr>
        <p:grpSpPr>
          <a:xfrm>
            <a:off x="4444920" y="2368440"/>
            <a:ext cx="2241720" cy="2368800"/>
            <a:chOff x="4444920" y="2368440"/>
            <a:chExt cx="2241720" cy="2368800"/>
          </a:xfrm>
        </p:grpSpPr>
        <p:sp>
          <p:nvSpPr>
            <p:cNvPr id="632" name="Rectangle 48"/>
            <p:cNvSpPr/>
            <p:nvPr/>
          </p:nvSpPr>
          <p:spPr>
            <a:xfrm>
              <a:off x="4444920" y="2368440"/>
              <a:ext cx="2241720" cy="23688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3" name="TextBox 49"/>
            <p:cNvSpPr/>
            <p:nvPr/>
          </p:nvSpPr>
          <p:spPr>
            <a:xfrm>
              <a:off x="5045760" y="263736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1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4" name="Oval 50"/>
            <p:cNvSpPr/>
            <p:nvPr/>
          </p:nvSpPr>
          <p:spPr>
            <a:xfrm>
              <a:off x="46011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5" name="Oval 51"/>
            <p:cNvSpPr/>
            <p:nvPr/>
          </p:nvSpPr>
          <p:spPr>
            <a:xfrm>
              <a:off x="6350760" y="252072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36" name="TextBox 52"/>
            <p:cNvSpPr/>
            <p:nvPr/>
          </p:nvSpPr>
          <p:spPr>
            <a:xfrm>
              <a:off x="4444920" y="267480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37" name="Rectangle 53"/>
          <p:cNvSpPr/>
          <p:nvPr/>
        </p:nvSpPr>
        <p:spPr>
          <a:xfrm rot="10800000">
            <a:off x="453672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8" name="Rectangle 54"/>
          <p:cNvSpPr/>
          <p:nvPr/>
        </p:nvSpPr>
        <p:spPr>
          <a:xfrm rot="11122200">
            <a:off x="6360480" y="4930200"/>
            <a:ext cx="2119320" cy="82836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9" name="Rectangle 55"/>
          <p:cNvSpPr/>
          <p:nvPr/>
        </p:nvSpPr>
        <p:spPr>
          <a:xfrm rot="10800000">
            <a:off x="685440" y="4743360"/>
            <a:ext cx="2241720" cy="828720"/>
          </a:xfrm>
          <a:prstGeom prst="rect">
            <a:avLst/>
          </a:prstGeom>
          <a:solidFill>
            <a:srgbClr val="e8e8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grpSp>
        <p:nvGrpSpPr>
          <p:cNvPr id="640" name="组合 13349"/>
          <p:cNvGrpSpPr/>
          <p:nvPr/>
        </p:nvGrpSpPr>
        <p:grpSpPr>
          <a:xfrm>
            <a:off x="685800" y="2374920"/>
            <a:ext cx="2241720" cy="2371680"/>
            <a:chOff x="685800" y="2374920"/>
            <a:chExt cx="2241720" cy="2371680"/>
          </a:xfrm>
        </p:grpSpPr>
        <p:sp>
          <p:nvSpPr>
            <p:cNvPr id="641" name="Rectangle 57"/>
            <p:cNvSpPr/>
            <p:nvPr/>
          </p:nvSpPr>
          <p:spPr>
            <a:xfrm>
              <a:off x="685800" y="2374920"/>
              <a:ext cx="2241720" cy="237168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2" name="TextBox 58"/>
            <p:cNvSpPr/>
            <p:nvPr/>
          </p:nvSpPr>
          <p:spPr>
            <a:xfrm>
              <a:off x="1286640" y="2644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3" name="Oval 59"/>
            <p:cNvSpPr/>
            <p:nvPr/>
          </p:nvSpPr>
          <p:spPr>
            <a:xfrm>
              <a:off x="8420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4" name="Oval 60"/>
            <p:cNvSpPr/>
            <p:nvPr/>
          </p:nvSpPr>
          <p:spPr>
            <a:xfrm>
              <a:off x="2591640" y="2527200"/>
              <a:ext cx="209520" cy="209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5" name="TextBox 61"/>
            <p:cNvSpPr/>
            <p:nvPr/>
          </p:nvSpPr>
          <p:spPr>
            <a:xfrm>
              <a:off x="685800" y="268164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46" name="组合 13355"/>
          <p:cNvGrpSpPr/>
          <p:nvPr/>
        </p:nvGrpSpPr>
        <p:grpSpPr>
          <a:xfrm>
            <a:off x="2296080" y="2377080"/>
            <a:ext cx="2916720" cy="2993040"/>
            <a:chOff x="2296080" y="2377080"/>
            <a:chExt cx="2916720" cy="2993040"/>
          </a:xfrm>
        </p:grpSpPr>
        <p:sp>
          <p:nvSpPr>
            <p:cNvPr id="647" name="Rectangle 63"/>
            <p:cNvSpPr/>
            <p:nvPr/>
          </p:nvSpPr>
          <p:spPr>
            <a:xfrm rot="1201800">
              <a:off x="2633760" y="2689200"/>
              <a:ext cx="224136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8" name="TextBox 64"/>
            <p:cNvSpPr/>
            <p:nvPr/>
          </p:nvSpPr>
          <p:spPr>
            <a:xfrm rot="1201800">
              <a:off x="3193920" y="294048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0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49" name="Oval 65"/>
            <p:cNvSpPr/>
            <p:nvPr/>
          </p:nvSpPr>
          <p:spPr>
            <a:xfrm rot="1201800">
              <a:off x="3159360" y="260316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0" name="Oval 66"/>
            <p:cNvSpPr/>
            <p:nvPr/>
          </p:nvSpPr>
          <p:spPr>
            <a:xfrm rot="1201800">
              <a:off x="4802760" y="320220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1" name="TextBox 67"/>
            <p:cNvSpPr/>
            <p:nvPr/>
          </p:nvSpPr>
          <p:spPr>
            <a:xfrm rot="1201800">
              <a:off x="2871000" y="3037320"/>
              <a:ext cx="22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grpSp>
        <p:nvGrpSpPr>
          <p:cNvPr id="652" name="组合 13361"/>
          <p:cNvGrpSpPr/>
          <p:nvPr/>
        </p:nvGrpSpPr>
        <p:grpSpPr>
          <a:xfrm>
            <a:off x="6076800" y="2259720"/>
            <a:ext cx="2520720" cy="2630520"/>
            <a:chOff x="6076800" y="2259720"/>
            <a:chExt cx="2520720" cy="2630520"/>
          </a:xfrm>
        </p:grpSpPr>
        <p:sp>
          <p:nvSpPr>
            <p:cNvPr id="653" name="Rectangle 69"/>
            <p:cNvSpPr/>
            <p:nvPr/>
          </p:nvSpPr>
          <p:spPr>
            <a:xfrm rot="21168000">
              <a:off x="6216120" y="2390400"/>
              <a:ext cx="2241720" cy="23684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4" name="TextBox 70"/>
            <p:cNvSpPr/>
            <p:nvPr/>
          </p:nvSpPr>
          <p:spPr>
            <a:xfrm rot="21168000">
              <a:off x="6832800" y="2662200"/>
              <a:ext cx="980640" cy="20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0" spc="-1" strike="noStrike">
                  <a:solidFill>
                    <a:srgbClr val="d00202"/>
                  </a:solidFill>
                  <a:latin typeface="Arial Bold"/>
                </a:rPr>
                <a:t>2</a:t>
              </a:r>
              <a:endParaRPr b="0" lang="en-US" sz="130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5" name="Oval 71"/>
            <p:cNvSpPr/>
            <p:nvPr/>
          </p:nvSpPr>
          <p:spPr>
            <a:xfrm rot="21168000">
              <a:off x="6263280" y="2657880"/>
              <a:ext cx="209520" cy="20916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6" name="Oval 72"/>
            <p:cNvSpPr/>
            <p:nvPr/>
          </p:nvSpPr>
          <p:spPr>
            <a:xfrm rot="21168000">
              <a:off x="7999200" y="2438640"/>
              <a:ext cx="209520" cy="209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  <p:sp>
          <p:nvSpPr>
            <p:cNvPr id="657" name="TextBox 73"/>
            <p:cNvSpPr/>
            <p:nvPr/>
          </p:nvSpPr>
          <p:spPr>
            <a:xfrm rot="21168000">
              <a:off x="6129360" y="2702160"/>
              <a:ext cx="224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11111"/>
                  </a:solidFill>
                  <a:latin typeface="微软雅黑"/>
                </a:rPr>
                <a:t>YEAR</a:t>
              </a:r>
              <a:endParaRPr b="0" lang="en-US" sz="1800" spc="-1" strike="noStrike">
                <a:solidFill>
                  <a:srgbClr val="111111"/>
                </a:solidFill>
                <a:latin typeface="Arial"/>
              </a:endParaRPr>
            </a:p>
          </p:txBody>
        </p:sp>
      </p:grpSp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53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777777"/>
                </a:solidFill>
                <a:uFillTx/>
                <a:latin typeface="Arial"/>
              </a:rPr>
              <a:t>12 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形象</a:t>
            </a: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/</a:t>
            </a:r>
            <a:r>
              <a:rPr b="0" lang="zh-CN" sz="3200" spc="-1" strike="noStrike">
                <a:solidFill>
                  <a:srgbClr val="777777"/>
                </a:solidFill>
                <a:latin typeface="Arial"/>
              </a:rPr>
              <a:t>指代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615000" y="6453360"/>
            <a:ext cx="2133720" cy="268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24AC-1463-4DC4-8A9B-B0B42A52D40D}" type="slidenum">
              <a:rPr b="0" lang="zh-CN" sz="1200" spc="-1" strike="noStrike">
                <a:solidFill>
                  <a:srgbClr val="4b4b4b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06:2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1:03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