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EE40-3140-4206-87F1-F454A610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C306-92E7-4C0B-BEF1-5B8B7013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C298-512C-43C1-A862-5FB82976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D5FA-1B05-4545-8A93-A82FC7CB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FDED-FCBD-463F-836E-5036CCA5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EF06-9049-4848-BF6D-5DC294AB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BF82-4107-4EA2-96BC-AB127082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4407-9B0D-4459-91C4-1091846A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AC53-F6C6-44DE-92EC-C7061249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B27B-A202-41C0-BECA-520ADD3A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5440-03BD-4056-B945-046A3A01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9674-67DB-4242-A090-3D747A6D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CAE7-5020-4409-861C-2AD26371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EA5B-2A16-44D3-93C6-D0060B9C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A76A-E90A-4659-B9B7-8A33ABB8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A658-309D-4D4C-963C-C73ADFE2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1FEE-B7F3-4394-A2E6-8C013143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F5CA-BEDE-4699-8737-52D56AFF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B975-F74E-4805-9C3C-9EF8854C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CAFC-8D53-43FF-939F-3082155D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4FFD-F263-4F29-A2D1-B72B1916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9663-F1B2-4F76-BF76-DB3A6989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4DCD-7C40-4088-894C-64B71407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2B30-BA5C-4A43-A1F0-27E6B6C9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13716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18288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18288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18288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77E1-8FCB-4122-958A-ECEC3CFA6FFC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06F1-C1BB-47F1-A069-7B7D943027B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4E93-2F82-498E-B8DA-5591F37D052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11"/>
          <p:cNvSpPr/>
          <p:nvPr/>
        </p:nvSpPr>
        <p:spPr>
          <a:xfrm>
            <a:off x="2556000" y="299736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像</a:t>
            </a:r>
            <a:r>
              <a:rPr b="1" lang="zh-CN" sz="3600" spc="-1" strike="noStrike">
                <a:solidFill>
                  <a:srgbClr val="8fcf01"/>
                </a:solidFill>
                <a:latin typeface="华文楷体"/>
                <a:ea typeface="华文楷体"/>
              </a:rPr>
              <a:t>蚂</a:t>
            </a:r>
            <a:r>
              <a:rPr b="1" lang="zh-CN" sz="3600" spc="-1" strike="noStrike">
                <a:solidFill>
                  <a:srgbClr val="00b0f0"/>
                </a:solidFill>
                <a:latin typeface="华文楷体"/>
                <a:ea typeface="华文楷体"/>
              </a:rPr>
              <a:t>蚁</a:t>
            </a:r>
            <a:r>
              <a:rPr b="1" lang="zh-CN" sz="3600" spc="-1" strike="noStrike">
                <a:solidFill>
                  <a:srgbClr val="ffc000"/>
                </a:solidFill>
                <a:latin typeface="华文楷体"/>
                <a:ea typeface="华文楷体"/>
              </a:rPr>
              <a:t>一</a:t>
            </a:r>
            <a:r>
              <a:rPr b="1" lang="zh-CN" sz="3600" spc="-1" strike="noStrike">
                <a:solidFill>
                  <a:srgbClr val="e46c0a"/>
                </a:solidFill>
                <a:latin typeface="华文楷体"/>
                <a:ea typeface="华文楷体"/>
              </a:rPr>
              <a:t>样</a:t>
            </a:r>
            <a:r>
              <a:rPr b="1" lang="zh-CN" sz="3600" spc="-1" strike="noStrike">
                <a:solidFill>
                  <a:srgbClr val="ff5ba5"/>
                </a:solidFill>
                <a:latin typeface="华文楷体"/>
                <a:ea typeface="华文楷体"/>
              </a:rPr>
              <a:t>工</a:t>
            </a:r>
            <a:r>
              <a:rPr b="1" lang="zh-CN" sz="3600" spc="-1" strike="noStrike">
                <a:solidFill>
                  <a:srgbClr val="8fcf01"/>
                </a:solidFill>
                <a:latin typeface="华文楷体"/>
                <a:ea typeface="华文楷体"/>
              </a:rPr>
              <a:t>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像</a:t>
            </a:r>
            <a:r>
              <a:rPr b="1" lang="zh-CN" sz="3600" spc="-1" strike="noStrike">
                <a:solidFill>
                  <a:srgbClr val="8fcf01"/>
                </a:solidFill>
                <a:latin typeface="Arial"/>
                <a:ea typeface="华文楷体"/>
              </a:rPr>
              <a:t>蝴</a:t>
            </a:r>
            <a:r>
              <a:rPr b="1" lang="zh-CN" sz="3600" spc="-1" strike="noStrike">
                <a:solidFill>
                  <a:srgbClr val="00b0f0"/>
                </a:solidFill>
                <a:latin typeface="Arial"/>
                <a:ea typeface="华文楷体"/>
              </a:rPr>
              <a:t>蝶</a:t>
            </a:r>
            <a:r>
              <a:rPr b="1" lang="zh-CN" sz="3600" spc="-1" strike="noStrike">
                <a:solidFill>
                  <a:srgbClr val="ffc000"/>
                </a:solidFill>
                <a:latin typeface="Arial"/>
                <a:ea typeface="华文楷体"/>
              </a:rPr>
              <a:t>一</a:t>
            </a:r>
            <a:r>
              <a:rPr b="1" lang="zh-CN" sz="3600" spc="-1" strike="noStrike">
                <a:solidFill>
                  <a:srgbClr val="e46c0a"/>
                </a:solidFill>
                <a:latin typeface="Arial"/>
                <a:ea typeface="华文楷体"/>
              </a:rPr>
              <a:t>样</a:t>
            </a:r>
            <a:r>
              <a:rPr b="1" lang="zh-CN" sz="3600" spc="-1" strike="noStrike">
                <a:solidFill>
                  <a:srgbClr val="ff5ba5"/>
                </a:solidFill>
                <a:latin typeface="Arial"/>
                <a:ea typeface="华文楷体"/>
              </a:rPr>
              <a:t>生</a:t>
            </a:r>
            <a:r>
              <a:rPr b="1" lang="zh-CN" sz="3600" spc="-1" strike="noStrike">
                <a:solidFill>
                  <a:srgbClr val="8fcf01"/>
                </a:solidFill>
                <a:latin typeface="Arial"/>
                <a:ea typeface="华文楷体"/>
              </a:rPr>
              <a:t>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组合 3074"/>
          <p:cNvGrpSpPr/>
          <p:nvPr/>
        </p:nvGrpSpPr>
        <p:grpSpPr>
          <a:xfrm>
            <a:off x="2804760" y="1929960"/>
            <a:ext cx="3522600" cy="3522600"/>
            <a:chOff x="2804760" y="1929960"/>
            <a:chExt cx="3522600" cy="3522600"/>
          </a:xfrm>
        </p:grpSpPr>
        <p:sp>
          <p:nvSpPr>
            <p:cNvPr id="84" name="饼形 11"/>
            <p:cNvSpPr/>
            <p:nvPr/>
          </p:nvSpPr>
          <p:spPr>
            <a:xfrm rot="10800000">
              <a:off x="2804760" y="192996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饼形 9"/>
            <p:cNvSpPr/>
            <p:nvPr/>
          </p:nvSpPr>
          <p:spPr>
            <a:xfrm rot="10800000">
              <a:off x="3180960" y="229788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5" y="2355352"/>
                  </a:moveTo>
                  <a:cubicBezTo>
                    <a:pt x="2122221" y="2611372"/>
                    <a:pt x="1772201" y="2770179"/>
                    <a:pt x="1385090" y="2770179"/>
                  </a:cubicBezTo>
                  <a:cubicBezTo>
                    <a:pt x="1383656" y="2770179"/>
                    <a:pt x="1382222" y="2770177"/>
                    <a:pt x="1380811" y="2770173"/>
                  </a:cubicBezTo>
                  <a:lnTo>
                    <a:pt x="1385090" y="1385089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饼形 8"/>
            <p:cNvSpPr/>
            <p:nvPr/>
          </p:nvSpPr>
          <p:spPr>
            <a:xfrm rot="10800000">
              <a:off x="3431520" y="254880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5"/>
                  </a:moveTo>
                  <a:cubicBezTo>
                    <a:pt x="1730614" y="2129502"/>
                    <a:pt x="1445182" y="2259005"/>
                    <a:pt x="1129503" y="2259005"/>
                  </a:cubicBezTo>
                  <a:cubicBezTo>
                    <a:pt x="1126379" y="2259005"/>
                    <a:pt x="1123257" y="2258992"/>
                    <a:pt x="1120187" y="2258967"/>
                  </a:cubicBezTo>
                  <a:lnTo>
                    <a:pt x="1129503" y="1129503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饼形 7"/>
            <p:cNvSpPr/>
            <p:nvPr/>
          </p:nvSpPr>
          <p:spPr>
            <a:xfrm rot="10800000">
              <a:off x="3674520" y="278568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6" y="1504994"/>
                  </a:moveTo>
                  <a:cubicBezTo>
                    <a:pt x="1356031" y="1668582"/>
                    <a:pt x="1132380" y="1770055"/>
                    <a:pt x="885028" y="1770055"/>
                  </a:cubicBezTo>
                  <a:cubicBezTo>
                    <a:pt x="880981" y="1770055"/>
                    <a:pt x="876940" y="1770028"/>
                    <a:pt x="872966" y="1769974"/>
                  </a:cubicBezTo>
                  <a:lnTo>
                    <a:pt x="885028" y="885028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饼形 6"/>
            <p:cNvSpPr/>
            <p:nvPr/>
          </p:nvSpPr>
          <p:spPr>
            <a:xfrm rot="10800000">
              <a:off x="3832200" y="295272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1" y="1244399"/>
                  </a:moveTo>
                  <a:cubicBezTo>
                    <a:pt x="1114039" y="1376908"/>
                    <a:pt x="931323" y="1458908"/>
                    <a:pt x="729454" y="1458908"/>
                  </a:cubicBezTo>
                  <a:cubicBezTo>
                    <a:pt x="726085" y="1458908"/>
                    <a:pt x="722721" y="1458885"/>
                    <a:pt x="719413" y="1458840"/>
                  </a:cubicBezTo>
                  <a:lnTo>
                    <a:pt x="729454" y="729454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组合 3080"/>
          <p:cNvGrpSpPr/>
          <p:nvPr/>
        </p:nvGrpSpPr>
        <p:grpSpPr>
          <a:xfrm>
            <a:off x="2804400" y="1928520"/>
            <a:ext cx="3522600" cy="3522600"/>
            <a:chOff x="2804400" y="1928520"/>
            <a:chExt cx="3522600" cy="3522600"/>
          </a:xfrm>
        </p:grpSpPr>
        <p:sp>
          <p:nvSpPr>
            <p:cNvPr id="90" name="饼形 16"/>
            <p:cNvSpPr/>
            <p:nvPr/>
          </p:nvSpPr>
          <p:spPr>
            <a:xfrm flipH="1" rot="10800000">
              <a:off x="2804040" y="192852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饼形 17"/>
            <p:cNvSpPr/>
            <p:nvPr/>
          </p:nvSpPr>
          <p:spPr>
            <a:xfrm flipH="1" rot="10800000">
              <a:off x="3180240" y="229680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5" y="2355352"/>
                  </a:moveTo>
                  <a:cubicBezTo>
                    <a:pt x="2122221" y="2611372"/>
                    <a:pt x="1772201" y="2770179"/>
                    <a:pt x="1385090" y="2770179"/>
                  </a:cubicBezTo>
                  <a:cubicBezTo>
                    <a:pt x="1383656" y="2770179"/>
                    <a:pt x="1382222" y="2770177"/>
                    <a:pt x="1380811" y="2770173"/>
                  </a:cubicBezTo>
                  <a:lnTo>
                    <a:pt x="1385090" y="1385089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饼形 18"/>
            <p:cNvSpPr/>
            <p:nvPr/>
          </p:nvSpPr>
          <p:spPr>
            <a:xfrm flipH="1" rot="10800000">
              <a:off x="3440520" y="254736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5"/>
                  </a:moveTo>
                  <a:cubicBezTo>
                    <a:pt x="1730614" y="2129502"/>
                    <a:pt x="1445182" y="2259005"/>
                    <a:pt x="1129503" y="2259005"/>
                  </a:cubicBezTo>
                  <a:cubicBezTo>
                    <a:pt x="1126379" y="2259005"/>
                    <a:pt x="1123257" y="2258992"/>
                    <a:pt x="1120187" y="2258967"/>
                  </a:cubicBezTo>
                  <a:lnTo>
                    <a:pt x="1129503" y="1129503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饼形 19"/>
            <p:cNvSpPr/>
            <p:nvPr/>
          </p:nvSpPr>
          <p:spPr>
            <a:xfrm flipH="1" rot="10800000">
              <a:off x="3686760" y="278424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8">
                  <a:moveTo>
                    <a:pt x="1516626" y="1504996"/>
                  </a:moveTo>
                  <a:cubicBezTo>
                    <a:pt x="1356032" y="1668585"/>
                    <a:pt x="1132380" y="1770058"/>
                    <a:pt x="885028" y="1770058"/>
                  </a:cubicBezTo>
                  <a:cubicBezTo>
                    <a:pt x="880981" y="1770058"/>
                    <a:pt x="876940" y="1770031"/>
                    <a:pt x="872966" y="1769977"/>
                  </a:cubicBezTo>
                  <a:lnTo>
                    <a:pt x="885028" y="885029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饼形 20"/>
            <p:cNvSpPr/>
            <p:nvPr/>
          </p:nvSpPr>
          <p:spPr>
            <a:xfrm flipH="1" rot="10800000">
              <a:off x="3841560" y="295128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1" y="1244399"/>
                  </a:moveTo>
                  <a:cubicBezTo>
                    <a:pt x="1114039" y="1376908"/>
                    <a:pt x="931323" y="1458908"/>
                    <a:pt x="729454" y="1458908"/>
                  </a:cubicBezTo>
                  <a:cubicBezTo>
                    <a:pt x="726085" y="1458908"/>
                    <a:pt x="722721" y="1458885"/>
                    <a:pt x="719413" y="1458840"/>
                  </a:cubicBezTo>
                  <a:lnTo>
                    <a:pt x="729454" y="729454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组合 3086"/>
          <p:cNvGrpSpPr/>
          <p:nvPr/>
        </p:nvGrpSpPr>
        <p:grpSpPr>
          <a:xfrm>
            <a:off x="2777760" y="1915560"/>
            <a:ext cx="3522600" cy="3522600"/>
            <a:chOff x="2777760" y="1915560"/>
            <a:chExt cx="3522600" cy="3522600"/>
          </a:xfrm>
        </p:grpSpPr>
        <p:sp>
          <p:nvSpPr>
            <p:cNvPr id="96" name="饼形 24"/>
            <p:cNvSpPr/>
            <p:nvPr/>
          </p:nvSpPr>
          <p:spPr>
            <a:xfrm flipV="1" rot="10800000">
              <a:off x="2777760" y="191520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饼形 25"/>
            <p:cNvSpPr/>
            <p:nvPr/>
          </p:nvSpPr>
          <p:spPr>
            <a:xfrm flipV="1" rot="10800000">
              <a:off x="3153960" y="229932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1"/>
                  </a:moveTo>
                  <a:cubicBezTo>
                    <a:pt x="2122220" y="2611371"/>
                    <a:pt x="1772200" y="2770178"/>
                    <a:pt x="1385089" y="2770178"/>
                  </a:cubicBezTo>
                  <a:cubicBezTo>
                    <a:pt x="1383655" y="2770178"/>
                    <a:pt x="1382221" y="2770176"/>
                    <a:pt x="1380810" y="2770172"/>
                  </a:cubicBezTo>
                  <a:lnTo>
                    <a:pt x="1385089" y="1385089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饼形 26"/>
            <p:cNvSpPr/>
            <p:nvPr/>
          </p:nvSpPr>
          <p:spPr>
            <a:xfrm flipV="1" rot="10800000">
              <a:off x="3404520" y="255960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5"/>
                  </a:moveTo>
                  <a:cubicBezTo>
                    <a:pt x="1730614" y="2129503"/>
                    <a:pt x="1445182" y="2259006"/>
                    <a:pt x="1129503" y="2259006"/>
                  </a:cubicBezTo>
                  <a:cubicBezTo>
                    <a:pt x="1126379" y="2259006"/>
                    <a:pt x="1123257" y="2258993"/>
                    <a:pt x="1120187" y="2258968"/>
                  </a:cubicBezTo>
                  <a:lnTo>
                    <a:pt x="1129502" y="1129503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饼形 27"/>
            <p:cNvSpPr/>
            <p:nvPr/>
          </p:nvSpPr>
          <p:spPr>
            <a:xfrm flipV="1" rot="10800000">
              <a:off x="3647520" y="281196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8">
                  <a:moveTo>
                    <a:pt x="1516626" y="1504996"/>
                  </a:moveTo>
                  <a:cubicBezTo>
                    <a:pt x="1356032" y="1668585"/>
                    <a:pt x="1132380" y="1770058"/>
                    <a:pt x="885028" y="1770058"/>
                  </a:cubicBezTo>
                  <a:cubicBezTo>
                    <a:pt x="880981" y="1770058"/>
                    <a:pt x="876940" y="1770031"/>
                    <a:pt x="872966" y="1769977"/>
                  </a:cubicBezTo>
                  <a:lnTo>
                    <a:pt x="885028" y="885029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饼形 28"/>
            <p:cNvSpPr/>
            <p:nvPr/>
          </p:nvSpPr>
          <p:spPr>
            <a:xfrm flipV="1" rot="10800000">
              <a:off x="3805200" y="295776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46110" y="1244399"/>
                  </a:moveTo>
                  <a:cubicBezTo>
                    <a:pt x="1114038" y="1376908"/>
                    <a:pt x="931321" y="1458908"/>
                    <a:pt x="729453" y="1458908"/>
                  </a:cubicBezTo>
                  <a:cubicBezTo>
                    <a:pt x="726084" y="1458908"/>
                    <a:pt x="722720" y="1458885"/>
                    <a:pt x="719412" y="1458840"/>
                  </a:cubicBezTo>
                  <a:lnTo>
                    <a:pt x="729453" y="729454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组合 3092"/>
          <p:cNvGrpSpPr/>
          <p:nvPr/>
        </p:nvGrpSpPr>
        <p:grpSpPr>
          <a:xfrm>
            <a:off x="2799720" y="1928160"/>
            <a:ext cx="3522600" cy="3522600"/>
            <a:chOff x="2799720" y="1928160"/>
            <a:chExt cx="3522600" cy="3522600"/>
          </a:xfrm>
        </p:grpSpPr>
        <p:sp>
          <p:nvSpPr>
            <p:cNvPr id="102" name="饼形 31"/>
            <p:cNvSpPr/>
            <p:nvPr/>
          </p:nvSpPr>
          <p:spPr>
            <a:xfrm flipH="1" flipV="1" rot="10800000">
              <a:off x="2799360" y="192780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饼形 32"/>
            <p:cNvSpPr/>
            <p:nvPr/>
          </p:nvSpPr>
          <p:spPr>
            <a:xfrm flipH="1" flipV="1" rot="10800000">
              <a:off x="3175560" y="231192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1"/>
                  </a:moveTo>
                  <a:cubicBezTo>
                    <a:pt x="2122220" y="2611371"/>
                    <a:pt x="1772200" y="2770178"/>
                    <a:pt x="1385089" y="2770178"/>
                  </a:cubicBezTo>
                  <a:cubicBezTo>
                    <a:pt x="1383657" y="2770178"/>
                    <a:pt x="1382225" y="2770176"/>
                    <a:pt x="1380816" y="2770172"/>
                  </a:cubicBezTo>
                  <a:lnTo>
                    <a:pt x="138508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饼形 33"/>
            <p:cNvSpPr/>
            <p:nvPr/>
          </p:nvSpPr>
          <p:spPr>
            <a:xfrm flipH="1" flipV="1" rot="10800000">
              <a:off x="3435840" y="257220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5"/>
                  </a:moveTo>
                  <a:cubicBezTo>
                    <a:pt x="1730614" y="2129503"/>
                    <a:pt x="1445182" y="2259006"/>
                    <a:pt x="1129503" y="2259006"/>
                  </a:cubicBezTo>
                  <a:cubicBezTo>
                    <a:pt x="1126379" y="2259006"/>
                    <a:pt x="1123257" y="2258993"/>
                    <a:pt x="1120187" y="2258968"/>
                  </a:cubicBezTo>
                  <a:lnTo>
                    <a:pt x="1129502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饼形 34"/>
            <p:cNvSpPr/>
            <p:nvPr/>
          </p:nvSpPr>
          <p:spPr>
            <a:xfrm flipH="1" flipV="1" rot="10800000">
              <a:off x="3682080" y="282456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8">
                  <a:moveTo>
                    <a:pt x="1516626" y="1504996"/>
                  </a:moveTo>
                  <a:cubicBezTo>
                    <a:pt x="1356032" y="1668585"/>
                    <a:pt x="1132380" y="1770058"/>
                    <a:pt x="885028" y="1770058"/>
                  </a:cubicBezTo>
                  <a:cubicBezTo>
                    <a:pt x="880981" y="1770058"/>
                    <a:pt x="876940" y="1770031"/>
                    <a:pt x="872966" y="1769977"/>
                  </a:cubicBezTo>
                  <a:lnTo>
                    <a:pt x="885028" y="885029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饼形 35"/>
            <p:cNvSpPr/>
            <p:nvPr/>
          </p:nvSpPr>
          <p:spPr>
            <a:xfrm flipH="1" flipV="1" rot="10800000">
              <a:off x="3836880" y="297036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46110" y="1244399"/>
                  </a:moveTo>
                  <a:cubicBezTo>
                    <a:pt x="1114038" y="1376908"/>
                    <a:pt x="931321" y="1458908"/>
                    <a:pt x="729453" y="1458908"/>
                  </a:cubicBezTo>
                  <a:cubicBezTo>
                    <a:pt x="726084" y="1458908"/>
                    <a:pt x="722720" y="1458885"/>
                    <a:pt x="719412" y="1458840"/>
                  </a:cubicBezTo>
                  <a:lnTo>
                    <a:pt x="729453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组合 3098"/>
          <p:cNvGrpSpPr/>
          <p:nvPr/>
        </p:nvGrpSpPr>
        <p:grpSpPr>
          <a:xfrm>
            <a:off x="2777400" y="1922760"/>
            <a:ext cx="3522600" cy="3522600"/>
            <a:chOff x="2777400" y="1922760"/>
            <a:chExt cx="3522600" cy="3522600"/>
          </a:xfrm>
        </p:grpSpPr>
        <p:sp>
          <p:nvSpPr>
            <p:cNvPr id="108" name="饼形 38"/>
            <p:cNvSpPr/>
            <p:nvPr/>
          </p:nvSpPr>
          <p:spPr>
            <a:xfrm flipH="1" flipV="1" rot="5400000">
              <a:off x="2777040" y="192240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饼形 39"/>
            <p:cNvSpPr/>
            <p:nvPr/>
          </p:nvSpPr>
          <p:spPr>
            <a:xfrm flipH="1" flipV="1" rot="5400000">
              <a:off x="3161160" y="229860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5" y="2355352"/>
                  </a:moveTo>
                  <a:cubicBezTo>
                    <a:pt x="2122221" y="2611372"/>
                    <a:pt x="1772201" y="2770179"/>
                    <a:pt x="1385090" y="2770179"/>
                  </a:cubicBezTo>
                  <a:cubicBezTo>
                    <a:pt x="1383658" y="2770179"/>
                    <a:pt x="1382226" y="2770177"/>
                    <a:pt x="1380817" y="2770173"/>
                  </a:cubicBezTo>
                  <a:lnTo>
                    <a:pt x="1385090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饼形 40"/>
            <p:cNvSpPr/>
            <p:nvPr/>
          </p:nvSpPr>
          <p:spPr>
            <a:xfrm flipH="1" flipV="1" rot="5400000">
              <a:off x="3421440" y="254952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5"/>
                  </a:moveTo>
                  <a:cubicBezTo>
                    <a:pt x="1730614" y="2129502"/>
                    <a:pt x="1445182" y="2259005"/>
                    <a:pt x="1129503" y="2259005"/>
                  </a:cubicBezTo>
                  <a:cubicBezTo>
                    <a:pt x="1126379" y="2259005"/>
                    <a:pt x="1123257" y="2258992"/>
                    <a:pt x="1120187" y="2258967"/>
                  </a:cubicBezTo>
                  <a:lnTo>
                    <a:pt x="1129503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饼形 41"/>
            <p:cNvSpPr/>
            <p:nvPr/>
          </p:nvSpPr>
          <p:spPr>
            <a:xfrm flipH="1" flipV="1" rot="5400000">
              <a:off x="3673800" y="279216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6" y="1504994"/>
                  </a:moveTo>
                  <a:cubicBezTo>
                    <a:pt x="1356031" y="1668582"/>
                    <a:pt x="1132380" y="1770055"/>
                    <a:pt x="885028" y="1770055"/>
                  </a:cubicBezTo>
                  <a:cubicBezTo>
                    <a:pt x="880981" y="1770055"/>
                    <a:pt x="876940" y="1770028"/>
                    <a:pt x="872966" y="1769974"/>
                  </a:cubicBezTo>
                  <a:lnTo>
                    <a:pt x="885028" y="885028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饼形 42"/>
            <p:cNvSpPr/>
            <p:nvPr/>
          </p:nvSpPr>
          <p:spPr>
            <a:xfrm flipH="1" flipV="1" rot="5400000">
              <a:off x="3819600" y="294948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1" y="1244399"/>
                  </a:moveTo>
                  <a:cubicBezTo>
                    <a:pt x="1114039" y="1376908"/>
                    <a:pt x="931323" y="1458908"/>
                    <a:pt x="729454" y="1458908"/>
                  </a:cubicBezTo>
                  <a:cubicBezTo>
                    <a:pt x="726085" y="1458908"/>
                    <a:pt x="722721" y="1458885"/>
                    <a:pt x="719413" y="1458840"/>
                  </a:cubicBezTo>
                  <a:lnTo>
                    <a:pt x="729454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组合 3104"/>
          <p:cNvGrpSpPr/>
          <p:nvPr/>
        </p:nvGrpSpPr>
        <p:grpSpPr>
          <a:xfrm>
            <a:off x="2771640" y="1916280"/>
            <a:ext cx="3522960" cy="3522600"/>
            <a:chOff x="2771640" y="1916280"/>
            <a:chExt cx="3522960" cy="3522600"/>
          </a:xfrm>
        </p:grpSpPr>
        <p:sp>
          <p:nvSpPr>
            <p:cNvPr id="114" name="饼形 45"/>
            <p:cNvSpPr/>
            <p:nvPr/>
          </p:nvSpPr>
          <p:spPr>
            <a:xfrm rot="5400000">
              <a:off x="2771640" y="1915920"/>
              <a:ext cx="3522600" cy="35229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饼形 46"/>
            <p:cNvSpPr/>
            <p:nvPr/>
          </p:nvSpPr>
          <p:spPr>
            <a:xfrm rot="5400000">
              <a:off x="3139920" y="2292120"/>
              <a:ext cx="2770200" cy="277056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5" y="2355352"/>
                  </a:moveTo>
                  <a:cubicBezTo>
                    <a:pt x="2122221" y="2611372"/>
                    <a:pt x="1772201" y="2770179"/>
                    <a:pt x="1385090" y="2770179"/>
                  </a:cubicBezTo>
                  <a:cubicBezTo>
                    <a:pt x="1383658" y="2770179"/>
                    <a:pt x="1382226" y="2770177"/>
                    <a:pt x="1380817" y="2770173"/>
                  </a:cubicBezTo>
                  <a:lnTo>
                    <a:pt x="1385090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饼形 47"/>
            <p:cNvSpPr/>
            <p:nvPr/>
          </p:nvSpPr>
          <p:spPr>
            <a:xfrm rot="5400000">
              <a:off x="3390840" y="2552400"/>
              <a:ext cx="2259000" cy="225936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5"/>
                  </a:moveTo>
                  <a:cubicBezTo>
                    <a:pt x="1730614" y="2129502"/>
                    <a:pt x="1445182" y="2259005"/>
                    <a:pt x="1129503" y="2259005"/>
                  </a:cubicBezTo>
                  <a:cubicBezTo>
                    <a:pt x="1126379" y="2259005"/>
                    <a:pt x="1123257" y="2258992"/>
                    <a:pt x="1120187" y="2258967"/>
                  </a:cubicBezTo>
                  <a:lnTo>
                    <a:pt x="1129503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饼形 48"/>
            <p:cNvSpPr/>
            <p:nvPr/>
          </p:nvSpPr>
          <p:spPr>
            <a:xfrm rot="5400000">
              <a:off x="3627000" y="279900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6" y="1504994"/>
                  </a:moveTo>
                  <a:cubicBezTo>
                    <a:pt x="1356031" y="1668582"/>
                    <a:pt x="1132380" y="1770055"/>
                    <a:pt x="885028" y="1770055"/>
                  </a:cubicBezTo>
                  <a:cubicBezTo>
                    <a:pt x="880981" y="1770055"/>
                    <a:pt x="876940" y="1770028"/>
                    <a:pt x="872966" y="1769974"/>
                  </a:cubicBezTo>
                  <a:lnTo>
                    <a:pt x="885028" y="885028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饼形 49"/>
            <p:cNvSpPr/>
            <p:nvPr/>
          </p:nvSpPr>
          <p:spPr>
            <a:xfrm rot="5400000">
              <a:off x="3793680" y="2952360"/>
              <a:ext cx="1458720" cy="145908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1" y="1244399"/>
                  </a:moveTo>
                  <a:cubicBezTo>
                    <a:pt x="1114039" y="1376908"/>
                    <a:pt x="931323" y="1458908"/>
                    <a:pt x="729454" y="1458908"/>
                  </a:cubicBezTo>
                  <a:cubicBezTo>
                    <a:pt x="726085" y="1458908"/>
                    <a:pt x="722721" y="1458885"/>
                    <a:pt x="719413" y="1458840"/>
                  </a:cubicBezTo>
                  <a:lnTo>
                    <a:pt x="729454" y="729454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组合 3110"/>
          <p:cNvGrpSpPr/>
          <p:nvPr/>
        </p:nvGrpSpPr>
        <p:grpSpPr>
          <a:xfrm>
            <a:off x="2798640" y="1928880"/>
            <a:ext cx="3522960" cy="3522600"/>
            <a:chOff x="2798640" y="1928880"/>
            <a:chExt cx="3522960" cy="3522600"/>
          </a:xfrm>
        </p:grpSpPr>
        <p:sp>
          <p:nvSpPr>
            <p:cNvPr id="120" name="饼形 52"/>
            <p:cNvSpPr/>
            <p:nvPr/>
          </p:nvSpPr>
          <p:spPr>
            <a:xfrm flipH="1" rot="16200000">
              <a:off x="2798640" y="1928520"/>
              <a:ext cx="3522600" cy="35229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饼形 53"/>
            <p:cNvSpPr/>
            <p:nvPr/>
          </p:nvSpPr>
          <p:spPr>
            <a:xfrm flipH="1" rot="16200000">
              <a:off x="3182760" y="2304720"/>
              <a:ext cx="2770200" cy="277056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5" y="2355352"/>
                  </a:moveTo>
                  <a:cubicBezTo>
                    <a:pt x="2122221" y="2611372"/>
                    <a:pt x="1772201" y="2770179"/>
                    <a:pt x="1385090" y="2770179"/>
                  </a:cubicBezTo>
                  <a:cubicBezTo>
                    <a:pt x="1383658" y="2770179"/>
                    <a:pt x="1382226" y="2770177"/>
                    <a:pt x="1380817" y="2770173"/>
                  </a:cubicBezTo>
                  <a:lnTo>
                    <a:pt x="1385090" y="138508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饼形 54"/>
            <p:cNvSpPr/>
            <p:nvPr/>
          </p:nvSpPr>
          <p:spPr>
            <a:xfrm flipH="1" rot="16200000">
              <a:off x="3443040" y="2565000"/>
              <a:ext cx="2259000" cy="225936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5"/>
                  </a:moveTo>
                  <a:cubicBezTo>
                    <a:pt x="1730614" y="2129502"/>
                    <a:pt x="1445182" y="2259005"/>
                    <a:pt x="1129503" y="2259005"/>
                  </a:cubicBezTo>
                  <a:cubicBezTo>
                    <a:pt x="1126379" y="2259005"/>
                    <a:pt x="1123257" y="2258992"/>
                    <a:pt x="1120187" y="2258967"/>
                  </a:cubicBezTo>
                  <a:lnTo>
                    <a:pt x="1129503" y="1129503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饼形 55"/>
            <p:cNvSpPr/>
            <p:nvPr/>
          </p:nvSpPr>
          <p:spPr>
            <a:xfrm flipH="1" rot="16200000">
              <a:off x="3694320" y="281160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8">
                  <a:moveTo>
                    <a:pt x="1516626" y="1504996"/>
                  </a:moveTo>
                  <a:cubicBezTo>
                    <a:pt x="1356032" y="1668585"/>
                    <a:pt x="1132380" y="1770058"/>
                    <a:pt x="885028" y="1770058"/>
                  </a:cubicBezTo>
                  <a:cubicBezTo>
                    <a:pt x="880981" y="1770058"/>
                    <a:pt x="876940" y="1770031"/>
                    <a:pt x="872966" y="1769977"/>
                  </a:cubicBezTo>
                  <a:lnTo>
                    <a:pt x="885028" y="885029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饼形 56"/>
            <p:cNvSpPr/>
            <p:nvPr/>
          </p:nvSpPr>
          <p:spPr>
            <a:xfrm flipH="1" rot="16200000">
              <a:off x="3839040" y="2964960"/>
              <a:ext cx="1458720" cy="145908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50203" y="1240261"/>
                  </a:moveTo>
                  <a:cubicBezTo>
                    <a:pt x="1117826" y="1375199"/>
                    <a:pt x="933416" y="1458908"/>
                    <a:pt x="729455" y="1458908"/>
                  </a:cubicBezTo>
                  <a:cubicBezTo>
                    <a:pt x="726086" y="1458908"/>
                    <a:pt x="722722" y="1458885"/>
                    <a:pt x="719414" y="1458840"/>
                  </a:cubicBezTo>
                  <a:lnTo>
                    <a:pt x="729454" y="729454"/>
                  </a:lnTo>
                  <a:close/>
                </a:path>
              </a:pathLst>
            </a:cu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组合 3116"/>
          <p:cNvGrpSpPr/>
          <p:nvPr/>
        </p:nvGrpSpPr>
        <p:grpSpPr>
          <a:xfrm>
            <a:off x="2777760" y="1922040"/>
            <a:ext cx="3522600" cy="3522600"/>
            <a:chOff x="2777760" y="1922040"/>
            <a:chExt cx="3522600" cy="3522600"/>
          </a:xfrm>
        </p:grpSpPr>
        <p:sp>
          <p:nvSpPr>
            <p:cNvPr id="126" name="饼形 60"/>
            <p:cNvSpPr/>
            <p:nvPr/>
          </p:nvSpPr>
          <p:spPr>
            <a:xfrm flipV="1" rot="16200000">
              <a:off x="2777760" y="192168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饼形 61"/>
            <p:cNvSpPr/>
            <p:nvPr/>
          </p:nvSpPr>
          <p:spPr>
            <a:xfrm flipV="1" rot="16200000">
              <a:off x="3146040" y="229788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5" y="2355352"/>
                  </a:moveTo>
                  <a:cubicBezTo>
                    <a:pt x="2122221" y="2611372"/>
                    <a:pt x="1772201" y="2770179"/>
                    <a:pt x="1385090" y="2770179"/>
                  </a:cubicBezTo>
                  <a:cubicBezTo>
                    <a:pt x="1383658" y="2770179"/>
                    <a:pt x="1382226" y="2770177"/>
                    <a:pt x="1380817" y="2770173"/>
                  </a:cubicBezTo>
                  <a:lnTo>
                    <a:pt x="1385090" y="1385089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饼形 62"/>
            <p:cNvSpPr/>
            <p:nvPr/>
          </p:nvSpPr>
          <p:spPr>
            <a:xfrm flipV="1" rot="16200000">
              <a:off x="3396600" y="254844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5"/>
                  </a:moveTo>
                  <a:cubicBezTo>
                    <a:pt x="1730614" y="2129502"/>
                    <a:pt x="1445182" y="2259005"/>
                    <a:pt x="1129503" y="2259005"/>
                  </a:cubicBezTo>
                  <a:cubicBezTo>
                    <a:pt x="1126379" y="2259005"/>
                    <a:pt x="1123257" y="2258992"/>
                    <a:pt x="1120187" y="2258967"/>
                  </a:cubicBezTo>
                  <a:lnTo>
                    <a:pt x="1129503" y="1129503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饼形 63"/>
            <p:cNvSpPr/>
            <p:nvPr/>
          </p:nvSpPr>
          <p:spPr>
            <a:xfrm flipV="1" rot="16200000">
              <a:off x="3633480" y="279144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6" y="1504994"/>
                  </a:moveTo>
                  <a:cubicBezTo>
                    <a:pt x="1356031" y="1668582"/>
                    <a:pt x="1132380" y="1770055"/>
                    <a:pt x="885028" y="1770055"/>
                  </a:cubicBezTo>
                  <a:cubicBezTo>
                    <a:pt x="880981" y="1770055"/>
                    <a:pt x="876940" y="1770028"/>
                    <a:pt x="872966" y="1769974"/>
                  </a:cubicBezTo>
                  <a:lnTo>
                    <a:pt x="885028" y="885028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饼形 64"/>
            <p:cNvSpPr/>
            <p:nvPr/>
          </p:nvSpPr>
          <p:spPr>
            <a:xfrm flipV="1" rot="16200000">
              <a:off x="3800520" y="294948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1" y="1244399"/>
                  </a:moveTo>
                  <a:cubicBezTo>
                    <a:pt x="1114039" y="1376908"/>
                    <a:pt x="931323" y="1458908"/>
                    <a:pt x="729454" y="1458908"/>
                  </a:cubicBezTo>
                  <a:cubicBezTo>
                    <a:pt x="726085" y="1458908"/>
                    <a:pt x="722721" y="1458885"/>
                    <a:pt x="719413" y="1458840"/>
                  </a:cubicBezTo>
                  <a:lnTo>
                    <a:pt x="729454" y="729454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文本框 6"/>
          <p:cNvSpPr/>
          <p:nvPr/>
        </p:nvSpPr>
        <p:spPr>
          <a:xfrm>
            <a:off x="2012760" y="6922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努力工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96296E-006 L 0.17395 -0.53796 E">
                                      <p:cBhvr>
                                        <p:cTn id="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-0.16476 -0.53819 E">
                                      <p:cBhvr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-0.49878 -0.27825 E">
                                      <p:cBhvr>
                                        <p:cTn id="1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96296E-006 L -0.49896 0.25602 E">
                                      <p:cBhvr>
                                        <p:cTn id="12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-0.14843 0.46204 E">
                                      <p:cBhvr>
                                        <p:cTn id="1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0.14289 0.46204 E">
                                      <p:cBhvr>
                                        <p:cTn id="1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0.50139 0.26644 E">
                                      <p:cBhvr>
                                        <p:cTn id="18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0.50156 -0.25879 E">
                                      <p:cBhvr>
                                        <p:cTn id="2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04046E-006 L 0.17395 -0.53734 E">
                                      <p:cBhvr>
                                        <p:cTn id="23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5434E-006 L 0.50156 -0.25849 E">
                                      <p:cBhvr>
                                        <p:cTn id="25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04046E-006 L 0.50139 0.26613 E">
                                      <p:cBhvr>
                                        <p:cTn id="27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04046E-006 L 0.14289 0.4615 E">
                                      <p:cBhvr>
                                        <p:cTn id="2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04046E-006 L -0.14843 0.4615 E">
                                      <p:cBhvr>
                                        <p:cTn id="31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04046E-006 L -0.49896 0.25572 E">
                                      <p:cBhvr>
                                        <p:cTn id="33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9711E-006 L -0.49878 -0.27791 E">
                                      <p:cBhvr>
                                        <p:cTn id="3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5434E-006 L -0.16476 -0.53757 E">
                                      <p:cBhvr>
                                        <p:cTn id="3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组合 4097"/>
          <p:cNvGrpSpPr/>
          <p:nvPr/>
        </p:nvGrpSpPr>
        <p:grpSpPr>
          <a:xfrm>
            <a:off x="-360" y="-1758960"/>
            <a:ext cx="3522600" cy="3519360"/>
            <a:chOff x="-360" y="-1758960"/>
            <a:chExt cx="3522600" cy="3519360"/>
          </a:xfrm>
        </p:grpSpPr>
        <p:sp>
          <p:nvSpPr>
            <p:cNvPr id="134" name="饼形 45"/>
            <p:cNvSpPr/>
            <p:nvPr/>
          </p:nvSpPr>
          <p:spPr>
            <a:xfrm rot="5400000">
              <a:off x="1080" y="-176040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饼形 46"/>
            <p:cNvSpPr/>
            <p:nvPr/>
          </p:nvSpPr>
          <p:spPr>
            <a:xfrm rot="5400000">
              <a:off x="369000" y="-138420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饼形 47"/>
            <p:cNvSpPr/>
            <p:nvPr/>
          </p:nvSpPr>
          <p:spPr>
            <a:xfrm rot="5400000">
              <a:off x="619560" y="-112356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饼形 48"/>
            <p:cNvSpPr/>
            <p:nvPr/>
          </p:nvSpPr>
          <p:spPr>
            <a:xfrm rot="5400000">
              <a:off x="856440" y="-8776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8" y="1504854"/>
                  </a:moveTo>
                  <a:cubicBezTo>
                    <a:pt x="1355556" y="1668525"/>
                    <a:pt x="1131946" y="1770056"/>
                    <a:pt x="884634" y="1770056"/>
                  </a:cubicBezTo>
                  <a:cubicBezTo>
                    <a:pt x="880587" y="1770056"/>
                    <a:pt x="876546" y="1770029"/>
                    <a:pt x="872572" y="1769975"/>
                  </a:cubicBezTo>
                  <a:lnTo>
                    <a:pt x="884634" y="885028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饼形 49"/>
            <p:cNvSpPr/>
            <p:nvPr/>
          </p:nvSpPr>
          <p:spPr>
            <a:xfrm rot="5400000">
              <a:off x="1023120" y="-72360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组合 4103"/>
          <p:cNvGrpSpPr/>
          <p:nvPr/>
        </p:nvGrpSpPr>
        <p:grpSpPr>
          <a:xfrm>
            <a:off x="7383600" y="-360"/>
            <a:ext cx="3520800" cy="3522600"/>
            <a:chOff x="7383600" y="-360"/>
            <a:chExt cx="3520800" cy="3522600"/>
          </a:xfrm>
        </p:grpSpPr>
        <p:sp>
          <p:nvSpPr>
            <p:cNvPr id="140" name="饼形 11"/>
            <p:cNvSpPr/>
            <p:nvPr/>
          </p:nvSpPr>
          <p:spPr>
            <a:xfrm rot="10800000">
              <a:off x="7383600" y="-36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饼形 9"/>
            <p:cNvSpPr/>
            <p:nvPr/>
          </p:nvSpPr>
          <p:spPr>
            <a:xfrm rot="10800000">
              <a:off x="7759800" y="367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4" y="2770178"/>
                    <a:pt x="1382050" y="2770176"/>
                    <a:pt x="1380640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饼形 8"/>
            <p:cNvSpPr/>
            <p:nvPr/>
          </p:nvSpPr>
          <p:spPr>
            <a:xfrm rot="10800000">
              <a:off x="8010360" y="6184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饼形 7"/>
            <p:cNvSpPr/>
            <p:nvPr/>
          </p:nvSpPr>
          <p:spPr>
            <a:xfrm rot="10800000">
              <a:off x="8253360" y="85536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7" y="1504853"/>
                  </a:moveTo>
                  <a:cubicBezTo>
                    <a:pt x="1355555" y="1668524"/>
                    <a:pt x="1131946" y="1770055"/>
                    <a:pt x="884633" y="1770055"/>
                  </a:cubicBezTo>
                  <a:cubicBezTo>
                    <a:pt x="880586" y="1770055"/>
                    <a:pt x="876545" y="1770028"/>
                    <a:pt x="872571" y="1769974"/>
                  </a:cubicBezTo>
                  <a:lnTo>
                    <a:pt x="884633" y="885028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饼形 6"/>
            <p:cNvSpPr/>
            <p:nvPr/>
          </p:nvSpPr>
          <p:spPr>
            <a:xfrm rot="10800000">
              <a:off x="8410680" y="102204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组合 4109"/>
          <p:cNvGrpSpPr/>
          <p:nvPr/>
        </p:nvGrpSpPr>
        <p:grpSpPr>
          <a:xfrm>
            <a:off x="-1758960" y="-360"/>
            <a:ext cx="3519360" cy="3522600"/>
            <a:chOff x="-1758960" y="-360"/>
            <a:chExt cx="3519360" cy="3522600"/>
          </a:xfrm>
        </p:grpSpPr>
        <p:sp>
          <p:nvSpPr>
            <p:cNvPr id="146" name="饼形 16"/>
            <p:cNvSpPr/>
            <p:nvPr/>
          </p:nvSpPr>
          <p:spPr>
            <a:xfrm flipH="1" rot="10800000">
              <a:off x="-1758960" y="-36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饼形 17"/>
            <p:cNvSpPr/>
            <p:nvPr/>
          </p:nvSpPr>
          <p:spPr>
            <a:xfrm flipH="1" rot="10800000">
              <a:off x="-1383840" y="36792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5" y="2770179"/>
                    <a:pt x="1382051" y="2770177"/>
                    <a:pt x="1380641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饼形 18"/>
            <p:cNvSpPr/>
            <p:nvPr/>
          </p:nvSpPr>
          <p:spPr>
            <a:xfrm flipH="1" rot="10800000">
              <a:off x="-1122480" y="61848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饼形 19"/>
            <p:cNvSpPr/>
            <p:nvPr/>
          </p:nvSpPr>
          <p:spPr>
            <a:xfrm flipH="1" rot="10800000">
              <a:off x="-876600" y="85536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8" y="1504854"/>
                  </a:moveTo>
                  <a:cubicBezTo>
                    <a:pt x="1355556" y="1668525"/>
                    <a:pt x="1131946" y="1770056"/>
                    <a:pt x="884634" y="1770056"/>
                  </a:cubicBezTo>
                  <a:cubicBezTo>
                    <a:pt x="880587" y="1770056"/>
                    <a:pt x="876546" y="1770029"/>
                    <a:pt x="872572" y="1769975"/>
                  </a:cubicBezTo>
                  <a:lnTo>
                    <a:pt x="884634" y="885028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饼形 20"/>
            <p:cNvSpPr/>
            <p:nvPr/>
          </p:nvSpPr>
          <p:spPr>
            <a:xfrm flipH="1" rot="10800000">
              <a:off x="-722520" y="102240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组合 4115"/>
          <p:cNvGrpSpPr/>
          <p:nvPr/>
        </p:nvGrpSpPr>
        <p:grpSpPr>
          <a:xfrm>
            <a:off x="7383600" y="3334680"/>
            <a:ext cx="3520800" cy="3522600"/>
            <a:chOff x="7383600" y="3334680"/>
            <a:chExt cx="3520800" cy="3522600"/>
          </a:xfrm>
        </p:grpSpPr>
        <p:sp>
          <p:nvSpPr>
            <p:cNvPr id="152" name="饼形 24"/>
            <p:cNvSpPr/>
            <p:nvPr/>
          </p:nvSpPr>
          <p:spPr>
            <a:xfrm flipV="1" rot="10800000">
              <a:off x="7383600" y="33343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饼形 25"/>
            <p:cNvSpPr/>
            <p:nvPr/>
          </p:nvSpPr>
          <p:spPr>
            <a:xfrm flipV="1" rot="10800000">
              <a:off x="7759800" y="371844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4" y="2770178"/>
                    <a:pt x="1382050" y="2770176"/>
                    <a:pt x="1380640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饼形 26"/>
            <p:cNvSpPr/>
            <p:nvPr/>
          </p:nvSpPr>
          <p:spPr>
            <a:xfrm flipV="1" rot="10800000">
              <a:off x="8010360" y="397872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饼形 27"/>
            <p:cNvSpPr/>
            <p:nvPr/>
          </p:nvSpPr>
          <p:spPr>
            <a:xfrm flipV="1" rot="10800000">
              <a:off x="8253360" y="42310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55556" y="1668527"/>
                    <a:pt x="1131947" y="1770058"/>
                    <a:pt x="884634" y="1770058"/>
                  </a:cubicBezTo>
                  <a:cubicBezTo>
                    <a:pt x="880587" y="1770058"/>
                    <a:pt x="876546" y="1770031"/>
                    <a:pt x="872572" y="1769977"/>
                  </a:cubicBezTo>
                  <a:lnTo>
                    <a:pt x="884633" y="885029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饼形 28"/>
            <p:cNvSpPr/>
            <p:nvPr/>
          </p:nvSpPr>
          <p:spPr>
            <a:xfrm flipV="1" rot="10800000">
              <a:off x="8410680" y="437688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组合 4121"/>
          <p:cNvGrpSpPr/>
          <p:nvPr/>
        </p:nvGrpSpPr>
        <p:grpSpPr>
          <a:xfrm>
            <a:off x="-1758960" y="3334680"/>
            <a:ext cx="3519360" cy="3522600"/>
            <a:chOff x="-1758960" y="3334680"/>
            <a:chExt cx="3519360" cy="3522600"/>
          </a:xfrm>
        </p:grpSpPr>
        <p:sp>
          <p:nvSpPr>
            <p:cNvPr id="158" name="饼形 31"/>
            <p:cNvSpPr/>
            <p:nvPr/>
          </p:nvSpPr>
          <p:spPr>
            <a:xfrm flipH="1" flipV="1" rot="10800000">
              <a:off x="-1758960" y="333432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饼形 32"/>
            <p:cNvSpPr/>
            <p:nvPr/>
          </p:nvSpPr>
          <p:spPr>
            <a:xfrm flipH="1" flipV="1" rot="10800000">
              <a:off x="-1383840" y="371844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饼形 33"/>
            <p:cNvSpPr/>
            <p:nvPr/>
          </p:nvSpPr>
          <p:spPr>
            <a:xfrm flipH="1" flipV="1" rot="10800000">
              <a:off x="-1122480" y="397872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饼形 34"/>
            <p:cNvSpPr/>
            <p:nvPr/>
          </p:nvSpPr>
          <p:spPr>
            <a:xfrm flipH="1" flipV="1" rot="10800000">
              <a:off x="-876600" y="42310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8" y="1504855"/>
                  </a:moveTo>
                  <a:cubicBezTo>
                    <a:pt x="1355555" y="1668526"/>
                    <a:pt x="1131946" y="1770057"/>
                    <a:pt x="884633" y="1770057"/>
                  </a:cubicBezTo>
                  <a:cubicBezTo>
                    <a:pt x="880586" y="1770057"/>
                    <a:pt x="876545" y="1770030"/>
                    <a:pt x="872571" y="1769976"/>
                  </a:cubicBezTo>
                  <a:lnTo>
                    <a:pt x="884634" y="885029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饼形 35"/>
            <p:cNvSpPr/>
            <p:nvPr/>
          </p:nvSpPr>
          <p:spPr>
            <a:xfrm flipH="1" flipV="1" rot="10800000">
              <a:off x="-722520" y="437688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组合 4127"/>
          <p:cNvGrpSpPr/>
          <p:nvPr/>
        </p:nvGrpSpPr>
        <p:grpSpPr>
          <a:xfrm>
            <a:off x="5620680" y="5094720"/>
            <a:ext cx="3521160" cy="3521160"/>
            <a:chOff x="5620680" y="5094720"/>
            <a:chExt cx="3521160" cy="3521160"/>
          </a:xfrm>
        </p:grpSpPr>
        <p:sp>
          <p:nvSpPr>
            <p:cNvPr id="164" name="饼形 38"/>
            <p:cNvSpPr/>
            <p:nvPr/>
          </p:nvSpPr>
          <p:spPr>
            <a:xfrm flipH="1" flipV="1" rot="5400000">
              <a:off x="5620320" y="5094360"/>
              <a:ext cx="3521160" cy="35211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饼形 39"/>
            <p:cNvSpPr/>
            <p:nvPr/>
          </p:nvSpPr>
          <p:spPr>
            <a:xfrm flipH="1" flipV="1" rot="5400000">
              <a:off x="6005160" y="5470200"/>
              <a:ext cx="2768760" cy="276912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6" y="2770178"/>
                    <a:pt x="1382054" y="2770176"/>
                    <a:pt x="1380646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饼形 40"/>
            <p:cNvSpPr/>
            <p:nvPr/>
          </p:nvSpPr>
          <p:spPr>
            <a:xfrm flipH="1" flipV="1" rot="5400000">
              <a:off x="6265440" y="5721120"/>
              <a:ext cx="2257560" cy="225792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饼形 41"/>
            <p:cNvSpPr/>
            <p:nvPr/>
          </p:nvSpPr>
          <p:spPr>
            <a:xfrm flipH="1" flipV="1" rot="5400000">
              <a:off x="6517080" y="5963760"/>
              <a:ext cx="1768680" cy="176940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55556" y="1668527"/>
                    <a:pt x="1131947" y="1770058"/>
                    <a:pt x="884634" y="1770058"/>
                  </a:cubicBezTo>
                  <a:cubicBezTo>
                    <a:pt x="880587" y="1770058"/>
                    <a:pt x="876546" y="1770031"/>
                    <a:pt x="872572" y="1769977"/>
                  </a:cubicBezTo>
                  <a:lnTo>
                    <a:pt x="884633" y="885029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饼形 42"/>
            <p:cNvSpPr/>
            <p:nvPr/>
          </p:nvSpPr>
          <p:spPr>
            <a:xfrm flipH="1" flipV="1" rot="5400000">
              <a:off x="6661440" y="6120720"/>
              <a:ext cx="1457280" cy="145836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组合 4133"/>
          <p:cNvGrpSpPr/>
          <p:nvPr/>
        </p:nvGrpSpPr>
        <p:grpSpPr>
          <a:xfrm>
            <a:off x="5620680" y="-1758960"/>
            <a:ext cx="3522600" cy="3519360"/>
            <a:chOff x="5620680" y="-1758960"/>
            <a:chExt cx="3522600" cy="3519360"/>
          </a:xfrm>
        </p:grpSpPr>
        <p:sp>
          <p:nvSpPr>
            <p:cNvPr id="170" name="饼形 52"/>
            <p:cNvSpPr/>
            <p:nvPr/>
          </p:nvSpPr>
          <p:spPr>
            <a:xfrm flipH="1" rot="16200000">
              <a:off x="5621760" y="-176040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饼形 53"/>
            <p:cNvSpPr/>
            <p:nvPr/>
          </p:nvSpPr>
          <p:spPr>
            <a:xfrm flipH="1" rot="16200000">
              <a:off x="6005880" y="-138384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饼形 54"/>
            <p:cNvSpPr/>
            <p:nvPr/>
          </p:nvSpPr>
          <p:spPr>
            <a:xfrm flipH="1" rot="16200000">
              <a:off x="6265800" y="-112356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饼形 55"/>
            <p:cNvSpPr/>
            <p:nvPr/>
          </p:nvSpPr>
          <p:spPr>
            <a:xfrm flipH="1" rot="16200000">
              <a:off x="6518160" y="-8776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8" y="1504855"/>
                  </a:moveTo>
                  <a:cubicBezTo>
                    <a:pt x="1355555" y="1668526"/>
                    <a:pt x="1131946" y="1770057"/>
                    <a:pt x="884633" y="1770057"/>
                  </a:cubicBezTo>
                  <a:cubicBezTo>
                    <a:pt x="880586" y="1770057"/>
                    <a:pt x="876545" y="1770030"/>
                    <a:pt x="872571" y="1769976"/>
                  </a:cubicBezTo>
                  <a:lnTo>
                    <a:pt x="884634" y="885029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饼形 56"/>
            <p:cNvSpPr/>
            <p:nvPr/>
          </p:nvSpPr>
          <p:spPr>
            <a:xfrm flipH="1" rot="16200000">
              <a:off x="6663960" y="-72324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9567" y="1240095"/>
                  </a:moveTo>
                  <a:cubicBezTo>
                    <a:pt x="1117264" y="1375130"/>
                    <a:pt x="932904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组合 4139"/>
          <p:cNvGrpSpPr/>
          <p:nvPr/>
        </p:nvGrpSpPr>
        <p:grpSpPr>
          <a:xfrm>
            <a:off x="-360" y="5097600"/>
            <a:ext cx="3522600" cy="3520800"/>
            <a:chOff x="-360" y="5097600"/>
            <a:chExt cx="3522600" cy="3520800"/>
          </a:xfrm>
        </p:grpSpPr>
        <p:sp>
          <p:nvSpPr>
            <p:cNvPr id="176" name="饼形 60"/>
            <p:cNvSpPr/>
            <p:nvPr/>
          </p:nvSpPr>
          <p:spPr>
            <a:xfrm flipV="1" rot="16200000">
              <a:off x="360" y="50965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饼形 61"/>
            <p:cNvSpPr/>
            <p:nvPr/>
          </p:nvSpPr>
          <p:spPr>
            <a:xfrm flipV="1" rot="16200000">
              <a:off x="368640" y="54727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6" y="2770178"/>
                    <a:pt x="1382054" y="2770176"/>
                    <a:pt x="1380646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饼形 62"/>
            <p:cNvSpPr/>
            <p:nvPr/>
          </p:nvSpPr>
          <p:spPr>
            <a:xfrm flipV="1" rot="16200000">
              <a:off x="619200" y="5723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饼形 63"/>
            <p:cNvSpPr/>
            <p:nvPr/>
          </p:nvSpPr>
          <p:spPr>
            <a:xfrm flipV="1" rot="16200000">
              <a:off x="856080" y="59662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7" y="1504853"/>
                  </a:moveTo>
                  <a:cubicBezTo>
                    <a:pt x="1355555" y="1668524"/>
                    <a:pt x="1131946" y="1770055"/>
                    <a:pt x="884633" y="1770055"/>
                  </a:cubicBezTo>
                  <a:cubicBezTo>
                    <a:pt x="880586" y="1770055"/>
                    <a:pt x="876545" y="1770028"/>
                    <a:pt x="872571" y="1769974"/>
                  </a:cubicBezTo>
                  <a:lnTo>
                    <a:pt x="884633" y="885028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饼形 64"/>
            <p:cNvSpPr/>
            <p:nvPr/>
          </p:nvSpPr>
          <p:spPr>
            <a:xfrm flipV="1" rot="16200000">
              <a:off x="1023120" y="61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TextBox 50"/>
          <p:cNvSpPr/>
          <p:nvPr/>
        </p:nvSpPr>
        <p:spPr>
          <a:xfrm>
            <a:off x="826920" y="1052640"/>
            <a:ext cx="74995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繁琐拘束的工作与自由自在的生活，是两个相互矛盾的主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因为要自由，我们不愿意受到工作的禁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因为要生存，我们又必须接受工作的禁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每个人都喜欢美丽多彩、自由自在的生活，希望得到尽情的娱乐和享受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把握好工作和生活，是每个人的必修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像蚂蚁一样工作，像蝴蝶一样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这或许是我们协调工作与生活矛盾一个较好的态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组合 4146"/>
          <p:cNvGrpSpPr/>
          <p:nvPr/>
        </p:nvGrpSpPr>
        <p:grpSpPr>
          <a:xfrm>
            <a:off x="-360" y="-1758960"/>
            <a:ext cx="3522600" cy="3519360"/>
            <a:chOff x="-360" y="-1758960"/>
            <a:chExt cx="3522600" cy="3519360"/>
          </a:xfrm>
        </p:grpSpPr>
        <p:sp>
          <p:nvSpPr>
            <p:cNvPr id="183" name="饼形 45"/>
            <p:cNvSpPr/>
            <p:nvPr/>
          </p:nvSpPr>
          <p:spPr>
            <a:xfrm rot="5400000">
              <a:off x="1080" y="-176040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饼形 46"/>
            <p:cNvSpPr/>
            <p:nvPr/>
          </p:nvSpPr>
          <p:spPr>
            <a:xfrm rot="5400000">
              <a:off x="369000" y="-138420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饼形 47"/>
            <p:cNvSpPr/>
            <p:nvPr/>
          </p:nvSpPr>
          <p:spPr>
            <a:xfrm rot="5400000">
              <a:off x="619560" y="-112356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饼形 48"/>
            <p:cNvSpPr/>
            <p:nvPr/>
          </p:nvSpPr>
          <p:spPr>
            <a:xfrm rot="5400000">
              <a:off x="856440" y="-8776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8" y="1504854"/>
                  </a:moveTo>
                  <a:cubicBezTo>
                    <a:pt x="1355556" y="1668525"/>
                    <a:pt x="1131946" y="1770056"/>
                    <a:pt x="884634" y="1770056"/>
                  </a:cubicBezTo>
                  <a:cubicBezTo>
                    <a:pt x="880587" y="1770056"/>
                    <a:pt x="876546" y="1770029"/>
                    <a:pt x="872572" y="1769975"/>
                  </a:cubicBezTo>
                  <a:lnTo>
                    <a:pt x="884634" y="885028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饼形 49"/>
            <p:cNvSpPr/>
            <p:nvPr/>
          </p:nvSpPr>
          <p:spPr>
            <a:xfrm rot="5400000">
              <a:off x="1023120" y="-72360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组合 4152"/>
          <p:cNvGrpSpPr/>
          <p:nvPr/>
        </p:nvGrpSpPr>
        <p:grpSpPr>
          <a:xfrm>
            <a:off x="-1758960" y="-360"/>
            <a:ext cx="3519360" cy="3522600"/>
            <a:chOff x="-1758960" y="-360"/>
            <a:chExt cx="3519360" cy="3522600"/>
          </a:xfrm>
        </p:grpSpPr>
        <p:sp>
          <p:nvSpPr>
            <p:cNvPr id="189" name="饼形 16"/>
            <p:cNvSpPr/>
            <p:nvPr/>
          </p:nvSpPr>
          <p:spPr>
            <a:xfrm flipH="1" rot="10800000">
              <a:off x="-1758960" y="-36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饼形 17"/>
            <p:cNvSpPr/>
            <p:nvPr/>
          </p:nvSpPr>
          <p:spPr>
            <a:xfrm flipH="1" rot="10800000">
              <a:off x="-1383840" y="36792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5" y="2770179"/>
                    <a:pt x="1382051" y="2770177"/>
                    <a:pt x="1380641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饼形 18"/>
            <p:cNvSpPr/>
            <p:nvPr/>
          </p:nvSpPr>
          <p:spPr>
            <a:xfrm flipH="1" rot="10800000">
              <a:off x="-1122480" y="61848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饼形 19"/>
            <p:cNvSpPr/>
            <p:nvPr/>
          </p:nvSpPr>
          <p:spPr>
            <a:xfrm flipH="1" rot="10800000">
              <a:off x="-876600" y="85536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8" y="1504854"/>
                  </a:moveTo>
                  <a:cubicBezTo>
                    <a:pt x="1355556" y="1668525"/>
                    <a:pt x="1131946" y="1770056"/>
                    <a:pt x="884634" y="1770056"/>
                  </a:cubicBezTo>
                  <a:cubicBezTo>
                    <a:pt x="880587" y="1770056"/>
                    <a:pt x="876546" y="1770029"/>
                    <a:pt x="872572" y="1769975"/>
                  </a:cubicBezTo>
                  <a:lnTo>
                    <a:pt x="884634" y="885028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饼形 20"/>
            <p:cNvSpPr/>
            <p:nvPr/>
          </p:nvSpPr>
          <p:spPr>
            <a:xfrm flipH="1" rot="10800000">
              <a:off x="-722520" y="102240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文本框 8200"/>
          <p:cNvSpPr/>
          <p:nvPr/>
        </p:nvSpPr>
        <p:spPr>
          <a:xfrm>
            <a:off x="1692360" y="9079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组合 5121"/>
          <p:cNvGrpSpPr/>
          <p:nvPr/>
        </p:nvGrpSpPr>
        <p:grpSpPr>
          <a:xfrm>
            <a:off x="-360" y="-1758960"/>
            <a:ext cx="3522600" cy="3519360"/>
            <a:chOff x="-360" y="-1758960"/>
            <a:chExt cx="3522600" cy="3519360"/>
          </a:xfrm>
        </p:grpSpPr>
        <p:sp>
          <p:nvSpPr>
            <p:cNvPr id="196" name="饼形 45"/>
            <p:cNvSpPr/>
            <p:nvPr/>
          </p:nvSpPr>
          <p:spPr>
            <a:xfrm rot="5400000">
              <a:off x="1080" y="-176040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饼形 46"/>
            <p:cNvSpPr/>
            <p:nvPr/>
          </p:nvSpPr>
          <p:spPr>
            <a:xfrm rot="5400000">
              <a:off x="369000" y="-138420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饼形 47"/>
            <p:cNvSpPr/>
            <p:nvPr/>
          </p:nvSpPr>
          <p:spPr>
            <a:xfrm rot="5400000">
              <a:off x="619560" y="-112356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饼形 48"/>
            <p:cNvSpPr/>
            <p:nvPr/>
          </p:nvSpPr>
          <p:spPr>
            <a:xfrm rot="5400000">
              <a:off x="856440" y="-8776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8" y="1504854"/>
                  </a:moveTo>
                  <a:cubicBezTo>
                    <a:pt x="1355556" y="1668525"/>
                    <a:pt x="1131946" y="1770056"/>
                    <a:pt x="884634" y="1770056"/>
                  </a:cubicBezTo>
                  <a:cubicBezTo>
                    <a:pt x="880587" y="1770056"/>
                    <a:pt x="876546" y="1770029"/>
                    <a:pt x="872572" y="1769975"/>
                  </a:cubicBezTo>
                  <a:lnTo>
                    <a:pt x="884634" y="885028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饼形 49"/>
            <p:cNvSpPr/>
            <p:nvPr/>
          </p:nvSpPr>
          <p:spPr>
            <a:xfrm rot="5400000">
              <a:off x="1023120" y="-72360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组合 5127"/>
          <p:cNvGrpSpPr/>
          <p:nvPr/>
        </p:nvGrpSpPr>
        <p:grpSpPr>
          <a:xfrm>
            <a:off x="7383600" y="-360"/>
            <a:ext cx="3520800" cy="3522600"/>
            <a:chOff x="7383600" y="-360"/>
            <a:chExt cx="3520800" cy="3522600"/>
          </a:xfrm>
        </p:grpSpPr>
        <p:sp>
          <p:nvSpPr>
            <p:cNvPr id="202" name="饼形 11"/>
            <p:cNvSpPr/>
            <p:nvPr/>
          </p:nvSpPr>
          <p:spPr>
            <a:xfrm rot="10800000">
              <a:off x="7383600" y="-36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饼形 9"/>
            <p:cNvSpPr/>
            <p:nvPr/>
          </p:nvSpPr>
          <p:spPr>
            <a:xfrm rot="10800000">
              <a:off x="7759800" y="367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4" y="2770178"/>
                    <a:pt x="1382050" y="2770176"/>
                    <a:pt x="1380640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饼形 8"/>
            <p:cNvSpPr/>
            <p:nvPr/>
          </p:nvSpPr>
          <p:spPr>
            <a:xfrm rot="10800000">
              <a:off x="8010360" y="6184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饼形 7"/>
            <p:cNvSpPr/>
            <p:nvPr/>
          </p:nvSpPr>
          <p:spPr>
            <a:xfrm rot="10800000">
              <a:off x="8253360" y="85536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7" y="1504853"/>
                  </a:moveTo>
                  <a:cubicBezTo>
                    <a:pt x="1355555" y="1668524"/>
                    <a:pt x="1131946" y="1770055"/>
                    <a:pt x="884633" y="1770055"/>
                  </a:cubicBezTo>
                  <a:cubicBezTo>
                    <a:pt x="880586" y="1770055"/>
                    <a:pt x="876545" y="1770028"/>
                    <a:pt x="872571" y="1769974"/>
                  </a:cubicBezTo>
                  <a:lnTo>
                    <a:pt x="884633" y="885028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饼形 6"/>
            <p:cNvSpPr/>
            <p:nvPr/>
          </p:nvSpPr>
          <p:spPr>
            <a:xfrm rot="10800000">
              <a:off x="8410680" y="102204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组合 5133"/>
          <p:cNvGrpSpPr/>
          <p:nvPr/>
        </p:nvGrpSpPr>
        <p:grpSpPr>
          <a:xfrm>
            <a:off x="-1758960" y="-360"/>
            <a:ext cx="3519360" cy="3522600"/>
            <a:chOff x="-1758960" y="-360"/>
            <a:chExt cx="3519360" cy="3522600"/>
          </a:xfrm>
        </p:grpSpPr>
        <p:sp>
          <p:nvSpPr>
            <p:cNvPr id="208" name="饼形 16"/>
            <p:cNvSpPr/>
            <p:nvPr/>
          </p:nvSpPr>
          <p:spPr>
            <a:xfrm flipH="1" rot="10800000">
              <a:off x="-1758960" y="-36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饼形 17"/>
            <p:cNvSpPr/>
            <p:nvPr/>
          </p:nvSpPr>
          <p:spPr>
            <a:xfrm flipH="1" rot="10800000">
              <a:off x="-1383840" y="36792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5" y="2770179"/>
                    <a:pt x="1382051" y="2770177"/>
                    <a:pt x="1380641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饼形 18"/>
            <p:cNvSpPr/>
            <p:nvPr/>
          </p:nvSpPr>
          <p:spPr>
            <a:xfrm flipH="1" rot="10800000">
              <a:off x="-1122480" y="61848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饼形 19"/>
            <p:cNvSpPr/>
            <p:nvPr/>
          </p:nvSpPr>
          <p:spPr>
            <a:xfrm flipH="1" rot="10800000">
              <a:off x="-876600" y="85536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8" y="1504854"/>
                  </a:moveTo>
                  <a:cubicBezTo>
                    <a:pt x="1355556" y="1668525"/>
                    <a:pt x="1131946" y="1770056"/>
                    <a:pt x="884634" y="1770056"/>
                  </a:cubicBezTo>
                  <a:cubicBezTo>
                    <a:pt x="880587" y="1770056"/>
                    <a:pt x="876546" y="1770029"/>
                    <a:pt x="872572" y="1769975"/>
                  </a:cubicBezTo>
                  <a:lnTo>
                    <a:pt x="884634" y="885028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饼形 20"/>
            <p:cNvSpPr/>
            <p:nvPr/>
          </p:nvSpPr>
          <p:spPr>
            <a:xfrm flipH="1" rot="10800000">
              <a:off x="-722520" y="102240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组合 5139"/>
          <p:cNvGrpSpPr/>
          <p:nvPr/>
        </p:nvGrpSpPr>
        <p:grpSpPr>
          <a:xfrm>
            <a:off x="7383600" y="3334680"/>
            <a:ext cx="3520800" cy="3522600"/>
            <a:chOff x="7383600" y="3334680"/>
            <a:chExt cx="3520800" cy="3522600"/>
          </a:xfrm>
        </p:grpSpPr>
        <p:sp>
          <p:nvSpPr>
            <p:cNvPr id="214" name="饼形 24"/>
            <p:cNvSpPr/>
            <p:nvPr/>
          </p:nvSpPr>
          <p:spPr>
            <a:xfrm flipV="1" rot="10800000">
              <a:off x="7383600" y="33343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饼形 25"/>
            <p:cNvSpPr/>
            <p:nvPr/>
          </p:nvSpPr>
          <p:spPr>
            <a:xfrm flipV="1" rot="10800000">
              <a:off x="7759800" y="371844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4" y="2770178"/>
                    <a:pt x="1382050" y="2770176"/>
                    <a:pt x="1380640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饼形 26"/>
            <p:cNvSpPr/>
            <p:nvPr/>
          </p:nvSpPr>
          <p:spPr>
            <a:xfrm flipV="1" rot="10800000">
              <a:off x="8010360" y="397872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饼形 27"/>
            <p:cNvSpPr/>
            <p:nvPr/>
          </p:nvSpPr>
          <p:spPr>
            <a:xfrm flipV="1" rot="10800000">
              <a:off x="8253360" y="42310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55556" y="1668527"/>
                    <a:pt x="1131947" y="1770058"/>
                    <a:pt x="884634" y="1770058"/>
                  </a:cubicBezTo>
                  <a:cubicBezTo>
                    <a:pt x="880587" y="1770058"/>
                    <a:pt x="876546" y="1770031"/>
                    <a:pt x="872572" y="1769977"/>
                  </a:cubicBezTo>
                  <a:lnTo>
                    <a:pt x="884633" y="885029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饼形 28"/>
            <p:cNvSpPr/>
            <p:nvPr/>
          </p:nvSpPr>
          <p:spPr>
            <a:xfrm flipV="1" rot="10800000">
              <a:off x="8410680" y="437688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组合 5145"/>
          <p:cNvGrpSpPr/>
          <p:nvPr/>
        </p:nvGrpSpPr>
        <p:grpSpPr>
          <a:xfrm>
            <a:off x="-1758960" y="3334680"/>
            <a:ext cx="3519360" cy="3522600"/>
            <a:chOff x="-1758960" y="3334680"/>
            <a:chExt cx="3519360" cy="3522600"/>
          </a:xfrm>
        </p:grpSpPr>
        <p:sp>
          <p:nvSpPr>
            <p:cNvPr id="220" name="饼形 31"/>
            <p:cNvSpPr/>
            <p:nvPr/>
          </p:nvSpPr>
          <p:spPr>
            <a:xfrm flipH="1" flipV="1" rot="10800000">
              <a:off x="-1758960" y="333432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饼形 32"/>
            <p:cNvSpPr/>
            <p:nvPr/>
          </p:nvSpPr>
          <p:spPr>
            <a:xfrm flipH="1" flipV="1" rot="10800000">
              <a:off x="-1383840" y="371844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饼形 33"/>
            <p:cNvSpPr/>
            <p:nvPr/>
          </p:nvSpPr>
          <p:spPr>
            <a:xfrm flipH="1" flipV="1" rot="10800000">
              <a:off x="-1122480" y="397872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饼形 34"/>
            <p:cNvSpPr/>
            <p:nvPr/>
          </p:nvSpPr>
          <p:spPr>
            <a:xfrm flipH="1" flipV="1" rot="10800000">
              <a:off x="-876600" y="42310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8" y="1504855"/>
                  </a:moveTo>
                  <a:cubicBezTo>
                    <a:pt x="1355555" y="1668526"/>
                    <a:pt x="1131946" y="1770057"/>
                    <a:pt x="884633" y="1770057"/>
                  </a:cubicBezTo>
                  <a:cubicBezTo>
                    <a:pt x="880586" y="1770057"/>
                    <a:pt x="876545" y="1770030"/>
                    <a:pt x="872571" y="1769976"/>
                  </a:cubicBezTo>
                  <a:lnTo>
                    <a:pt x="884634" y="885029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饼形 35"/>
            <p:cNvSpPr/>
            <p:nvPr/>
          </p:nvSpPr>
          <p:spPr>
            <a:xfrm flipH="1" flipV="1" rot="10800000">
              <a:off x="-722520" y="437688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组合 5151"/>
          <p:cNvGrpSpPr/>
          <p:nvPr/>
        </p:nvGrpSpPr>
        <p:grpSpPr>
          <a:xfrm>
            <a:off x="5620680" y="5094720"/>
            <a:ext cx="3521160" cy="3521160"/>
            <a:chOff x="5620680" y="5094720"/>
            <a:chExt cx="3521160" cy="3521160"/>
          </a:xfrm>
        </p:grpSpPr>
        <p:sp>
          <p:nvSpPr>
            <p:cNvPr id="226" name="饼形 38"/>
            <p:cNvSpPr/>
            <p:nvPr/>
          </p:nvSpPr>
          <p:spPr>
            <a:xfrm flipH="1" flipV="1" rot="5400000">
              <a:off x="5620320" y="5094360"/>
              <a:ext cx="3521160" cy="35211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饼形 39"/>
            <p:cNvSpPr/>
            <p:nvPr/>
          </p:nvSpPr>
          <p:spPr>
            <a:xfrm flipH="1" flipV="1" rot="5400000">
              <a:off x="6005160" y="5470200"/>
              <a:ext cx="2768760" cy="276912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6" y="2770178"/>
                    <a:pt x="1382054" y="2770176"/>
                    <a:pt x="1380646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饼形 40"/>
            <p:cNvSpPr/>
            <p:nvPr/>
          </p:nvSpPr>
          <p:spPr>
            <a:xfrm flipH="1" flipV="1" rot="5400000">
              <a:off x="6265440" y="5721120"/>
              <a:ext cx="2257560" cy="225792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饼形 41"/>
            <p:cNvSpPr/>
            <p:nvPr/>
          </p:nvSpPr>
          <p:spPr>
            <a:xfrm flipH="1" flipV="1" rot="5400000">
              <a:off x="6517080" y="5963760"/>
              <a:ext cx="1768680" cy="176940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55556" y="1668527"/>
                    <a:pt x="1131947" y="1770058"/>
                    <a:pt x="884634" y="1770058"/>
                  </a:cubicBezTo>
                  <a:cubicBezTo>
                    <a:pt x="880587" y="1770058"/>
                    <a:pt x="876546" y="1770031"/>
                    <a:pt x="872572" y="1769977"/>
                  </a:cubicBezTo>
                  <a:lnTo>
                    <a:pt x="884633" y="885029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饼形 42"/>
            <p:cNvSpPr/>
            <p:nvPr/>
          </p:nvSpPr>
          <p:spPr>
            <a:xfrm flipH="1" flipV="1" rot="5400000">
              <a:off x="6661440" y="6120720"/>
              <a:ext cx="1457280" cy="145836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组合 5157"/>
          <p:cNvGrpSpPr/>
          <p:nvPr/>
        </p:nvGrpSpPr>
        <p:grpSpPr>
          <a:xfrm>
            <a:off x="5620680" y="-1758960"/>
            <a:ext cx="3522600" cy="3519360"/>
            <a:chOff x="5620680" y="-1758960"/>
            <a:chExt cx="3522600" cy="3519360"/>
          </a:xfrm>
        </p:grpSpPr>
        <p:sp>
          <p:nvSpPr>
            <p:cNvPr id="232" name="饼形 52"/>
            <p:cNvSpPr/>
            <p:nvPr/>
          </p:nvSpPr>
          <p:spPr>
            <a:xfrm flipH="1" rot="16200000">
              <a:off x="5621760" y="-176040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饼形 53"/>
            <p:cNvSpPr/>
            <p:nvPr/>
          </p:nvSpPr>
          <p:spPr>
            <a:xfrm flipH="1" rot="16200000">
              <a:off x="6005880" y="-138384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饼形 54"/>
            <p:cNvSpPr/>
            <p:nvPr/>
          </p:nvSpPr>
          <p:spPr>
            <a:xfrm flipH="1" rot="16200000">
              <a:off x="6265800" y="-112356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饼形 55"/>
            <p:cNvSpPr/>
            <p:nvPr/>
          </p:nvSpPr>
          <p:spPr>
            <a:xfrm flipH="1" rot="16200000">
              <a:off x="6518160" y="-8776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8" y="1504855"/>
                  </a:moveTo>
                  <a:cubicBezTo>
                    <a:pt x="1355555" y="1668526"/>
                    <a:pt x="1131946" y="1770057"/>
                    <a:pt x="884633" y="1770057"/>
                  </a:cubicBezTo>
                  <a:cubicBezTo>
                    <a:pt x="880586" y="1770057"/>
                    <a:pt x="876545" y="1770030"/>
                    <a:pt x="872571" y="1769976"/>
                  </a:cubicBezTo>
                  <a:lnTo>
                    <a:pt x="884634" y="885029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饼形 56"/>
            <p:cNvSpPr/>
            <p:nvPr/>
          </p:nvSpPr>
          <p:spPr>
            <a:xfrm flipH="1" rot="16200000">
              <a:off x="6663960" y="-72324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9567" y="1240095"/>
                  </a:moveTo>
                  <a:cubicBezTo>
                    <a:pt x="1117264" y="1375130"/>
                    <a:pt x="932904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组合 5163"/>
          <p:cNvGrpSpPr/>
          <p:nvPr/>
        </p:nvGrpSpPr>
        <p:grpSpPr>
          <a:xfrm>
            <a:off x="-360" y="5097600"/>
            <a:ext cx="3522600" cy="3520800"/>
            <a:chOff x="-360" y="5097600"/>
            <a:chExt cx="3522600" cy="3520800"/>
          </a:xfrm>
        </p:grpSpPr>
        <p:sp>
          <p:nvSpPr>
            <p:cNvPr id="238" name="饼形 60"/>
            <p:cNvSpPr/>
            <p:nvPr/>
          </p:nvSpPr>
          <p:spPr>
            <a:xfrm flipV="1" rot="16200000">
              <a:off x="360" y="50965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饼形 61"/>
            <p:cNvSpPr/>
            <p:nvPr/>
          </p:nvSpPr>
          <p:spPr>
            <a:xfrm flipV="1" rot="16200000">
              <a:off x="368640" y="54727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6" y="2770178"/>
                    <a:pt x="1382054" y="2770176"/>
                    <a:pt x="1380646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饼形 62"/>
            <p:cNvSpPr/>
            <p:nvPr/>
          </p:nvSpPr>
          <p:spPr>
            <a:xfrm flipV="1" rot="16200000">
              <a:off x="619200" y="5723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饼形 63"/>
            <p:cNvSpPr/>
            <p:nvPr/>
          </p:nvSpPr>
          <p:spPr>
            <a:xfrm flipV="1" rot="16200000">
              <a:off x="856080" y="59662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7" y="1504853"/>
                  </a:moveTo>
                  <a:cubicBezTo>
                    <a:pt x="1355555" y="1668524"/>
                    <a:pt x="1131946" y="1770055"/>
                    <a:pt x="884633" y="1770055"/>
                  </a:cubicBezTo>
                  <a:cubicBezTo>
                    <a:pt x="880586" y="1770055"/>
                    <a:pt x="876545" y="1770028"/>
                    <a:pt x="872571" y="1769974"/>
                  </a:cubicBezTo>
                  <a:lnTo>
                    <a:pt x="884633" y="885028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饼形 64"/>
            <p:cNvSpPr/>
            <p:nvPr/>
          </p:nvSpPr>
          <p:spPr>
            <a:xfrm flipV="1" rot="16200000">
              <a:off x="1023120" y="61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组合 5169"/>
          <p:cNvGrpSpPr/>
          <p:nvPr/>
        </p:nvGrpSpPr>
        <p:grpSpPr>
          <a:xfrm>
            <a:off x="2143080" y="1928880"/>
            <a:ext cx="1263600" cy="1263600"/>
            <a:chOff x="2143080" y="1928880"/>
            <a:chExt cx="1263600" cy="1263600"/>
          </a:xfrm>
        </p:grpSpPr>
        <p:sp>
          <p:nvSpPr>
            <p:cNvPr id="244" name="饼形 57"/>
            <p:cNvSpPr/>
            <p:nvPr/>
          </p:nvSpPr>
          <p:spPr>
            <a:xfrm rot="10800000">
              <a:off x="2143080" y="1928880"/>
              <a:ext cx="1263600" cy="1263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饼形 58"/>
            <p:cNvSpPr/>
            <p:nvPr/>
          </p:nvSpPr>
          <p:spPr>
            <a:xfrm rot="10800000">
              <a:off x="2278800" y="2060280"/>
              <a:ext cx="993960" cy="993960"/>
            </a:xfrm>
            <a:custGeom>
              <a:avLst/>
              <a:gdLst/>
              <a:ahLst/>
              <a:rect l="l" t="t" r="r" b="b"/>
              <a:pathLst>
                <a:path w="2770327" h="2770327">
                  <a:moveTo>
                    <a:pt x="2373681" y="2355477"/>
                  </a:moveTo>
                  <a:cubicBezTo>
                    <a:pt x="2122334" y="2611510"/>
                    <a:pt x="1772295" y="2770326"/>
                    <a:pt x="1385163" y="2770326"/>
                  </a:cubicBezTo>
                  <a:cubicBezTo>
                    <a:pt x="1383728" y="2770326"/>
                    <a:pt x="1382294" y="2770324"/>
                    <a:pt x="1380884" y="2770320"/>
                  </a:cubicBezTo>
                  <a:lnTo>
                    <a:pt x="1385163" y="1385163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饼形 59"/>
            <p:cNvSpPr/>
            <p:nvPr/>
          </p:nvSpPr>
          <p:spPr>
            <a:xfrm rot="10800000">
              <a:off x="2369160" y="2150640"/>
              <a:ext cx="809640" cy="809640"/>
            </a:xfrm>
            <a:custGeom>
              <a:avLst/>
              <a:gdLst/>
              <a:ahLst/>
              <a:rect l="l" t="t" r="r" b="b"/>
              <a:pathLst>
                <a:path w="2256976" h="2256976">
                  <a:moveTo>
                    <a:pt x="1933830" y="1918999"/>
                  </a:moveTo>
                  <a:cubicBezTo>
                    <a:pt x="1729058" y="2127589"/>
                    <a:pt x="1443882" y="2256976"/>
                    <a:pt x="1128487" y="2256976"/>
                  </a:cubicBezTo>
                  <a:cubicBezTo>
                    <a:pt x="1125365" y="2256976"/>
                    <a:pt x="1122247" y="2256963"/>
                    <a:pt x="1119179" y="2256938"/>
                  </a:cubicBezTo>
                  <a:lnTo>
                    <a:pt x="1128488" y="1128488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饼形 65"/>
            <p:cNvSpPr/>
            <p:nvPr/>
          </p:nvSpPr>
          <p:spPr>
            <a:xfrm rot="10800000">
              <a:off x="2455920" y="2235240"/>
              <a:ext cx="635040" cy="635040"/>
            </a:xfrm>
            <a:custGeom>
              <a:avLst/>
              <a:gdLst/>
              <a:ahLst/>
              <a:rect l="l" t="t" r="r" b="b"/>
              <a:pathLst>
                <a:path w="1770177" h="1770177">
                  <a:moveTo>
                    <a:pt x="1516729" y="1505097"/>
                  </a:moveTo>
                  <a:cubicBezTo>
                    <a:pt x="1356123" y="1668696"/>
                    <a:pt x="1132457" y="1770176"/>
                    <a:pt x="885088" y="1770176"/>
                  </a:cubicBezTo>
                  <a:cubicBezTo>
                    <a:pt x="881040" y="1770176"/>
                    <a:pt x="876999" y="1770149"/>
                    <a:pt x="873025" y="1770095"/>
                  </a:cubicBezTo>
                  <a:lnTo>
                    <a:pt x="885088" y="885088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饼形 66"/>
            <p:cNvSpPr/>
            <p:nvPr/>
          </p:nvSpPr>
          <p:spPr>
            <a:xfrm rot="10800000">
              <a:off x="2512080" y="2295000"/>
              <a:ext cx="523800" cy="523800"/>
            </a:xfrm>
            <a:custGeom>
              <a:avLst/>
              <a:gdLst/>
              <a:ahLst/>
              <a:rect l="l" t="t" r="r" b="b"/>
              <a:pathLst>
                <a:path w="1460396" h="1460396">
                  <a:moveTo>
                    <a:pt x="1247382" y="1245668"/>
                  </a:moveTo>
                  <a:cubicBezTo>
                    <a:pt x="1115175" y="1378312"/>
                    <a:pt x="932273" y="1460396"/>
                    <a:pt x="730198" y="1460396"/>
                  </a:cubicBezTo>
                  <a:cubicBezTo>
                    <a:pt x="726826" y="1460396"/>
                    <a:pt x="723458" y="1460373"/>
                    <a:pt x="720147" y="1460328"/>
                  </a:cubicBezTo>
                  <a:lnTo>
                    <a:pt x="730198" y="730198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矩形 67"/>
          <p:cNvSpPr/>
          <p:nvPr/>
        </p:nvSpPr>
        <p:spPr>
          <a:xfrm>
            <a:off x="2843280" y="1916280"/>
            <a:ext cx="3429000" cy="64260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>
                <a:alpha val="58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组合 5176"/>
          <p:cNvGrpSpPr/>
          <p:nvPr/>
        </p:nvGrpSpPr>
        <p:grpSpPr>
          <a:xfrm>
            <a:off x="2124000" y="2852280"/>
            <a:ext cx="1279440" cy="1279800"/>
            <a:chOff x="2124000" y="2852280"/>
            <a:chExt cx="1279440" cy="1279800"/>
          </a:xfrm>
        </p:grpSpPr>
        <p:sp>
          <p:nvSpPr>
            <p:cNvPr id="251" name="饼形 82"/>
            <p:cNvSpPr/>
            <p:nvPr/>
          </p:nvSpPr>
          <p:spPr>
            <a:xfrm rot="10800000">
              <a:off x="2124000" y="2852280"/>
              <a:ext cx="1279440" cy="12798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饼形 83"/>
            <p:cNvSpPr/>
            <p:nvPr/>
          </p:nvSpPr>
          <p:spPr>
            <a:xfrm rot="10800000">
              <a:off x="2260440" y="2985480"/>
              <a:ext cx="1006560" cy="1006920"/>
            </a:xfrm>
            <a:custGeom>
              <a:avLst/>
              <a:gdLst/>
              <a:ahLst/>
              <a:rect l="l" t="t" r="r" b="b"/>
              <a:pathLst>
                <a:path w="2770920" h="2770920">
                  <a:moveTo>
                    <a:pt x="2374189" y="2355981"/>
                  </a:moveTo>
                  <a:cubicBezTo>
                    <a:pt x="2122788" y="2612069"/>
                    <a:pt x="1772674" y="2770919"/>
                    <a:pt x="1385459" y="2770919"/>
                  </a:cubicBezTo>
                  <a:cubicBezTo>
                    <a:pt x="1384026" y="2770919"/>
                    <a:pt x="1382594" y="2770917"/>
                    <a:pt x="1381185" y="2770913"/>
                  </a:cubicBezTo>
                  <a:lnTo>
                    <a:pt x="1385460" y="1385460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饼形 84"/>
            <p:cNvSpPr/>
            <p:nvPr/>
          </p:nvSpPr>
          <p:spPr>
            <a:xfrm rot="10800000">
              <a:off x="2344680" y="3078000"/>
              <a:ext cx="820800" cy="820800"/>
            </a:xfrm>
            <a:custGeom>
              <a:avLst/>
              <a:gdLst/>
              <a:ahLst/>
              <a:rect l="l" t="t" r="r" b="b"/>
              <a:pathLst>
                <a:path w="2259566" h="2259566">
                  <a:moveTo>
                    <a:pt x="1936049" y="1921201"/>
                  </a:moveTo>
                  <a:cubicBezTo>
                    <a:pt x="1731042" y="2130030"/>
                    <a:pt x="1445539" y="2259565"/>
                    <a:pt x="1129782" y="2259565"/>
                  </a:cubicBezTo>
                  <a:cubicBezTo>
                    <a:pt x="1126657" y="2259565"/>
                    <a:pt x="1123535" y="2259552"/>
                    <a:pt x="1120464" y="2259527"/>
                  </a:cubicBezTo>
                  <a:lnTo>
                    <a:pt x="1129783" y="1129783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饼形 85"/>
            <p:cNvSpPr/>
            <p:nvPr/>
          </p:nvSpPr>
          <p:spPr>
            <a:xfrm rot="10800000">
              <a:off x="2433600" y="3163680"/>
              <a:ext cx="642960" cy="642960"/>
            </a:xfrm>
            <a:custGeom>
              <a:avLst/>
              <a:gdLst/>
              <a:ahLst/>
              <a:rect l="l" t="t" r="r" b="b"/>
              <a:pathLst>
                <a:path w="1770066" h="1770066">
                  <a:moveTo>
                    <a:pt x="1516634" y="1505003"/>
                  </a:moveTo>
                  <a:cubicBezTo>
                    <a:pt x="1356039" y="1668593"/>
                    <a:pt x="1132386" y="1770066"/>
                    <a:pt x="885033" y="1770066"/>
                  </a:cubicBezTo>
                  <a:cubicBezTo>
                    <a:pt x="880986" y="1770066"/>
                    <a:pt x="876945" y="1770039"/>
                    <a:pt x="872971" y="1769985"/>
                  </a:cubicBezTo>
                  <a:lnTo>
                    <a:pt x="885033" y="885033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饼形 86"/>
            <p:cNvSpPr/>
            <p:nvPr/>
          </p:nvSpPr>
          <p:spPr>
            <a:xfrm rot="10800000">
              <a:off x="2496600" y="3223800"/>
              <a:ext cx="530280" cy="530280"/>
            </a:xfrm>
            <a:custGeom>
              <a:avLst/>
              <a:gdLst/>
              <a:ahLst/>
              <a:rect l="l" t="t" r="r" b="b"/>
              <a:pathLst>
                <a:path w="1459759" h="1459759">
                  <a:moveTo>
                    <a:pt x="1246838" y="1245125"/>
                  </a:moveTo>
                  <a:cubicBezTo>
                    <a:pt x="1114689" y="1377711"/>
                    <a:pt x="931866" y="1459759"/>
                    <a:pt x="729880" y="1459759"/>
                  </a:cubicBezTo>
                  <a:cubicBezTo>
                    <a:pt x="726509" y="1459759"/>
                    <a:pt x="723143" y="1459736"/>
                    <a:pt x="719833" y="1459691"/>
                  </a:cubicBezTo>
                  <a:lnTo>
                    <a:pt x="729879" y="729879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矩形 87"/>
          <p:cNvSpPr/>
          <p:nvPr/>
        </p:nvSpPr>
        <p:spPr>
          <a:xfrm>
            <a:off x="2843280" y="2852640"/>
            <a:ext cx="3429000" cy="642960"/>
          </a:xfrm>
          <a:prstGeom prst="rect">
            <a:avLst/>
          </a:prstGeom>
          <a:solidFill>
            <a:srgbClr val="8fcf01">
              <a:alpha val="20000"/>
            </a:srgbClr>
          </a:solidFill>
          <a:ln w="25560">
            <a:solidFill>
              <a:srgbClr val="00b050">
                <a:alpha val="58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组合 5183"/>
          <p:cNvGrpSpPr/>
          <p:nvPr/>
        </p:nvGrpSpPr>
        <p:grpSpPr>
          <a:xfrm>
            <a:off x="2143080" y="3786120"/>
            <a:ext cx="1316160" cy="1316160"/>
            <a:chOff x="2143080" y="3786120"/>
            <a:chExt cx="1316160" cy="1316160"/>
          </a:xfrm>
        </p:grpSpPr>
        <p:sp>
          <p:nvSpPr>
            <p:cNvPr id="258" name="饼形 95"/>
            <p:cNvSpPr/>
            <p:nvPr/>
          </p:nvSpPr>
          <p:spPr>
            <a:xfrm rot="10800000">
              <a:off x="2143080" y="3786120"/>
              <a:ext cx="1316160" cy="13161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饼形 96"/>
            <p:cNvSpPr/>
            <p:nvPr/>
          </p:nvSpPr>
          <p:spPr>
            <a:xfrm rot="10800000">
              <a:off x="2283840" y="3924000"/>
              <a:ext cx="1033560" cy="1035360"/>
            </a:xfrm>
            <a:custGeom>
              <a:avLst/>
              <a:gdLst/>
              <a:ahLst/>
              <a:rect l="l" t="t" r="r" b="b"/>
              <a:pathLst>
                <a:path w="2766278" h="2770531">
                  <a:moveTo>
                    <a:pt x="2370956" y="2354891"/>
                  </a:moveTo>
                  <a:cubicBezTo>
                    <a:pt x="2119923" y="2611390"/>
                    <a:pt x="1770087" y="2770531"/>
                    <a:pt x="1383138" y="2770531"/>
                  </a:cubicBezTo>
                  <a:cubicBezTo>
                    <a:pt x="1381703" y="2770531"/>
                    <a:pt x="1380269" y="2770529"/>
                    <a:pt x="1378858" y="2770525"/>
                  </a:cubicBezTo>
                  <a:lnTo>
                    <a:pt x="1383139" y="1385265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饼形 97"/>
            <p:cNvSpPr/>
            <p:nvPr/>
          </p:nvSpPr>
          <p:spPr>
            <a:xfrm rot="10800000">
              <a:off x="2377800" y="4017960"/>
              <a:ext cx="843120" cy="843120"/>
            </a:xfrm>
            <a:custGeom>
              <a:avLst/>
              <a:gdLst/>
              <a:ahLst/>
              <a:rect l="l" t="t" r="r" b="b"/>
              <a:pathLst>
                <a:path w="2256367" h="2256366">
                  <a:moveTo>
                    <a:pt x="1933308" y="1918481"/>
                  </a:moveTo>
                  <a:cubicBezTo>
                    <a:pt x="1728591" y="2127015"/>
                    <a:pt x="1443493" y="2256366"/>
                    <a:pt x="1128183" y="2256366"/>
                  </a:cubicBezTo>
                  <a:cubicBezTo>
                    <a:pt x="1125062" y="2256366"/>
                    <a:pt x="1121945" y="2256353"/>
                    <a:pt x="1118878" y="2256328"/>
                  </a:cubicBezTo>
                  <a:lnTo>
                    <a:pt x="1128183" y="1128183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饼形 98"/>
            <p:cNvSpPr/>
            <p:nvPr/>
          </p:nvSpPr>
          <p:spPr>
            <a:xfrm rot="10800000">
              <a:off x="2468160" y="4106160"/>
              <a:ext cx="660600" cy="662040"/>
            </a:xfrm>
            <a:custGeom>
              <a:avLst/>
              <a:gdLst/>
              <a:ahLst/>
              <a:rect l="l" t="t" r="r" b="b"/>
              <a:pathLst>
                <a:path w="1767699" h="1771951">
                  <a:moveTo>
                    <a:pt x="1515349" y="1505846"/>
                  </a:moveTo>
                  <a:cubicBezTo>
                    <a:pt x="1354916" y="1670056"/>
                    <a:pt x="1131254" y="1771951"/>
                    <a:pt x="883850" y="1771951"/>
                  </a:cubicBezTo>
                  <a:cubicBezTo>
                    <a:pt x="879798" y="1771951"/>
                    <a:pt x="875753" y="1771924"/>
                    <a:pt x="871775" y="1771870"/>
                  </a:cubicBezTo>
                  <a:lnTo>
                    <a:pt x="883849" y="885975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饼形 99"/>
            <p:cNvSpPr/>
            <p:nvPr/>
          </p:nvSpPr>
          <p:spPr>
            <a:xfrm rot="10800000">
              <a:off x="2526840" y="4169520"/>
              <a:ext cx="544680" cy="544680"/>
            </a:xfrm>
            <a:custGeom>
              <a:avLst/>
              <a:gdLst/>
              <a:ahLst/>
              <a:rect l="l" t="t" r="r" b="b"/>
              <a:pathLst>
                <a:path w="1457503" h="1457504">
                  <a:moveTo>
                    <a:pt x="1244911" y="1243201"/>
                  </a:moveTo>
                  <a:cubicBezTo>
                    <a:pt x="1112966" y="1375583"/>
                    <a:pt x="930426" y="1457504"/>
                    <a:pt x="728752" y="1457504"/>
                  </a:cubicBezTo>
                  <a:cubicBezTo>
                    <a:pt x="725386" y="1457504"/>
                    <a:pt x="722026" y="1457481"/>
                    <a:pt x="718721" y="1457436"/>
                  </a:cubicBezTo>
                  <a:lnTo>
                    <a:pt x="728751" y="728752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矩形 100"/>
          <p:cNvSpPr/>
          <p:nvPr/>
        </p:nvSpPr>
        <p:spPr>
          <a:xfrm>
            <a:off x="2843280" y="3789360"/>
            <a:ext cx="3429000" cy="642960"/>
          </a:xfrm>
          <a:prstGeom prst="rect">
            <a:avLst/>
          </a:prstGeom>
          <a:solidFill>
            <a:srgbClr val="0070c0">
              <a:alpha val="20000"/>
            </a:srgbClr>
          </a:solidFill>
          <a:ln w="25560">
            <a:solidFill>
              <a:srgbClr val="00b0f0">
                <a:alpha val="58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组合 5190"/>
          <p:cNvGrpSpPr/>
          <p:nvPr/>
        </p:nvGrpSpPr>
        <p:grpSpPr>
          <a:xfrm>
            <a:off x="2124000" y="1916280"/>
            <a:ext cx="1263600" cy="1263600"/>
            <a:chOff x="2124000" y="1916280"/>
            <a:chExt cx="1263600" cy="1263600"/>
          </a:xfrm>
        </p:grpSpPr>
        <p:sp>
          <p:nvSpPr>
            <p:cNvPr id="265" name="饼形 57"/>
            <p:cNvSpPr/>
            <p:nvPr/>
          </p:nvSpPr>
          <p:spPr>
            <a:xfrm rot="10800000">
              <a:off x="2124000" y="1916280"/>
              <a:ext cx="1263600" cy="1263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饼形 58"/>
            <p:cNvSpPr/>
            <p:nvPr/>
          </p:nvSpPr>
          <p:spPr>
            <a:xfrm rot="10800000">
              <a:off x="2259720" y="2047680"/>
              <a:ext cx="993960" cy="993960"/>
            </a:xfrm>
            <a:custGeom>
              <a:avLst/>
              <a:gdLst/>
              <a:ahLst/>
              <a:rect l="l" t="t" r="r" b="b"/>
              <a:pathLst>
                <a:path w="2770327" h="2770327">
                  <a:moveTo>
                    <a:pt x="2373681" y="2355477"/>
                  </a:moveTo>
                  <a:cubicBezTo>
                    <a:pt x="2122334" y="2611510"/>
                    <a:pt x="1772295" y="2770326"/>
                    <a:pt x="1385163" y="2770326"/>
                  </a:cubicBezTo>
                  <a:cubicBezTo>
                    <a:pt x="1383728" y="2770326"/>
                    <a:pt x="1382294" y="2770324"/>
                    <a:pt x="1380884" y="2770320"/>
                  </a:cubicBezTo>
                  <a:lnTo>
                    <a:pt x="1385163" y="1385163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饼形 59"/>
            <p:cNvSpPr/>
            <p:nvPr/>
          </p:nvSpPr>
          <p:spPr>
            <a:xfrm rot="10800000">
              <a:off x="2350080" y="2138040"/>
              <a:ext cx="809640" cy="809640"/>
            </a:xfrm>
            <a:custGeom>
              <a:avLst/>
              <a:gdLst/>
              <a:ahLst/>
              <a:rect l="l" t="t" r="r" b="b"/>
              <a:pathLst>
                <a:path w="2256976" h="2256976">
                  <a:moveTo>
                    <a:pt x="1933830" y="1918999"/>
                  </a:moveTo>
                  <a:cubicBezTo>
                    <a:pt x="1729058" y="2127589"/>
                    <a:pt x="1443882" y="2256976"/>
                    <a:pt x="1128487" y="2256976"/>
                  </a:cubicBezTo>
                  <a:cubicBezTo>
                    <a:pt x="1125365" y="2256976"/>
                    <a:pt x="1122247" y="2256963"/>
                    <a:pt x="1119179" y="2256938"/>
                  </a:cubicBezTo>
                  <a:lnTo>
                    <a:pt x="1128488" y="1128488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饼形 65"/>
            <p:cNvSpPr/>
            <p:nvPr/>
          </p:nvSpPr>
          <p:spPr>
            <a:xfrm rot="10800000">
              <a:off x="2436840" y="2222640"/>
              <a:ext cx="635040" cy="635040"/>
            </a:xfrm>
            <a:custGeom>
              <a:avLst/>
              <a:gdLst/>
              <a:ahLst/>
              <a:rect l="l" t="t" r="r" b="b"/>
              <a:pathLst>
                <a:path w="1770177" h="1770177">
                  <a:moveTo>
                    <a:pt x="1516729" y="1505097"/>
                  </a:moveTo>
                  <a:cubicBezTo>
                    <a:pt x="1356123" y="1668696"/>
                    <a:pt x="1132457" y="1770176"/>
                    <a:pt x="885088" y="1770176"/>
                  </a:cubicBezTo>
                  <a:cubicBezTo>
                    <a:pt x="881040" y="1770176"/>
                    <a:pt x="876999" y="1770149"/>
                    <a:pt x="873025" y="1770095"/>
                  </a:cubicBezTo>
                  <a:lnTo>
                    <a:pt x="885088" y="885088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饼形 66"/>
            <p:cNvSpPr/>
            <p:nvPr/>
          </p:nvSpPr>
          <p:spPr>
            <a:xfrm rot="10800000">
              <a:off x="2493000" y="2282400"/>
              <a:ext cx="523800" cy="523800"/>
            </a:xfrm>
            <a:custGeom>
              <a:avLst/>
              <a:gdLst/>
              <a:ahLst/>
              <a:rect l="l" t="t" r="r" b="b"/>
              <a:pathLst>
                <a:path w="1460396" h="1460396">
                  <a:moveTo>
                    <a:pt x="1247382" y="1245668"/>
                  </a:moveTo>
                  <a:cubicBezTo>
                    <a:pt x="1115175" y="1378312"/>
                    <a:pt x="932273" y="1460396"/>
                    <a:pt x="730198" y="1460396"/>
                  </a:cubicBezTo>
                  <a:cubicBezTo>
                    <a:pt x="726826" y="1460396"/>
                    <a:pt x="723458" y="1460373"/>
                    <a:pt x="720147" y="1460328"/>
                  </a:cubicBezTo>
                  <a:lnTo>
                    <a:pt x="730198" y="730198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矩形 67"/>
          <p:cNvSpPr/>
          <p:nvPr/>
        </p:nvSpPr>
        <p:spPr>
          <a:xfrm>
            <a:off x="2843280" y="1916280"/>
            <a:ext cx="3429000" cy="64260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>
                <a:alpha val="58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组合 5197"/>
          <p:cNvGrpSpPr/>
          <p:nvPr/>
        </p:nvGrpSpPr>
        <p:grpSpPr>
          <a:xfrm>
            <a:off x="2124000" y="1916280"/>
            <a:ext cx="1263600" cy="1263600"/>
            <a:chOff x="2124000" y="1916280"/>
            <a:chExt cx="1263600" cy="1263600"/>
          </a:xfrm>
        </p:grpSpPr>
        <p:sp>
          <p:nvSpPr>
            <p:cNvPr id="272" name="饼形 57"/>
            <p:cNvSpPr/>
            <p:nvPr/>
          </p:nvSpPr>
          <p:spPr>
            <a:xfrm rot="10800000">
              <a:off x="2124000" y="1916280"/>
              <a:ext cx="1263600" cy="1263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饼形 58"/>
            <p:cNvSpPr/>
            <p:nvPr/>
          </p:nvSpPr>
          <p:spPr>
            <a:xfrm rot="10800000">
              <a:off x="2259720" y="2047680"/>
              <a:ext cx="993960" cy="993960"/>
            </a:xfrm>
            <a:custGeom>
              <a:avLst/>
              <a:gdLst/>
              <a:ahLst/>
              <a:rect l="l" t="t" r="r" b="b"/>
              <a:pathLst>
                <a:path w="2770327" h="2770327">
                  <a:moveTo>
                    <a:pt x="2373681" y="2355477"/>
                  </a:moveTo>
                  <a:cubicBezTo>
                    <a:pt x="2122334" y="2611510"/>
                    <a:pt x="1772295" y="2770326"/>
                    <a:pt x="1385163" y="2770326"/>
                  </a:cubicBezTo>
                  <a:cubicBezTo>
                    <a:pt x="1383728" y="2770326"/>
                    <a:pt x="1382294" y="2770324"/>
                    <a:pt x="1380884" y="2770320"/>
                  </a:cubicBezTo>
                  <a:lnTo>
                    <a:pt x="1385163" y="1385163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饼形 59"/>
            <p:cNvSpPr/>
            <p:nvPr/>
          </p:nvSpPr>
          <p:spPr>
            <a:xfrm rot="10800000">
              <a:off x="2350080" y="2138040"/>
              <a:ext cx="809640" cy="809640"/>
            </a:xfrm>
            <a:custGeom>
              <a:avLst/>
              <a:gdLst/>
              <a:ahLst/>
              <a:rect l="l" t="t" r="r" b="b"/>
              <a:pathLst>
                <a:path w="2256976" h="2256976">
                  <a:moveTo>
                    <a:pt x="1933830" y="1918999"/>
                  </a:moveTo>
                  <a:cubicBezTo>
                    <a:pt x="1729058" y="2127589"/>
                    <a:pt x="1443882" y="2256976"/>
                    <a:pt x="1128487" y="2256976"/>
                  </a:cubicBezTo>
                  <a:cubicBezTo>
                    <a:pt x="1125365" y="2256976"/>
                    <a:pt x="1122247" y="2256963"/>
                    <a:pt x="1119179" y="2256938"/>
                  </a:cubicBezTo>
                  <a:lnTo>
                    <a:pt x="1128488" y="1128488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饼形 65"/>
            <p:cNvSpPr/>
            <p:nvPr/>
          </p:nvSpPr>
          <p:spPr>
            <a:xfrm rot="10800000">
              <a:off x="2436840" y="2222640"/>
              <a:ext cx="635040" cy="635040"/>
            </a:xfrm>
            <a:custGeom>
              <a:avLst/>
              <a:gdLst/>
              <a:ahLst/>
              <a:rect l="l" t="t" r="r" b="b"/>
              <a:pathLst>
                <a:path w="1770177" h="1770177">
                  <a:moveTo>
                    <a:pt x="1516729" y="1505097"/>
                  </a:moveTo>
                  <a:cubicBezTo>
                    <a:pt x="1356123" y="1668696"/>
                    <a:pt x="1132457" y="1770176"/>
                    <a:pt x="885088" y="1770176"/>
                  </a:cubicBezTo>
                  <a:cubicBezTo>
                    <a:pt x="881040" y="1770176"/>
                    <a:pt x="876999" y="1770149"/>
                    <a:pt x="873025" y="1770095"/>
                  </a:cubicBezTo>
                  <a:lnTo>
                    <a:pt x="885088" y="885088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饼形 66"/>
            <p:cNvSpPr/>
            <p:nvPr/>
          </p:nvSpPr>
          <p:spPr>
            <a:xfrm rot="10800000">
              <a:off x="2493000" y="2282400"/>
              <a:ext cx="523800" cy="523800"/>
            </a:xfrm>
            <a:custGeom>
              <a:avLst/>
              <a:gdLst/>
              <a:ahLst/>
              <a:rect l="l" t="t" r="r" b="b"/>
              <a:pathLst>
                <a:path w="1460396" h="1460396">
                  <a:moveTo>
                    <a:pt x="1247382" y="1245668"/>
                  </a:moveTo>
                  <a:cubicBezTo>
                    <a:pt x="1115175" y="1378312"/>
                    <a:pt x="932273" y="1460396"/>
                    <a:pt x="730198" y="1460396"/>
                  </a:cubicBezTo>
                  <a:cubicBezTo>
                    <a:pt x="726826" y="1460396"/>
                    <a:pt x="723458" y="1460373"/>
                    <a:pt x="720147" y="1460328"/>
                  </a:cubicBezTo>
                  <a:lnTo>
                    <a:pt x="730198" y="730198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矩形 67"/>
          <p:cNvSpPr/>
          <p:nvPr/>
        </p:nvSpPr>
        <p:spPr>
          <a:xfrm>
            <a:off x="2843280" y="1916280"/>
            <a:ext cx="3429000" cy="64260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>
                <a:alpha val="58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蚂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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工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组合 5204"/>
          <p:cNvGrpSpPr/>
          <p:nvPr/>
        </p:nvGrpSpPr>
        <p:grpSpPr>
          <a:xfrm>
            <a:off x="2124000" y="1916280"/>
            <a:ext cx="1263600" cy="1263600"/>
            <a:chOff x="2124000" y="1916280"/>
            <a:chExt cx="1263600" cy="1263600"/>
          </a:xfrm>
        </p:grpSpPr>
        <p:sp>
          <p:nvSpPr>
            <p:cNvPr id="279" name="饼形 57"/>
            <p:cNvSpPr/>
            <p:nvPr/>
          </p:nvSpPr>
          <p:spPr>
            <a:xfrm rot="10800000">
              <a:off x="2124000" y="1916280"/>
              <a:ext cx="1263600" cy="1263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饼形 58"/>
            <p:cNvSpPr/>
            <p:nvPr/>
          </p:nvSpPr>
          <p:spPr>
            <a:xfrm rot="10800000">
              <a:off x="2259720" y="2047680"/>
              <a:ext cx="993960" cy="993960"/>
            </a:xfrm>
            <a:custGeom>
              <a:avLst/>
              <a:gdLst/>
              <a:ahLst/>
              <a:rect l="l" t="t" r="r" b="b"/>
              <a:pathLst>
                <a:path w="2770327" h="2770327">
                  <a:moveTo>
                    <a:pt x="2373681" y="2355477"/>
                  </a:moveTo>
                  <a:cubicBezTo>
                    <a:pt x="2122334" y="2611510"/>
                    <a:pt x="1772295" y="2770326"/>
                    <a:pt x="1385163" y="2770326"/>
                  </a:cubicBezTo>
                  <a:cubicBezTo>
                    <a:pt x="1383728" y="2770326"/>
                    <a:pt x="1382294" y="2770324"/>
                    <a:pt x="1380884" y="2770320"/>
                  </a:cubicBezTo>
                  <a:lnTo>
                    <a:pt x="1385163" y="1385163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饼形 59"/>
            <p:cNvSpPr/>
            <p:nvPr/>
          </p:nvSpPr>
          <p:spPr>
            <a:xfrm rot="10800000">
              <a:off x="2350080" y="2138040"/>
              <a:ext cx="809640" cy="809640"/>
            </a:xfrm>
            <a:custGeom>
              <a:avLst/>
              <a:gdLst/>
              <a:ahLst/>
              <a:rect l="l" t="t" r="r" b="b"/>
              <a:pathLst>
                <a:path w="2256976" h="2256976">
                  <a:moveTo>
                    <a:pt x="1933830" y="1918999"/>
                  </a:moveTo>
                  <a:cubicBezTo>
                    <a:pt x="1729058" y="2127589"/>
                    <a:pt x="1443882" y="2256976"/>
                    <a:pt x="1128487" y="2256976"/>
                  </a:cubicBezTo>
                  <a:cubicBezTo>
                    <a:pt x="1125365" y="2256976"/>
                    <a:pt x="1122247" y="2256963"/>
                    <a:pt x="1119179" y="2256938"/>
                  </a:cubicBezTo>
                  <a:lnTo>
                    <a:pt x="1128488" y="1128488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饼形 65"/>
            <p:cNvSpPr/>
            <p:nvPr/>
          </p:nvSpPr>
          <p:spPr>
            <a:xfrm rot="10800000">
              <a:off x="2436840" y="2222640"/>
              <a:ext cx="635040" cy="635040"/>
            </a:xfrm>
            <a:custGeom>
              <a:avLst/>
              <a:gdLst/>
              <a:ahLst/>
              <a:rect l="l" t="t" r="r" b="b"/>
              <a:pathLst>
                <a:path w="1770177" h="1770177">
                  <a:moveTo>
                    <a:pt x="1516729" y="1505097"/>
                  </a:moveTo>
                  <a:cubicBezTo>
                    <a:pt x="1356123" y="1668696"/>
                    <a:pt x="1132457" y="1770176"/>
                    <a:pt x="885088" y="1770176"/>
                  </a:cubicBezTo>
                  <a:cubicBezTo>
                    <a:pt x="881040" y="1770176"/>
                    <a:pt x="876999" y="1770149"/>
                    <a:pt x="873025" y="1770095"/>
                  </a:cubicBezTo>
                  <a:lnTo>
                    <a:pt x="885088" y="885088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饼形 66"/>
            <p:cNvSpPr/>
            <p:nvPr/>
          </p:nvSpPr>
          <p:spPr>
            <a:xfrm rot="10800000">
              <a:off x="2493000" y="2282400"/>
              <a:ext cx="523800" cy="523800"/>
            </a:xfrm>
            <a:custGeom>
              <a:avLst/>
              <a:gdLst/>
              <a:ahLst/>
              <a:rect l="l" t="t" r="r" b="b"/>
              <a:pathLst>
                <a:path w="1460396" h="1460396">
                  <a:moveTo>
                    <a:pt x="1247382" y="1245668"/>
                  </a:moveTo>
                  <a:cubicBezTo>
                    <a:pt x="1115175" y="1378312"/>
                    <a:pt x="932273" y="1460396"/>
                    <a:pt x="730198" y="1460396"/>
                  </a:cubicBezTo>
                  <a:cubicBezTo>
                    <a:pt x="726826" y="1460396"/>
                    <a:pt x="723458" y="1460373"/>
                    <a:pt x="720147" y="1460328"/>
                  </a:cubicBezTo>
                  <a:lnTo>
                    <a:pt x="730198" y="730198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组合 5210"/>
          <p:cNvGrpSpPr/>
          <p:nvPr/>
        </p:nvGrpSpPr>
        <p:grpSpPr>
          <a:xfrm>
            <a:off x="2124000" y="2852280"/>
            <a:ext cx="1279440" cy="1279800"/>
            <a:chOff x="2124000" y="2852280"/>
            <a:chExt cx="1279440" cy="1279800"/>
          </a:xfrm>
        </p:grpSpPr>
        <p:sp>
          <p:nvSpPr>
            <p:cNvPr id="285" name="饼形 82"/>
            <p:cNvSpPr/>
            <p:nvPr/>
          </p:nvSpPr>
          <p:spPr>
            <a:xfrm rot="10800000">
              <a:off x="2124000" y="2852280"/>
              <a:ext cx="1279440" cy="12798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饼形 83"/>
            <p:cNvSpPr/>
            <p:nvPr/>
          </p:nvSpPr>
          <p:spPr>
            <a:xfrm rot="10800000">
              <a:off x="2260440" y="2985480"/>
              <a:ext cx="1006560" cy="1006920"/>
            </a:xfrm>
            <a:custGeom>
              <a:avLst/>
              <a:gdLst/>
              <a:ahLst/>
              <a:rect l="l" t="t" r="r" b="b"/>
              <a:pathLst>
                <a:path w="2770920" h="2770920">
                  <a:moveTo>
                    <a:pt x="2374189" y="2355981"/>
                  </a:moveTo>
                  <a:cubicBezTo>
                    <a:pt x="2122788" y="2612069"/>
                    <a:pt x="1772674" y="2770919"/>
                    <a:pt x="1385459" y="2770919"/>
                  </a:cubicBezTo>
                  <a:cubicBezTo>
                    <a:pt x="1384026" y="2770919"/>
                    <a:pt x="1382594" y="2770917"/>
                    <a:pt x="1381185" y="2770913"/>
                  </a:cubicBezTo>
                  <a:lnTo>
                    <a:pt x="1385460" y="1385460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饼形 84"/>
            <p:cNvSpPr/>
            <p:nvPr/>
          </p:nvSpPr>
          <p:spPr>
            <a:xfrm rot="10800000">
              <a:off x="2344680" y="3078000"/>
              <a:ext cx="820800" cy="820800"/>
            </a:xfrm>
            <a:custGeom>
              <a:avLst/>
              <a:gdLst/>
              <a:ahLst/>
              <a:rect l="l" t="t" r="r" b="b"/>
              <a:pathLst>
                <a:path w="2259566" h="2259566">
                  <a:moveTo>
                    <a:pt x="1936049" y="1921201"/>
                  </a:moveTo>
                  <a:cubicBezTo>
                    <a:pt x="1731042" y="2130030"/>
                    <a:pt x="1445539" y="2259565"/>
                    <a:pt x="1129782" y="2259565"/>
                  </a:cubicBezTo>
                  <a:cubicBezTo>
                    <a:pt x="1126657" y="2259565"/>
                    <a:pt x="1123535" y="2259552"/>
                    <a:pt x="1120464" y="2259527"/>
                  </a:cubicBezTo>
                  <a:lnTo>
                    <a:pt x="1129783" y="1129783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饼形 85"/>
            <p:cNvSpPr/>
            <p:nvPr/>
          </p:nvSpPr>
          <p:spPr>
            <a:xfrm rot="10800000">
              <a:off x="2433600" y="3163680"/>
              <a:ext cx="642960" cy="642960"/>
            </a:xfrm>
            <a:custGeom>
              <a:avLst/>
              <a:gdLst/>
              <a:ahLst/>
              <a:rect l="l" t="t" r="r" b="b"/>
              <a:pathLst>
                <a:path w="1770066" h="1770066">
                  <a:moveTo>
                    <a:pt x="1516634" y="1505003"/>
                  </a:moveTo>
                  <a:cubicBezTo>
                    <a:pt x="1356039" y="1668593"/>
                    <a:pt x="1132386" y="1770066"/>
                    <a:pt x="885033" y="1770066"/>
                  </a:cubicBezTo>
                  <a:cubicBezTo>
                    <a:pt x="880986" y="1770066"/>
                    <a:pt x="876945" y="1770039"/>
                    <a:pt x="872971" y="1769985"/>
                  </a:cubicBezTo>
                  <a:lnTo>
                    <a:pt x="885033" y="885033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饼形 86"/>
            <p:cNvSpPr/>
            <p:nvPr/>
          </p:nvSpPr>
          <p:spPr>
            <a:xfrm rot="10800000">
              <a:off x="2496600" y="3223800"/>
              <a:ext cx="530280" cy="530280"/>
            </a:xfrm>
            <a:custGeom>
              <a:avLst/>
              <a:gdLst/>
              <a:ahLst/>
              <a:rect l="l" t="t" r="r" b="b"/>
              <a:pathLst>
                <a:path w="1459759" h="1459759">
                  <a:moveTo>
                    <a:pt x="1246838" y="1245125"/>
                  </a:moveTo>
                  <a:cubicBezTo>
                    <a:pt x="1114689" y="1377711"/>
                    <a:pt x="931866" y="1459759"/>
                    <a:pt x="729880" y="1459759"/>
                  </a:cubicBezTo>
                  <a:cubicBezTo>
                    <a:pt x="726509" y="1459759"/>
                    <a:pt x="723143" y="1459736"/>
                    <a:pt x="719833" y="1459691"/>
                  </a:cubicBezTo>
                  <a:lnTo>
                    <a:pt x="729879" y="729879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0" name="矩形 87"/>
          <p:cNvSpPr/>
          <p:nvPr/>
        </p:nvSpPr>
        <p:spPr>
          <a:xfrm>
            <a:off x="2843280" y="2852640"/>
            <a:ext cx="3429000" cy="642960"/>
          </a:xfrm>
          <a:prstGeom prst="rect">
            <a:avLst/>
          </a:prstGeom>
          <a:solidFill>
            <a:srgbClr val="8fcf01">
              <a:alpha val="20000"/>
            </a:srgbClr>
          </a:solidFill>
          <a:ln w="25560">
            <a:solidFill>
              <a:srgbClr val="00b050">
                <a:alpha val="58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蝴蝶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生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组合 5217"/>
          <p:cNvGrpSpPr/>
          <p:nvPr/>
        </p:nvGrpSpPr>
        <p:grpSpPr>
          <a:xfrm>
            <a:off x="2124000" y="3789360"/>
            <a:ext cx="1316160" cy="1316160"/>
            <a:chOff x="2124000" y="3789360"/>
            <a:chExt cx="1316160" cy="1316160"/>
          </a:xfrm>
        </p:grpSpPr>
        <p:sp>
          <p:nvSpPr>
            <p:cNvPr id="292" name="饼形 95"/>
            <p:cNvSpPr/>
            <p:nvPr/>
          </p:nvSpPr>
          <p:spPr>
            <a:xfrm rot="10800000">
              <a:off x="2124000" y="3789360"/>
              <a:ext cx="1316160" cy="13161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饼形 96"/>
            <p:cNvSpPr/>
            <p:nvPr/>
          </p:nvSpPr>
          <p:spPr>
            <a:xfrm rot="10800000">
              <a:off x="2264760" y="3927240"/>
              <a:ext cx="1033560" cy="1035360"/>
            </a:xfrm>
            <a:custGeom>
              <a:avLst/>
              <a:gdLst/>
              <a:ahLst/>
              <a:rect l="l" t="t" r="r" b="b"/>
              <a:pathLst>
                <a:path w="2766278" h="2770531">
                  <a:moveTo>
                    <a:pt x="2370956" y="2354891"/>
                  </a:moveTo>
                  <a:cubicBezTo>
                    <a:pt x="2119923" y="2611390"/>
                    <a:pt x="1770087" y="2770531"/>
                    <a:pt x="1383138" y="2770531"/>
                  </a:cubicBezTo>
                  <a:cubicBezTo>
                    <a:pt x="1381703" y="2770531"/>
                    <a:pt x="1380269" y="2770529"/>
                    <a:pt x="1378858" y="2770525"/>
                  </a:cubicBezTo>
                  <a:lnTo>
                    <a:pt x="1383139" y="1385265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饼形 97"/>
            <p:cNvSpPr/>
            <p:nvPr/>
          </p:nvSpPr>
          <p:spPr>
            <a:xfrm rot="10800000">
              <a:off x="2358720" y="4021200"/>
              <a:ext cx="843120" cy="843120"/>
            </a:xfrm>
            <a:custGeom>
              <a:avLst/>
              <a:gdLst/>
              <a:ahLst/>
              <a:rect l="l" t="t" r="r" b="b"/>
              <a:pathLst>
                <a:path w="2256367" h="2256366">
                  <a:moveTo>
                    <a:pt x="1933308" y="1918481"/>
                  </a:moveTo>
                  <a:cubicBezTo>
                    <a:pt x="1728591" y="2127015"/>
                    <a:pt x="1443493" y="2256366"/>
                    <a:pt x="1128183" y="2256366"/>
                  </a:cubicBezTo>
                  <a:cubicBezTo>
                    <a:pt x="1125062" y="2256366"/>
                    <a:pt x="1121945" y="2256353"/>
                    <a:pt x="1118878" y="2256328"/>
                  </a:cubicBezTo>
                  <a:lnTo>
                    <a:pt x="1128183" y="1128183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饼形 98"/>
            <p:cNvSpPr/>
            <p:nvPr/>
          </p:nvSpPr>
          <p:spPr>
            <a:xfrm rot="10800000">
              <a:off x="2449080" y="4109400"/>
              <a:ext cx="660600" cy="662040"/>
            </a:xfrm>
            <a:custGeom>
              <a:avLst/>
              <a:gdLst/>
              <a:ahLst/>
              <a:rect l="l" t="t" r="r" b="b"/>
              <a:pathLst>
                <a:path w="1767699" h="1771951">
                  <a:moveTo>
                    <a:pt x="1515349" y="1505846"/>
                  </a:moveTo>
                  <a:cubicBezTo>
                    <a:pt x="1354916" y="1670056"/>
                    <a:pt x="1131254" y="1771951"/>
                    <a:pt x="883850" y="1771951"/>
                  </a:cubicBezTo>
                  <a:cubicBezTo>
                    <a:pt x="879798" y="1771951"/>
                    <a:pt x="875753" y="1771924"/>
                    <a:pt x="871775" y="1771870"/>
                  </a:cubicBezTo>
                  <a:lnTo>
                    <a:pt x="883849" y="885975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饼形 99"/>
            <p:cNvSpPr/>
            <p:nvPr/>
          </p:nvSpPr>
          <p:spPr>
            <a:xfrm rot="10800000">
              <a:off x="2507760" y="4172760"/>
              <a:ext cx="544680" cy="544680"/>
            </a:xfrm>
            <a:custGeom>
              <a:avLst/>
              <a:gdLst/>
              <a:ahLst/>
              <a:rect l="l" t="t" r="r" b="b"/>
              <a:pathLst>
                <a:path w="1457503" h="1457504">
                  <a:moveTo>
                    <a:pt x="1244911" y="1243201"/>
                  </a:moveTo>
                  <a:cubicBezTo>
                    <a:pt x="1112966" y="1375583"/>
                    <a:pt x="930426" y="1457504"/>
                    <a:pt x="728752" y="1457504"/>
                  </a:cubicBezTo>
                  <a:cubicBezTo>
                    <a:pt x="725386" y="1457504"/>
                    <a:pt x="722026" y="1457481"/>
                    <a:pt x="718721" y="1457436"/>
                  </a:cubicBezTo>
                  <a:lnTo>
                    <a:pt x="728751" y="728752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矩形 100"/>
          <p:cNvSpPr/>
          <p:nvPr/>
        </p:nvSpPr>
        <p:spPr>
          <a:xfrm>
            <a:off x="2843280" y="3789360"/>
            <a:ext cx="3429000" cy="642960"/>
          </a:xfrm>
          <a:prstGeom prst="rect">
            <a:avLst/>
          </a:prstGeom>
          <a:solidFill>
            <a:srgbClr val="0070c0">
              <a:alpha val="20000"/>
            </a:srgbClr>
          </a:solidFill>
          <a:ln w="25560">
            <a:solidFill>
              <a:srgbClr val="00b0f0">
                <a:alpha val="58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努力工作，享受生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圆角矩形 107"/>
          <p:cNvSpPr/>
          <p:nvPr/>
        </p:nvSpPr>
        <p:spPr>
          <a:xfrm>
            <a:off x="1066680" y="1862280"/>
            <a:ext cx="7013520" cy="4281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组合 6146"/>
          <p:cNvGrpSpPr/>
          <p:nvPr/>
        </p:nvGrpSpPr>
        <p:grpSpPr>
          <a:xfrm>
            <a:off x="-360" y="-1758960"/>
            <a:ext cx="3522600" cy="3519360"/>
            <a:chOff x="-360" y="-1758960"/>
            <a:chExt cx="3522600" cy="3519360"/>
          </a:xfrm>
        </p:grpSpPr>
        <p:sp>
          <p:nvSpPr>
            <p:cNvPr id="300" name="饼形 45"/>
            <p:cNvSpPr/>
            <p:nvPr/>
          </p:nvSpPr>
          <p:spPr>
            <a:xfrm rot="5400000">
              <a:off x="1080" y="-176040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饼形 46"/>
            <p:cNvSpPr/>
            <p:nvPr/>
          </p:nvSpPr>
          <p:spPr>
            <a:xfrm rot="5400000">
              <a:off x="369000" y="-138420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饼形 47"/>
            <p:cNvSpPr/>
            <p:nvPr/>
          </p:nvSpPr>
          <p:spPr>
            <a:xfrm rot="5400000">
              <a:off x="619560" y="-112356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饼形 48"/>
            <p:cNvSpPr/>
            <p:nvPr/>
          </p:nvSpPr>
          <p:spPr>
            <a:xfrm rot="5400000">
              <a:off x="856440" y="-8776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8" y="1504854"/>
                  </a:moveTo>
                  <a:cubicBezTo>
                    <a:pt x="1355556" y="1668525"/>
                    <a:pt x="1131946" y="1770056"/>
                    <a:pt x="884634" y="1770056"/>
                  </a:cubicBezTo>
                  <a:cubicBezTo>
                    <a:pt x="880587" y="1770056"/>
                    <a:pt x="876546" y="1770029"/>
                    <a:pt x="872572" y="1769975"/>
                  </a:cubicBezTo>
                  <a:lnTo>
                    <a:pt x="884634" y="885028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饼形 49"/>
            <p:cNvSpPr/>
            <p:nvPr/>
          </p:nvSpPr>
          <p:spPr>
            <a:xfrm rot="5400000">
              <a:off x="1023120" y="-72360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组合 6152"/>
          <p:cNvGrpSpPr/>
          <p:nvPr/>
        </p:nvGrpSpPr>
        <p:grpSpPr>
          <a:xfrm>
            <a:off x="7383600" y="-360"/>
            <a:ext cx="3520800" cy="3522600"/>
            <a:chOff x="7383600" y="-360"/>
            <a:chExt cx="3520800" cy="3522600"/>
          </a:xfrm>
        </p:grpSpPr>
        <p:sp>
          <p:nvSpPr>
            <p:cNvPr id="306" name="饼形 11"/>
            <p:cNvSpPr/>
            <p:nvPr/>
          </p:nvSpPr>
          <p:spPr>
            <a:xfrm rot="10800000">
              <a:off x="7383600" y="-36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饼形 9"/>
            <p:cNvSpPr/>
            <p:nvPr/>
          </p:nvSpPr>
          <p:spPr>
            <a:xfrm rot="10800000">
              <a:off x="7759800" y="367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4" y="2770178"/>
                    <a:pt x="1382050" y="2770176"/>
                    <a:pt x="1380640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饼形 8"/>
            <p:cNvSpPr/>
            <p:nvPr/>
          </p:nvSpPr>
          <p:spPr>
            <a:xfrm rot="10800000">
              <a:off x="8010360" y="6184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饼形 7"/>
            <p:cNvSpPr/>
            <p:nvPr/>
          </p:nvSpPr>
          <p:spPr>
            <a:xfrm rot="10800000">
              <a:off x="8253360" y="85536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7" y="1504853"/>
                  </a:moveTo>
                  <a:cubicBezTo>
                    <a:pt x="1355555" y="1668524"/>
                    <a:pt x="1131946" y="1770055"/>
                    <a:pt x="884633" y="1770055"/>
                  </a:cubicBezTo>
                  <a:cubicBezTo>
                    <a:pt x="880586" y="1770055"/>
                    <a:pt x="876545" y="1770028"/>
                    <a:pt x="872571" y="1769974"/>
                  </a:cubicBezTo>
                  <a:lnTo>
                    <a:pt x="884633" y="885028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饼形 6"/>
            <p:cNvSpPr/>
            <p:nvPr/>
          </p:nvSpPr>
          <p:spPr>
            <a:xfrm rot="10800000">
              <a:off x="8410680" y="102204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1" name="组合 6158"/>
          <p:cNvGrpSpPr/>
          <p:nvPr/>
        </p:nvGrpSpPr>
        <p:grpSpPr>
          <a:xfrm>
            <a:off x="-1758960" y="-360"/>
            <a:ext cx="3519360" cy="3522600"/>
            <a:chOff x="-1758960" y="-360"/>
            <a:chExt cx="3519360" cy="3522600"/>
          </a:xfrm>
        </p:grpSpPr>
        <p:sp>
          <p:nvSpPr>
            <p:cNvPr id="312" name="饼形 16"/>
            <p:cNvSpPr/>
            <p:nvPr/>
          </p:nvSpPr>
          <p:spPr>
            <a:xfrm flipH="1" rot="10800000">
              <a:off x="-1758960" y="-36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饼形 17"/>
            <p:cNvSpPr/>
            <p:nvPr/>
          </p:nvSpPr>
          <p:spPr>
            <a:xfrm flipH="1" rot="10800000">
              <a:off x="-1383840" y="36792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5" y="2770179"/>
                    <a:pt x="1382051" y="2770177"/>
                    <a:pt x="1380641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饼形 18"/>
            <p:cNvSpPr/>
            <p:nvPr/>
          </p:nvSpPr>
          <p:spPr>
            <a:xfrm flipH="1" rot="10800000">
              <a:off x="-1122480" y="61848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饼形 19"/>
            <p:cNvSpPr/>
            <p:nvPr/>
          </p:nvSpPr>
          <p:spPr>
            <a:xfrm flipH="1" rot="10800000">
              <a:off x="-876600" y="85536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8" y="1504854"/>
                  </a:moveTo>
                  <a:cubicBezTo>
                    <a:pt x="1355556" y="1668525"/>
                    <a:pt x="1131946" y="1770056"/>
                    <a:pt x="884634" y="1770056"/>
                  </a:cubicBezTo>
                  <a:cubicBezTo>
                    <a:pt x="880587" y="1770056"/>
                    <a:pt x="876546" y="1770029"/>
                    <a:pt x="872572" y="1769975"/>
                  </a:cubicBezTo>
                  <a:lnTo>
                    <a:pt x="884634" y="885028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饼形 20"/>
            <p:cNvSpPr/>
            <p:nvPr/>
          </p:nvSpPr>
          <p:spPr>
            <a:xfrm flipH="1" rot="10800000">
              <a:off x="-722520" y="102240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7" name="组合 6164"/>
          <p:cNvGrpSpPr/>
          <p:nvPr/>
        </p:nvGrpSpPr>
        <p:grpSpPr>
          <a:xfrm>
            <a:off x="7383600" y="3334680"/>
            <a:ext cx="3520800" cy="3522600"/>
            <a:chOff x="7383600" y="3334680"/>
            <a:chExt cx="3520800" cy="3522600"/>
          </a:xfrm>
        </p:grpSpPr>
        <p:sp>
          <p:nvSpPr>
            <p:cNvPr id="318" name="饼形 24"/>
            <p:cNvSpPr/>
            <p:nvPr/>
          </p:nvSpPr>
          <p:spPr>
            <a:xfrm flipV="1" rot="10800000">
              <a:off x="7383600" y="33343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饼形 25"/>
            <p:cNvSpPr/>
            <p:nvPr/>
          </p:nvSpPr>
          <p:spPr>
            <a:xfrm flipV="1" rot="10800000">
              <a:off x="7759800" y="371844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4" y="2770178"/>
                    <a:pt x="1382050" y="2770176"/>
                    <a:pt x="1380640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饼形 26"/>
            <p:cNvSpPr/>
            <p:nvPr/>
          </p:nvSpPr>
          <p:spPr>
            <a:xfrm flipV="1" rot="10800000">
              <a:off x="8010360" y="397872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饼形 27"/>
            <p:cNvSpPr/>
            <p:nvPr/>
          </p:nvSpPr>
          <p:spPr>
            <a:xfrm flipV="1" rot="10800000">
              <a:off x="8253360" y="42310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55556" y="1668527"/>
                    <a:pt x="1131947" y="1770058"/>
                    <a:pt x="884634" y="1770058"/>
                  </a:cubicBezTo>
                  <a:cubicBezTo>
                    <a:pt x="880587" y="1770058"/>
                    <a:pt x="876546" y="1770031"/>
                    <a:pt x="872572" y="1769977"/>
                  </a:cubicBezTo>
                  <a:lnTo>
                    <a:pt x="884633" y="885029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饼形 28"/>
            <p:cNvSpPr/>
            <p:nvPr/>
          </p:nvSpPr>
          <p:spPr>
            <a:xfrm flipV="1" rot="10800000">
              <a:off x="8410680" y="437688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组合 6170"/>
          <p:cNvGrpSpPr/>
          <p:nvPr/>
        </p:nvGrpSpPr>
        <p:grpSpPr>
          <a:xfrm>
            <a:off x="-1758960" y="3334680"/>
            <a:ext cx="3519360" cy="3522600"/>
            <a:chOff x="-1758960" y="3334680"/>
            <a:chExt cx="3519360" cy="3522600"/>
          </a:xfrm>
        </p:grpSpPr>
        <p:sp>
          <p:nvSpPr>
            <p:cNvPr id="324" name="饼形 31"/>
            <p:cNvSpPr/>
            <p:nvPr/>
          </p:nvSpPr>
          <p:spPr>
            <a:xfrm flipH="1" flipV="1" rot="10800000">
              <a:off x="-1758960" y="333432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饼形 32"/>
            <p:cNvSpPr/>
            <p:nvPr/>
          </p:nvSpPr>
          <p:spPr>
            <a:xfrm flipH="1" flipV="1" rot="10800000">
              <a:off x="-1383840" y="371844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饼形 33"/>
            <p:cNvSpPr/>
            <p:nvPr/>
          </p:nvSpPr>
          <p:spPr>
            <a:xfrm flipH="1" flipV="1" rot="10800000">
              <a:off x="-1122480" y="397872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饼形 34"/>
            <p:cNvSpPr/>
            <p:nvPr/>
          </p:nvSpPr>
          <p:spPr>
            <a:xfrm flipH="1" flipV="1" rot="10800000">
              <a:off x="-876600" y="42310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8" y="1504855"/>
                  </a:moveTo>
                  <a:cubicBezTo>
                    <a:pt x="1355555" y="1668526"/>
                    <a:pt x="1131946" y="1770057"/>
                    <a:pt x="884633" y="1770057"/>
                  </a:cubicBezTo>
                  <a:cubicBezTo>
                    <a:pt x="880586" y="1770057"/>
                    <a:pt x="876545" y="1770030"/>
                    <a:pt x="872571" y="1769976"/>
                  </a:cubicBezTo>
                  <a:lnTo>
                    <a:pt x="884634" y="885029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饼形 35"/>
            <p:cNvSpPr/>
            <p:nvPr/>
          </p:nvSpPr>
          <p:spPr>
            <a:xfrm flipH="1" flipV="1" rot="10800000">
              <a:off x="-722520" y="437688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组合 6176"/>
          <p:cNvGrpSpPr/>
          <p:nvPr/>
        </p:nvGrpSpPr>
        <p:grpSpPr>
          <a:xfrm>
            <a:off x="5620680" y="5094720"/>
            <a:ext cx="3521160" cy="3521160"/>
            <a:chOff x="5620680" y="5094720"/>
            <a:chExt cx="3521160" cy="3521160"/>
          </a:xfrm>
        </p:grpSpPr>
        <p:sp>
          <p:nvSpPr>
            <p:cNvPr id="330" name="饼形 38"/>
            <p:cNvSpPr/>
            <p:nvPr/>
          </p:nvSpPr>
          <p:spPr>
            <a:xfrm flipH="1" flipV="1" rot="5400000">
              <a:off x="5620320" y="5094360"/>
              <a:ext cx="3521160" cy="35211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饼形 39"/>
            <p:cNvSpPr/>
            <p:nvPr/>
          </p:nvSpPr>
          <p:spPr>
            <a:xfrm flipH="1" flipV="1" rot="5400000">
              <a:off x="6005160" y="5470200"/>
              <a:ext cx="2768760" cy="276912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6" y="2770178"/>
                    <a:pt x="1382054" y="2770176"/>
                    <a:pt x="1380646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饼形 40"/>
            <p:cNvSpPr/>
            <p:nvPr/>
          </p:nvSpPr>
          <p:spPr>
            <a:xfrm flipH="1" flipV="1" rot="5400000">
              <a:off x="6265440" y="5721120"/>
              <a:ext cx="2257560" cy="225792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饼形 41"/>
            <p:cNvSpPr/>
            <p:nvPr/>
          </p:nvSpPr>
          <p:spPr>
            <a:xfrm flipH="1" flipV="1" rot="5400000">
              <a:off x="6517080" y="5963760"/>
              <a:ext cx="1768680" cy="176940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55556" y="1668527"/>
                    <a:pt x="1131947" y="1770058"/>
                    <a:pt x="884634" y="1770058"/>
                  </a:cubicBezTo>
                  <a:cubicBezTo>
                    <a:pt x="880587" y="1770058"/>
                    <a:pt x="876546" y="1770031"/>
                    <a:pt x="872572" y="1769977"/>
                  </a:cubicBezTo>
                  <a:lnTo>
                    <a:pt x="884633" y="885029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饼形 42"/>
            <p:cNvSpPr/>
            <p:nvPr/>
          </p:nvSpPr>
          <p:spPr>
            <a:xfrm flipH="1" flipV="1" rot="5400000">
              <a:off x="6661440" y="6120720"/>
              <a:ext cx="1457280" cy="145836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组合 6182"/>
          <p:cNvGrpSpPr/>
          <p:nvPr/>
        </p:nvGrpSpPr>
        <p:grpSpPr>
          <a:xfrm>
            <a:off x="5620680" y="-1758960"/>
            <a:ext cx="3522600" cy="3519360"/>
            <a:chOff x="5620680" y="-1758960"/>
            <a:chExt cx="3522600" cy="3519360"/>
          </a:xfrm>
        </p:grpSpPr>
        <p:sp>
          <p:nvSpPr>
            <p:cNvPr id="336" name="饼形 52"/>
            <p:cNvSpPr/>
            <p:nvPr/>
          </p:nvSpPr>
          <p:spPr>
            <a:xfrm flipH="1" rot="16200000">
              <a:off x="5621760" y="-176040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饼形 53"/>
            <p:cNvSpPr/>
            <p:nvPr/>
          </p:nvSpPr>
          <p:spPr>
            <a:xfrm flipH="1" rot="16200000">
              <a:off x="6005880" y="-138384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饼形 54"/>
            <p:cNvSpPr/>
            <p:nvPr/>
          </p:nvSpPr>
          <p:spPr>
            <a:xfrm flipH="1" rot="16200000">
              <a:off x="6265800" y="-112356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饼形 55"/>
            <p:cNvSpPr/>
            <p:nvPr/>
          </p:nvSpPr>
          <p:spPr>
            <a:xfrm flipH="1" rot="16200000">
              <a:off x="6518160" y="-8776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8" y="1504855"/>
                  </a:moveTo>
                  <a:cubicBezTo>
                    <a:pt x="1355555" y="1668526"/>
                    <a:pt x="1131946" y="1770057"/>
                    <a:pt x="884633" y="1770057"/>
                  </a:cubicBezTo>
                  <a:cubicBezTo>
                    <a:pt x="880586" y="1770057"/>
                    <a:pt x="876545" y="1770030"/>
                    <a:pt x="872571" y="1769976"/>
                  </a:cubicBezTo>
                  <a:lnTo>
                    <a:pt x="884634" y="885029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饼形 56"/>
            <p:cNvSpPr/>
            <p:nvPr/>
          </p:nvSpPr>
          <p:spPr>
            <a:xfrm flipH="1" rot="16200000">
              <a:off x="6663960" y="-72324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9567" y="1240095"/>
                  </a:moveTo>
                  <a:cubicBezTo>
                    <a:pt x="1117264" y="1375130"/>
                    <a:pt x="932904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1" name="组合 6188"/>
          <p:cNvGrpSpPr/>
          <p:nvPr/>
        </p:nvGrpSpPr>
        <p:grpSpPr>
          <a:xfrm>
            <a:off x="-360" y="5097600"/>
            <a:ext cx="3522600" cy="3520800"/>
            <a:chOff x="-360" y="5097600"/>
            <a:chExt cx="3522600" cy="3520800"/>
          </a:xfrm>
        </p:grpSpPr>
        <p:sp>
          <p:nvSpPr>
            <p:cNvPr id="342" name="饼形 60"/>
            <p:cNvSpPr/>
            <p:nvPr/>
          </p:nvSpPr>
          <p:spPr>
            <a:xfrm flipV="1" rot="16200000">
              <a:off x="360" y="50965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饼形 61"/>
            <p:cNvSpPr/>
            <p:nvPr/>
          </p:nvSpPr>
          <p:spPr>
            <a:xfrm flipV="1" rot="16200000">
              <a:off x="368640" y="54727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6" y="2770178"/>
                    <a:pt x="1382054" y="2770176"/>
                    <a:pt x="1380646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饼形 62"/>
            <p:cNvSpPr/>
            <p:nvPr/>
          </p:nvSpPr>
          <p:spPr>
            <a:xfrm flipV="1" rot="16200000">
              <a:off x="619200" y="5723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饼形 63"/>
            <p:cNvSpPr/>
            <p:nvPr/>
          </p:nvSpPr>
          <p:spPr>
            <a:xfrm flipV="1" rot="16200000">
              <a:off x="856080" y="59662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7" y="1504853"/>
                  </a:moveTo>
                  <a:cubicBezTo>
                    <a:pt x="1355555" y="1668524"/>
                    <a:pt x="1131946" y="1770055"/>
                    <a:pt x="884633" y="1770055"/>
                  </a:cubicBezTo>
                  <a:cubicBezTo>
                    <a:pt x="880586" y="1770055"/>
                    <a:pt x="876545" y="1770028"/>
                    <a:pt x="872571" y="1769974"/>
                  </a:cubicBezTo>
                  <a:lnTo>
                    <a:pt x="884633" y="885028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饼形 64"/>
            <p:cNvSpPr/>
            <p:nvPr/>
          </p:nvSpPr>
          <p:spPr>
            <a:xfrm flipV="1" rot="16200000">
              <a:off x="1023120" y="61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组合 6194"/>
          <p:cNvGrpSpPr/>
          <p:nvPr/>
        </p:nvGrpSpPr>
        <p:grpSpPr>
          <a:xfrm>
            <a:off x="3643920" y="1213560"/>
            <a:ext cx="1738440" cy="1740600"/>
            <a:chOff x="3643920" y="1213560"/>
            <a:chExt cx="1738440" cy="1740600"/>
          </a:xfrm>
        </p:grpSpPr>
        <p:grpSp>
          <p:nvGrpSpPr>
            <p:cNvPr id="348" name="组合 6195"/>
            <p:cNvGrpSpPr/>
            <p:nvPr/>
          </p:nvGrpSpPr>
          <p:grpSpPr>
            <a:xfrm>
              <a:off x="3644280" y="1217160"/>
              <a:ext cx="1738080" cy="1737000"/>
              <a:chOff x="3644280" y="1217160"/>
              <a:chExt cx="1738080" cy="1737000"/>
            </a:xfrm>
          </p:grpSpPr>
          <p:sp>
            <p:nvSpPr>
              <p:cNvPr id="349" name="饼形 71"/>
              <p:cNvSpPr/>
              <p:nvPr/>
            </p:nvSpPr>
            <p:spPr>
              <a:xfrm rot="12161400">
                <a:off x="384876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3" y="3005199"/>
                    </a:moveTo>
                    <a:cubicBezTo>
                      <a:pt x="2694039" y="3327987"/>
                      <a:pt x="2251141" y="3527936"/>
                      <a:pt x="1761605" y="3527936"/>
                    </a:cubicBezTo>
                    <a:cubicBezTo>
                      <a:pt x="1759393" y="3527936"/>
                      <a:pt x="1757182" y="3527932"/>
                      <a:pt x="1755007" y="3527924"/>
                    </a:cubicBezTo>
                    <a:lnTo>
                      <a:pt x="1761605" y="176396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饼形 72"/>
              <p:cNvSpPr/>
              <p:nvPr/>
            </p:nvSpPr>
            <p:spPr>
              <a:xfrm rot="12161400">
                <a:off x="3990240" y="1559880"/>
                <a:ext cx="1046160" cy="104364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1" y="2358226"/>
                    </a:moveTo>
                    <a:cubicBezTo>
                      <a:pt x="2125031" y="2614497"/>
                      <a:pt x="1774570" y="2773455"/>
                      <a:pt x="1386976" y="2773455"/>
                    </a:cubicBezTo>
                    <a:cubicBezTo>
                      <a:pt x="1385540" y="2773455"/>
                      <a:pt x="1384104" y="2773453"/>
                      <a:pt x="1382692" y="2773449"/>
                    </a:cubicBezTo>
                    <a:lnTo>
                      <a:pt x="1386976" y="1386728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饼形 73"/>
              <p:cNvSpPr/>
              <p:nvPr/>
            </p:nvSpPr>
            <p:spPr>
              <a:xfrm rot="12161400">
                <a:off x="4084920" y="165312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5" y="1921874"/>
                    </a:moveTo>
                    <a:cubicBezTo>
                      <a:pt x="1734037" y="2130108"/>
                      <a:pt x="1448288" y="2259227"/>
                      <a:pt x="1132310" y="2259227"/>
                    </a:cubicBezTo>
                    <a:cubicBezTo>
                      <a:pt x="1129185" y="2259227"/>
                      <a:pt x="1126063" y="2259214"/>
                      <a:pt x="1122993" y="2259190"/>
                    </a:cubicBezTo>
                    <a:lnTo>
                      <a:pt x="1132311" y="1129614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饼形 74"/>
              <p:cNvSpPr/>
              <p:nvPr/>
            </p:nvSpPr>
            <p:spPr>
              <a:xfrm rot="12161400">
                <a:off x="4180680" y="174276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饼形 75"/>
              <p:cNvSpPr/>
              <p:nvPr/>
            </p:nvSpPr>
            <p:spPr>
              <a:xfrm rot="12161400">
                <a:off x="4236120" y="180648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7"/>
                    </a:moveTo>
                    <a:cubicBezTo>
                      <a:pt x="1115679" y="1380245"/>
                      <a:pt x="932603" y="1462596"/>
                      <a:pt x="730319" y="1462596"/>
                    </a:cubicBezTo>
                    <a:cubicBezTo>
                      <a:pt x="726942" y="1462596"/>
                      <a:pt x="723569" y="1462573"/>
                      <a:pt x="720253" y="1462528"/>
                    </a:cubicBezTo>
                    <a:lnTo>
                      <a:pt x="730319" y="7312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组合 6201"/>
            <p:cNvGrpSpPr/>
            <p:nvPr/>
          </p:nvGrpSpPr>
          <p:grpSpPr>
            <a:xfrm>
              <a:off x="3643920" y="1216800"/>
              <a:ext cx="1738080" cy="1737000"/>
              <a:chOff x="3643920" y="1216800"/>
              <a:chExt cx="1738080" cy="1737000"/>
            </a:xfrm>
          </p:grpSpPr>
          <p:sp>
            <p:nvSpPr>
              <p:cNvPr id="355" name="饼形 77"/>
              <p:cNvSpPr/>
              <p:nvPr/>
            </p:nvSpPr>
            <p:spPr>
              <a:xfrm flipH="1" rot="12160800">
                <a:off x="384840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2" y="3002357"/>
                    </a:moveTo>
                    <a:cubicBezTo>
                      <a:pt x="2693354" y="3324320"/>
                      <a:pt x="2250762" y="3523721"/>
                      <a:pt x="1761605" y="3523721"/>
                    </a:cubicBezTo>
                    <a:cubicBezTo>
                      <a:pt x="1759395" y="3523721"/>
                      <a:pt x="1757187" y="3523717"/>
                      <a:pt x="1755014" y="3523709"/>
                    </a:cubicBezTo>
                    <a:lnTo>
                      <a:pt x="1761605" y="17618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饼形 78"/>
              <p:cNvSpPr/>
              <p:nvPr/>
            </p:nvSpPr>
            <p:spPr>
              <a:xfrm flipH="1" rot="12160800">
                <a:off x="3985920" y="1559160"/>
                <a:ext cx="1047960" cy="104652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7" y="2361808"/>
                    </a:moveTo>
                    <a:cubicBezTo>
                      <a:pt x="2128255" y="2618469"/>
                      <a:pt x="1777262" y="2777669"/>
                      <a:pt x="1389080" y="2777669"/>
                    </a:cubicBezTo>
                    <a:cubicBezTo>
                      <a:pt x="1387641" y="2777669"/>
                      <a:pt x="1386203" y="2777667"/>
                      <a:pt x="1384789" y="2777663"/>
                    </a:cubicBezTo>
                    <a:lnTo>
                      <a:pt x="1389080" y="138883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饼形 79"/>
              <p:cNvSpPr/>
              <p:nvPr/>
            </p:nvSpPr>
            <p:spPr>
              <a:xfrm flipH="1" rot="12160800">
                <a:off x="4089600" y="1656720"/>
                <a:ext cx="852480" cy="85104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31498" y="2129800"/>
                      <a:pt x="1445975" y="2259228"/>
                      <a:pt x="1130206" y="2259228"/>
                    </a:cubicBezTo>
                    <a:cubicBezTo>
                      <a:pt x="1127081" y="2259228"/>
                      <a:pt x="1123959" y="2259215"/>
                      <a:pt x="1120889" y="2259190"/>
                    </a:cubicBezTo>
                    <a:lnTo>
                      <a:pt x="1130205" y="1129614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饼形 80"/>
              <p:cNvSpPr/>
              <p:nvPr/>
            </p:nvSpPr>
            <p:spPr>
              <a:xfrm flipH="1" rot="12160800">
                <a:off x="4183560" y="174600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饼形 81"/>
              <p:cNvSpPr/>
              <p:nvPr/>
            </p:nvSpPr>
            <p:spPr>
              <a:xfrm flipH="1" rot="12160800">
                <a:off x="4237200" y="1805400"/>
                <a:ext cx="552600" cy="54936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39" y="1245092"/>
                    </a:moveTo>
                    <a:cubicBezTo>
                      <a:pt x="1117519" y="1376882"/>
                      <a:pt x="934531" y="1458382"/>
                      <a:pt x="732423" y="1458382"/>
                    </a:cubicBezTo>
                    <a:cubicBezTo>
                      <a:pt x="729055" y="1458382"/>
                      <a:pt x="725693" y="1458359"/>
                      <a:pt x="722386" y="1458315"/>
                    </a:cubicBezTo>
                    <a:lnTo>
                      <a:pt x="732424" y="729191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组合 6207"/>
            <p:cNvGrpSpPr/>
            <p:nvPr/>
          </p:nvGrpSpPr>
          <p:grpSpPr>
            <a:xfrm>
              <a:off x="3644280" y="1213560"/>
              <a:ext cx="1737720" cy="1737000"/>
              <a:chOff x="3644280" y="1213560"/>
              <a:chExt cx="1737720" cy="1737000"/>
            </a:xfrm>
          </p:grpSpPr>
          <p:sp>
            <p:nvSpPr>
              <p:cNvPr id="361" name="饼形 101"/>
              <p:cNvSpPr/>
              <p:nvPr/>
            </p:nvSpPr>
            <p:spPr>
              <a:xfrm flipV="1" rot="17560800">
                <a:off x="3849120" y="1417320"/>
                <a:ext cx="132732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0"/>
                    </a:moveTo>
                    <a:cubicBezTo>
                      <a:pt x="2696114" y="3324221"/>
                      <a:pt x="2253310" y="3523210"/>
                      <a:pt x="1763968" y="3523210"/>
                    </a:cubicBezTo>
                    <a:cubicBezTo>
                      <a:pt x="1761759" y="3523210"/>
                      <a:pt x="1759551" y="3523206"/>
                      <a:pt x="1757379" y="3523198"/>
                    </a:cubicBezTo>
                    <a:lnTo>
                      <a:pt x="1763968" y="17616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饼形 102"/>
              <p:cNvSpPr/>
              <p:nvPr/>
            </p:nvSpPr>
            <p:spPr>
              <a:xfrm flipV="1" rot="17560800">
                <a:off x="3989520" y="1554120"/>
                <a:ext cx="104508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0" y="2362051"/>
                    </a:moveTo>
                    <a:cubicBezTo>
                      <a:pt x="2128041" y="2618859"/>
                      <a:pt x="1777038" y="2778160"/>
                      <a:pt x="1388836" y="2778160"/>
                    </a:cubicBezTo>
                    <a:cubicBezTo>
                      <a:pt x="1387399" y="2778160"/>
                      <a:pt x="1385963" y="2778158"/>
                      <a:pt x="1384551" y="2778154"/>
                    </a:cubicBezTo>
                    <a:lnTo>
                      <a:pt x="1388836" y="1389080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饼形 103"/>
              <p:cNvSpPr/>
              <p:nvPr/>
            </p:nvSpPr>
            <p:spPr>
              <a:xfrm flipV="1" rot="17560800">
                <a:off x="4082400" y="1651320"/>
                <a:ext cx="85176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1" y="1922463"/>
                    </a:moveTo>
                    <a:cubicBezTo>
                      <a:pt x="1733521" y="2131054"/>
                      <a:pt x="1447749" y="2260414"/>
                      <a:pt x="1131722" y="2260414"/>
                    </a:cubicBezTo>
                    <a:cubicBezTo>
                      <a:pt x="1128596" y="2260414"/>
                      <a:pt x="1125472" y="2260401"/>
                      <a:pt x="1122400" y="2260376"/>
                    </a:cubicBezTo>
                    <a:lnTo>
                      <a:pt x="1131722" y="1130207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饼形 104"/>
              <p:cNvSpPr/>
              <p:nvPr/>
            </p:nvSpPr>
            <p:spPr>
              <a:xfrm flipV="1" rot="17560800">
                <a:off x="4170960" y="1741320"/>
                <a:ext cx="66780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1" y="1507182"/>
                    </a:moveTo>
                    <a:cubicBezTo>
                      <a:pt x="1359052" y="1670714"/>
                      <a:pt x="1135012" y="1772130"/>
                      <a:pt x="887252" y="1772130"/>
                    </a:cubicBezTo>
                    <a:cubicBezTo>
                      <a:pt x="883200" y="1772130"/>
                      <a:pt x="879154" y="1772103"/>
                      <a:pt x="875176" y="1772050"/>
                    </a:cubicBezTo>
                    <a:lnTo>
                      <a:pt x="887252" y="88606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饼形 105"/>
              <p:cNvSpPr/>
              <p:nvPr/>
            </p:nvSpPr>
            <p:spPr>
              <a:xfrm flipV="1" rot="17560800">
                <a:off x="4235040" y="180288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0" y="1245476"/>
                    </a:moveTo>
                    <a:cubicBezTo>
                      <a:pt x="1114004" y="1378376"/>
                      <a:pt x="931189" y="1460639"/>
                      <a:pt x="729191" y="1460639"/>
                    </a:cubicBezTo>
                    <a:cubicBezTo>
                      <a:pt x="725818" y="1460639"/>
                      <a:pt x="722450" y="1460616"/>
                      <a:pt x="719138" y="1460571"/>
                    </a:cubicBezTo>
                    <a:lnTo>
                      <a:pt x="729191" y="730320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6" name="圆角矩形 107"/>
          <p:cNvSpPr/>
          <p:nvPr/>
        </p:nvSpPr>
        <p:spPr>
          <a:xfrm>
            <a:off x="1066680" y="1862280"/>
            <a:ext cx="7013520" cy="4281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组合 6214"/>
          <p:cNvGrpSpPr/>
          <p:nvPr/>
        </p:nvGrpSpPr>
        <p:grpSpPr>
          <a:xfrm>
            <a:off x="3646800" y="1207800"/>
            <a:ext cx="1738080" cy="1740240"/>
            <a:chOff x="3646800" y="1207800"/>
            <a:chExt cx="1738080" cy="1740240"/>
          </a:xfrm>
        </p:grpSpPr>
        <p:grpSp>
          <p:nvGrpSpPr>
            <p:cNvPr id="368" name="组合 6215"/>
            <p:cNvGrpSpPr/>
            <p:nvPr/>
          </p:nvGrpSpPr>
          <p:grpSpPr>
            <a:xfrm>
              <a:off x="3647160" y="1211400"/>
              <a:ext cx="1737720" cy="1736640"/>
              <a:chOff x="3647160" y="1211400"/>
              <a:chExt cx="1737720" cy="1736640"/>
            </a:xfrm>
          </p:grpSpPr>
          <p:sp>
            <p:nvSpPr>
              <p:cNvPr id="369" name="饼形 71"/>
              <p:cNvSpPr/>
              <p:nvPr/>
            </p:nvSpPr>
            <p:spPr>
              <a:xfrm rot="12161400">
                <a:off x="385164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3" y="3005199"/>
                    </a:moveTo>
                    <a:cubicBezTo>
                      <a:pt x="2694039" y="3327987"/>
                      <a:pt x="2251141" y="3527936"/>
                      <a:pt x="1761605" y="3527936"/>
                    </a:cubicBezTo>
                    <a:cubicBezTo>
                      <a:pt x="1759393" y="3527936"/>
                      <a:pt x="1757182" y="3527932"/>
                      <a:pt x="1755007" y="3527924"/>
                    </a:cubicBezTo>
                    <a:lnTo>
                      <a:pt x="1761605" y="176396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饼形 72"/>
              <p:cNvSpPr/>
              <p:nvPr/>
            </p:nvSpPr>
            <p:spPr>
              <a:xfrm rot="12161400">
                <a:off x="3993120" y="1554120"/>
                <a:ext cx="1046160" cy="104328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1" y="2358226"/>
                    </a:moveTo>
                    <a:cubicBezTo>
                      <a:pt x="2125031" y="2614497"/>
                      <a:pt x="1774570" y="2773455"/>
                      <a:pt x="1386976" y="2773455"/>
                    </a:cubicBezTo>
                    <a:cubicBezTo>
                      <a:pt x="1385540" y="2773455"/>
                      <a:pt x="1384104" y="2773453"/>
                      <a:pt x="1382692" y="2773449"/>
                    </a:cubicBezTo>
                    <a:lnTo>
                      <a:pt x="1386976" y="1386728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饼形 73"/>
              <p:cNvSpPr/>
              <p:nvPr/>
            </p:nvSpPr>
            <p:spPr>
              <a:xfrm rot="12161400">
                <a:off x="4087800" y="164700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5" y="1921874"/>
                    </a:moveTo>
                    <a:cubicBezTo>
                      <a:pt x="1734037" y="2130108"/>
                      <a:pt x="1448288" y="2259227"/>
                      <a:pt x="1132310" y="2259227"/>
                    </a:cubicBezTo>
                    <a:cubicBezTo>
                      <a:pt x="1129185" y="2259227"/>
                      <a:pt x="1126063" y="2259214"/>
                      <a:pt x="1122993" y="2259190"/>
                    </a:cubicBezTo>
                    <a:lnTo>
                      <a:pt x="1132311" y="1129614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饼形 74"/>
              <p:cNvSpPr/>
              <p:nvPr/>
            </p:nvSpPr>
            <p:spPr>
              <a:xfrm rot="12161400">
                <a:off x="4183560" y="173664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饼形 75"/>
              <p:cNvSpPr/>
              <p:nvPr/>
            </p:nvSpPr>
            <p:spPr>
              <a:xfrm rot="12161400">
                <a:off x="4239000" y="180000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7"/>
                    </a:moveTo>
                    <a:cubicBezTo>
                      <a:pt x="1115679" y="1380245"/>
                      <a:pt x="932603" y="1462596"/>
                      <a:pt x="730319" y="1462596"/>
                    </a:cubicBezTo>
                    <a:cubicBezTo>
                      <a:pt x="726942" y="1462596"/>
                      <a:pt x="723569" y="1462573"/>
                      <a:pt x="720253" y="1462528"/>
                    </a:cubicBezTo>
                    <a:lnTo>
                      <a:pt x="730319" y="7312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" name="组合 6221"/>
            <p:cNvGrpSpPr/>
            <p:nvPr/>
          </p:nvGrpSpPr>
          <p:grpSpPr>
            <a:xfrm>
              <a:off x="3646800" y="1211040"/>
              <a:ext cx="1737720" cy="1736640"/>
              <a:chOff x="3646800" y="1211040"/>
              <a:chExt cx="1737720" cy="1736640"/>
            </a:xfrm>
          </p:grpSpPr>
          <p:sp>
            <p:nvSpPr>
              <p:cNvPr id="375" name="饼形 77"/>
              <p:cNvSpPr/>
              <p:nvPr/>
            </p:nvSpPr>
            <p:spPr>
              <a:xfrm flipH="1" rot="12160800">
                <a:off x="385092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2" y="3002357"/>
                    </a:moveTo>
                    <a:cubicBezTo>
                      <a:pt x="2693354" y="3324320"/>
                      <a:pt x="2250762" y="3523721"/>
                      <a:pt x="1761605" y="3523721"/>
                    </a:cubicBezTo>
                    <a:cubicBezTo>
                      <a:pt x="1759395" y="3523721"/>
                      <a:pt x="1757187" y="3523717"/>
                      <a:pt x="1755014" y="3523709"/>
                    </a:cubicBezTo>
                    <a:lnTo>
                      <a:pt x="1761605" y="17618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饼形 78"/>
              <p:cNvSpPr/>
              <p:nvPr/>
            </p:nvSpPr>
            <p:spPr>
              <a:xfrm flipH="1" rot="12160800">
                <a:off x="3989160" y="1553760"/>
                <a:ext cx="1047960" cy="104616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7" y="2361808"/>
                    </a:moveTo>
                    <a:cubicBezTo>
                      <a:pt x="2128255" y="2618469"/>
                      <a:pt x="1777262" y="2777669"/>
                      <a:pt x="1389080" y="2777669"/>
                    </a:cubicBezTo>
                    <a:cubicBezTo>
                      <a:pt x="1387641" y="2777669"/>
                      <a:pt x="1386203" y="2777667"/>
                      <a:pt x="1384789" y="2777663"/>
                    </a:cubicBezTo>
                    <a:lnTo>
                      <a:pt x="1389080" y="138883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饼形 79"/>
              <p:cNvSpPr/>
              <p:nvPr/>
            </p:nvSpPr>
            <p:spPr>
              <a:xfrm flipH="1" rot="12160800">
                <a:off x="4093200" y="1650600"/>
                <a:ext cx="852480" cy="85068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31498" y="2129800"/>
                      <a:pt x="1445975" y="2259228"/>
                      <a:pt x="1130206" y="2259228"/>
                    </a:cubicBezTo>
                    <a:cubicBezTo>
                      <a:pt x="1127081" y="2259228"/>
                      <a:pt x="1123959" y="2259215"/>
                      <a:pt x="1120889" y="2259190"/>
                    </a:cubicBezTo>
                    <a:lnTo>
                      <a:pt x="1130205" y="1129614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饼形 80"/>
              <p:cNvSpPr/>
              <p:nvPr/>
            </p:nvSpPr>
            <p:spPr>
              <a:xfrm flipH="1" rot="12160800">
                <a:off x="4186440" y="173952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饼形 81"/>
              <p:cNvSpPr/>
              <p:nvPr/>
            </p:nvSpPr>
            <p:spPr>
              <a:xfrm flipH="1" rot="12160800">
                <a:off x="4240440" y="1799280"/>
                <a:ext cx="552600" cy="54900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39" y="1245092"/>
                    </a:moveTo>
                    <a:cubicBezTo>
                      <a:pt x="1117519" y="1376882"/>
                      <a:pt x="934531" y="1458382"/>
                      <a:pt x="732423" y="1458382"/>
                    </a:cubicBezTo>
                    <a:cubicBezTo>
                      <a:pt x="729055" y="1458382"/>
                      <a:pt x="725693" y="1458359"/>
                      <a:pt x="722386" y="1458315"/>
                    </a:cubicBezTo>
                    <a:lnTo>
                      <a:pt x="732424" y="729191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0" name="组合 6227"/>
            <p:cNvGrpSpPr/>
            <p:nvPr/>
          </p:nvGrpSpPr>
          <p:grpSpPr>
            <a:xfrm>
              <a:off x="3647160" y="1207800"/>
              <a:ext cx="1737720" cy="1736640"/>
              <a:chOff x="3647160" y="1207800"/>
              <a:chExt cx="1737720" cy="1736640"/>
            </a:xfrm>
          </p:grpSpPr>
          <p:sp>
            <p:nvSpPr>
              <p:cNvPr id="381" name="饼形 101"/>
              <p:cNvSpPr/>
              <p:nvPr/>
            </p:nvSpPr>
            <p:spPr>
              <a:xfrm flipV="1" rot="17560800">
                <a:off x="3852360" y="1411560"/>
                <a:ext cx="132696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0"/>
                    </a:moveTo>
                    <a:cubicBezTo>
                      <a:pt x="2696114" y="3324221"/>
                      <a:pt x="2253310" y="3523210"/>
                      <a:pt x="1763968" y="3523210"/>
                    </a:cubicBezTo>
                    <a:cubicBezTo>
                      <a:pt x="1761759" y="3523210"/>
                      <a:pt x="1759551" y="3523206"/>
                      <a:pt x="1757379" y="3523198"/>
                    </a:cubicBezTo>
                    <a:lnTo>
                      <a:pt x="1763968" y="17616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饼形 102"/>
              <p:cNvSpPr/>
              <p:nvPr/>
            </p:nvSpPr>
            <p:spPr>
              <a:xfrm flipV="1" rot="17560800">
                <a:off x="3992400" y="1548720"/>
                <a:ext cx="104472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0" y="2362051"/>
                    </a:moveTo>
                    <a:cubicBezTo>
                      <a:pt x="2128041" y="2618859"/>
                      <a:pt x="1777038" y="2778160"/>
                      <a:pt x="1388836" y="2778160"/>
                    </a:cubicBezTo>
                    <a:cubicBezTo>
                      <a:pt x="1387399" y="2778160"/>
                      <a:pt x="1385963" y="2778158"/>
                      <a:pt x="1384551" y="2778154"/>
                    </a:cubicBezTo>
                    <a:lnTo>
                      <a:pt x="1388836" y="1389080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饼形 103"/>
              <p:cNvSpPr/>
              <p:nvPr/>
            </p:nvSpPr>
            <p:spPr>
              <a:xfrm flipV="1" rot="17560800">
                <a:off x="4086000" y="1644480"/>
                <a:ext cx="85140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1" y="1922463"/>
                    </a:moveTo>
                    <a:cubicBezTo>
                      <a:pt x="1733521" y="2131054"/>
                      <a:pt x="1447749" y="2260414"/>
                      <a:pt x="1131722" y="2260414"/>
                    </a:cubicBezTo>
                    <a:cubicBezTo>
                      <a:pt x="1128596" y="2260414"/>
                      <a:pt x="1125472" y="2260401"/>
                      <a:pt x="1122400" y="2260376"/>
                    </a:cubicBezTo>
                    <a:lnTo>
                      <a:pt x="1131722" y="1130207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饼形 104"/>
              <p:cNvSpPr/>
              <p:nvPr/>
            </p:nvSpPr>
            <p:spPr>
              <a:xfrm flipV="1" rot="17560800">
                <a:off x="4174200" y="1734840"/>
                <a:ext cx="66744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1" y="1507182"/>
                    </a:moveTo>
                    <a:cubicBezTo>
                      <a:pt x="1359052" y="1670714"/>
                      <a:pt x="1135012" y="1772130"/>
                      <a:pt x="887252" y="1772130"/>
                    </a:cubicBezTo>
                    <a:cubicBezTo>
                      <a:pt x="883200" y="1772130"/>
                      <a:pt x="879154" y="1772103"/>
                      <a:pt x="875176" y="1772050"/>
                    </a:cubicBezTo>
                    <a:lnTo>
                      <a:pt x="887252" y="88606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饼形 105"/>
              <p:cNvSpPr/>
              <p:nvPr/>
            </p:nvSpPr>
            <p:spPr>
              <a:xfrm flipV="1" rot="17560800">
                <a:off x="4238280" y="179676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0" y="1245476"/>
                    </a:moveTo>
                    <a:cubicBezTo>
                      <a:pt x="1114004" y="1378376"/>
                      <a:pt x="931189" y="1460639"/>
                      <a:pt x="729191" y="1460639"/>
                    </a:cubicBezTo>
                    <a:cubicBezTo>
                      <a:pt x="725818" y="1460639"/>
                      <a:pt x="722450" y="1460616"/>
                      <a:pt x="719138" y="1460571"/>
                    </a:cubicBezTo>
                    <a:lnTo>
                      <a:pt x="729191" y="730320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6" name="组合 6233"/>
          <p:cNvGrpSpPr/>
          <p:nvPr/>
        </p:nvGrpSpPr>
        <p:grpSpPr>
          <a:xfrm>
            <a:off x="3646800" y="1207800"/>
            <a:ext cx="1738080" cy="1740240"/>
            <a:chOff x="3646800" y="1207800"/>
            <a:chExt cx="1738080" cy="1740240"/>
          </a:xfrm>
        </p:grpSpPr>
        <p:grpSp>
          <p:nvGrpSpPr>
            <p:cNvPr id="387" name="组合 6234"/>
            <p:cNvGrpSpPr/>
            <p:nvPr/>
          </p:nvGrpSpPr>
          <p:grpSpPr>
            <a:xfrm>
              <a:off x="3647160" y="1211400"/>
              <a:ext cx="1737720" cy="1736640"/>
              <a:chOff x="3647160" y="1211400"/>
              <a:chExt cx="1737720" cy="1736640"/>
            </a:xfrm>
          </p:grpSpPr>
          <p:sp>
            <p:nvSpPr>
              <p:cNvPr id="388" name="饼形 71"/>
              <p:cNvSpPr/>
              <p:nvPr/>
            </p:nvSpPr>
            <p:spPr>
              <a:xfrm rot="12161400">
                <a:off x="385164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3" y="3005199"/>
                    </a:moveTo>
                    <a:cubicBezTo>
                      <a:pt x="2694039" y="3327987"/>
                      <a:pt x="2251141" y="3527936"/>
                      <a:pt x="1761605" y="3527936"/>
                    </a:cubicBezTo>
                    <a:cubicBezTo>
                      <a:pt x="1759393" y="3527936"/>
                      <a:pt x="1757182" y="3527932"/>
                      <a:pt x="1755007" y="3527924"/>
                    </a:cubicBezTo>
                    <a:lnTo>
                      <a:pt x="1761605" y="176396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饼形 72"/>
              <p:cNvSpPr/>
              <p:nvPr/>
            </p:nvSpPr>
            <p:spPr>
              <a:xfrm rot="12161400">
                <a:off x="3993120" y="1554120"/>
                <a:ext cx="1046160" cy="104328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1" y="2358226"/>
                    </a:moveTo>
                    <a:cubicBezTo>
                      <a:pt x="2125031" y="2614497"/>
                      <a:pt x="1774570" y="2773455"/>
                      <a:pt x="1386976" y="2773455"/>
                    </a:cubicBezTo>
                    <a:cubicBezTo>
                      <a:pt x="1385540" y="2773455"/>
                      <a:pt x="1384104" y="2773453"/>
                      <a:pt x="1382692" y="2773449"/>
                    </a:cubicBezTo>
                    <a:lnTo>
                      <a:pt x="1386976" y="1386728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饼形 73"/>
              <p:cNvSpPr/>
              <p:nvPr/>
            </p:nvSpPr>
            <p:spPr>
              <a:xfrm rot="12161400">
                <a:off x="4087800" y="164700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5" y="1921874"/>
                    </a:moveTo>
                    <a:cubicBezTo>
                      <a:pt x="1734037" y="2130108"/>
                      <a:pt x="1448288" y="2259227"/>
                      <a:pt x="1132310" y="2259227"/>
                    </a:cubicBezTo>
                    <a:cubicBezTo>
                      <a:pt x="1129185" y="2259227"/>
                      <a:pt x="1126063" y="2259214"/>
                      <a:pt x="1122993" y="2259190"/>
                    </a:cubicBezTo>
                    <a:lnTo>
                      <a:pt x="1132311" y="1129614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饼形 74"/>
              <p:cNvSpPr/>
              <p:nvPr/>
            </p:nvSpPr>
            <p:spPr>
              <a:xfrm rot="12161400">
                <a:off x="4183560" y="173664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饼形 75"/>
              <p:cNvSpPr/>
              <p:nvPr/>
            </p:nvSpPr>
            <p:spPr>
              <a:xfrm rot="12161400">
                <a:off x="4239000" y="180000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7"/>
                    </a:moveTo>
                    <a:cubicBezTo>
                      <a:pt x="1115679" y="1380245"/>
                      <a:pt x="932603" y="1462596"/>
                      <a:pt x="730319" y="1462596"/>
                    </a:cubicBezTo>
                    <a:cubicBezTo>
                      <a:pt x="726942" y="1462596"/>
                      <a:pt x="723569" y="1462573"/>
                      <a:pt x="720253" y="1462528"/>
                    </a:cubicBezTo>
                    <a:lnTo>
                      <a:pt x="730319" y="7312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组合 6240"/>
            <p:cNvGrpSpPr/>
            <p:nvPr/>
          </p:nvGrpSpPr>
          <p:grpSpPr>
            <a:xfrm>
              <a:off x="3646800" y="1211040"/>
              <a:ext cx="1737720" cy="1736640"/>
              <a:chOff x="3646800" y="1211040"/>
              <a:chExt cx="1737720" cy="1736640"/>
            </a:xfrm>
          </p:grpSpPr>
          <p:sp>
            <p:nvSpPr>
              <p:cNvPr id="394" name="饼形 77"/>
              <p:cNvSpPr/>
              <p:nvPr/>
            </p:nvSpPr>
            <p:spPr>
              <a:xfrm flipH="1" rot="12160800">
                <a:off x="385092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2" y="3002357"/>
                    </a:moveTo>
                    <a:cubicBezTo>
                      <a:pt x="2693354" y="3324320"/>
                      <a:pt x="2250762" y="3523721"/>
                      <a:pt x="1761605" y="3523721"/>
                    </a:cubicBezTo>
                    <a:cubicBezTo>
                      <a:pt x="1759395" y="3523721"/>
                      <a:pt x="1757187" y="3523717"/>
                      <a:pt x="1755014" y="3523709"/>
                    </a:cubicBezTo>
                    <a:lnTo>
                      <a:pt x="1761605" y="17618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饼形 78"/>
              <p:cNvSpPr/>
              <p:nvPr/>
            </p:nvSpPr>
            <p:spPr>
              <a:xfrm flipH="1" rot="12160800">
                <a:off x="3989160" y="1553760"/>
                <a:ext cx="1047960" cy="104616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7" y="2361808"/>
                    </a:moveTo>
                    <a:cubicBezTo>
                      <a:pt x="2128255" y="2618469"/>
                      <a:pt x="1777262" y="2777669"/>
                      <a:pt x="1389080" y="2777669"/>
                    </a:cubicBezTo>
                    <a:cubicBezTo>
                      <a:pt x="1387641" y="2777669"/>
                      <a:pt x="1386203" y="2777667"/>
                      <a:pt x="1384789" y="2777663"/>
                    </a:cubicBezTo>
                    <a:lnTo>
                      <a:pt x="1389080" y="138883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饼形 79"/>
              <p:cNvSpPr/>
              <p:nvPr/>
            </p:nvSpPr>
            <p:spPr>
              <a:xfrm flipH="1" rot="12160800">
                <a:off x="4093200" y="1650600"/>
                <a:ext cx="852480" cy="85068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31498" y="2129800"/>
                      <a:pt x="1445975" y="2259228"/>
                      <a:pt x="1130206" y="2259228"/>
                    </a:cubicBezTo>
                    <a:cubicBezTo>
                      <a:pt x="1127081" y="2259228"/>
                      <a:pt x="1123959" y="2259215"/>
                      <a:pt x="1120889" y="2259190"/>
                    </a:cubicBezTo>
                    <a:lnTo>
                      <a:pt x="1130205" y="1129614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饼形 80"/>
              <p:cNvSpPr/>
              <p:nvPr/>
            </p:nvSpPr>
            <p:spPr>
              <a:xfrm flipH="1" rot="12160800">
                <a:off x="4186440" y="173952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饼形 81"/>
              <p:cNvSpPr/>
              <p:nvPr/>
            </p:nvSpPr>
            <p:spPr>
              <a:xfrm flipH="1" rot="12160800">
                <a:off x="4240440" y="1799280"/>
                <a:ext cx="552600" cy="54900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39" y="1245092"/>
                    </a:moveTo>
                    <a:cubicBezTo>
                      <a:pt x="1117519" y="1376882"/>
                      <a:pt x="934531" y="1458382"/>
                      <a:pt x="732423" y="1458382"/>
                    </a:cubicBezTo>
                    <a:cubicBezTo>
                      <a:pt x="729055" y="1458382"/>
                      <a:pt x="725693" y="1458359"/>
                      <a:pt x="722386" y="1458315"/>
                    </a:cubicBezTo>
                    <a:lnTo>
                      <a:pt x="732424" y="729191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9" name="组合 6246"/>
            <p:cNvGrpSpPr/>
            <p:nvPr/>
          </p:nvGrpSpPr>
          <p:grpSpPr>
            <a:xfrm>
              <a:off x="3647160" y="1207800"/>
              <a:ext cx="1737720" cy="1736640"/>
              <a:chOff x="3647160" y="1207800"/>
              <a:chExt cx="1737720" cy="1736640"/>
            </a:xfrm>
          </p:grpSpPr>
          <p:sp>
            <p:nvSpPr>
              <p:cNvPr id="400" name="饼形 101"/>
              <p:cNvSpPr/>
              <p:nvPr/>
            </p:nvSpPr>
            <p:spPr>
              <a:xfrm flipV="1" rot="17560800">
                <a:off x="3852360" y="1411560"/>
                <a:ext cx="132696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0"/>
                    </a:moveTo>
                    <a:cubicBezTo>
                      <a:pt x="2696114" y="3324221"/>
                      <a:pt x="2253310" y="3523210"/>
                      <a:pt x="1763968" y="3523210"/>
                    </a:cubicBezTo>
                    <a:cubicBezTo>
                      <a:pt x="1761759" y="3523210"/>
                      <a:pt x="1759551" y="3523206"/>
                      <a:pt x="1757379" y="3523198"/>
                    </a:cubicBezTo>
                    <a:lnTo>
                      <a:pt x="1763968" y="17616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饼形 102"/>
              <p:cNvSpPr/>
              <p:nvPr/>
            </p:nvSpPr>
            <p:spPr>
              <a:xfrm flipV="1" rot="17560800">
                <a:off x="3992400" y="1548720"/>
                <a:ext cx="104472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0" y="2362051"/>
                    </a:moveTo>
                    <a:cubicBezTo>
                      <a:pt x="2128041" y="2618859"/>
                      <a:pt x="1777038" y="2778160"/>
                      <a:pt x="1388836" y="2778160"/>
                    </a:cubicBezTo>
                    <a:cubicBezTo>
                      <a:pt x="1387399" y="2778160"/>
                      <a:pt x="1385963" y="2778158"/>
                      <a:pt x="1384551" y="2778154"/>
                    </a:cubicBezTo>
                    <a:lnTo>
                      <a:pt x="1388836" y="1389080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饼形 103"/>
              <p:cNvSpPr/>
              <p:nvPr/>
            </p:nvSpPr>
            <p:spPr>
              <a:xfrm flipV="1" rot="17560800">
                <a:off x="4086000" y="1644480"/>
                <a:ext cx="85140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1" y="1922463"/>
                    </a:moveTo>
                    <a:cubicBezTo>
                      <a:pt x="1733521" y="2131054"/>
                      <a:pt x="1447749" y="2260414"/>
                      <a:pt x="1131722" y="2260414"/>
                    </a:cubicBezTo>
                    <a:cubicBezTo>
                      <a:pt x="1128596" y="2260414"/>
                      <a:pt x="1125472" y="2260401"/>
                      <a:pt x="1122400" y="2260376"/>
                    </a:cubicBezTo>
                    <a:lnTo>
                      <a:pt x="1131722" y="1130207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饼形 104"/>
              <p:cNvSpPr/>
              <p:nvPr/>
            </p:nvSpPr>
            <p:spPr>
              <a:xfrm flipV="1" rot="17560800">
                <a:off x="4174200" y="1734840"/>
                <a:ext cx="66744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1" y="1507182"/>
                    </a:moveTo>
                    <a:cubicBezTo>
                      <a:pt x="1359052" y="1670714"/>
                      <a:pt x="1135012" y="1772130"/>
                      <a:pt x="887252" y="1772130"/>
                    </a:cubicBezTo>
                    <a:cubicBezTo>
                      <a:pt x="883200" y="1772130"/>
                      <a:pt x="879154" y="1772103"/>
                      <a:pt x="875176" y="1772050"/>
                    </a:cubicBezTo>
                    <a:lnTo>
                      <a:pt x="887252" y="88606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饼形 105"/>
              <p:cNvSpPr/>
              <p:nvPr/>
            </p:nvSpPr>
            <p:spPr>
              <a:xfrm flipV="1" rot="17560800">
                <a:off x="4238280" y="179676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0" y="1245476"/>
                    </a:moveTo>
                    <a:cubicBezTo>
                      <a:pt x="1114004" y="1378376"/>
                      <a:pt x="931189" y="1460639"/>
                      <a:pt x="729191" y="1460639"/>
                    </a:cubicBezTo>
                    <a:cubicBezTo>
                      <a:pt x="725818" y="1460639"/>
                      <a:pt x="722450" y="1460616"/>
                      <a:pt x="719138" y="1460571"/>
                    </a:cubicBezTo>
                    <a:lnTo>
                      <a:pt x="729191" y="730320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5" name="组合 6252"/>
          <p:cNvGrpSpPr/>
          <p:nvPr/>
        </p:nvGrpSpPr>
        <p:grpSpPr>
          <a:xfrm>
            <a:off x="3643920" y="1213560"/>
            <a:ext cx="1738440" cy="1740600"/>
            <a:chOff x="3643920" y="1213560"/>
            <a:chExt cx="1738440" cy="1740600"/>
          </a:xfrm>
        </p:grpSpPr>
        <p:grpSp>
          <p:nvGrpSpPr>
            <p:cNvPr id="406" name="组合 6253"/>
            <p:cNvGrpSpPr/>
            <p:nvPr/>
          </p:nvGrpSpPr>
          <p:grpSpPr>
            <a:xfrm>
              <a:off x="3644280" y="1217160"/>
              <a:ext cx="1738080" cy="1737000"/>
              <a:chOff x="3644280" y="1217160"/>
              <a:chExt cx="1738080" cy="1737000"/>
            </a:xfrm>
          </p:grpSpPr>
          <p:sp>
            <p:nvSpPr>
              <p:cNvPr id="407" name="饼形 71"/>
              <p:cNvSpPr/>
              <p:nvPr/>
            </p:nvSpPr>
            <p:spPr>
              <a:xfrm rot="12161400">
                <a:off x="384876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3" y="3005199"/>
                    </a:moveTo>
                    <a:cubicBezTo>
                      <a:pt x="2694039" y="3327987"/>
                      <a:pt x="2251141" y="3527936"/>
                      <a:pt x="1761605" y="3527936"/>
                    </a:cubicBezTo>
                    <a:cubicBezTo>
                      <a:pt x="1759393" y="3527936"/>
                      <a:pt x="1757182" y="3527932"/>
                      <a:pt x="1755007" y="3527924"/>
                    </a:cubicBezTo>
                    <a:lnTo>
                      <a:pt x="1761605" y="176396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饼形 72"/>
              <p:cNvSpPr/>
              <p:nvPr/>
            </p:nvSpPr>
            <p:spPr>
              <a:xfrm rot="12161400">
                <a:off x="3990240" y="1559880"/>
                <a:ext cx="1046160" cy="104364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1" y="2358226"/>
                    </a:moveTo>
                    <a:cubicBezTo>
                      <a:pt x="2125031" y="2614497"/>
                      <a:pt x="1774570" y="2773455"/>
                      <a:pt x="1386976" y="2773455"/>
                    </a:cubicBezTo>
                    <a:cubicBezTo>
                      <a:pt x="1385540" y="2773455"/>
                      <a:pt x="1384104" y="2773453"/>
                      <a:pt x="1382692" y="2773449"/>
                    </a:cubicBezTo>
                    <a:lnTo>
                      <a:pt x="1386976" y="1386728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饼形 73"/>
              <p:cNvSpPr/>
              <p:nvPr/>
            </p:nvSpPr>
            <p:spPr>
              <a:xfrm rot="12161400">
                <a:off x="4084920" y="165312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5" y="1921874"/>
                    </a:moveTo>
                    <a:cubicBezTo>
                      <a:pt x="1734037" y="2130108"/>
                      <a:pt x="1448288" y="2259227"/>
                      <a:pt x="1132310" y="2259227"/>
                    </a:cubicBezTo>
                    <a:cubicBezTo>
                      <a:pt x="1129185" y="2259227"/>
                      <a:pt x="1126063" y="2259214"/>
                      <a:pt x="1122993" y="2259190"/>
                    </a:cubicBezTo>
                    <a:lnTo>
                      <a:pt x="1132311" y="1129614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饼形 74"/>
              <p:cNvSpPr/>
              <p:nvPr/>
            </p:nvSpPr>
            <p:spPr>
              <a:xfrm rot="12161400">
                <a:off x="4180680" y="174276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饼形 75"/>
              <p:cNvSpPr/>
              <p:nvPr/>
            </p:nvSpPr>
            <p:spPr>
              <a:xfrm rot="12161400">
                <a:off x="4236120" y="180648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7"/>
                    </a:moveTo>
                    <a:cubicBezTo>
                      <a:pt x="1115679" y="1380245"/>
                      <a:pt x="932603" y="1462596"/>
                      <a:pt x="730319" y="1462596"/>
                    </a:cubicBezTo>
                    <a:cubicBezTo>
                      <a:pt x="726942" y="1462596"/>
                      <a:pt x="723569" y="1462573"/>
                      <a:pt x="720253" y="1462528"/>
                    </a:cubicBezTo>
                    <a:lnTo>
                      <a:pt x="730319" y="7312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2" name="组合 6259"/>
            <p:cNvGrpSpPr/>
            <p:nvPr/>
          </p:nvGrpSpPr>
          <p:grpSpPr>
            <a:xfrm>
              <a:off x="3643920" y="1216800"/>
              <a:ext cx="1738080" cy="1737000"/>
              <a:chOff x="3643920" y="1216800"/>
              <a:chExt cx="1738080" cy="1737000"/>
            </a:xfrm>
          </p:grpSpPr>
          <p:sp>
            <p:nvSpPr>
              <p:cNvPr id="413" name="饼形 77"/>
              <p:cNvSpPr/>
              <p:nvPr/>
            </p:nvSpPr>
            <p:spPr>
              <a:xfrm flipH="1" rot="12160800">
                <a:off x="384840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2" y="3002357"/>
                    </a:moveTo>
                    <a:cubicBezTo>
                      <a:pt x="2693354" y="3324320"/>
                      <a:pt x="2250762" y="3523721"/>
                      <a:pt x="1761605" y="3523721"/>
                    </a:cubicBezTo>
                    <a:cubicBezTo>
                      <a:pt x="1759395" y="3523721"/>
                      <a:pt x="1757187" y="3523717"/>
                      <a:pt x="1755014" y="3523709"/>
                    </a:cubicBezTo>
                    <a:lnTo>
                      <a:pt x="1761605" y="17618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饼形 78"/>
              <p:cNvSpPr/>
              <p:nvPr/>
            </p:nvSpPr>
            <p:spPr>
              <a:xfrm flipH="1" rot="12160800">
                <a:off x="3985920" y="1559160"/>
                <a:ext cx="1047960" cy="104652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7" y="2361808"/>
                    </a:moveTo>
                    <a:cubicBezTo>
                      <a:pt x="2128255" y="2618469"/>
                      <a:pt x="1777262" y="2777669"/>
                      <a:pt x="1389080" y="2777669"/>
                    </a:cubicBezTo>
                    <a:cubicBezTo>
                      <a:pt x="1387641" y="2777669"/>
                      <a:pt x="1386203" y="2777667"/>
                      <a:pt x="1384789" y="2777663"/>
                    </a:cubicBezTo>
                    <a:lnTo>
                      <a:pt x="1389080" y="138883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饼形 79"/>
              <p:cNvSpPr/>
              <p:nvPr/>
            </p:nvSpPr>
            <p:spPr>
              <a:xfrm flipH="1" rot="12160800">
                <a:off x="4089600" y="1656720"/>
                <a:ext cx="852480" cy="85104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31498" y="2129800"/>
                      <a:pt x="1445975" y="2259228"/>
                      <a:pt x="1130206" y="2259228"/>
                    </a:cubicBezTo>
                    <a:cubicBezTo>
                      <a:pt x="1127081" y="2259228"/>
                      <a:pt x="1123959" y="2259215"/>
                      <a:pt x="1120889" y="2259190"/>
                    </a:cubicBezTo>
                    <a:lnTo>
                      <a:pt x="1130205" y="1129614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饼形 80"/>
              <p:cNvSpPr/>
              <p:nvPr/>
            </p:nvSpPr>
            <p:spPr>
              <a:xfrm flipH="1" rot="12160800">
                <a:off x="4183560" y="174600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饼形 81"/>
              <p:cNvSpPr/>
              <p:nvPr/>
            </p:nvSpPr>
            <p:spPr>
              <a:xfrm flipH="1" rot="12160800">
                <a:off x="4237200" y="1805400"/>
                <a:ext cx="552600" cy="54936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39" y="1245092"/>
                    </a:moveTo>
                    <a:cubicBezTo>
                      <a:pt x="1117519" y="1376882"/>
                      <a:pt x="934531" y="1458382"/>
                      <a:pt x="732423" y="1458382"/>
                    </a:cubicBezTo>
                    <a:cubicBezTo>
                      <a:pt x="729055" y="1458382"/>
                      <a:pt x="725693" y="1458359"/>
                      <a:pt x="722386" y="1458315"/>
                    </a:cubicBezTo>
                    <a:lnTo>
                      <a:pt x="732424" y="729191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8" name="组合 6265"/>
            <p:cNvGrpSpPr/>
            <p:nvPr/>
          </p:nvGrpSpPr>
          <p:grpSpPr>
            <a:xfrm>
              <a:off x="3644280" y="1213560"/>
              <a:ext cx="1737720" cy="1737000"/>
              <a:chOff x="3644280" y="1213560"/>
              <a:chExt cx="1737720" cy="1737000"/>
            </a:xfrm>
          </p:grpSpPr>
          <p:sp>
            <p:nvSpPr>
              <p:cNvPr id="419" name="饼形 101"/>
              <p:cNvSpPr/>
              <p:nvPr/>
            </p:nvSpPr>
            <p:spPr>
              <a:xfrm flipV="1" rot="17560800">
                <a:off x="3849120" y="1417320"/>
                <a:ext cx="132732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0"/>
                    </a:moveTo>
                    <a:cubicBezTo>
                      <a:pt x="2696114" y="3324221"/>
                      <a:pt x="2253310" y="3523210"/>
                      <a:pt x="1763968" y="3523210"/>
                    </a:cubicBezTo>
                    <a:cubicBezTo>
                      <a:pt x="1761759" y="3523210"/>
                      <a:pt x="1759551" y="3523206"/>
                      <a:pt x="1757379" y="3523198"/>
                    </a:cubicBezTo>
                    <a:lnTo>
                      <a:pt x="1763968" y="17616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饼形 102"/>
              <p:cNvSpPr/>
              <p:nvPr/>
            </p:nvSpPr>
            <p:spPr>
              <a:xfrm flipV="1" rot="17560800">
                <a:off x="3989520" y="1554120"/>
                <a:ext cx="104508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0" y="2362051"/>
                    </a:moveTo>
                    <a:cubicBezTo>
                      <a:pt x="2128041" y="2618859"/>
                      <a:pt x="1777038" y="2778160"/>
                      <a:pt x="1388836" y="2778160"/>
                    </a:cubicBezTo>
                    <a:cubicBezTo>
                      <a:pt x="1387399" y="2778160"/>
                      <a:pt x="1385963" y="2778158"/>
                      <a:pt x="1384551" y="2778154"/>
                    </a:cubicBezTo>
                    <a:lnTo>
                      <a:pt x="1388836" y="1389080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饼形 103"/>
              <p:cNvSpPr/>
              <p:nvPr/>
            </p:nvSpPr>
            <p:spPr>
              <a:xfrm flipV="1" rot="17560800">
                <a:off x="4082400" y="1651320"/>
                <a:ext cx="85176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1" y="1922463"/>
                    </a:moveTo>
                    <a:cubicBezTo>
                      <a:pt x="1733521" y="2131054"/>
                      <a:pt x="1447749" y="2260414"/>
                      <a:pt x="1131722" y="2260414"/>
                    </a:cubicBezTo>
                    <a:cubicBezTo>
                      <a:pt x="1128596" y="2260414"/>
                      <a:pt x="1125472" y="2260401"/>
                      <a:pt x="1122400" y="2260376"/>
                    </a:cubicBezTo>
                    <a:lnTo>
                      <a:pt x="1131722" y="1130207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饼形 104"/>
              <p:cNvSpPr/>
              <p:nvPr/>
            </p:nvSpPr>
            <p:spPr>
              <a:xfrm flipV="1" rot="17560800">
                <a:off x="4170960" y="1741320"/>
                <a:ext cx="66780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1" y="1507182"/>
                    </a:moveTo>
                    <a:cubicBezTo>
                      <a:pt x="1359052" y="1670714"/>
                      <a:pt x="1135012" y="1772130"/>
                      <a:pt x="887252" y="1772130"/>
                    </a:cubicBezTo>
                    <a:cubicBezTo>
                      <a:pt x="883200" y="1772130"/>
                      <a:pt x="879154" y="1772103"/>
                      <a:pt x="875176" y="1772050"/>
                    </a:cubicBezTo>
                    <a:lnTo>
                      <a:pt x="887252" y="88606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饼形 105"/>
              <p:cNvSpPr/>
              <p:nvPr/>
            </p:nvSpPr>
            <p:spPr>
              <a:xfrm flipV="1" rot="17560800">
                <a:off x="4235040" y="180288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0" y="1245476"/>
                    </a:moveTo>
                    <a:cubicBezTo>
                      <a:pt x="1114004" y="1378376"/>
                      <a:pt x="931189" y="1460639"/>
                      <a:pt x="729191" y="1460639"/>
                    </a:cubicBezTo>
                    <a:cubicBezTo>
                      <a:pt x="725818" y="1460639"/>
                      <a:pt x="722450" y="1460616"/>
                      <a:pt x="719138" y="1460571"/>
                    </a:cubicBezTo>
                    <a:lnTo>
                      <a:pt x="729191" y="730320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组合 6271"/>
          <p:cNvGrpSpPr/>
          <p:nvPr/>
        </p:nvGrpSpPr>
        <p:grpSpPr>
          <a:xfrm>
            <a:off x="3646800" y="1207800"/>
            <a:ext cx="1738080" cy="1740240"/>
            <a:chOff x="3646800" y="1207800"/>
            <a:chExt cx="1738080" cy="1740240"/>
          </a:xfrm>
        </p:grpSpPr>
        <p:grpSp>
          <p:nvGrpSpPr>
            <p:cNvPr id="425" name="组合 6272"/>
            <p:cNvGrpSpPr/>
            <p:nvPr/>
          </p:nvGrpSpPr>
          <p:grpSpPr>
            <a:xfrm>
              <a:off x="3647160" y="1211400"/>
              <a:ext cx="1737720" cy="1736640"/>
              <a:chOff x="3647160" y="1211400"/>
              <a:chExt cx="1737720" cy="1736640"/>
            </a:xfrm>
          </p:grpSpPr>
          <p:sp>
            <p:nvSpPr>
              <p:cNvPr id="426" name="饼形 71"/>
              <p:cNvSpPr/>
              <p:nvPr/>
            </p:nvSpPr>
            <p:spPr>
              <a:xfrm rot="12161400">
                <a:off x="385164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3" y="3005199"/>
                    </a:moveTo>
                    <a:cubicBezTo>
                      <a:pt x="2694039" y="3327987"/>
                      <a:pt x="2251141" y="3527936"/>
                      <a:pt x="1761605" y="3527936"/>
                    </a:cubicBezTo>
                    <a:cubicBezTo>
                      <a:pt x="1759393" y="3527936"/>
                      <a:pt x="1757182" y="3527932"/>
                      <a:pt x="1755007" y="3527924"/>
                    </a:cubicBezTo>
                    <a:lnTo>
                      <a:pt x="1761605" y="176396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饼形 72"/>
              <p:cNvSpPr/>
              <p:nvPr/>
            </p:nvSpPr>
            <p:spPr>
              <a:xfrm rot="12161400">
                <a:off x="3993120" y="1554120"/>
                <a:ext cx="1046160" cy="104328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1" y="2358226"/>
                    </a:moveTo>
                    <a:cubicBezTo>
                      <a:pt x="2125031" y="2614497"/>
                      <a:pt x="1774570" y="2773455"/>
                      <a:pt x="1386976" y="2773455"/>
                    </a:cubicBezTo>
                    <a:cubicBezTo>
                      <a:pt x="1385540" y="2773455"/>
                      <a:pt x="1384104" y="2773453"/>
                      <a:pt x="1382692" y="2773449"/>
                    </a:cubicBezTo>
                    <a:lnTo>
                      <a:pt x="1386976" y="1386728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饼形 73"/>
              <p:cNvSpPr/>
              <p:nvPr/>
            </p:nvSpPr>
            <p:spPr>
              <a:xfrm rot="12161400">
                <a:off x="4087800" y="164700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5" y="1921874"/>
                    </a:moveTo>
                    <a:cubicBezTo>
                      <a:pt x="1734037" y="2130108"/>
                      <a:pt x="1448288" y="2259227"/>
                      <a:pt x="1132310" y="2259227"/>
                    </a:cubicBezTo>
                    <a:cubicBezTo>
                      <a:pt x="1129185" y="2259227"/>
                      <a:pt x="1126063" y="2259214"/>
                      <a:pt x="1122993" y="2259190"/>
                    </a:cubicBezTo>
                    <a:lnTo>
                      <a:pt x="1132311" y="1129614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饼形 74"/>
              <p:cNvSpPr/>
              <p:nvPr/>
            </p:nvSpPr>
            <p:spPr>
              <a:xfrm rot="12161400">
                <a:off x="4183560" y="173664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饼形 75"/>
              <p:cNvSpPr/>
              <p:nvPr/>
            </p:nvSpPr>
            <p:spPr>
              <a:xfrm rot="12161400">
                <a:off x="4239000" y="180000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7"/>
                    </a:moveTo>
                    <a:cubicBezTo>
                      <a:pt x="1115679" y="1380245"/>
                      <a:pt x="932603" y="1462596"/>
                      <a:pt x="730319" y="1462596"/>
                    </a:cubicBezTo>
                    <a:cubicBezTo>
                      <a:pt x="726942" y="1462596"/>
                      <a:pt x="723569" y="1462573"/>
                      <a:pt x="720253" y="1462528"/>
                    </a:cubicBezTo>
                    <a:lnTo>
                      <a:pt x="730319" y="7312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1" name="组合 6278"/>
            <p:cNvGrpSpPr/>
            <p:nvPr/>
          </p:nvGrpSpPr>
          <p:grpSpPr>
            <a:xfrm>
              <a:off x="3646800" y="1211040"/>
              <a:ext cx="1737720" cy="1736640"/>
              <a:chOff x="3646800" y="1211040"/>
              <a:chExt cx="1737720" cy="1736640"/>
            </a:xfrm>
          </p:grpSpPr>
          <p:sp>
            <p:nvSpPr>
              <p:cNvPr id="432" name="饼形 77"/>
              <p:cNvSpPr/>
              <p:nvPr/>
            </p:nvSpPr>
            <p:spPr>
              <a:xfrm flipH="1" rot="12160800">
                <a:off x="385092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2" y="3002357"/>
                    </a:moveTo>
                    <a:cubicBezTo>
                      <a:pt x="2693354" y="3324320"/>
                      <a:pt x="2250762" y="3523721"/>
                      <a:pt x="1761605" y="3523721"/>
                    </a:cubicBezTo>
                    <a:cubicBezTo>
                      <a:pt x="1759395" y="3523721"/>
                      <a:pt x="1757187" y="3523717"/>
                      <a:pt x="1755014" y="3523709"/>
                    </a:cubicBezTo>
                    <a:lnTo>
                      <a:pt x="1761605" y="17618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饼形 78"/>
              <p:cNvSpPr/>
              <p:nvPr/>
            </p:nvSpPr>
            <p:spPr>
              <a:xfrm flipH="1" rot="12160800">
                <a:off x="3989160" y="1553760"/>
                <a:ext cx="1047960" cy="104616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7" y="2361808"/>
                    </a:moveTo>
                    <a:cubicBezTo>
                      <a:pt x="2128255" y="2618469"/>
                      <a:pt x="1777262" y="2777669"/>
                      <a:pt x="1389080" y="2777669"/>
                    </a:cubicBezTo>
                    <a:cubicBezTo>
                      <a:pt x="1387641" y="2777669"/>
                      <a:pt x="1386203" y="2777667"/>
                      <a:pt x="1384789" y="2777663"/>
                    </a:cubicBezTo>
                    <a:lnTo>
                      <a:pt x="1389080" y="138883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饼形 79"/>
              <p:cNvSpPr/>
              <p:nvPr/>
            </p:nvSpPr>
            <p:spPr>
              <a:xfrm flipH="1" rot="12160800">
                <a:off x="4093200" y="1650600"/>
                <a:ext cx="852480" cy="85068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31498" y="2129800"/>
                      <a:pt x="1445975" y="2259228"/>
                      <a:pt x="1130206" y="2259228"/>
                    </a:cubicBezTo>
                    <a:cubicBezTo>
                      <a:pt x="1127081" y="2259228"/>
                      <a:pt x="1123959" y="2259215"/>
                      <a:pt x="1120889" y="2259190"/>
                    </a:cubicBezTo>
                    <a:lnTo>
                      <a:pt x="1130205" y="1129614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饼形 80"/>
              <p:cNvSpPr/>
              <p:nvPr/>
            </p:nvSpPr>
            <p:spPr>
              <a:xfrm flipH="1" rot="12160800">
                <a:off x="4186440" y="173952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饼形 81"/>
              <p:cNvSpPr/>
              <p:nvPr/>
            </p:nvSpPr>
            <p:spPr>
              <a:xfrm flipH="1" rot="12160800">
                <a:off x="4240440" y="1799280"/>
                <a:ext cx="552600" cy="54900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39" y="1245092"/>
                    </a:moveTo>
                    <a:cubicBezTo>
                      <a:pt x="1117519" y="1376882"/>
                      <a:pt x="934531" y="1458382"/>
                      <a:pt x="732423" y="1458382"/>
                    </a:cubicBezTo>
                    <a:cubicBezTo>
                      <a:pt x="729055" y="1458382"/>
                      <a:pt x="725693" y="1458359"/>
                      <a:pt x="722386" y="1458315"/>
                    </a:cubicBezTo>
                    <a:lnTo>
                      <a:pt x="732424" y="729191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7" name="组合 6284"/>
            <p:cNvGrpSpPr/>
            <p:nvPr/>
          </p:nvGrpSpPr>
          <p:grpSpPr>
            <a:xfrm>
              <a:off x="3647160" y="1207800"/>
              <a:ext cx="1737720" cy="1736640"/>
              <a:chOff x="3647160" y="1207800"/>
              <a:chExt cx="1737720" cy="1736640"/>
            </a:xfrm>
          </p:grpSpPr>
          <p:sp>
            <p:nvSpPr>
              <p:cNvPr id="438" name="饼形 101"/>
              <p:cNvSpPr/>
              <p:nvPr/>
            </p:nvSpPr>
            <p:spPr>
              <a:xfrm flipV="1" rot="17560800">
                <a:off x="3852360" y="1411560"/>
                <a:ext cx="132696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0"/>
                    </a:moveTo>
                    <a:cubicBezTo>
                      <a:pt x="2696114" y="3324221"/>
                      <a:pt x="2253310" y="3523210"/>
                      <a:pt x="1763968" y="3523210"/>
                    </a:cubicBezTo>
                    <a:cubicBezTo>
                      <a:pt x="1761759" y="3523210"/>
                      <a:pt x="1759551" y="3523206"/>
                      <a:pt x="1757379" y="3523198"/>
                    </a:cubicBezTo>
                    <a:lnTo>
                      <a:pt x="1763968" y="17616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饼形 102"/>
              <p:cNvSpPr/>
              <p:nvPr/>
            </p:nvSpPr>
            <p:spPr>
              <a:xfrm flipV="1" rot="17560800">
                <a:off x="3992400" y="1548720"/>
                <a:ext cx="104472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0" y="2362051"/>
                    </a:moveTo>
                    <a:cubicBezTo>
                      <a:pt x="2128041" y="2618859"/>
                      <a:pt x="1777038" y="2778160"/>
                      <a:pt x="1388836" y="2778160"/>
                    </a:cubicBezTo>
                    <a:cubicBezTo>
                      <a:pt x="1387399" y="2778160"/>
                      <a:pt x="1385963" y="2778158"/>
                      <a:pt x="1384551" y="2778154"/>
                    </a:cubicBezTo>
                    <a:lnTo>
                      <a:pt x="1388836" y="1389080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饼形 103"/>
              <p:cNvSpPr/>
              <p:nvPr/>
            </p:nvSpPr>
            <p:spPr>
              <a:xfrm flipV="1" rot="17560800">
                <a:off x="4086000" y="1644480"/>
                <a:ext cx="85140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1" y="1922463"/>
                    </a:moveTo>
                    <a:cubicBezTo>
                      <a:pt x="1733521" y="2131054"/>
                      <a:pt x="1447749" y="2260414"/>
                      <a:pt x="1131722" y="2260414"/>
                    </a:cubicBezTo>
                    <a:cubicBezTo>
                      <a:pt x="1128596" y="2260414"/>
                      <a:pt x="1125472" y="2260401"/>
                      <a:pt x="1122400" y="2260376"/>
                    </a:cubicBezTo>
                    <a:lnTo>
                      <a:pt x="1131722" y="1130207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饼形 104"/>
              <p:cNvSpPr/>
              <p:nvPr/>
            </p:nvSpPr>
            <p:spPr>
              <a:xfrm flipV="1" rot="17560800">
                <a:off x="4174200" y="1734840"/>
                <a:ext cx="66744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1" y="1507182"/>
                    </a:moveTo>
                    <a:cubicBezTo>
                      <a:pt x="1359052" y="1670714"/>
                      <a:pt x="1135012" y="1772130"/>
                      <a:pt x="887252" y="1772130"/>
                    </a:cubicBezTo>
                    <a:cubicBezTo>
                      <a:pt x="883200" y="1772130"/>
                      <a:pt x="879154" y="1772103"/>
                      <a:pt x="875176" y="1772050"/>
                    </a:cubicBezTo>
                    <a:lnTo>
                      <a:pt x="887252" y="88606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饼形 105"/>
              <p:cNvSpPr/>
              <p:nvPr/>
            </p:nvSpPr>
            <p:spPr>
              <a:xfrm flipV="1" rot="17560800">
                <a:off x="4238280" y="179676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0" y="1245476"/>
                    </a:moveTo>
                    <a:cubicBezTo>
                      <a:pt x="1114004" y="1378376"/>
                      <a:pt x="931189" y="1460639"/>
                      <a:pt x="729191" y="1460639"/>
                    </a:cubicBezTo>
                    <a:cubicBezTo>
                      <a:pt x="725818" y="1460639"/>
                      <a:pt x="722450" y="1460616"/>
                      <a:pt x="719138" y="1460571"/>
                    </a:cubicBezTo>
                    <a:lnTo>
                      <a:pt x="729191" y="730320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组合 6290"/>
          <p:cNvGrpSpPr/>
          <p:nvPr/>
        </p:nvGrpSpPr>
        <p:grpSpPr>
          <a:xfrm>
            <a:off x="3646800" y="1207800"/>
            <a:ext cx="1738080" cy="1740240"/>
            <a:chOff x="3646800" y="1207800"/>
            <a:chExt cx="1738080" cy="1740240"/>
          </a:xfrm>
        </p:grpSpPr>
        <p:grpSp>
          <p:nvGrpSpPr>
            <p:cNvPr id="444" name="组合 6291"/>
            <p:cNvGrpSpPr/>
            <p:nvPr/>
          </p:nvGrpSpPr>
          <p:grpSpPr>
            <a:xfrm>
              <a:off x="3647160" y="1211400"/>
              <a:ext cx="1737720" cy="1736640"/>
              <a:chOff x="3647160" y="1211400"/>
              <a:chExt cx="1737720" cy="1736640"/>
            </a:xfrm>
          </p:grpSpPr>
          <p:sp>
            <p:nvSpPr>
              <p:cNvPr id="445" name="饼形 71"/>
              <p:cNvSpPr/>
              <p:nvPr/>
            </p:nvSpPr>
            <p:spPr>
              <a:xfrm rot="12161400">
                <a:off x="385164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3" y="3005199"/>
                    </a:moveTo>
                    <a:cubicBezTo>
                      <a:pt x="2694039" y="3327987"/>
                      <a:pt x="2251141" y="3527936"/>
                      <a:pt x="1761605" y="3527936"/>
                    </a:cubicBezTo>
                    <a:cubicBezTo>
                      <a:pt x="1759393" y="3527936"/>
                      <a:pt x="1757182" y="3527932"/>
                      <a:pt x="1755007" y="3527924"/>
                    </a:cubicBezTo>
                    <a:lnTo>
                      <a:pt x="1761605" y="176396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饼形 72"/>
              <p:cNvSpPr/>
              <p:nvPr/>
            </p:nvSpPr>
            <p:spPr>
              <a:xfrm rot="12161400">
                <a:off x="3993120" y="1554120"/>
                <a:ext cx="1046160" cy="104328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1" y="2358226"/>
                    </a:moveTo>
                    <a:cubicBezTo>
                      <a:pt x="2125031" y="2614497"/>
                      <a:pt x="1774570" y="2773455"/>
                      <a:pt x="1386976" y="2773455"/>
                    </a:cubicBezTo>
                    <a:cubicBezTo>
                      <a:pt x="1385540" y="2773455"/>
                      <a:pt x="1384104" y="2773453"/>
                      <a:pt x="1382692" y="2773449"/>
                    </a:cubicBezTo>
                    <a:lnTo>
                      <a:pt x="1386976" y="1386728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饼形 73"/>
              <p:cNvSpPr/>
              <p:nvPr/>
            </p:nvSpPr>
            <p:spPr>
              <a:xfrm rot="12161400">
                <a:off x="4087800" y="164700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5" y="1921874"/>
                    </a:moveTo>
                    <a:cubicBezTo>
                      <a:pt x="1734037" y="2130108"/>
                      <a:pt x="1448288" y="2259227"/>
                      <a:pt x="1132310" y="2259227"/>
                    </a:cubicBezTo>
                    <a:cubicBezTo>
                      <a:pt x="1129185" y="2259227"/>
                      <a:pt x="1126063" y="2259214"/>
                      <a:pt x="1122993" y="2259190"/>
                    </a:cubicBezTo>
                    <a:lnTo>
                      <a:pt x="1132311" y="1129614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饼形 74"/>
              <p:cNvSpPr/>
              <p:nvPr/>
            </p:nvSpPr>
            <p:spPr>
              <a:xfrm rot="12161400">
                <a:off x="4183560" y="173664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饼形 75"/>
              <p:cNvSpPr/>
              <p:nvPr/>
            </p:nvSpPr>
            <p:spPr>
              <a:xfrm rot="12161400">
                <a:off x="4239000" y="180000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7"/>
                    </a:moveTo>
                    <a:cubicBezTo>
                      <a:pt x="1115679" y="1380245"/>
                      <a:pt x="932603" y="1462596"/>
                      <a:pt x="730319" y="1462596"/>
                    </a:cubicBezTo>
                    <a:cubicBezTo>
                      <a:pt x="726942" y="1462596"/>
                      <a:pt x="723569" y="1462573"/>
                      <a:pt x="720253" y="1462528"/>
                    </a:cubicBezTo>
                    <a:lnTo>
                      <a:pt x="730319" y="7312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" name="组合 6297"/>
            <p:cNvGrpSpPr/>
            <p:nvPr/>
          </p:nvGrpSpPr>
          <p:grpSpPr>
            <a:xfrm>
              <a:off x="3646800" y="1211040"/>
              <a:ext cx="1737720" cy="1736640"/>
              <a:chOff x="3646800" y="1211040"/>
              <a:chExt cx="1737720" cy="1736640"/>
            </a:xfrm>
          </p:grpSpPr>
          <p:sp>
            <p:nvSpPr>
              <p:cNvPr id="451" name="饼形 77"/>
              <p:cNvSpPr/>
              <p:nvPr/>
            </p:nvSpPr>
            <p:spPr>
              <a:xfrm flipH="1" rot="12160800">
                <a:off x="385092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2" y="3002357"/>
                    </a:moveTo>
                    <a:cubicBezTo>
                      <a:pt x="2693354" y="3324320"/>
                      <a:pt x="2250762" y="3523721"/>
                      <a:pt x="1761605" y="3523721"/>
                    </a:cubicBezTo>
                    <a:cubicBezTo>
                      <a:pt x="1759395" y="3523721"/>
                      <a:pt x="1757187" y="3523717"/>
                      <a:pt x="1755014" y="3523709"/>
                    </a:cubicBezTo>
                    <a:lnTo>
                      <a:pt x="1761605" y="17618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饼形 78"/>
              <p:cNvSpPr/>
              <p:nvPr/>
            </p:nvSpPr>
            <p:spPr>
              <a:xfrm flipH="1" rot="12160800">
                <a:off x="3989160" y="1553760"/>
                <a:ext cx="1047960" cy="104616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7" y="2361808"/>
                    </a:moveTo>
                    <a:cubicBezTo>
                      <a:pt x="2128255" y="2618469"/>
                      <a:pt x="1777262" y="2777669"/>
                      <a:pt x="1389080" y="2777669"/>
                    </a:cubicBezTo>
                    <a:cubicBezTo>
                      <a:pt x="1387641" y="2777669"/>
                      <a:pt x="1386203" y="2777667"/>
                      <a:pt x="1384789" y="2777663"/>
                    </a:cubicBezTo>
                    <a:lnTo>
                      <a:pt x="1389080" y="138883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饼形 79"/>
              <p:cNvSpPr/>
              <p:nvPr/>
            </p:nvSpPr>
            <p:spPr>
              <a:xfrm flipH="1" rot="12160800">
                <a:off x="4093200" y="1650600"/>
                <a:ext cx="852480" cy="85068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31498" y="2129800"/>
                      <a:pt x="1445975" y="2259228"/>
                      <a:pt x="1130206" y="2259228"/>
                    </a:cubicBezTo>
                    <a:cubicBezTo>
                      <a:pt x="1127081" y="2259228"/>
                      <a:pt x="1123959" y="2259215"/>
                      <a:pt x="1120889" y="2259190"/>
                    </a:cubicBezTo>
                    <a:lnTo>
                      <a:pt x="1130205" y="1129614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饼形 80"/>
              <p:cNvSpPr/>
              <p:nvPr/>
            </p:nvSpPr>
            <p:spPr>
              <a:xfrm flipH="1" rot="12160800">
                <a:off x="4186440" y="173952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饼形 81"/>
              <p:cNvSpPr/>
              <p:nvPr/>
            </p:nvSpPr>
            <p:spPr>
              <a:xfrm flipH="1" rot="12160800">
                <a:off x="4240440" y="1799280"/>
                <a:ext cx="552600" cy="54900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39" y="1245092"/>
                    </a:moveTo>
                    <a:cubicBezTo>
                      <a:pt x="1117519" y="1376882"/>
                      <a:pt x="934531" y="1458382"/>
                      <a:pt x="732423" y="1458382"/>
                    </a:cubicBezTo>
                    <a:cubicBezTo>
                      <a:pt x="729055" y="1458382"/>
                      <a:pt x="725693" y="1458359"/>
                      <a:pt x="722386" y="1458315"/>
                    </a:cubicBezTo>
                    <a:lnTo>
                      <a:pt x="732424" y="729191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6" name="组合 6303"/>
            <p:cNvGrpSpPr/>
            <p:nvPr/>
          </p:nvGrpSpPr>
          <p:grpSpPr>
            <a:xfrm>
              <a:off x="3647160" y="1207800"/>
              <a:ext cx="1737720" cy="1736640"/>
              <a:chOff x="3647160" y="1207800"/>
              <a:chExt cx="1737720" cy="1736640"/>
            </a:xfrm>
          </p:grpSpPr>
          <p:sp>
            <p:nvSpPr>
              <p:cNvPr id="457" name="饼形 101"/>
              <p:cNvSpPr/>
              <p:nvPr/>
            </p:nvSpPr>
            <p:spPr>
              <a:xfrm flipV="1" rot="17560800">
                <a:off x="3852360" y="1411560"/>
                <a:ext cx="132696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0"/>
                    </a:moveTo>
                    <a:cubicBezTo>
                      <a:pt x="2696114" y="3324221"/>
                      <a:pt x="2253310" y="3523210"/>
                      <a:pt x="1763968" y="3523210"/>
                    </a:cubicBezTo>
                    <a:cubicBezTo>
                      <a:pt x="1761759" y="3523210"/>
                      <a:pt x="1759551" y="3523206"/>
                      <a:pt x="1757379" y="3523198"/>
                    </a:cubicBezTo>
                    <a:lnTo>
                      <a:pt x="1763968" y="17616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饼形 102"/>
              <p:cNvSpPr/>
              <p:nvPr/>
            </p:nvSpPr>
            <p:spPr>
              <a:xfrm flipV="1" rot="17560800">
                <a:off x="3992400" y="1548720"/>
                <a:ext cx="104472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0" y="2362051"/>
                    </a:moveTo>
                    <a:cubicBezTo>
                      <a:pt x="2128041" y="2618859"/>
                      <a:pt x="1777038" y="2778160"/>
                      <a:pt x="1388836" y="2778160"/>
                    </a:cubicBezTo>
                    <a:cubicBezTo>
                      <a:pt x="1387399" y="2778160"/>
                      <a:pt x="1385963" y="2778158"/>
                      <a:pt x="1384551" y="2778154"/>
                    </a:cubicBezTo>
                    <a:lnTo>
                      <a:pt x="1388836" y="1389080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饼形 103"/>
              <p:cNvSpPr/>
              <p:nvPr/>
            </p:nvSpPr>
            <p:spPr>
              <a:xfrm flipV="1" rot="17560800">
                <a:off x="4086000" y="1644480"/>
                <a:ext cx="85140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1" y="1922463"/>
                    </a:moveTo>
                    <a:cubicBezTo>
                      <a:pt x="1733521" y="2131054"/>
                      <a:pt x="1447749" y="2260414"/>
                      <a:pt x="1131722" y="2260414"/>
                    </a:cubicBezTo>
                    <a:cubicBezTo>
                      <a:pt x="1128596" y="2260414"/>
                      <a:pt x="1125472" y="2260401"/>
                      <a:pt x="1122400" y="2260376"/>
                    </a:cubicBezTo>
                    <a:lnTo>
                      <a:pt x="1131722" y="1130207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饼形 104"/>
              <p:cNvSpPr/>
              <p:nvPr/>
            </p:nvSpPr>
            <p:spPr>
              <a:xfrm flipV="1" rot="17560800">
                <a:off x="4174200" y="1734840"/>
                <a:ext cx="66744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1" y="1507182"/>
                    </a:moveTo>
                    <a:cubicBezTo>
                      <a:pt x="1359052" y="1670714"/>
                      <a:pt x="1135012" y="1772130"/>
                      <a:pt x="887252" y="1772130"/>
                    </a:cubicBezTo>
                    <a:cubicBezTo>
                      <a:pt x="883200" y="1772130"/>
                      <a:pt x="879154" y="1772103"/>
                      <a:pt x="875176" y="1772050"/>
                    </a:cubicBezTo>
                    <a:lnTo>
                      <a:pt x="887252" y="88606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饼形 105"/>
              <p:cNvSpPr/>
              <p:nvPr/>
            </p:nvSpPr>
            <p:spPr>
              <a:xfrm flipV="1" rot="17560800">
                <a:off x="4238280" y="179676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0" y="1245476"/>
                    </a:moveTo>
                    <a:cubicBezTo>
                      <a:pt x="1114004" y="1378376"/>
                      <a:pt x="931189" y="1460639"/>
                      <a:pt x="729191" y="1460639"/>
                    </a:cubicBezTo>
                    <a:cubicBezTo>
                      <a:pt x="725818" y="1460639"/>
                      <a:pt x="722450" y="1460616"/>
                      <a:pt x="719138" y="1460571"/>
                    </a:cubicBezTo>
                    <a:lnTo>
                      <a:pt x="729191" y="730320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圆角矩形 107"/>
          <p:cNvSpPr/>
          <p:nvPr/>
        </p:nvSpPr>
        <p:spPr>
          <a:xfrm>
            <a:off x="1062000" y="1865160"/>
            <a:ext cx="7012080" cy="4281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柔弱的生灵，旺盛的生命力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恶劣的自然现象，变幻的暴风骤雨，残酷的竞争，使得这些弱小的生灵时常会面临灾难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这些可爱的生灵，千百年来时刻充满激情，始终斗志昂扬、生生不息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它们遇敌时全力抗争，遇水时结球过河，遇灾时倾巢搬迁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它们的适应能力极强，森林、田野、城市、农村，乃至钢筋水泥的繁华大厦，到处都能见到它们的身影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它们弱小的身躯不能改变周围的环境，但是它们却能够很快的改变自己适应环境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先学会适应，再学习生存，这是蚂蚁带来的启迪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像蚂蚁一样工作， 积极顽强，吃苦耐劳，不断努力，一点点的积累，永不言败，永不气馁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组合 6310"/>
          <p:cNvGrpSpPr/>
          <p:nvPr/>
        </p:nvGrpSpPr>
        <p:grpSpPr>
          <a:xfrm>
            <a:off x="3643920" y="1213560"/>
            <a:ext cx="1738440" cy="1740600"/>
            <a:chOff x="3643920" y="1213560"/>
            <a:chExt cx="1738440" cy="1740600"/>
          </a:xfrm>
        </p:grpSpPr>
        <p:grpSp>
          <p:nvGrpSpPr>
            <p:cNvPr id="464" name="组合 6311"/>
            <p:cNvGrpSpPr/>
            <p:nvPr/>
          </p:nvGrpSpPr>
          <p:grpSpPr>
            <a:xfrm>
              <a:off x="3644280" y="1217160"/>
              <a:ext cx="1738080" cy="1737000"/>
              <a:chOff x="3644280" y="1217160"/>
              <a:chExt cx="1738080" cy="1737000"/>
            </a:xfrm>
          </p:grpSpPr>
          <p:sp>
            <p:nvSpPr>
              <p:cNvPr id="465" name="饼形 71"/>
              <p:cNvSpPr/>
              <p:nvPr/>
            </p:nvSpPr>
            <p:spPr>
              <a:xfrm rot="12161400">
                <a:off x="384876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3" y="3005199"/>
                    </a:moveTo>
                    <a:cubicBezTo>
                      <a:pt x="2694039" y="3327987"/>
                      <a:pt x="2251141" y="3527936"/>
                      <a:pt x="1761605" y="3527936"/>
                    </a:cubicBezTo>
                    <a:cubicBezTo>
                      <a:pt x="1759393" y="3527936"/>
                      <a:pt x="1757182" y="3527932"/>
                      <a:pt x="1755007" y="3527924"/>
                    </a:cubicBezTo>
                    <a:lnTo>
                      <a:pt x="1761605" y="176396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饼形 72"/>
              <p:cNvSpPr/>
              <p:nvPr/>
            </p:nvSpPr>
            <p:spPr>
              <a:xfrm rot="12161400">
                <a:off x="3990240" y="1559880"/>
                <a:ext cx="1046160" cy="104364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1" y="2358226"/>
                    </a:moveTo>
                    <a:cubicBezTo>
                      <a:pt x="2125031" y="2614497"/>
                      <a:pt x="1774570" y="2773455"/>
                      <a:pt x="1386976" y="2773455"/>
                    </a:cubicBezTo>
                    <a:cubicBezTo>
                      <a:pt x="1385540" y="2773455"/>
                      <a:pt x="1384104" y="2773453"/>
                      <a:pt x="1382692" y="2773449"/>
                    </a:cubicBezTo>
                    <a:lnTo>
                      <a:pt x="1386976" y="1386728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饼形 73"/>
              <p:cNvSpPr/>
              <p:nvPr/>
            </p:nvSpPr>
            <p:spPr>
              <a:xfrm rot="12161400">
                <a:off x="4084920" y="165312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5" y="1921874"/>
                    </a:moveTo>
                    <a:cubicBezTo>
                      <a:pt x="1734037" y="2130108"/>
                      <a:pt x="1448288" y="2259227"/>
                      <a:pt x="1132310" y="2259227"/>
                    </a:cubicBezTo>
                    <a:cubicBezTo>
                      <a:pt x="1129185" y="2259227"/>
                      <a:pt x="1126063" y="2259214"/>
                      <a:pt x="1122993" y="2259190"/>
                    </a:cubicBezTo>
                    <a:lnTo>
                      <a:pt x="1132311" y="1129614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饼形 74"/>
              <p:cNvSpPr/>
              <p:nvPr/>
            </p:nvSpPr>
            <p:spPr>
              <a:xfrm rot="12161400">
                <a:off x="4180680" y="174276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饼形 75"/>
              <p:cNvSpPr/>
              <p:nvPr/>
            </p:nvSpPr>
            <p:spPr>
              <a:xfrm rot="12161400">
                <a:off x="4236120" y="180648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7"/>
                    </a:moveTo>
                    <a:cubicBezTo>
                      <a:pt x="1115679" y="1380245"/>
                      <a:pt x="932603" y="1462596"/>
                      <a:pt x="730319" y="1462596"/>
                    </a:cubicBezTo>
                    <a:cubicBezTo>
                      <a:pt x="726942" y="1462596"/>
                      <a:pt x="723569" y="1462573"/>
                      <a:pt x="720253" y="1462528"/>
                    </a:cubicBezTo>
                    <a:lnTo>
                      <a:pt x="730319" y="7312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0" name="组合 6317"/>
            <p:cNvGrpSpPr/>
            <p:nvPr/>
          </p:nvGrpSpPr>
          <p:grpSpPr>
            <a:xfrm>
              <a:off x="3643920" y="1216800"/>
              <a:ext cx="1738080" cy="1737000"/>
              <a:chOff x="3643920" y="1216800"/>
              <a:chExt cx="1738080" cy="1737000"/>
            </a:xfrm>
          </p:grpSpPr>
          <p:sp>
            <p:nvSpPr>
              <p:cNvPr id="471" name="饼形 77"/>
              <p:cNvSpPr/>
              <p:nvPr/>
            </p:nvSpPr>
            <p:spPr>
              <a:xfrm flipH="1" rot="12160800">
                <a:off x="384840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2" y="3002357"/>
                    </a:moveTo>
                    <a:cubicBezTo>
                      <a:pt x="2693354" y="3324320"/>
                      <a:pt x="2250762" y="3523721"/>
                      <a:pt x="1761605" y="3523721"/>
                    </a:cubicBezTo>
                    <a:cubicBezTo>
                      <a:pt x="1759395" y="3523721"/>
                      <a:pt x="1757187" y="3523717"/>
                      <a:pt x="1755014" y="3523709"/>
                    </a:cubicBezTo>
                    <a:lnTo>
                      <a:pt x="1761605" y="17618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饼形 78"/>
              <p:cNvSpPr/>
              <p:nvPr/>
            </p:nvSpPr>
            <p:spPr>
              <a:xfrm flipH="1" rot="12160800">
                <a:off x="3985920" y="1559160"/>
                <a:ext cx="1047960" cy="104652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7" y="2361808"/>
                    </a:moveTo>
                    <a:cubicBezTo>
                      <a:pt x="2128255" y="2618469"/>
                      <a:pt x="1777262" y="2777669"/>
                      <a:pt x="1389080" y="2777669"/>
                    </a:cubicBezTo>
                    <a:cubicBezTo>
                      <a:pt x="1387641" y="2777669"/>
                      <a:pt x="1386203" y="2777667"/>
                      <a:pt x="1384789" y="2777663"/>
                    </a:cubicBezTo>
                    <a:lnTo>
                      <a:pt x="1389080" y="138883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饼形 79"/>
              <p:cNvSpPr/>
              <p:nvPr/>
            </p:nvSpPr>
            <p:spPr>
              <a:xfrm flipH="1" rot="12160800">
                <a:off x="4089600" y="1656720"/>
                <a:ext cx="852480" cy="85104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31498" y="2129800"/>
                      <a:pt x="1445975" y="2259228"/>
                      <a:pt x="1130206" y="2259228"/>
                    </a:cubicBezTo>
                    <a:cubicBezTo>
                      <a:pt x="1127081" y="2259228"/>
                      <a:pt x="1123959" y="2259215"/>
                      <a:pt x="1120889" y="2259190"/>
                    </a:cubicBezTo>
                    <a:lnTo>
                      <a:pt x="1130205" y="1129614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饼形 80"/>
              <p:cNvSpPr/>
              <p:nvPr/>
            </p:nvSpPr>
            <p:spPr>
              <a:xfrm flipH="1" rot="12160800">
                <a:off x="4183560" y="174600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饼形 81"/>
              <p:cNvSpPr/>
              <p:nvPr/>
            </p:nvSpPr>
            <p:spPr>
              <a:xfrm flipH="1" rot="12160800">
                <a:off x="4237200" y="1805400"/>
                <a:ext cx="552600" cy="54936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39" y="1245092"/>
                    </a:moveTo>
                    <a:cubicBezTo>
                      <a:pt x="1117519" y="1376882"/>
                      <a:pt x="934531" y="1458382"/>
                      <a:pt x="732423" y="1458382"/>
                    </a:cubicBezTo>
                    <a:cubicBezTo>
                      <a:pt x="729055" y="1458382"/>
                      <a:pt x="725693" y="1458359"/>
                      <a:pt x="722386" y="1458315"/>
                    </a:cubicBezTo>
                    <a:lnTo>
                      <a:pt x="732424" y="729191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6" name="组合 6323"/>
            <p:cNvGrpSpPr/>
            <p:nvPr/>
          </p:nvGrpSpPr>
          <p:grpSpPr>
            <a:xfrm>
              <a:off x="3644280" y="1213560"/>
              <a:ext cx="1737720" cy="1737000"/>
              <a:chOff x="3644280" y="1213560"/>
              <a:chExt cx="1737720" cy="1737000"/>
            </a:xfrm>
          </p:grpSpPr>
          <p:sp>
            <p:nvSpPr>
              <p:cNvPr id="477" name="饼形 101"/>
              <p:cNvSpPr/>
              <p:nvPr/>
            </p:nvSpPr>
            <p:spPr>
              <a:xfrm flipV="1" rot="17560800">
                <a:off x="3849120" y="1417320"/>
                <a:ext cx="132732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0"/>
                    </a:moveTo>
                    <a:cubicBezTo>
                      <a:pt x="2696114" y="3324221"/>
                      <a:pt x="2253310" y="3523210"/>
                      <a:pt x="1763968" y="3523210"/>
                    </a:cubicBezTo>
                    <a:cubicBezTo>
                      <a:pt x="1761759" y="3523210"/>
                      <a:pt x="1759551" y="3523206"/>
                      <a:pt x="1757379" y="3523198"/>
                    </a:cubicBezTo>
                    <a:lnTo>
                      <a:pt x="1763968" y="17616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饼形 102"/>
              <p:cNvSpPr/>
              <p:nvPr/>
            </p:nvSpPr>
            <p:spPr>
              <a:xfrm flipV="1" rot="17560800">
                <a:off x="3989520" y="1554120"/>
                <a:ext cx="104508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0" y="2362051"/>
                    </a:moveTo>
                    <a:cubicBezTo>
                      <a:pt x="2128041" y="2618859"/>
                      <a:pt x="1777038" y="2778160"/>
                      <a:pt x="1388836" y="2778160"/>
                    </a:cubicBezTo>
                    <a:cubicBezTo>
                      <a:pt x="1387399" y="2778160"/>
                      <a:pt x="1385963" y="2778158"/>
                      <a:pt x="1384551" y="2778154"/>
                    </a:cubicBezTo>
                    <a:lnTo>
                      <a:pt x="1388836" y="1389080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饼形 103"/>
              <p:cNvSpPr/>
              <p:nvPr/>
            </p:nvSpPr>
            <p:spPr>
              <a:xfrm flipV="1" rot="17560800">
                <a:off x="4082400" y="1651320"/>
                <a:ext cx="85176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1" y="1922463"/>
                    </a:moveTo>
                    <a:cubicBezTo>
                      <a:pt x="1733521" y="2131054"/>
                      <a:pt x="1447749" y="2260414"/>
                      <a:pt x="1131722" y="2260414"/>
                    </a:cubicBezTo>
                    <a:cubicBezTo>
                      <a:pt x="1128596" y="2260414"/>
                      <a:pt x="1125472" y="2260401"/>
                      <a:pt x="1122400" y="2260376"/>
                    </a:cubicBezTo>
                    <a:lnTo>
                      <a:pt x="1131722" y="1130207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饼形 104"/>
              <p:cNvSpPr/>
              <p:nvPr/>
            </p:nvSpPr>
            <p:spPr>
              <a:xfrm flipV="1" rot="17560800">
                <a:off x="4170960" y="1741320"/>
                <a:ext cx="66780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1" y="1507182"/>
                    </a:moveTo>
                    <a:cubicBezTo>
                      <a:pt x="1359052" y="1670714"/>
                      <a:pt x="1135012" y="1772130"/>
                      <a:pt x="887252" y="1772130"/>
                    </a:cubicBezTo>
                    <a:cubicBezTo>
                      <a:pt x="883200" y="1772130"/>
                      <a:pt x="879154" y="1772103"/>
                      <a:pt x="875176" y="1772050"/>
                    </a:cubicBezTo>
                    <a:lnTo>
                      <a:pt x="887252" y="88606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饼形 105"/>
              <p:cNvSpPr/>
              <p:nvPr/>
            </p:nvSpPr>
            <p:spPr>
              <a:xfrm flipV="1" rot="17560800">
                <a:off x="4235040" y="180288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0" y="1245476"/>
                    </a:moveTo>
                    <a:cubicBezTo>
                      <a:pt x="1114004" y="1378376"/>
                      <a:pt x="931189" y="1460639"/>
                      <a:pt x="729191" y="1460639"/>
                    </a:cubicBezTo>
                    <a:cubicBezTo>
                      <a:pt x="725818" y="1460639"/>
                      <a:pt x="722450" y="1460616"/>
                      <a:pt x="719138" y="1460571"/>
                    </a:cubicBezTo>
                    <a:lnTo>
                      <a:pt x="729191" y="730320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82" name="组合 6329"/>
          <p:cNvGrpSpPr/>
          <p:nvPr/>
        </p:nvGrpSpPr>
        <p:grpSpPr>
          <a:xfrm>
            <a:off x="3646800" y="1207800"/>
            <a:ext cx="1738080" cy="1740240"/>
            <a:chOff x="3646800" y="1207800"/>
            <a:chExt cx="1738080" cy="1740240"/>
          </a:xfrm>
        </p:grpSpPr>
        <p:grpSp>
          <p:nvGrpSpPr>
            <p:cNvPr id="483" name="组合 6330"/>
            <p:cNvGrpSpPr/>
            <p:nvPr/>
          </p:nvGrpSpPr>
          <p:grpSpPr>
            <a:xfrm>
              <a:off x="3647160" y="1211400"/>
              <a:ext cx="1737720" cy="1736640"/>
              <a:chOff x="3647160" y="1211400"/>
              <a:chExt cx="1737720" cy="1736640"/>
            </a:xfrm>
          </p:grpSpPr>
          <p:sp>
            <p:nvSpPr>
              <p:cNvPr id="484" name="饼形 71"/>
              <p:cNvSpPr/>
              <p:nvPr/>
            </p:nvSpPr>
            <p:spPr>
              <a:xfrm rot="12161400">
                <a:off x="385164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3" y="3005199"/>
                    </a:moveTo>
                    <a:cubicBezTo>
                      <a:pt x="2694039" y="3327987"/>
                      <a:pt x="2251141" y="3527936"/>
                      <a:pt x="1761605" y="3527936"/>
                    </a:cubicBezTo>
                    <a:cubicBezTo>
                      <a:pt x="1759393" y="3527936"/>
                      <a:pt x="1757182" y="3527932"/>
                      <a:pt x="1755007" y="3527924"/>
                    </a:cubicBezTo>
                    <a:lnTo>
                      <a:pt x="1761605" y="176396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饼形 72"/>
              <p:cNvSpPr/>
              <p:nvPr/>
            </p:nvSpPr>
            <p:spPr>
              <a:xfrm rot="12161400">
                <a:off x="3993120" y="1554120"/>
                <a:ext cx="1046160" cy="104328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1" y="2358226"/>
                    </a:moveTo>
                    <a:cubicBezTo>
                      <a:pt x="2125031" y="2614497"/>
                      <a:pt x="1774570" y="2773455"/>
                      <a:pt x="1386976" y="2773455"/>
                    </a:cubicBezTo>
                    <a:cubicBezTo>
                      <a:pt x="1385540" y="2773455"/>
                      <a:pt x="1384104" y="2773453"/>
                      <a:pt x="1382692" y="2773449"/>
                    </a:cubicBezTo>
                    <a:lnTo>
                      <a:pt x="1386976" y="1386728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饼形 73"/>
              <p:cNvSpPr/>
              <p:nvPr/>
            </p:nvSpPr>
            <p:spPr>
              <a:xfrm rot="12161400">
                <a:off x="4087800" y="164700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5" y="1921874"/>
                    </a:moveTo>
                    <a:cubicBezTo>
                      <a:pt x="1734037" y="2130108"/>
                      <a:pt x="1448288" y="2259227"/>
                      <a:pt x="1132310" y="2259227"/>
                    </a:cubicBezTo>
                    <a:cubicBezTo>
                      <a:pt x="1129185" y="2259227"/>
                      <a:pt x="1126063" y="2259214"/>
                      <a:pt x="1122993" y="2259190"/>
                    </a:cubicBezTo>
                    <a:lnTo>
                      <a:pt x="1132311" y="1129614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饼形 74"/>
              <p:cNvSpPr/>
              <p:nvPr/>
            </p:nvSpPr>
            <p:spPr>
              <a:xfrm rot="12161400">
                <a:off x="4183560" y="173664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饼形 75"/>
              <p:cNvSpPr/>
              <p:nvPr/>
            </p:nvSpPr>
            <p:spPr>
              <a:xfrm rot="12161400">
                <a:off x="4239000" y="180000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7"/>
                    </a:moveTo>
                    <a:cubicBezTo>
                      <a:pt x="1115679" y="1380245"/>
                      <a:pt x="932603" y="1462596"/>
                      <a:pt x="730319" y="1462596"/>
                    </a:cubicBezTo>
                    <a:cubicBezTo>
                      <a:pt x="726942" y="1462596"/>
                      <a:pt x="723569" y="1462573"/>
                      <a:pt x="720253" y="1462528"/>
                    </a:cubicBezTo>
                    <a:lnTo>
                      <a:pt x="730319" y="7312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9" name="组合 6336"/>
            <p:cNvGrpSpPr/>
            <p:nvPr/>
          </p:nvGrpSpPr>
          <p:grpSpPr>
            <a:xfrm>
              <a:off x="3646800" y="1211040"/>
              <a:ext cx="1737720" cy="1736640"/>
              <a:chOff x="3646800" y="1211040"/>
              <a:chExt cx="1737720" cy="1736640"/>
            </a:xfrm>
          </p:grpSpPr>
          <p:sp>
            <p:nvSpPr>
              <p:cNvPr id="490" name="饼形 77"/>
              <p:cNvSpPr/>
              <p:nvPr/>
            </p:nvSpPr>
            <p:spPr>
              <a:xfrm flipH="1" rot="12160800">
                <a:off x="385092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2" y="3002357"/>
                    </a:moveTo>
                    <a:cubicBezTo>
                      <a:pt x="2693354" y="3324320"/>
                      <a:pt x="2250762" y="3523721"/>
                      <a:pt x="1761605" y="3523721"/>
                    </a:cubicBezTo>
                    <a:cubicBezTo>
                      <a:pt x="1759395" y="3523721"/>
                      <a:pt x="1757187" y="3523717"/>
                      <a:pt x="1755014" y="3523709"/>
                    </a:cubicBezTo>
                    <a:lnTo>
                      <a:pt x="1761605" y="17618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饼形 78"/>
              <p:cNvSpPr/>
              <p:nvPr/>
            </p:nvSpPr>
            <p:spPr>
              <a:xfrm flipH="1" rot="12160800">
                <a:off x="3989160" y="1553760"/>
                <a:ext cx="1047960" cy="104616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7" y="2361808"/>
                    </a:moveTo>
                    <a:cubicBezTo>
                      <a:pt x="2128255" y="2618469"/>
                      <a:pt x="1777262" y="2777669"/>
                      <a:pt x="1389080" y="2777669"/>
                    </a:cubicBezTo>
                    <a:cubicBezTo>
                      <a:pt x="1387641" y="2777669"/>
                      <a:pt x="1386203" y="2777667"/>
                      <a:pt x="1384789" y="2777663"/>
                    </a:cubicBezTo>
                    <a:lnTo>
                      <a:pt x="1389080" y="138883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饼形 79"/>
              <p:cNvSpPr/>
              <p:nvPr/>
            </p:nvSpPr>
            <p:spPr>
              <a:xfrm flipH="1" rot="12160800">
                <a:off x="4093200" y="1650600"/>
                <a:ext cx="852480" cy="85068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31498" y="2129800"/>
                      <a:pt x="1445975" y="2259228"/>
                      <a:pt x="1130206" y="2259228"/>
                    </a:cubicBezTo>
                    <a:cubicBezTo>
                      <a:pt x="1127081" y="2259228"/>
                      <a:pt x="1123959" y="2259215"/>
                      <a:pt x="1120889" y="2259190"/>
                    </a:cubicBezTo>
                    <a:lnTo>
                      <a:pt x="1130205" y="1129614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饼形 80"/>
              <p:cNvSpPr/>
              <p:nvPr/>
            </p:nvSpPr>
            <p:spPr>
              <a:xfrm flipH="1" rot="12160800">
                <a:off x="4186440" y="173952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饼形 81"/>
              <p:cNvSpPr/>
              <p:nvPr/>
            </p:nvSpPr>
            <p:spPr>
              <a:xfrm flipH="1" rot="12160800">
                <a:off x="4240440" y="1799280"/>
                <a:ext cx="552600" cy="54900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39" y="1245092"/>
                    </a:moveTo>
                    <a:cubicBezTo>
                      <a:pt x="1117519" y="1376882"/>
                      <a:pt x="934531" y="1458382"/>
                      <a:pt x="732423" y="1458382"/>
                    </a:cubicBezTo>
                    <a:cubicBezTo>
                      <a:pt x="729055" y="1458382"/>
                      <a:pt x="725693" y="1458359"/>
                      <a:pt x="722386" y="1458315"/>
                    </a:cubicBezTo>
                    <a:lnTo>
                      <a:pt x="732424" y="729191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5" name="组合 6342"/>
            <p:cNvGrpSpPr/>
            <p:nvPr/>
          </p:nvGrpSpPr>
          <p:grpSpPr>
            <a:xfrm>
              <a:off x="3647160" y="1207800"/>
              <a:ext cx="1737720" cy="1736640"/>
              <a:chOff x="3647160" y="1207800"/>
              <a:chExt cx="1737720" cy="1736640"/>
            </a:xfrm>
          </p:grpSpPr>
          <p:sp>
            <p:nvSpPr>
              <p:cNvPr id="496" name="饼形 101"/>
              <p:cNvSpPr/>
              <p:nvPr/>
            </p:nvSpPr>
            <p:spPr>
              <a:xfrm flipV="1" rot="17560800">
                <a:off x="3852360" y="1411560"/>
                <a:ext cx="132696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0"/>
                    </a:moveTo>
                    <a:cubicBezTo>
                      <a:pt x="2696114" y="3324221"/>
                      <a:pt x="2253310" y="3523210"/>
                      <a:pt x="1763968" y="3523210"/>
                    </a:cubicBezTo>
                    <a:cubicBezTo>
                      <a:pt x="1761759" y="3523210"/>
                      <a:pt x="1759551" y="3523206"/>
                      <a:pt x="1757379" y="3523198"/>
                    </a:cubicBezTo>
                    <a:lnTo>
                      <a:pt x="1763968" y="17616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饼形 102"/>
              <p:cNvSpPr/>
              <p:nvPr/>
            </p:nvSpPr>
            <p:spPr>
              <a:xfrm flipV="1" rot="17560800">
                <a:off x="3992400" y="1548720"/>
                <a:ext cx="104472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0" y="2362051"/>
                    </a:moveTo>
                    <a:cubicBezTo>
                      <a:pt x="2128041" y="2618859"/>
                      <a:pt x="1777038" y="2778160"/>
                      <a:pt x="1388836" y="2778160"/>
                    </a:cubicBezTo>
                    <a:cubicBezTo>
                      <a:pt x="1387399" y="2778160"/>
                      <a:pt x="1385963" y="2778158"/>
                      <a:pt x="1384551" y="2778154"/>
                    </a:cubicBezTo>
                    <a:lnTo>
                      <a:pt x="1388836" y="1389080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饼形 103"/>
              <p:cNvSpPr/>
              <p:nvPr/>
            </p:nvSpPr>
            <p:spPr>
              <a:xfrm flipV="1" rot="17560800">
                <a:off x="4086000" y="1644480"/>
                <a:ext cx="85140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1" y="1922463"/>
                    </a:moveTo>
                    <a:cubicBezTo>
                      <a:pt x="1733521" y="2131054"/>
                      <a:pt x="1447749" y="2260414"/>
                      <a:pt x="1131722" y="2260414"/>
                    </a:cubicBezTo>
                    <a:cubicBezTo>
                      <a:pt x="1128596" y="2260414"/>
                      <a:pt x="1125472" y="2260401"/>
                      <a:pt x="1122400" y="2260376"/>
                    </a:cubicBezTo>
                    <a:lnTo>
                      <a:pt x="1131722" y="1130207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饼形 104"/>
              <p:cNvSpPr/>
              <p:nvPr/>
            </p:nvSpPr>
            <p:spPr>
              <a:xfrm flipV="1" rot="17560800">
                <a:off x="4174200" y="1734840"/>
                <a:ext cx="66744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1" y="1507182"/>
                    </a:moveTo>
                    <a:cubicBezTo>
                      <a:pt x="1359052" y="1670714"/>
                      <a:pt x="1135012" y="1772130"/>
                      <a:pt x="887252" y="1772130"/>
                    </a:cubicBezTo>
                    <a:cubicBezTo>
                      <a:pt x="883200" y="1772130"/>
                      <a:pt x="879154" y="1772103"/>
                      <a:pt x="875176" y="1772050"/>
                    </a:cubicBezTo>
                    <a:lnTo>
                      <a:pt x="887252" y="88606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饼形 105"/>
              <p:cNvSpPr/>
              <p:nvPr/>
            </p:nvSpPr>
            <p:spPr>
              <a:xfrm flipV="1" rot="17560800">
                <a:off x="4238280" y="179676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0" y="1245476"/>
                    </a:moveTo>
                    <a:cubicBezTo>
                      <a:pt x="1114004" y="1378376"/>
                      <a:pt x="931189" y="1460639"/>
                      <a:pt x="729191" y="1460639"/>
                    </a:cubicBezTo>
                    <a:cubicBezTo>
                      <a:pt x="725818" y="1460639"/>
                      <a:pt x="722450" y="1460616"/>
                      <a:pt x="719138" y="1460571"/>
                    </a:cubicBezTo>
                    <a:lnTo>
                      <a:pt x="729191" y="730320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01" name="组合 6348"/>
          <p:cNvGrpSpPr/>
          <p:nvPr/>
        </p:nvGrpSpPr>
        <p:grpSpPr>
          <a:xfrm>
            <a:off x="3646800" y="1207800"/>
            <a:ext cx="1738080" cy="1740240"/>
            <a:chOff x="3646800" y="1207800"/>
            <a:chExt cx="1738080" cy="1740240"/>
          </a:xfrm>
        </p:grpSpPr>
        <p:grpSp>
          <p:nvGrpSpPr>
            <p:cNvPr id="502" name="组合 6349"/>
            <p:cNvGrpSpPr/>
            <p:nvPr/>
          </p:nvGrpSpPr>
          <p:grpSpPr>
            <a:xfrm>
              <a:off x="3647160" y="1211400"/>
              <a:ext cx="1737720" cy="1736640"/>
              <a:chOff x="3647160" y="1211400"/>
              <a:chExt cx="1737720" cy="1736640"/>
            </a:xfrm>
          </p:grpSpPr>
          <p:sp>
            <p:nvSpPr>
              <p:cNvPr id="503" name="饼形 71"/>
              <p:cNvSpPr/>
              <p:nvPr/>
            </p:nvSpPr>
            <p:spPr>
              <a:xfrm rot="12161400">
                <a:off x="385164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3" y="3005199"/>
                    </a:moveTo>
                    <a:cubicBezTo>
                      <a:pt x="2694039" y="3327987"/>
                      <a:pt x="2251141" y="3527936"/>
                      <a:pt x="1761605" y="3527936"/>
                    </a:cubicBezTo>
                    <a:cubicBezTo>
                      <a:pt x="1759393" y="3527936"/>
                      <a:pt x="1757182" y="3527932"/>
                      <a:pt x="1755007" y="3527924"/>
                    </a:cubicBezTo>
                    <a:lnTo>
                      <a:pt x="1761605" y="176396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饼形 72"/>
              <p:cNvSpPr/>
              <p:nvPr/>
            </p:nvSpPr>
            <p:spPr>
              <a:xfrm rot="12161400">
                <a:off x="3993120" y="1554120"/>
                <a:ext cx="1046160" cy="104328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1" y="2358226"/>
                    </a:moveTo>
                    <a:cubicBezTo>
                      <a:pt x="2125031" y="2614497"/>
                      <a:pt x="1774570" y="2773455"/>
                      <a:pt x="1386976" y="2773455"/>
                    </a:cubicBezTo>
                    <a:cubicBezTo>
                      <a:pt x="1385540" y="2773455"/>
                      <a:pt x="1384104" y="2773453"/>
                      <a:pt x="1382692" y="2773449"/>
                    </a:cubicBezTo>
                    <a:lnTo>
                      <a:pt x="1386976" y="1386728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饼形 73"/>
              <p:cNvSpPr/>
              <p:nvPr/>
            </p:nvSpPr>
            <p:spPr>
              <a:xfrm rot="12161400">
                <a:off x="4087800" y="164700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5" y="1921874"/>
                    </a:moveTo>
                    <a:cubicBezTo>
                      <a:pt x="1734037" y="2130108"/>
                      <a:pt x="1448288" y="2259227"/>
                      <a:pt x="1132310" y="2259227"/>
                    </a:cubicBezTo>
                    <a:cubicBezTo>
                      <a:pt x="1129185" y="2259227"/>
                      <a:pt x="1126063" y="2259214"/>
                      <a:pt x="1122993" y="2259190"/>
                    </a:cubicBezTo>
                    <a:lnTo>
                      <a:pt x="1132311" y="1129614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饼形 74"/>
              <p:cNvSpPr/>
              <p:nvPr/>
            </p:nvSpPr>
            <p:spPr>
              <a:xfrm rot="12161400">
                <a:off x="4183560" y="173664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饼形 75"/>
              <p:cNvSpPr/>
              <p:nvPr/>
            </p:nvSpPr>
            <p:spPr>
              <a:xfrm rot="12161400">
                <a:off x="4239000" y="180000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7"/>
                    </a:moveTo>
                    <a:cubicBezTo>
                      <a:pt x="1115679" y="1380245"/>
                      <a:pt x="932603" y="1462596"/>
                      <a:pt x="730319" y="1462596"/>
                    </a:cubicBezTo>
                    <a:cubicBezTo>
                      <a:pt x="726942" y="1462596"/>
                      <a:pt x="723569" y="1462573"/>
                      <a:pt x="720253" y="1462528"/>
                    </a:cubicBezTo>
                    <a:lnTo>
                      <a:pt x="730319" y="7312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8" name="组合 6355"/>
            <p:cNvGrpSpPr/>
            <p:nvPr/>
          </p:nvGrpSpPr>
          <p:grpSpPr>
            <a:xfrm>
              <a:off x="3646800" y="1211040"/>
              <a:ext cx="1737720" cy="1736640"/>
              <a:chOff x="3646800" y="1211040"/>
              <a:chExt cx="1737720" cy="1736640"/>
            </a:xfrm>
          </p:grpSpPr>
          <p:sp>
            <p:nvSpPr>
              <p:cNvPr id="509" name="饼形 77"/>
              <p:cNvSpPr/>
              <p:nvPr/>
            </p:nvSpPr>
            <p:spPr>
              <a:xfrm flipH="1" rot="12160800">
                <a:off x="385092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2" y="3002357"/>
                    </a:moveTo>
                    <a:cubicBezTo>
                      <a:pt x="2693354" y="3324320"/>
                      <a:pt x="2250762" y="3523721"/>
                      <a:pt x="1761605" y="3523721"/>
                    </a:cubicBezTo>
                    <a:cubicBezTo>
                      <a:pt x="1759395" y="3523721"/>
                      <a:pt x="1757187" y="3523717"/>
                      <a:pt x="1755014" y="3523709"/>
                    </a:cubicBezTo>
                    <a:lnTo>
                      <a:pt x="1761605" y="17618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饼形 78"/>
              <p:cNvSpPr/>
              <p:nvPr/>
            </p:nvSpPr>
            <p:spPr>
              <a:xfrm flipH="1" rot="12160800">
                <a:off x="3989160" y="1553760"/>
                <a:ext cx="1047960" cy="104616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7" y="2361808"/>
                    </a:moveTo>
                    <a:cubicBezTo>
                      <a:pt x="2128255" y="2618469"/>
                      <a:pt x="1777262" y="2777669"/>
                      <a:pt x="1389080" y="2777669"/>
                    </a:cubicBezTo>
                    <a:cubicBezTo>
                      <a:pt x="1387641" y="2777669"/>
                      <a:pt x="1386203" y="2777667"/>
                      <a:pt x="1384789" y="2777663"/>
                    </a:cubicBezTo>
                    <a:lnTo>
                      <a:pt x="1389080" y="138883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饼形 79"/>
              <p:cNvSpPr/>
              <p:nvPr/>
            </p:nvSpPr>
            <p:spPr>
              <a:xfrm flipH="1" rot="12160800">
                <a:off x="4093200" y="1650600"/>
                <a:ext cx="852480" cy="85068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31498" y="2129800"/>
                      <a:pt x="1445975" y="2259228"/>
                      <a:pt x="1130206" y="2259228"/>
                    </a:cubicBezTo>
                    <a:cubicBezTo>
                      <a:pt x="1127081" y="2259228"/>
                      <a:pt x="1123959" y="2259215"/>
                      <a:pt x="1120889" y="2259190"/>
                    </a:cubicBezTo>
                    <a:lnTo>
                      <a:pt x="1130205" y="1129614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饼形 80"/>
              <p:cNvSpPr/>
              <p:nvPr/>
            </p:nvSpPr>
            <p:spPr>
              <a:xfrm flipH="1" rot="12160800">
                <a:off x="4186440" y="173952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饼形 81"/>
              <p:cNvSpPr/>
              <p:nvPr/>
            </p:nvSpPr>
            <p:spPr>
              <a:xfrm flipH="1" rot="12160800">
                <a:off x="4240440" y="1799280"/>
                <a:ext cx="552600" cy="54900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39" y="1245092"/>
                    </a:moveTo>
                    <a:cubicBezTo>
                      <a:pt x="1117519" y="1376882"/>
                      <a:pt x="934531" y="1458382"/>
                      <a:pt x="732423" y="1458382"/>
                    </a:cubicBezTo>
                    <a:cubicBezTo>
                      <a:pt x="729055" y="1458382"/>
                      <a:pt x="725693" y="1458359"/>
                      <a:pt x="722386" y="1458315"/>
                    </a:cubicBezTo>
                    <a:lnTo>
                      <a:pt x="732424" y="729191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4" name="组合 6361"/>
            <p:cNvGrpSpPr/>
            <p:nvPr/>
          </p:nvGrpSpPr>
          <p:grpSpPr>
            <a:xfrm>
              <a:off x="3647160" y="1207800"/>
              <a:ext cx="1737720" cy="1736640"/>
              <a:chOff x="3647160" y="1207800"/>
              <a:chExt cx="1737720" cy="1736640"/>
            </a:xfrm>
          </p:grpSpPr>
          <p:sp>
            <p:nvSpPr>
              <p:cNvPr id="515" name="饼形 101"/>
              <p:cNvSpPr/>
              <p:nvPr/>
            </p:nvSpPr>
            <p:spPr>
              <a:xfrm flipV="1" rot="17560800">
                <a:off x="3852360" y="1411560"/>
                <a:ext cx="132696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0"/>
                    </a:moveTo>
                    <a:cubicBezTo>
                      <a:pt x="2696114" y="3324221"/>
                      <a:pt x="2253310" y="3523210"/>
                      <a:pt x="1763968" y="3523210"/>
                    </a:cubicBezTo>
                    <a:cubicBezTo>
                      <a:pt x="1761759" y="3523210"/>
                      <a:pt x="1759551" y="3523206"/>
                      <a:pt x="1757379" y="3523198"/>
                    </a:cubicBezTo>
                    <a:lnTo>
                      <a:pt x="1763968" y="17616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饼形 102"/>
              <p:cNvSpPr/>
              <p:nvPr/>
            </p:nvSpPr>
            <p:spPr>
              <a:xfrm flipV="1" rot="17560800">
                <a:off x="3992400" y="1548720"/>
                <a:ext cx="104472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0" y="2362051"/>
                    </a:moveTo>
                    <a:cubicBezTo>
                      <a:pt x="2128041" y="2618859"/>
                      <a:pt x="1777038" y="2778160"/>
                      <a:pt x="1388836" y="2778160"/>
                    </a:cubicBezTo>
                    <a:cubicBezTo>
                      <a:pt x="1387399" y="2778160"/>
                      <a:pt x="1385963" y="2778158"/>
                      <a:pt x="1384551" y="2778154"/>
                    </a:cubicBezTo>
                    <a:lnTo>
                      <a:pt x="1388836" y="1389080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饼形 103"/>
              <p:cNvSpPr/>
              <p:nvPr/>
            </p:nvSpPr>
            <p:spPr>
              <a:xfrm flipV="1" rot="17560800">
                <a:off x="4086000" y="1644480"/>
                <a:ext cx="85140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1" y="1922463"/>
                    </a:moveTo>
                    <a:cubicBezTo>
                      <a:pt x="1733521" y="2131054"/>
                      <a:pt x="1447749" y="2260414"/>
                      <a:pt x="1131722" y="2260414"/>
                    </a:cubicBezTo>
                    <a:cubicBezTo>
                      <a:pt x="1128596" y="2260414"/>
                      <a:pt x="1125472" y="2260401"/>
                      <a:pt x="1122400" y="2260376"/>
                    </a:cubicBezTo>
                    <a:lnTo>
                      <a:pt x="1131722" y="1130207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饼形 104"/>
              <p:cNvSpPr/>
              <p:nvPr/>
            </p:nvSpPr>
            <p:spPr>
              <a:xfrm flipV="1" rot="17560800">
                <a:off x="4174200" y="1734840"/>
                <a:ext cx="66744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1" y="1507182"/>
                    </a:moveTo>
                    <a:cubicBezTo>
                      <a:pt x="1359052" y="1670714"/>
                      <a:pt x="1135012" y="1772130"/>
                      <a:pt x="887252" y="1772130"/>
                    </a:cubicBezTo>
                    <a:cubicBezTo>
                      <a:pt x="883200" y="1772130"/>
                      <a:pt x="879154" y="1772103"/>
                      <a:pt x="875176" y="1772050"/>
                    </a:cubicBezTo>
                    <a:lnTo>
                      <a:pt x="887252" y="88606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饼形 105"/>
              <p:cNvSpPr/>
              <p:nvPr/>
            </p:nvSpPr>
            <p:spPr>
              <a:xfrm flipV="1" rot="17560800">
                <a:off x="4238280" y="179676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0" y="1245476"/>
                    </a:moveTo>
                    <a:cubicBezTo>
                      <a:pt x="1114004" y="1378376"/>
                      <a:pt x="931189" y="1460639"/>
                      <a:pt x="729191" y="1460639"/>
                    </a:cubicBezTo>
                    <a:cubicBezTo>
                      <a:pt x="725818" y="1460639"/>
                      <a:pt x="722450" y="1460616"/>
                      <a:pt x="719138" y="1460571"/>
                    </a:cubicBezTo>
                    <a:lnTo>
                      <a:pt x="729191" y="730320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0" name="Text Box 250"/>
          <p:cNvSpPr/>
          <p:nvPr/>
        </p:nvSpPr>
        <p:spPr>
          <a:xfrm>
            <a:off x="4114440" y="54936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43"/>
                </a:solidFill>
                <a:latin typeface="Arial"/>
              </a:rPr>
              <a:t>蚂 </a:t>
            </a:r>
            <a:r>
              <a:rPr b="1" lang="zh-CN" sz="3600" spc="-1" strike="noStrike">
                <a:solidFill>
                  <a:srgbClr val="8fcf01"/>
                </a:solidFill>
                <a:latin typeface="Arial"/>
              </a:rPr>
              <a:t>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238" descr="21980615&amp;fm=0&amp;gp=0"/>
          <p:cNvPicPr/>
          <p:nvPr/>
        </p:nvPicPr>
        <p:blipFill>
          <a:blip r:embed="rId2"/>
          <a:stretch/>
        </p:blipFill>
        <p:spPr>
          <a:xfrm>
            <a:off x="5364000" y="260280"/>
            <a:ext cx="13338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圆角矩形 107"/>
          <p:cNvSpPr/>
          <p:nvPr/>
        </p:nvSpPr>
        <p:spPr>
          <a:xfrm>
            <a:off x="1066680" y="1862280"/>
            <a:ext cx="7013520" cy="4281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组合 7170"/>
          <p:cNvGrpSpPr/>
          <p:nvPr/>
        </p:nvGrpSpPr>
        <p:grpSpPr>
          <a:xfrm>
            <a:off x="-360" y="-1758960"/>
            <a:ext cx="3522600" cy="3519360"/>
            <a:chOff x="-360" y="-1758960"/>
            <a:chExt cx="3522600" cy="3519360"/>
          </a:xfrm>
        </p:grpSpPr>
        <p:sp>
          <p:nvSpPr>
            <p:cNvPr id="524" name="饼形 45"/>
            <p:cNvSpPr/>
            <p:nvPr/>
          </p:nvSpPr>
          <p:spPr>
            <a:xfrm rot="5400000">
              <a:off x="1080" y="-176040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饼形 46"/>
            <p:cNvSpPr/>
            <p:nvPr/>
          </p:nvSpPr>
          <p:spPr>
            <a:xfrm rot="5400000">
              <a:off x="369000" y="-138420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饼形 47"/>
            <p:cNvSpPr/>
            <p:nvPr/>
          </p:nvSpPr>
          <p:spPr>
            <a:xfrm rot="5400000">
              <a:off x="619560" y="-112356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饼形 48"/>
            <p:cNvSpPr/>
            <p:nvPr/>
          </p:nvSpPr>
          <p:spPr>
            <a:xfrm rot="5400000">
              <a:off x="856440" y="-8776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8" y="1504854"/>
                  </a:moveTo>
                  <a:cubicBezTo>
                    <a:pt x="1355556" y="1668525"/>
                    <a:pt x="1131946" y="1770056"/>
                    <a:pt x="884634" y="1770056"/>
                  </a:cubicBezTo>
                  <a:cubicBezTo>
                    <a:pt x="880587" y="1770056"/>
                    <a:pt x="876546" y="1770029"/>
                    <a:pt x="872572" y="1769975"/>
                  </a:cubicBezTo>
                  <a:lnTo>
                    <a:pt x="884634" y="885028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饼形 49"/>
            <p:cNvSpPr/>
            <p:nvPr/>
          </p:nvSpPr>
          <p:spPr>
            <a:xfrm rot="5400000">
              <a:off x="1023120" y="-72360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9" name="组合 7176"/>
          <p:cNvGrpSpPr/>
          <p:nvPr/>
        </p:nvGrpSpPr>
        <p:grpSpPr>
          <a:xfrm>
            <a:off x="7383600" y="-360"/>
            <a:ext cx="3520800" cy="3522600"/>
            <a:chOff x="7383600" y="-360"/>
            <a:chExt cx="3520800" cy="3522600"/>
          </a:xfrm>
        </p:grpSpPr>
        <p:sp>
          <p:nvSpPr>
            <p:cNvPr id="530" name="饼形 11"/>
            <p:cNvSpPr/>
            <p:nvPr/>
          </p:nvSpPr>
          <p:spPr>
            <a:xfrm rot="10800000">
              <a:off x="7383600" y="-36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饼形 9"/>
            <p:cNvSpPr/>
            <p:nvPr/>
          </p:nvSpPr>
          <p:spPr>
            <a:xfrm rot="10800000">
              <a:off x="7759800" y="367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4" y="2770178"/>
                    <a:pt x="1382050" y="2770176"/>
                    <a:pt x="1380640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饼形 8"/>
            <p:cNvSpPr/>
            <p:nvPr/>
          </p:nvSpPr>
          <p:spPr>
            <a:xfrm rot="10800000">
              <a:off x="8010360" y="6184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饼形 7"/>
            <p:cNvSpPr/>
            <p:nvPr/>
          </p:nvSpPr>
          <p:spPr>
            <a:xfrm rot="10800000">
              <a:off x="8253360" y="85536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7" y="1504853"/>
                  </a:moveTo>
                  <a:cubicBezTo>
                    <a:pt x="1355555" y="1668524"/>
                    <a:pt x="1131946" y="1770055"/>
                    <a:pt x="884633" y="1770055"/>
                  </a:cubicBezTo>
                  <a:cubicBezTo>
                    <a:pt x="880586" y="1770055"/>
                    <a:pt x="876545" y="1770028"/>
                    <a:pt x="872571" y="1769974"/>
                  </a:cubicBezTo>
                  <a:lnTo>
                    <a:pt x="884633" y="885028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饼形 6"/>
            <p:cNvSpPr/>
            <p:nvPr/>
          </p:nvSpPr>
          <p:spPr>
            <a:xfrm rot="10800000">
              <a:off x="8410680" y="102204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5" name="组合 7182"/>
          <p:cNvGrpSpPr/>
          <p:nvPr/>
        </p:nvGrpSpPr>
        <p:grpSpPr>
          <a:xfrm>
            <a:off x="-1758960" y="-360"/>
            <a:ext cx="3519360" cy="3522600"/>
            <a:chOff x="-1758960" y="-360"/>
            <a:chExt cx="3519360" cy="3522600"/>
          </a:xfrm>
        </p:grpSpPr>
        <p:sp>
          <p:nvSpPr>
            <p:cNvPr id="536" name="饼形 16"/>
            <p:cNvSpPr/>
            <p:nvPr/>
          </p:nvSpPr>
          <p:spPr>
            <a:xfrm flipH="1" rot="10800000">
              <a:off x="-1758960" y="-36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饼形 17"/>
            <p:cNvSpPr/>
            <p:nvPr/>
          </p:nvSpPr>
          <p:spPr>
            <a:xfrm flipH="1" rot="10800000">
              <a:off x="-1383840" y="36792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5" y="2770179"/>
                    <a:pt x="1382051" y="2770177"/>
                    <a:pt x="1380641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饼形 18"/>
            <p:cNvSpPr/>
            <p:nvPr/>
          </p:nvSpPr>
          <p:spPr>
            <a:xfrm flipH="1" rot="10800000">
              <a:off x="-1122480" y="61848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饼形 19"/>
            <p:cNvSpPr/>
            <p:nvPr/>
          </p:nvSpPr>
          <p:spPr>
            <a:xfrm flipH="1" rot="10800000">
              <a:off x="-876600" y="85536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8" y="1504854"/>
                  </a:moveTo>
                  <a:cubicBezTo>
                    <a:pt x="1355556" y="1668525"/>
                    <a:pt x="1131946" y="1770056"/>
                    <a:pt x="884634" y="1770056"/>
                  </a:cubicBezTo>
                  <a:cubicBezTo>
                    <a:pt x="880587" y="1770056"/>
                    <a:pt x="876546" y="1770029"/>
                    <a:pt x="872572" y="1769975"/>
                  </a:cubicBezTo>
                  <a:lnTo>
                    <a:pt x="884634" y="885028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饼形 20"/>
            <p:cNvSpPr/>
            <p:nvPr/>
          </p:nvSpPr>
          <p:spPr>
            <a:xfrm flipH="1" rot="10800000">
              <a:off x="-722520" y="102240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1" name="组合 7188"/>
          <p:cNvGrpSpPr/>
          <p:nvPr/>
        </p:nvGrpSpPr>
        <p:grpSpPr>
          <a:xfrm>
            <a:off x="7383600" y="3334680"/>
            <a:ext cx="3520800" cy="3522600"/>
            <a:chOff x="7383600" y="3334680"/>
            <a:chExt cx="3520800" cy="3522600"/>
          </a:xfrm>
        </p:grpSpPr>
        <p:sp>
          <p:nvSpPr>
            <p:cNvPr id="542" name="饼形 24"/>
            <p:cNvSpPr/>
            <p:nvPr/>
          </p:nvSpPr>
          <p:spPr>
            <a:xfrm flipV="1" rot="10800000">
              <a:off x="7383600" y="33343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饼形 25"/>
            <p:cNvSpPr/>
            <p:nvPr/>
          </p:nvSpPr>
          <p:spPr>
            <a:xfrm flipV="1" rot="10800000">
              <a:off x="7759800" y="371844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4" y="2770178"/>
                    <a:pt x="1382050" y="2770176"/>
                    <a:pt x="1380640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饼形 26"/>
            <p:cNvSpPr/>
            <p:nvPr/>
          </p:nvSpPr>
          <p:spPr>
            <a:xfrm flipV="1" rot="10800000">
              <a:off x="8010360" y="397872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饼形 27"/>
            <p:cNvSpPr/>
            <p:nvPr/>
          </p:nvSpPr>
          <p:spPr>
            <a:xfrm flipV="1" rot="10800000">
              <a:off x="8253360" y="42310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55556" y="1668527"/>
                    <a:pt x="1131947" y="1770058"/>
                    <a:pt x="884634" y="1770058"/>
                  </a:cubicBezTo>
                  <a:cubicBezTo>
                    <a:pt x="880587" y="1770058"/>
                    <a:pt x="876546" y="1770031"/>
                    <a:pt x="872572" y="1769977"/>
                  </a:cubicBezTo>
                  <a:lnTo>
                    <a:pt x="884633" y="885029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饼形 28"/>
            <p:cNvSpPr/>
            <p:nvPr/>
          </p:nvSpPr>
          <p:spPr>
            <a:xfrm flipV="1" rot="10800000">
              <a:off x="8410680" y="437688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7" name="组合 7194"/>
          <p:cNvGrpSpPr/>
          <p:nvPr/>
        </p:nvGrpSpPr>
        <p:grpSpPr>
          <a:xfrm>
            <a:off x="-1758960" y="3334680"/>
            <a:ext cx="3519360" cy="3522600"/>
            <a:chOff x="-1758960" y="3334680"/>
            <a:chExt cx="3519360" cy="3522600"/>
          </a:xfrm>
        </p:grpSpPr>
        <p:sp>
          <p:nvSpPr>
            <p:cNvPr id="548" name="饼形 31"/>
            <p:cNvSpPr/>
            <p:nvPr/>
          </p:nvSpPr>
          <p:spPr>
            <a:xfrm flipH="1" flipV="1" rot="10800000">
              <a:off x="-1758960" y="333432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饼形 32"/>
            <p:cNvSpPr/>
            <p:nvPr/>
          </p:nvSpPr>
          <p:spPr>
            <a:xfrm flipH="1" flipV="1" rot="10800000">
              <a:off x="-1383840" y="371844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饼形 33"/>
            <p:cNvSpPr/>
            <p:nvPr/>
          </p:nvSpPr>
          <p:spPr>
            <a:xfrm flipH="1" flipV="1" rot="10800000">
              <a:off x="-1122480" y="397872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饼形 34"/>
            <p:cNvSpPr/>
            <p:nvPr/>
          </p:nvSpPr>
          <p:spPr>
            <a:xfrm flipH="1" flipV="1" rot="10800000">
              <a:off x="-876600" y="42310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8" y="1504855"/>
                  </a:moveTo>
                  <a:cubicBezTo>
                    <a:pt x="1355555" y="1668526"/>
                    <a:pt x="1131946" y="1770057"/>
                    <a:pt x="884633" y="1770057"/>
                  </a:cubicBezTo>
                  <a:cubicBezTo>
                    <a:pt x="880586" y="1770057"/>
                    <a:pt x="876545" y="1770030"/>
                    <a:pt x="872571" y="1769976"/>
                  </a:cubicBezTo>
                  <a:lnTo>
                    <a:pt x="884634" y="885029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饼形 35"/>
            <p:cNvSpPr/>
            <p:nvPr/>
          </p:nvSpPr>
          <p:spPr>
            <a:xfrm flipH="1" flipV="1" rot="10800000">
              <a:off x="-722520" y="437688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组合 7200"/>
          <p:cNvGrpSpPr/>
          <p:nvPr/>
        </p:nvGrpSpPr>
        <p:grpSpPr>
          <a:xfrm>
            <a:off x="5620680" y="5094720"/>
            <a:ext cx="3521160" cy="3521160"/>
            <a:chOff x="5620680" y="5094720"/>
            <a:chExt cx="3521160" cy="3521160"/>
          </a:xfrm>
        </p:grpSpPr>
        <p:sp>
          <p:nvSpPr>
            <p:cNvPr id="554" name="饼形 38"/>
            <p:cNvSpPr/>
            <p:nvPr/>
          </p:nvSpPr>
          <p:spPr>
            <a:xfrm flipH="1" flipV="1" rot="5400000">
              <a:off x="5620320" y="5094360"/>
              <a:ext cx="3521160" cy="35211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饼形 39"/>
            <p:cNvSpPr/>
            <p:nvPr/>
          </p:nvSpPr>
          <p:spPr>
            <a:xfrm flipH="1" flipV="1" rot="5400000">
              <a:off x="6005160" y="5470200"/>
              <a:ext cx="2768760" cy="276912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6" y="2770178"/>
                    <a:pt x="1382054" y="2770176"/>
                    <a:pt x="1380646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饼形 40"/>
            <p:cNvSpPr/>
            <p:nvPr/>
          </p:nvSpPr>
          <p:spPr>
            <a:xfrm flipH="1" flipV="1" rot="5400000">
              <a:off x="6265440" y="5721120"/>
              <a:ext cx="2257560" cy="225792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饼形 41"/>
            <p:cNvSpPr/>
            <p:nvPr/>
          </p:nvSpPr>
          <p:spPr>
            <a:xfrm flipH="1" flipV="1" rot="5400000">
              <a:off x="6517080" y="5963760"/>
              <a:ext cx="1768680" cy="176940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55556" y="1668527"/>
                    <a:pt x="1131947" y="1770058"/>
                    <a:pt x="884634" y="1770058"/>
                  </a:cubicBezTo>
                  <a:cubicBezTo>
                    <a:pt x="880587" y="1770058"/>
                    <a:pt x="876546" y="1770031"/>
                    <a:pt x="872572" y="1769977"/>
                  </a:cubicBezTo>
                  <a:lnTo>
                    <a:pt x="884633" y="885029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饼形 42"/>
            <p:cNvSpPr/>
            <p:nvPr/>
          </p:nvSpPr>
          <p:spPr>
            <a:xfrm flipH="1" flipV="1" rot="5400000">
              <a:off x="6661440" y="6120720"/>
              <a:ext cx="1457280" cy="145836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9" name="组合 7206"/>
          <p:cNvGrpSpPr/>
          <p:nvPr/>
        </p:nvGrpSpPr>
        <p:grpSpPr>
          <a:xfrm>
            <a:off x="5620680" y="-1758960"/>
            <a:ext cx="3522600" cy="3519360"/>
            <a:chOff x="5620680" y="-1758960"/>
            <a:chExt cx="3522600" cy="3519360"/>
          </a:xfrm>
        </p:grpSpPr>
        <p:sp>
          <p:nvSpPr>
            <p:cNvPr id="560" name="饼形 52"/>
            <p:cNvSpPr/>
            <p:nvPr/>
          </p:nvSpPr>
          <p:spPr>
            <a:xfrm flipH="1" rot="16200000">
              <a:off x="5621760" y="-176040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饼形 53"/>
            <p:cNvSpPr/>
            <p:nvPr/>
          </p:nvSpPr>
          <p:spPr>
            <a:xfrm flipH="1" rot="16200000">
              <a:off x="6005880" y="-138384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饼形 54"/>
            <p:cNvSpPr/>
            <p:nvPr/>
          </p:nvSpPr>
          <p:spPr>
            <a:xfrm flipH="1" rot="16200000">
              <a:off x="6265800" y="-112356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饼形 55"/>
            <p:cNvSpPr/>
            <p:nvPr/>
          </p:nvSpPr>
          <p:spPr>
            <a:xfrm flipH="1" rot="16200000">
              <a:off x="6518160" y="-8776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8" y="1504855"/>
                  </a:moveTo>
                  <a:cubicBezTo>
                    <a:pt x="1355555" y="1668526"/>
                    <a:pt x="1131946" y="1770057"/>
                    <a:pt x="884633" y="1770057"/>
                  </a:cubicBezTo>
                  <a:cubicBezTo>
                    <a:pt x="880586" y="1770057"/>
                    <a:pt x="876545" y="1770030"/>
                    <a:pt x="872571" y="1769976"/>
                  </a:cubicBezTo>
                  <a:lnTo>
                    <a:pt x="884634" y="885029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饼形 56"/>
            <p:cNvSpPr/>
            <p:nvPr/>
          </p:nvSpPr>
          <p:spPr>
            <a:xfrm flipH="1" rot="16200000">
              <a:off x="6663960" y="-72324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9567" y="1240095"/>
                  </a:moveTo>
                  <a:cubicBezTo>
                    <a:pt x="1117264" y="1375130"/>
                    <a:pt x="932904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5" name="组合 7212"/>
          <p:cNvGrpSpPr/>
          <p:nvPr/>
        </p:nvGrpSpPr>
        <p:grpSpPr>
          <a:xfrm>
            <a:off x="-360" y="5097600"/>
            <a:ext cx="3522600" cy="3520800"/>
            <a:chOff x="-360" y="5097600"/>
            <a:chExt cx="3522600" cy="3520800"/>
          </a:xfrm>
        </p:grpSpPr>
        <p:sp>
          <p:nvSpPr>
            <p:cNvPr id="566" name="饼形 60"/>
            <p:cNvSpPr/>
            <p:nvPr/>
          </p:nvSpPr>
          <p:spPr>
            <a:xfrm flipV="1" rot="16200000">
              <a:off x="360" y="50965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饼形 61"/>
            <p:cNvSpPr/>
            <p:nvPr/>
          </p:nvSpPr>
          <p:spPr>
            <a:xfrm flipV="1" rot="16200000">
              <a:off x="368640" y="54727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6" y="2770178"/>
                    <a:pt x="1382054" y="2770176"/>
                    <a:pt x="1380646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饼形 62"/>
            <p:cNvSpPr/>
            <p:nvPr/>
          </p:nvSpPr>
          <p:spPr>
            <a:xfrm flipV="1" rot="16200000">
              <a:off x="619200" y="5723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饼形 63"/>
            <p:cNvSpPr/>
            <p:nvPr/>
          </p:nvSpPr>
          <p:spPr>
            <a:xfrm flipV="1" rot="16200000">
              <a:off x="856080" y="59662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7" y="1504853"/>
                  </a:moveTo>
                  <a:cubicBezTo>
                    <a:pt x="1355555" y="1668524"/>
                    <a:pt x="1131946" y="1770055"/>
                    <a:pt x="884633" y="1770055"/>
                  </a:cubicBezTo>
                  <a:cubicBezTo>
                    <a:pt x="880586" y="1770055"/>
                    <a:pt x="876545" y="1770028"/>
                    <a:pt x="872571" y="1769974"/>
                  </a:cubicBezTo>
                  <a:lnTo>
                    <a:pt x="884633" y="885028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饼形 64"/>
            <p:cNvSpPr/>
            <p:nvPr/>
          </p:nvSpPr>
          <p:spPr>
            <a:xfrm flipV="1" rot="16200000">
              <a:off x="1023120" y="61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1" name="组合 7218"/>
          <p:cNvGrpSpPr/>
          <p:nvPr/>
        </p:nvGrpSpPr>
        <p:grpSpPr>
          <a:xfrm>
            <a:off x="3643920" y="1213560"/>
            <a:ext cx="1738440" cy="1740600"/>
            <a:chOff x="3643920" y="1213560"/>
            <a:chExt cx="1738440" cy="1740600"/>
          </a:xfrm>
        </p:grpSpPr>
        <p:grpSp>
          <p:nvGrpSpPr>
            <p:cNvPr id="572" name="组合 7219"/>
            <p:cNvGrpSpPr/>
            <p:nvPr/>
          </p:nvGrpSpPr>
          <p:grpSpPr>
            <a:xfrm>
              <a:off x="3644280" y="1217160"/>
              <a:ext cx="1738080" cy="1737000"/>
              <a:chOff x="3644280" y="1217160"/>
              <a:chExt cx="1738080" cy="1737000"/>
            </a:xfrm>
          </p:grpSpPr>
          <p:sp>
            <p:nvSpPr>
              <p:cNvPr id="573" name="饼形 71"/>
              <p:cNvSpPr/>
              <p:nvPr/>
            </p:nvSpPr>
            <p:spPr>
              <a:xfrm rot="12161400">
                <a:off x="384876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3" y="3005199"/>
                    </a:moveTo>
                    <a:cubicBezTo>
                      <a:pt x="2694039" y="3327987"/>
                      <a:pt x="2251141" y="3527936"/>
                      <a:pt x="1761605" y="3527936"/>
                    </a:cubicBezTo>
                    <a:cubicBezTo>
                      <a:pt x="1759393" y="3527936"/>
                      <a:pt x="1757182" y="3527932"/>
                      <a:pt x="1755007" y="3527924"/>
                    </a:cubicBezTo>
                    <a:lnTo>
                      <a:pt x="1761605" y="176396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饼形 72"/>
              <p:cNvSpPr/>
              <p:nvPr/>
            </p:nvSpPr>
            <p:spPr>
              <a:xfrm rot="12161400">
                <a:off x="3990240" y="1559880"/>
                <a:ext cx="1046160" cy="104364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1" y="2358226"/>
                    </a:moveTo>
                    <a:cubicBezTo>
                      <a:pt x="2125031" y="2614497"/>
                      <a:pt x="1774570" y="2773455"/>
                      <a:pt x="1386976" y="2773455"/>
                    </a:cubicBezTo>
                    <a:cubicBezTo>
                      <a:pt x="1385540" y="2773455"/>
                      <a:pt x="1384104" y="2773453"/>
                      <a:pt x="1382692" y="2773449"/>
                    </a:cubicBezTo>
                    <a:lnTo>
                      <a:pt x="1386976" y="1386728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饼形 73"/>
              <p:cNvSpPr/>
              <p:nvPr/>
            </p:nvSpPr>
            <p:spPr>
              <a:xfrm rot="12161400">
                <a:off x="4084920" y="165312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5" y="1921874"/>
                    </a:moveTo>
                    <a:cubicBezTo>
                      <a:pt x="1734037" y="2130108"/>
                      <a:pt x="1448288" y="2259227"/>
                      <a:pt x="1132310" y="2259227"/>
                    </a:cubicBezTo>
                    <a:cubicBezTo>
                      <a:pt x="1129185" y="2259227"/>
                      <a:pt x="1126063" y="2259214"/>
                      <a:pt x="1122993" y="2259190"/>
                    </a:cubicBezTo>
                    <a:lnTo>
                      <a:pt x="1132311" y="1129614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饼形 74"/>
              <p:cNvSpPr/>
              <p:nvPr/>
            </p:nvSpPr>
            <p:spPr>
              <a:xfrm rot="12161400">
                <a:off x="4180680" y="174276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饼形 75"/>
              <p:cNvSpPr/>
              <p:nvPr/>
            </p:nvSpPr>
            <p:spPr>
              <a:xfrm rot="12161400">
                <a:off x="4236120" y="180648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7"/>
                    </a:moveTo>
                    <a:cubicBezTo>
                      <a:pt x="1115679" y="1380245"/>
                      <a:pt x="932603" y="1462596"/>
                      <a:pt x="730319" y="1462596"/>
                    </a:cubicBezTo>
                    <a:cubicBezTo>
                      <a:pt x="726942" y="1462596"/>
                      <a:pt x="723569" y="1462573"/>
                      <a:pt x="720253" y="1462528"/>
                    </a:cubicBezTo>
                    <a:lnTo>
                      <a:pt x="730319" y="7312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8" name="组合 7225"/>
            <p:cNvGrpSpPr/>
            <p:nvPr/>
          </p:nvGrpSpPr>
          <p:grpSpPr>
            <a:xfrm>
              <a:off x="3643920" y="1216800"/>
              <a:ext cx="1738080" cy="1737000"/>
              <a:chOff x="3643920" y="1216800"/>
              <a:chExt cx="1738080" cy="1737000"/>
            </a:xfrm>
          </p:grpSpPr>
          <p:sp>
            <p:nvSpPr>
              <p:cNvPr id="579" name="饼形 77"/>
              <p:cNvSpPr/>
              <p:nvPr/>
            </p:nvSpPr>
            <p:spPr>
              <a:xfrm flipH="1" rot="12160800">
                <a:off x="384840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2" y="3002357"/>
                    </a:moveTo>
                    <a:cubicBezTo>
                      <a:pt x="2693354" y="3324320"/>
                      <a:pt x="2250762" y="3523721"/>
                      <a:pt x="1761605" y="3523721"/>
                    </a:cubicBezTo>
                    <a:cubicBezTo>
                      <a:pt x="1759395" y="3523721"/>
                      <a:pt x="1757187" y="3523717"/>
                      <a:pt x="1755014" y="3523709"/>
                    </a:cubicBezTo>
                    <a:lnTo>
                      <a:pt x="1761605" y="17618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饼形 78"/>
              <p:cNvSpPr/>
              <p:nvPr/>
            </p:nvSpPr>
            <p:spPr>
              <a:xfrm flipH="1" rot="12160800">
                <a:off x="3985920" y="1559160"/>
                <a:ext cx="1047960" cy="104652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7" y="2361808"/>
                    </a:moveTo>
                    <a:cubicBezTo>
                      <a:pt x="2128255" y="2618469"/>
                      <a:pt x="1777262" y="2777669"/>
                      <a:pt x="1389080" y="2777669"/>
                    </a:cubicBezTo>
                    <a:cubicBezTo>
                      <a:pt x="1387641" y="2777669"/>
                      <a:pt x="1386203" y="2777667"/>
                      <a:pt x="1384789" y="2777663"/>
                    </a:cubicBezTo>
                    <a:lnTo>
                      <a:pt x="1389080" y="138883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饼形 79"/>
              <p:cNvSpPr/>
              <p:nvPr/>
            </p:nvSpPr>
            <p:spPr>
              <a:xfrm flipH="1" rot="12160800">
                <a:off x="4089600" y="1656720"/>
                <a:ext cx="852480" cy="85104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31498" y="2129800"/>
                      <a:pt x="1445975" y="2259228"/>
                      <a:pt x="1130206" y="2259228"/>
                    </a:cubicBezTo>
                    <a:cubicBezTo>
                      <a:pt x="1127081" y="2259228"/>
                      <a:pt x="1123959" y="2259215"/>
                      <a:pt x="1120889" y="2259190"/>
                    </a:cubicBezTo>
                    <a:lnTo>
                      <a:pt x="1130205" y="1129614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饼形 80"/>
              <p:cNvSpPr/>
              <p:nvPr/>
            </p:nvSpPr>
            <p:spPr>
              <a:xfrm flipH="1" rot="12160800">
                <a:off x="4183560" y="174600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饼形 81"/>
              <p:cNvSpPr/>
              <p:nvPr/>
            </p:nvSpPr>
            <p:spPr>
              <a:xfrm flipH="1" rot="12160800">
                <a:off x="4237200" y="1805400"/>
                <a:ext cx="552600" cy="54936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39" y="1245092"/>
                    </a:moveTo>
                    <a:cubicBezTo>
                      <a:pt x="1117519" y="1376882"/>
                      <a:pt x="934531" y="1458382"/>
                      <a:pt x="732423" y="1458382"/>
                    </a:cubicBezTo>
                    <a:cubicBezTo>
                      <a:pt x="729055" y="1458382"/>
                      <a:pt x="725693" y="1458359"/>
                      <a:pt x="722386" y="1458315"/>
                    </a:cubicBezTo>
                    <a:lnTo>
                      <a:pt x="732424" y="729191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4" name="组合 7231"/>
            <p:cNvGrpSpPr/>
            <p:nvPr/>
          </p:nvGrpSpPr>
          <p:grpSpPr>
            <a:xfrm>
              <a:off x="3644280" y="1213560"/>
              <a:ext cx="1737720" cy="1737000"/>
              <a:chOff x="3644280" y="1213560"/>
              <a:chExt cx="1737720" cy="1737000"/>
            </a:xfrm>
          </p:grpSpPr>
          <p:sp>
            <p:nvSpPr>
              <p:cNvPr id="585" name="饼形 101"/>
              <p:cNvSpPr/>
              <p:nvPr/>
            </p:nvSpPr>
            <p:spPr>
              <a:xfrm flipV="1" rot="17560800">
                <a:off x="3849120" y="1417320"/>
                <a:ext cx="132732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0"/>
                    </a:moveTo>
                    <a:cubicBezTo>
                      <a:pt x="2696114" y="3324221"/>
                      <a:pt x="2253310" y="3523210"/>
                      <a:pt x="1763968" y="3523210"/>
                    </a:cubicBezTo>
                    <a:cubicBezTo>
                      <a:pt x="1761759" y="3523210"/>
                      <a:pt x="1759551" y="3523206"/>
                      <a:pt x="1757379" y="3523198"/>
                    </a:cubicBezTo>
                    <a:lnTo>
                      <a:pt x="1763968" y="17616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饼形 102"/>
              <p:cNvSpPr/>
              <p:nvPr/>
            </p:nvSpPr>
            <p:spPr>
              <a:xfrm flipV="1" rot="17560800">
                <a:off x="3989520" y="1554120"/>
                <a:ext cx="104508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0" y="2362051"/>
                    </a:moveTo>
                    <a:cubicBezTo>
                      <a:pt x="2128041" y="2618859"/>
                      <a:pt x="1777038" y="2778160"/>
                      <a:pt x="1388836" y="2778160"/>
                    </a:cubicBezTo>
                    <a:cubicBezTo>
                      <a:pt x="1387399" y="2778160"/>
                      <a:pt x="1385963" y="2778158"/>
                      <a:pt x="1384551" y="2778154"/>
                    </a:cubicBezTo>
                    <a:lnTo>
                      <a:pt x="1388836" y="1389080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饼形 103"/>
              <p:cNvSpPr/>
              <p:nvPr/>
            </p:nvSpPr>
            <p:spPr>
              <a:xfrm flipV="1" rot="17560800">
                <a:off x="4082400" y="1651320"/>
                <a:ext cx="85176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1" y="1922463"/>
                    </a:moveTo>
                    <a:cubicBezTo>
                      <a:pt x="1733521" y="2131054"/>
                      <a:pt x="1447749" y="2260414"/>
                      <a:pt x="1131722" y="2260414"/>
                    </a:cubicBezTo>
                    <a:cubicBezTo>
                      <a:pt x="1128596" y="2260414"/>
                      <a:pt x="1125472" y="2260401"/>
                      <a:pt x="1122400" y="2260376"/>
                    </a:cubicBezTo>
                    <a:lnTo>
                      <a:pt x="1131722" y="1130207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饼形 104"/>
              <p:cNvSpPr/>
              <p:nvPr/>
            </p:nvSpPr>
            <p:spPr>
              <a:xfrm flipV="1" rot="17560800">
                <a:off x="4170960" y="1741320"/>
                <a:ext cx="66780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1" y="1507182"/>
                    </a:moveTo>
                    <a:cubicBezTo>
                      <a:pt x="1359052" y="1670714"/>
                      <a:pt x="1135012" y="1772130"/>
                      <a:pt x="887252" y="1772130"/>
                    </a:cubicBezTo>
                    <a:cubicBezTo>
                      <a:pt x="883200" y="1772130"/>
                      <a:pt x="879154" y="1772103"/>
                      <a:pt x="875176" y="1772050"/>
                    </a:cubicBezTo>
                    <a:lnTo>
                      <a:pt x="887252" y="88606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饼形 105"/>
              <p:cNvSpPr/>
              <p:nvPr/>
            </p:nvSpPr>
            <p:spPr>
              <a:xfrm flipV="1" rot="17560800">
                <a:off x="4235040" y="180288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0" y="1245476"/>
                    </a:moveTo>
                    <a:cubicBezTo>
                      <a:pt x="1114004" y="1378376"/>
                      <a:pt x="931189" y="1460639"/>
                      <a:pt x="729191" y="1460639"/>
                    </a:cubicBezTo>
                    <a:cubicBezTo>
                      <a:pt x="725818" y="1460639"/>
                      <a:pt x="722450" y="1460616"/>
                      <a:pt x="719138" y="1460571"/>
                    </a:cubicBezTo>
                    <a:lnTo>
                      <a:pt x="729191" y="730320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0" name="圆角矩形 107"/>
          <p:cNvSpPr/>
          <p:nvPr/>
        </p:nvSpPr>
        <p:spPr>
          <a:xfrm>
            <a:off x="1066680" y="1862280"/>
            <a:ext cx="7013520" cy="4281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1" name="组合 7238"/>
          <p:cNvGrpSpPr/>
          <p:nvPr/>
        </p:nvGrpSpPr>
        <p:grpSpPr>
          <a:xfrm>
            <a:off x="3646800" y="1207800"/>
            <a:ext cx="1738080" cy="1740240"/>
            <a:chOff x="3646800" y="1207800"/>
            <a:chExt cx="1738080" cy="1740240"/>
          </a:xfrm>
        </p:grpSpPr>
        <p:grpSp>
          <p:nvGrpSpPr>
            <p:cNvPr id="592" name="组合 7239"/>
            <p:cNvGrpSpPr/>
            <p:nvPr/>
          </p:nvGrpSpPr>
          <p:grpSpPr>
            <a:xfrm>
              <a:off x="3647160" y="1211400"/>
              <a:ext cx="1737720" cy="1736640"/>
              <a:chOff x="3647160" y="1211400"/>
              <a:chExt cx="1737720" cy="1736640"/>
            </a:xfrm>
          </p:grpSpPr>
          <p:sp>
            <p:nvSpPr>
              <p:cNvPr id="593" name="饼形 71"/>
              <p:cNvSpPr/>
              <p:nvPr/>
            </p:nvSpPr>
            <p:spPr>
              <a:xfrm rot="12161400">
                <a:off x="385164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3" y="3005199"/>
                    </a:moveTo>
                    <a:cubicBezTo>
                      <a:pt x="2694039" y="3327987"/>
                      <a:pt x="2251141" y="3527936"/>
                      <a:pt x="1761605" y="3527936"/>
                    </a:cubicBezTo>
                    <a:cubicBezTo>
                      <a:pt x="1759393" y="3527936"/>
                      <a:pt x="1757182" y="3527932"/>
                      <a:pt x="1755007" y="3527924"/>
                    </a:cubicBezTo>
                    <a:lnTo>
                      <a:pt x="1761605" y="176396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饼形 72"/>
              <p:cNvSpPr/>
              <p:nvPr/>
            </p:nvSpPr>
            <p:spPr>
              <a:xfrm rot="12161400">
                <a:off x="3993120" y="1554120"/>
                <a:ext cx="1046160" cy="104328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1" y="2358226"/>
                    </a:moveTo>
                    <a:cubicBezTo>
                      <a:pt x="2125031" y="2614497"/>
                      <a:pt x="1774570" y="2773455"/>
                      <a:pt x="1386976" y="2773455"/>
                    </a:cubicBezTo>
                    <a:cubicBezTo>
                      <a:pt x="1385540" y="2773455"/>
                      <a:pt x="1384104" y="2773453"/>
                      <a:pt x="1382692" y="2773449"/>
                    </a:cubicBezTo>
                    <a:lnTo>
                      <a:pt x="1386976" y="1386728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饼形 73"/>
              <p:cNvSpPr/>
              <p:nvPr/>
            </p:nvSpPr>
            <p:spPr>
              <a:xfrm rot="12161400">
                <a:off x="4087800" y="164700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5" y="1921874"/>
                    </a:moveTo>
                    <a:cubicBezTo>
                      <a:pt x="1734037" y="2130108"/>
                      <a:pt x="1448288" y="2259227"/>
                      <a:pt x="1132310" y="2259227"/>
                    </a:cubicBezTo>
                    <a:cubicBezTo>
                      <a:pt x="1129185" y="2259227"/>
                      <a:pt x="1126063" y="2259214"/>
                      <a:pt x="1122993" y="2259190"/>
                    </a:cubicBezTo>
                    <a:lnTo>
                      <a:pt x="1132311" y="1129614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饼形 74"/>
              <p:cNvSpPr/>
              <p:nvPr/>
            </p:nvSpPr>
            <p:spPr>
              <a:xfrm rot="12161400">
                <a:off x="4183560" y="173664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饼形 75"/>
              <p:cNvSpPr/>
              <p:nvPr/>
            </p:nvSpPr>
            <p:spPr>
              <a:xfrm rot="12161400">
                <a:off x="4239000" y="180000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7"/>
                    </a:moveTo>
                    <a:cubicBezTo>
                      <a:pt x="1115679" y="1380245"/>
                      <a:pt x="932603" y="1462596"/>
                      <a:pt x="730319" y="1462596"/>
                    </a:cubicBezTo>
                    <a:cubicBezTo>
                      <a:pt x="726942" y="1462596"/>
                      <a:pt x="723569" y="1462573"/>
                      <a:pt x="720253" y="1462528"/>
                    </a:cubicBezTo>
                    <a:lnTo>
                      <a:pt x="730319" y="7312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8" name="组合 7245"/>
            <p:cNvGrpSpPr/>
            <p:nvPr/>
          </p:nvGrpSpPr>
          <p:grpSpPr>
            <a:xfrm>
              <a:off x="3646800" y="1211040"/>
              <a:ext cx="1737720" cy="1736640"/>
              <a:chOff x="3646800" y="1211040"/>
              <a:chExt cx="1737720" cy="1736640"/>
            </a:xfrm>
          </p:grpSpPr>
          <p:sp>
            <p:nvSpPr>
              <p:cNvPr id="599" name="饼形 77"/>
              <p:cNvSpPr/>
              <p:nvPr/>
            </p:nvSpPr>
            <p:spPr>
              <a:xfrm flipH="1" rot="12160800">
                <a:off x="385092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2" y="3002357"/>
                    </a:moveTo>
                    <a:cubicBezTo>
                      <a:pt x="2693354" y="3324320"/>
                      <a:pt x="2250762" y="3523721"/>
                      <a:pt x="1761605" y="3523721"/>
                    </a:cubicBezTo>
                    <a:cubicBezTo>
                      <a:pt x="1759395" y="3523721"/>
                      <a:pt x="1757187" y="3523717"/>
                      <a:pt x="1755014" y="3523709"/>
                    </a:cubicBezTo>
                    <a:lnTo>
                      <a:pt x="1761605" y="17618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饼形 78"/>
              <p:cNvSpPr/>
              <p:nvPr/>
            </p:nvSpPr>
            <p:spPr>
              <a:xfrm flipH="1" rot="12160800">
                <a:off x="3989160" y="1553760"/>
                <a:ext cx="1047960" cy="104616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7" y="2361808"/>
                    </a:moveTo>
                    <a:cubicBezTo>
                      <a:pt x="2128255" y="2618469"/>
                      <a:pt x="1777262" y="2777669"/>
                      <a:pt x="1389080" y="2777669"/>
                    </a:cubicBezTo>
                    <a:cubicBezTo>
                      <a:pt x="1387641" y="2777669"/>
                      <a:pt x="1386203" y="2777667"/>
                      <a:pt x="1384789" y="2777663"/>
                    </a:cubicBezTo>
                    <a:lnTo>
                      <a:pt x="1389080" y="138883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饼形 79"/>
              <p:cNvSpPr/>
              <p:nvPr/>
            </p:nvSpPr>
            <p:spPr>
              <a:xfrm flipH="1" rot="12160800">
                <a:off x="4093200" y="1650600"/>
                <a:ext cx="852480" cy="85068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31498" y="2129800"/>
                      <a:pt x="1445975" y="2259228"/>
                      <a:pt x="1130206" y="2259228"/>
                    </a:cubicBezTo>
                    <a:cubicBezTo>
                      <a:pt x="1127081" y="2259228"/>
                      <a:pt x="1123959" y="2259215"/>
                      <a:pt x="1120889" y="2259190"/>
                    </a:cubicBezTo>
                    <a:lnTo>
                      <a:pt x="1130205" y="1129614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饼形 80"/>
              <p:cNvSpPr/>
              <p:nvPr/>
            </p:nvSpPr>
            <p:spPr>
              <a:xfrm flipH="1" rot="12160800">
                <a:off x="4186440" y="173952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饼形 81"/>
              <p:cNvSpPr/>
              <p:nvPr/>
            </p:nvSpPr>
            <p:spPr>
              <a:xfrm flipH="1" rot="12160800">
                <a:off x="4240440" y="1799280"/>
                <a:ext cx="552600" cy="54900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39" y="1245092"/>
                    </a:moveTo>
                    <a:cubicBezTo>
                      <a:pt x="1117519" y="1376882"/>
                      <a:pt x="934531" y="1458382"/>
                      <a:pt x="732423" y="1458382"/>
                    </a:cubicBezTo>
                    <a:cubicBezTo>
                      <a:pt x="729055" y="1458382"/>
                      <a:pt x="725693" y="1458359"/>
                      <a:pt x="722386" y="1458315"/>
                    </a:cubicBezTo>
                    <a:lnTo>
                      <a:pt x="732424" y="729191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4" name="组合 7251"/>
            <p:cNvGrpSpPr/>
            <p:nvPr/>
          </p:nvGrpSpPr>
          <p:grpSpPr>
            <a:xfrm>
              <a:off x="3647160" y="1207800"/>
              <a:ext cx="1737720" cy="1736640"/>
              <a:chOff x="3647160" y="1207800"/>
              <a:chExt cx="1737720" cy="1736640"/>
            </a:xfrm>
          </p:grpSpPr>
          <p:sp>
            <p:nvSpPr>
              <p:cNvPr id="605" name="饼形 101"/>
              <p:cNvSpPr/>
              <p:nvPr/>
            </p:nvSpPr>
            <p:spPr>
              <a:xfrm flipV="1" rot="17560800">
                <a:off x="3852360" y="1411560"/>
                <a:ext cx="132696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0"/>
                    </a:moveTo>
                    <a:cubicBezTo>
                      <a:pt x="2696114" y="3324221"/>
                      <a:pt x="2253310" y="3523210"/>
                      <a:pt x="1763968" y="3523210"/>
                    </a:cubicBezTo>
                    <a:cubicBezTo>
                      <a:pt x="1761759" y="3523210"/>
                      <a:pt x="1759551" y="3523206"/>
                      <a:pt x="1757379" y="3523198"/>
                    </a:cubicBezTo>
                    <a:lnTo>
                      <a:pt x="1763968" y="17616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饼形 102"/>
              <p:cNvSpPr/>
              <p:nvPr/>
            </p:nvSpPr>
            <p:spPr>
              <a:xfrm flipV="1" rot="17560800">
                <a:off x="3992400" y="1548720"/>
                <a:ext cx="104472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0" y="2362051"/>
                    </a:moveTo>
                    <a:cubicBezTo>
                      <a:pt x="2128041" y="2618859"/>
                      <a:pt x="1777038" y="2778160"/>
                      <a:pt x="1388836" y="2778160"/>
                    </a:cubicBezTo>
                    <a:cubicBezTo>
                      <a:pt x="1387399" y="2778160"/>
                      <a:pt x="1385963" y="2778158"/>
                      <a:pt x="1384551" y="2778154"/>
                    </a:cubicBezTo>
                    <a:lnTo>
                      <a:pt x="1388836" y="1389080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饼形 103"/>
              <p:cNvSpPr/>
              <p:nvPr/>
            </p:nvSpPr>
            <p:spPr>
              <a:xfrm flipV="1" rot="17560800">
                <a:off x="4086000" y="1644480"/>
                <a:ext cx="85140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1" y="1922463"/>
                    </a:moveTo>
                    <a:cubicBezTo>
                      <a:pt x="1733521" y="2131054"/>
                      <a:pt x="1447749" y="2260414"/>
                      <a:pt x="1131722" y="2260414"/>
                    </a:cubicBezTo>
                    <a:cubicBezTo>
                      <a:pt x="1128596" y="2260414"/>
                      <a:pt x="1125472" y="2260401"/>
                      <a:pt x="1122400" y="2260376"/>
                    </a:cubicBezTo>
                    <a:lnTo>
                      <a:pt x="1131722" y="1130207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饼形 104"/>
              <p:cNvSpPr/>
              <p:nvPr/>
            </p:nvSpPr>
            <p:spPr>
              <a:xfrm flipV="1" rot="17560800">
                <a:off x="4174200" y="1734840"/>
                <a:ext cx="66744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1" y="1507182"/>
                    </a:moveTo>
                    <a:cubicBezTo>
                      <a:pt x="1359052" y="1670714"/>
                      <a:pt x="1135012" y="1772130"/>
                      <a:pt x="887252" y="1772130"/>
                    </a:cubicBezTo>
                    <a:cubicBezTo>
                      <a:pt x="883200" y="1772130"/>
                      <a:pt x="879154" y="1772103"/>
                      <a:pt x="875176" y="1772050"/>
                    </a:cubicBezTo>
                    <a:lnTo>
                      <a:pt x="887252" y="88606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饼形 105"/>
              <p:cNvSpPr/>
              <p:nvPr/>
            </p:nvSpPr>
            <p:spPr>
              <a:xfrm flipV="1" rot="17560800">
                <a:off x="4238280" y="179676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0" y="1245476"/>
                    </a:moveTo>
                    <a:cubicBezTo>
                      <a:pt x="1114004" y="1378376"/>
                      <a:pt x="931189" y="1460639"/>
                      <a:pt x="729191" y="1460639"/>
                    </a:cubicBezTo>
                    <a:cubicBezTo>
                      <a:pt x="725818" y="1460639"/>
                      <a:pt x="722450" y="1460616"/>
                      <a:pt x="719138" y="1460571"/>
                    </a:cubicBezTo>
                    <a:lnTo>
                      <a:pt x="729191" y="730320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0" name="圆角矩形 107"/>
          <p:cNvSpPr/>
          <p:nvPr/>
        </p:nvSpPr>
        <p:spPr>
          <a:xfrm>
            <a:off x="1066680" y="1862280"/>
            <a:ext cx="7013520" cy="4281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蝴蝶给人的感觉，光鲜亮丽、美丽自由、无拘无束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从庄周梦蝶到梁祝化蝶，所追逐与表达的都是一种能够无拘无束、自主自在地把握生活的美好意境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或许我们不能掌控命运，但是我们可以掌控自己的态度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像蝴蝶一样生活娱乐，在自由翩跹中，悠然自乐，浑然忘返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其实蝴蝶的生命远不如表面看到的那么绚丽自在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蝴蝶的一生要经过卵、幼虫、蛹和成虫四个发育阶段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每一只蝴蝶破茧而出时，都要经过黑暗和痛苦的过程，没有任何外来力量可以帮得上忙，任何加速破茧的企图，都会成为让它死亡的前奏，除了耐心等待，蝴蝶别无选择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但是，一旦冲出黑暗、破茧而出，蝴蝶就尽情展示美丽，享受自由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1" name="组合 7258"/>
          <p:cNvGrpSpPr/>
          <p:nvPr/>
        </p:nvGrpSpPr>
        <p:grpSpPr>
          <a:xfrm>
            <a:off x="3646800" y="1207800"/>
            <a:ext cx="1738080" cy="1740240"/>
            <a:chOff x="3646800" y="1207800"/>
            <a:chExt cx="1738080" cy="1740240"/>
          </a:xfrm>
        </p:grpSpPr>
        <p:grpSp>
          <p:nvGrpSpPr>
            <p:cNvPr id="612" name="组合 7259"/>
            <p:cNvGrpSpPr/>
            <p:nvPr/>
          </p:nvGrpSpPr>
          <p:grpSpPr>
            <a:xfrm>
              <a:off x="3647160" y="1211400"/>
              <a:ext cx="1737720" cy="1736640"/>
              <a:chOff x="3647160" y="1211400"/>
              <a:chExt cx="1737720" cy="1736640"/>
            </a:xfrm>
          </p:grpSpPr>
          <p:sp>
            <p:nvSpPr>
              <p:cNvPr id="613" name="饼形 71"/>
              <p:cNvSpPr/>
              <p:nvPr/>
            </p:nvSpPr>
            <p:spPr>
              <a:xfrm rot="12161400">
                <a:off x="385164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3" y="3005199"/>
                    </a:moveTo>
                    <a:cubicBezTo>
                      <a:pt x="2694039" y="3327987"/>
                      <a:pt x="2251141" y="3527936"/>
                      <a:pt x="1761605" y="3527936"/>
                    </a:cubicBezTo>
                    <a:cubicBezTo>
                      <a:pt x="1759393" y="3527936"/>
                      <a:pt x="1757182" y="3527932"/>
                      <a:pt x="1755007" y="3527924"/>
                    </a:cubicBezTo>
                    <a:lnTo>
                      <a:pt x="1761605" y="176396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饼形 72"/>
              <p:cNvSpPr/>
              <p:nvPr/>
            </p:nvSpPr>
            <p:spPr>
              <a:xfrm rot="12161400">
                <a:off x="3993120" y="1554120"/>
                <a:ext cx="1046160" cy="104328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1" y="2358226"/>
                    </a:moveTo>
                    <a:cubicBezTo>
                      <a:pt x="2125031" y="2614497"/>
                      <a:pt x="1774570" y="2773455"/>
                      <a:pt x="1386976" y="2773455"/>
                    </a:cubicBezTo>
                    <a:cubicBezTo>
                      <a:pt x="1385540" y="2773455"/>
                      <a:pt x="1384104" y="2773453"/>
                      <a:pt x="1382692" y="2773449"/>
                    </a:cubicBezTo>
                    <a:lnTo>
                      <a:pt x="1386976" y="1386728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饼形 73"/>
              <p:cNvSpPr/>
              <p:nvPr/>
            </p:nvSpPr>
            <p:spPr>
              <a:xfrm rot="12161400">
                <a:off x="4087800" y="164700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5" y="1921874"/>
                    </a:moveTo>
                    <a:cubicBezTo>
                      <a:pt x="1734037" y="2130108"/>
                      <a:pt x="1448288" y="2259227"/>
                      <a:pt x="1132310" y="2259227"/>
                    </a:cubicBezTo>
                    <a:cubicBezTo>
                      <a:pt x="1129185" y="2259227"/>
                      <a:pt x="1126063" y="2259214"/>
                      <a:pt x="1122993" y="2259190"/>
                    </a:cubicBezTo>
                    <a:lnTo>
                      <a:pt x="1132311" y="1129614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饼形 74"/>
              <p:cNvSpPr/>
              <p:nvPr/>
            </p:nvSpPr>
            <p:spPr>
              <a:xfrm rot="12161400">
                <a:off x="4183560" y="173664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饼形 75"/>
              <p:cNvSpPr/>
              <p:nvPr/>
            </p:nvSpPr>
            <p:spPr>
              <a:xfrm rot="12161400">
                <a:off x="4239000" y="180000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7"/>
                    </a:moveTo>
                    <a:cubicBezTo>
                      <a:pt x="1115679" y="1380245"/>
                      <a:pt x="932603" y="1462596"/>
                      <a:pt x="730319" y="1462596"/>
                    </a:cubicBezTo>
                    <a:cubicBezTo>
                      <a:pt x="726942" y="1462596"/>
                      <a:pt x="723569" y="1462573"/>
                      <a:pt x="720253" y="1462528"/>
                    </a:cubicBezTo>
                    <a:lnTo>
                      <a:pt x="730319" y="7312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8" name="组合 7265"/>
            <p:cNvGrpSpPr/>
            <p:nvPr/>
          </p:nvGrpSpPr>
          <p:grpSpPr>
            <a:xfrm>
              <a:off x="3646800" y="1211040"/>
              <a:ext cx="1737720" cy="1736640"/>
              <a:chOff x="3646800" y="1211040"/>
              <a:chExt cx="1737720" cy="1736640"/>
            </a:xfrm>
          </p:grpSpPr>
          <p:sp>
            <p:nvSpPr>
              <p:cNvPr id="619" name="饼形 77"/>
              <p:cNvSpPr/>
              <p:nvPr/>
            </p:nvSpPr>
            <p:spPr>
              <a:xfrm flipH="1" rot="12160800">
                <a:off x="3850920" y="1415880"/>
                <a:ext cx="1328760" cy="132696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2" y="3002357"/>
                    </a:moveTo>
                    <a:cubicBezTo>
                      <a:pt x="2693354" y="3324320"/>
                      <a:pt x="2250762" y="3523721"/>
                      <a:pt x="1761605" y="3523721"/>
                    </a:cubicBezTo>
                    <a:cubicBezTo>
                      <a:pt x="1759395" y="3523721"/>
                      <a:pt x="1757187" y="3523717"/>
                      <a:pt x="1755014" y="3523709"/>
                    </a:cubicBezTo>
                    <a:lnTo>
                      <a:pt x="1761605" y="17618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饼形 78"/>
              <p:cNvSpPr/>
              <p:nvPr/>
            </p:nvSpPr>
            <p:spPr>
              <a:xfrm flipH="1" rot="12160800">
                <a:off x="3989160" y="1553760"/>
                <a:ext cx="1047960" cy="104616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7" y="2361808"/>
                    </a:moveTo>
                    <a:cubicBezTo>
                      <a:pt x="2128255" y="2618469"/>
                      <a:pt x="1777262" y="2777669"/>
                      <a:pt x="1389080" y="2777669"/>
                    </a:cubicBezTo>
                    <a:cubicBezTo>
                      <a:pt x="1387641" y="2777669"/>
                      <a:pt x="1386203" y="2777667"/>
                      <a:pt x="1384789" y="2777663"/>
                    </a:cubicBezTo>
                    <a:lnTo>
                      <a:pt x="1389080" y="138883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饼形 79"/>
              <p:cNvSpPr/>
              <p:nvPr/>
            </p:nvSpPr>
            <p:spPr>
              <a:xfrm flipH="1" rot="12160800">
                <a:off x="4093200" y="1650600"/>
                <a:ext cx="852480" cy="85068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31498" y="2129800"/>
                      <a:pt x="1445975" y="2259228"/>
                      <a:pt x="1130206" y="2259228"/>
                    </a:cubicBezTo>
                    <a:cubicBezTo>
                      <a:pt x="1127081" y="2259228"/>
                      <a:pt x="1123959" y="2259215"/>
                      <a:pt x="1120889" y="2259190"/>
                    </a:cubicBezTo>
                    <a:lnTo>
                      <a:pt x="1130205" y="1129614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饼形 80"/>
              <p:cNvSpPr/>
              <p:nvPr/>
            </p:nvSpPr>
            <p:spPr>
              <a:xfrm flipH="1" rot="12160800">
                <a:off x="4186440" y="173952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饼形 81"/>
              <p:cNvSpPr/>
              <p:nvPr/>
            </p:nvSpPr>
            <p:spPr>
              <a:xfrm flipH="1" rot="12160800">
                <a:off x="4240440" y="1799280"/>
                <a:ext cx="552600" cy="54900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39" y="1245092"/>
                    </a:moveTo>
                    <a:cubicBezTo>
                      <a:pt x="1117519" y="1376882"/>
                      <a:pt x="934531" y="1458382"/>
                      <a:pt x="732423" y="1458382"/>
                    </a:cubicBezTo>
                    <a:cubicBezTo>
                      <a:pt x="729055" y="1458382"/>
                      <a:pt x="725693" y="1458359"/>
                      <a:pt x="722386" y="1458315"/>
                    </a:cubicBezTo>
                    <a:lnTo>
                      <a:pt x="732424" y="729191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组合 7271"/>
            <p:cNvGrpSpPr/>
            <p:nvPr/>
          </p:nvGrpSpPr>
          <p:grpSpPr>
            <a:xfrm>
              <a:off x="3647160" y="1207800"/>
              <a:ext cx="1737720" cy="1736640"/>
              <a:chOff x="3647160" y="1207800"/>
              <a:chExt cx="1737720" cy="1736640"/>
            </a:xfrm>
          </p:grpSpPr>
          <p:sp>
            <p:nvSpPr>
              <p:cNvPr id="625" name="饼形 101"/>
              <p:cNvSpPr/>
              <p:nvPr/>
            </p:nvSpPr>
            <p:spPr>
              <a:xfrm flipV="1" rot="17560800">
                <a:off x="3852360" y="1411560"/>
                <a:ext cx="132696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0"/>
                    </a:moveTo>
                    <a:cubicBezTo>
                      <a:pt x="2696114" y="3324221"/>
                      <a:pt x="2253310" y="3523210"/>
                      <a:pt x="1763968" y="3523210"/>
                    </a:cubicBezTo>
                    <a:cubicBezTo>
                      <a:pt x="1761759" y="3523210"/>
                      <a:pt x="1759551" y="3523206"/>
                      <a:pt x="1757379" y="3523198"/>
                    </a:cubicBezTo>
                    <a:lnTo>
                      <a:pt x="1763968" y="17616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饼形 102"/>
              <p:cNvSpPr/>
              <p:nvPr/>
            </p:nvSpPr>
            <p:spPr>
              <a:xfrm flipV="1" rot="17560800">
                <a:off x="3992400" y="1548720"/>
                <a:ext cx="104472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0" y="2362051"/>
                    </a:moveTo>
                    <a:cubicBezTo>
                      <a:pt x="2128041" y="2618859"/>
                      <a:pt x="1777038" y="2778160"/>
                      <a:pt x="1388836" y="2778160"/>
                    </a:cubicBezTo>
                    <a:cubicBezTo>
                      <a:pt x="1387399" y="2778160"/>
                      <a:pt x="1385963" y="2778158"/>
                      <a:pt x="1384551" y="2778154"/>
                    </a:cubicBezTo>
                    <a:lnTo>
                      <a:pt x="1388836" y="1389080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饼形 103"/>
              <p:cNvSpPr/>
              <p:nvPr/>
            </p:nvSpPr>
            <p:spPr>
              <a:xfrm flipV="1" rot="17560800">
                <a:off x="4086000" y="1644480"/>
                <a:ext cx="85140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1" y="1922463"/>
                    </a:moveTo>
                    <a:cubicBezTo>
                      <a:pt x="1733521" y="2131054"/>
                      <a:pt x="1447749" y="2260414"/>
                      <a:pt x="1131722" y="2260414"/>
                    </a:cubicBezTo>
                    <a:cubicBezTo>
                      <a:pt x="1128596" y="2260414"/>
                      <a:pt x="1125472" y="2260401"/>
                      <a:pt x="1122400" y="2260376"/>
                    </a:cubicBezTo>
                    <a:lnTo>
                      <a:pt x="1131722" y="1130207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饼形 104"/>
              <p:cNvSpPr/>
              <p:nvPr/>
            </p:nvSpPr>
            <p:spPr>
              <a:xfrm flipV="1" rot="17560800">
                <a:off x="4174200" y="1734840"/>
                <a:ext cx="66744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1" y="1507182"/>
                    </a:moveTo>
                    <a:cubicBezTo>
                      <a:pt x="1359052" y="1670714"/>
                      <a:pt x="1135012" y="1772130"/>
                      <a:pt x="887252" y="1772130"/>
                    </a:cubicBezTo>
                    <a:cubicBezTo>
                      <a:pt x="883200" y="1772130"/>
                      <a:pt x="879154" y="1772103"/>
                      <a:pt x="875176" y="1772050"/>
                    </a:cubicBezTo>
                    <a:lnTo>
                      <a:pt x="887252" y="88606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饼形 105"/>
              <p:cNvSpPr/>
              <p:nvPr/>
            </p:nvSpPr>
            <p:spPr>
              <a:xfrm flipV="1" rot="17560800">
                <a:off x="4238280" y="179676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0" y="1245476"/>
                    </a:moveTo>
                    <a:cubicBezTo>
                      <a:pt x="1114004" y="1378376"/>
                      <a:pt x="931189" y="1460639"/>
                      <a:pt x="729191" y="1460639"/>
                    </a:cubicBezTo>
                    <a:cubicBezTo>
                      <a:pt x="725818" y="1460639"/>
                      <a:pt x="722450" y="1460616"/>
                      <a:pt x="719138" y="1460571"/>
                    </a:cubicBezTo>
                    <a:lnTo>
                      <a:pt x="729191" y="730320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0" name="Text Box 116"/>
          <p:cNvSpPr/>
          <p:nvPr/>
        </p:nvSpPr>
        <p:spPr>
          <a:xfrm>
            <a:off x="4108320" y="39996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00000"/>
                </a:solidFill>
                <a:latin typeface="Arial"/>
              </a:rPr>
              <a:t>蝴 </a:t>
            </a:r>
            <a:r>
              <a:rPr b="1" lang="zh-CN" sz="3600" spc="-1" strike="noStrike">
                <a:solidFill>
                  <a:srgbClr val="ff5ba5"/>
                </a:solidFill>
                <a:latin typeface="Arial"/>
              </a:rPr>
              <a:t>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Picture 119" descr="2078815_093957005427_2"/>
          <p:cNvPicPr/>
          <p:nvPr/>
        </p:nvPicPr>
        <p:blipFill>
          <a:blip r:embed="rId2"/>
          <a:stretch/>
        </p:blipFill>
        <p:spPr>
          <a:xfrm>
            <a:off x="2195640" y="0"/>
            <a:ext cx="141588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圆角矩形 107"/>
          <p:cNvSpPr/>
          <p:nvPr/>
        </p:nvSpPr>
        <p:spPr>
          <a:xfrm>
            <a:off x="1066680" y="1862280"/>
            <a:ext cx="6797880" cy="4136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" name="组合 8194"/>
          <p:cNvGrpSpPr/>
          <p:nvPr/>
        </p:nvGrpSpPr>
        <p:grpSpPr>
          <a:xfrm>
            <a:off x="-360" y="-1758960"/>
            <a:ext cx="3522600" cy="3519360"/>
            <a:chOff x="-360" y="-1758960"/>
            <a:chExt cx="3522600" cy="3519360"/>
          </a:xfrm>
        </p:grpSpPr>
        <p:sp>
          <p:nvSpPr>
            <p:cNvPr id="634" name="饼形 45"/>
            <p:cNvSpPr/>
            <p:nvPr/>
          </p:nvSpPr>
          <p:spPr>
            <a:xfrm rot="5400000">
              <a:off x="1080" y="-176040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饼形 46"/>
            <p:cNvSpPr/>
            <p:nvPr/>
          </p:nvSpPr>
          <p:spPr>
            <a:xfrm rot="5400000">
              <a:off x="369000" y="-138420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饼形 47"/>
            <p:cNvSpPr/>
            <p:nvPr/>
          </p:nvSpPr>
          <p:spPr>
            <a:xfrm rot="5400000">
              <a:off x="619560" y="-112356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饼形 48"/>
            <p:cNvSpPr/>
            <p:nvPr/>
          </p:nvSpPr>
          <p:spPr>
            <a:xfrm rot="5400000">
              <a:off x="856440" y="-8776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8" y="1504854"/>
                  </a:moveTo>
                  <a:cubicBezTo>
                    <a:pt x="1355556" y="1668525"/>
                    <a:pt x="1131946" y="1770056"/>
                    <a:pt x="884634" y="1770056"/>
                  </a:cubicBezTo>
                  <a:cubicBezTo>
                    <a:pt x="880587" y="1770056"/>
                    <a:pt x="876546" y="1770029"/>
                    <a:pt x="872572" y="1769975"/>
                  </a:cubicBezTo>
                  <a:lnTo>
                    <a:pt x="884634" y="885028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饼形 49"/>
            <p:cNvSpPr/>
            <p:nvPr/>
          </p:nvSpPr>
          <p:spPr>
            <a:xfrm rot="5400000">
              <a:off x="1023120" y="-72360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9" name="组合 8200"/>
          <p:cNvGrpSpPr/>
          <p:nvPr/>
        </p:nvGrpSpPr>
        <p:grpSpPr>
          <a:xfrm>
            <a:off x="7383600" y="-360"/>
            <a:ext cx="3520800" cy="3522600"/>
            <a:chOff x="7383600" y="-360"/>
            <a:chExt cx="3520800" cy="3522600"/>
          </a:xfrm>
        </p:grpSpPr>
        <p:sp>
          <p:nvSpPr>
            <p:cNvPr id="640" name="饼形 11"/>
            <p:cNvSpPr/>
            <p:nvPr/>
          </p:nvSpPr>
          <p:spPr>
            <a:xfrm rot="10800000">
              <a:off x="7383600" y="-36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饼形 9"/>
            <p:cNvSpPr/>
            <p:nvPr/>
          </p:nvSpPr>
          <p:spPr>
            <a:xfrm rot="10800000">
              <a:off x="7759800" y="367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4" y="2770178"/>
                    <a:pt x="1382050" y="2770176"/>
                    <a:pt x="1380640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饼形 8"/>
            <p:cNvSpPr/>
            <p:nvPr/>
          </p:nvSpPr>
          <p:spPr>
            <a:xfrm rot="10800000">
              <a:off x="8010360" y="6184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饼形 7"/>
            <p:cNvSpPr/>
            <p:nvPr/>
          </p:nvSpPr>
          <p:spPr>
            <a:xfrm rot="10800000">
              <a:off x="8253360" y="85536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7" y="1504853"/>
                  </a:moveTo>
                  <a:cubicBezTo>
                    <a:pt x="1355555" y="1668524"/>
                    <a:pt x="1131946" y="1770055"/>
                    <a:pt x="884633" y="1770055"/>
                  </a:cubicBezTo>
                  <a:cubicBezTo>
                    <a:pt x="880586" y="1770055"/>
                    <a:pt x="876545" y="1770028"/>
                    <a:pt x="872571" y="1769974"/>
                  </a:cubicBezTo>
                  <a:lnTo>
                    <a:pt x="884633" y="885028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饼形 6"/>
            <p:cNvSpPr/>
            <p:nvPr/>
          </p:nvSpPr>
          <p:spPr>
            <a:xfrm rot="10800000">
              <a:off x="8410680" y="102204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5" name="组合 8206"/>
          <p:cNvGrpSpPr/>
          <p:nvPr/>
        </p:nvGrpSpPr>
        <p:grpSpPr>
          <a:xfrm>
            <a:off x="-1758960" y="-360"/>
            <a:ext cx="3519360" cy="3522600"/>
            <a:chOff x="-1758960" y="-360"/>
            <a:chExt cx="3519360" cy="3522600"/>
          </a:xfrm>
        </p:grpSpPr>
        <p:sp>
          <p:nvSpPr>
            <p:cNvPr id="646" name="饼形 16"/>
            <p:cNvSpPr/>
            <p:nvPr/>
          </p:nvSpPr>
          <p:spPr>
            <a:xfrm flipH="1" rot="10800000">
              <a:off x="-1758960" y="-36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饼形 17"/>
            <p:cNvSpPr/>
            <p:nvPr/>
          </p:nvSpPr>
          <p:spPr>
            <a:xfrm flipH="1" rot="10800000">
              <a:off x="-1383840" y="36792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5" y="2770179"/>
                    <a:pt x="1382051" y="2770177"/>
                    <a:pt x="1380641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饼形 18"/>
            <p:cNvSpPr/>
            <p:nvPr/>
          </p:nvSpPr>
          <p:spPr>
            <a:xfrm flipH="1" rot="10800000">
              <a:off x="-1122480" y="61848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饼形 19"/>
            <p:cNvSpPr/>
            <p:nvPr/>
          </p:nvSpPr>
          <p:spPr>
            <a:xfrm flipH="1" rot="10800000">
              <a:off x="-876600" y="85536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8" y="1504854"/>
                  </a:moveTo>
                  <a:cubicBezTo>
                    <a:pt x="1355556" y="1668525"/>
                    <a:pt x="1131946" y="1770056"/>
                    <a:pt x="884634" y="1770056"/>
                  </a:cubicBezTo>
                  <a:cubicBezTo>
                    <a:pt x="880587" y="1770056"/>
                    <a:pt x="876546" y="1770029"/>
                    <a:pt x="872572" y="1769975"/>
                  </a:cubicBezTo>
                  <a:lnTo>
                    <a:pt x="884634" y="885028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饼形 20"/>
            <p:cNvSpPr/>
            <p:nvPr/>
          </p:nvSpPr>
          <p:spPr>
            <a:xfrm flipH="1" rot="10800000">
              <a:off x="-722520" y="102240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组合 8212"/>
          <p:cNvGrpSpPr/>
          <p:nvPr/>
        </p:nvGrpSpPr>
        <p:grpSpPr>
          <a:xfrm>
            <a:off x="7383600" y="3334680"/>
            <a:ext cx="3520800" cy="3522600"/>
            <a:chOff x="7383600" y="3334680"/>
            <a:chExt cx="3520800" cy="3522600"/>
          </a:xfrm>
        </p:grpSpPr>
        <p:sp>
          <p:nvSpPr>
            <p:cNvPr id="652" name="饼形 24"/>
            <p:cNvSpPr/>
            <p:nvPr/>
          </p:nvSpPr>
          <p:spPr>
            <a:xfrm flipV="1" rot="10800000">
              <a:off x="7383600" y="33343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饼形 25"/>
            <p:cNvSpPr/>
            <p:nvPr/>
          </p:nvSpPr>
          <p:spPr>
            <a:xfrm flipV="1" rot="10800000">
              <a:off x="7759800" y="371844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4" y="2770178"/>
                    <a:pt x="1382050" y="2770176"/>
                    <a:pt x="1380640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饼形 26"/>
            <p:cNvSpPr/>
            <p:nvPr/>
          </p:nvSpPr>
          <p:spPr>
            <a:xfrm flipV="1" rot="10800000">
              <a:off x="8010360" y="397872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饼形 27"/>
            <p:cNvSpPr/>
            <p:nvPr/>
          </p:nvSpPr>
          <p:spPr>
            <a:xfrm flipV="1" rot="10800000">
              <a:off x="8253360" y="42310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55556" y="1668527"/>
                    <a:pt x="1131947" y="1770058"/>
                    <a:pt x="884634" y="1770058"/>
                  </a:cubicBezTo>
                  <a:cubicBezTo>
                    <a:pt x="880587" y="1770058"/>
                    <a:pt x="876546" y="1770031"/>
                    <a:pt x="872572" y="1769977"/>
                  </a:cubicBezTo>
                  <a:lnTo>
                    <a:pt x="884633" y="885029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饼形 28"/>
            <p:cNvSpPr/>
            <p:nvPr/>
          </p:nvSpPr>
          <p:spPr>
            <a:xfrm flipV="1" rot="10800000">
              <a:off x="8410680" y="437688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7" name="组合 8218"/>
          <p:cNvGrpSpPr/>
          <p:nvPr/>
        </p:nvGrpSpPr>
        <p:grpSpPr>
          <a:xfrm>
            <a:off x="-1758960" y="3334680"/>
            <a:ext cx="3519360" cy="3522600"/>
            <a:chOff x="-1758960" y="3334680"/>
            <a:chExt cx="3519360" cy="3522600"/>
          </a:xfrm>
        </p:grpSpPr>
        <p:sp>
          <p:nvSpPr>
            <p:cNvPr id="658" name="饼形 31"/>
            <p:cNvSpPr/>
            <p:nvPr/>
          </p:nvSpPr>
          <p:spPr>
            <a:xfrm flipH="1" flipV="1" rot="10800000">
              <a:off x="-1758960" y="333432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饼形 32"/>
            <p:cNvSpPr/>
            <p:nvPr/>
          </p:nvSpPr>
          <p:spPr>
            <a:xfrm flipH="1" flipV="1" rot="10800000">
              <a:off x="-1383840" y="371844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饼形 33"/>
            <p:cNvSpPr/>
            <p:nvPr/>
          </p:nvSpPr>
          <p:spPr>
            <a:xfrm flipH="1" flipV="1" rot="10800000">
              <a:off x="-1122480" y="397872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饼形 34"/>
            <p:cNvSpPr/>
            <p:nvPr/>
          </p:nvSpPr>
          <p:spPr>
            <a:xfrm flipH="1" flipV="1" rot="10800000">
              <a:off x="-876600" y="42310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8" y="1504855"/>
                  </a:moveTo>
                  <a:cubicBezTo>
                    <a:pt x="1355555" y="1668526"/>
                    <a:pt x="1131946" y="1770057"/>
                    <a:pt x="884633" y="1770057"/>
                  </a:cubicBezTo>
                  <a:cubicBezTo>
                    <a:pt x="880586" y="1770057"/>
                    <a:pt x="876545" y="1770030"/>
                    <a:pt x="872571" y="1769976"/>
                  </a:cubicBezTo>
                  <a:lnTo>
                    <a:pt x="884634" y="885029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饼形 35"/>
            <p:cNvSpPr/>
            <p:nvPr/>
          </p:nvSpPr>
          <p:spPr>
            <a:xfrm flipH="1" flipV="1" rot="10800000">
              <a:off x="-722520" y="437688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13480" y="1376840"/>
                    <a:pt x="930812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3" name="组合 8224"/>
          <p:cNvGrpSpPr/>
          <p:nvPr/>
        </p:nvGrpSpPr>
        <p:grpSpPr>
          <a:xfrm>
            <a:off x="5620680" y="5094720"/>
            <a:ext cx="3521160" cy="3521160"/>
            <a:chOff x="5620680" y="5094720"/>
            <a:chExt cx="3521160" cy="3521160"/>
          </a:xfrm>
        </p:grpSpPr>
        <p:sp>
          <p:nvSpPr>
            <p:cNvPr id="664" name="饼形 38"/>
            <p:cNvSpPr/>
            <p:nvPr/>
          </p:nvSpPr>
          <p:spPr>
            <a:xfrm flipH="1" flipV="1" rot="5400000">
              <a:off x="5620320" y="5094360"/>
              <a:ext cx="3521160" cy="35211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饼形 39"/>
            <p:cNvSpPr/>
            <p:nvPr/>
          </p:nvSpPr>
          <p:spPr>
            <a:xfrm flipH="1" flipV="1" rot="5400000">
              <a:off x="6005160" y="5470200"/>
              <a:ext cx="2768760" cy="276912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6" y="2770178"/>
                    <a:pt x="1382054" y="2770176"/>
                    <a:pt x="1380646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饼形 40"/>
            <p:cNvSpPr/>
            <p:nvPr/>
          </p:nvSpPr>
          <p:spPr>
            <a:xfrm flipH="1" flipV="1" rot="5400000">
              <a:off x="6265440" y="5721120"/>
              <a:ext cx="2257560" cy="225792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饼形 41"/>
            <p:cNvSpPr/>
            <p:nvPr/>
          </p:nvSpPr>
          <p:spPr>
            <a:xfrm flipH="1" flipV="1" rot="5400000">
              <a:off x="6517080" y="5963760"/>
              <a:ext cx="1768680" cy="176940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55556" y="1668527"/>
                    <a:pt x="1131947" y="1770058"/>
                    <a:pt x="884634" y="1770058"/>
                  </a:cubicBezTo>
                  <a:cubicBezTo>
                    <a:pt x="880587" y="1770058"/>
                    <a:pt x="876546" y="1770031"/>
                    <a:pt x="872572" y="1769977"/>
                  </a:cubicBezTo>
                  <a:lnTo>
                    <a:pt x="884633" y="885029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饼形 42"/>
            <p:cNvSpPr/>
            <p:nvPr/>
          </p:nvSpPr>
          <p:spPr>
            <a:xfrm flipH="1" flipV="1" rot="5400000">
              <a:off x="6661440" y="6120720"/>
              <a:ext cx="1457280" cy="145836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9" name="组合 8230"/>
          <p:cNvGrpSpPr/>
          <p:nvPr/>
        </p:nvGrpSpPr>
        <p:grpSpPr>
          <a:xfrm>
            <a:off x="5620680" y="-1758960"/>
            <a:ext cx="3522600" cy="3519360"/>
            <a:chOff x="5620680" y="-1758960"/>
            <a:chExt cx="3522600" cy="3519360"/>
          </a:xfrm>
        </p:grpSpPr>
        <p:sp>
          <p:nvSpPr>
            <p:cNvPr id="670" name="饼形 52"/>
            <p:cNvSpPr/>
            <p:nvPr/>
          </p:nvSpPr>
          <p:spPr>
            <a:xfrm flipH="1" rot="16200000">
              <a:off x="5621760" y="-1760400"/>
              <a:ext cx="35193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饼形 53"/>
            <p:cNvSpPr/>
            <p:nvPr/>
          </p:nvSpPr>
          <p:spPr>
            <a:xfrm flipH="1" rot="16200000">
              <a:off x="6005880" y="-1383840"/>
              <a:ext cx="276732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22016" y="2611347"/>
                    <a:pt x="1772014" y="2770179"/>
                    <a:pt x="1384920" y="2770179"/>
                  </a:cubicBezTo>
                  <a:cubicBezTo>
                    <a:pt x="1383487" y="2770179"/>
                    <a:pt x="1382055" y="2770177"/>
                    <a:pt x="1380647" y="2770173"/>
                  </a:cubicBezTo>
                  <a:lnTo>
                    <a:pt x="1384919" y="138508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饼形 54"/>
            <p:cNvSpPr/>
            <p:nvPr/>
          </p:nvSpPr>
          <p:spPr>
            <a:xfrm flipH="1" rot="16200000">
              <a:off x="6265800" y="-1123560"/>
              <a:ext cx="225648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3"/>
                  </a:moveTo>
                  <a:cubicBezTo>
                    <a:pt x="1730269" y="2129460"/>
                    <a:pt x="1444867" y="2259005"/>
                    <a:pt x="1129217" y="2259005"/>
                  </a:cubicBezTo>
                  <a:cubicBezTo>
                    <a:pt x="1126093" y="2259005"/>
                    <a:pt x="1122971" y="2258992"/>
                    <a:pt x="1119901" y="2258967"/>
                  </a:cubicBezTo>
                  <a:lnTo>
                    <a:pt x="1129217" y="1129503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饼形 55"/>
            <p:cNvSpPr/>
            <p:nvPr/>
          </p:nvSpPr>
          <p:spPr>
            <a:xfrm flipH="1" rot="16200000">
              <a:off x="6518160" y="-877680"/>
              <a:ext cx="176760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8" y="1504855"/>
                  </a:moveTo>
                  <a:cubicBezTo>
                    <a:pt x="1355555" y="1668526"/>
                    <a:pt x="1131946" y="1770057"/>
                    <a:pt x="884633" y="1770057"/>
                  </a:cubicBezTo>
                  <a:cubicBezTo>
                    <a:pt x="880586" y="1770057"/>
                    <a:pt x="876545" y="1770030"/>
                    <a:pt x="872571" y="1769976"/>
                  </a:cubicBezTo>
                  <a:lnTo>
                    <a:pt x="884634" y="885029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饼形 56"/>
            <p:cNvSpPr/>
            <p:nvPr/>
          </p:nvSpPr>
          <p:spPr>
            <a:xfrm flipH="1" rot="16200000">
              <a:off x="6663960" y="-723240"/>
              <a:ext cx="145656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9567" y="1240095"/>
                  </a:moveTo>
                  <a:cubicBezTo>
                    <a:pt x="1117264" y="1375130"/>
                    <a:pt x="932904" y="1458908"/>
                    <a:pt x="728989" y="1458908"/>
                  </a:cubicBezTo>
                  <a:cubicBezTo>
                    <a:pt x="725620" y="1458908"/>
                    <a:pt x="722256" y="1458885"/>
                    <a:pt x="718948" y="1458840"/>
                  </a:cubicBezTo>
                  <a:lnTo>
                    <a:pt x="728988" y="729454"/>
                  </a:lnTo>
                  <a:close/>
                </a:path>
              </a:pathLst>
            </a:cu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5" name="组合 8236"/>
          <p:cNvGrpSpPr/>
          <p:nvPr/>
        </p:nvGrpSpPr>
        <p:grpSpPr>
          <a:xfrm>
            <a:off x="-360" y="5097600"/>
            <a:ext cx="3522600" cy="3520800"/>
            <a:chOff x="-360" y="5097600"/>
            <a:chExt cx="3522600" cy="3520800"/>
          </a:xfrm>
        </p:grpSpPr>
        <p:sp>
          <p:nvSpPr>
            <p:cNvPr id="676" name="饼形 60"/>
            <p:cNvSpPr/>
            <p:nvPr/>
          </p:nvSpPr>
          <p:spPr>
            <a:xfrm flipV="1" rot="16200000">
              <a:off x="360" y="50965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饼形 61"/>
            <p:cNvSpPr/>
            <p:nvPr/>
          </p:nvSpPr>
          <p:spPr>
            <a:xfrm flipV="1" rot="16200000">
              <a:off x="368640" y="54727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3" y="2355291"/>
                  </a:moveTo>
                  <a:cubicBezTo>
                    <a:pt x="2122015" y="2611346"/>
                    <a:pt x="1772013" y="2770178"/>
                    <a:pt x="1384919" y="2770178"/>
                  </a:cubicBezTo>
                  <a:cubicBezTo>
                    <a:pt x="1383486" y="2770178"/>
                    <a:pt x="1382054" y="2770176"/>
                    <a:pt x="1380646" y="2770172"/>
                  </a:cubicBezTo>
                  <a:lnTo>
                    <a:pt x="1384920" y="1385089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饼形 62"/>
            <p:cNvSpPr/>
            <p:nvPr/>
          </p:nvSpPr>
          <p:spPr>
            <a:xfrm flipV="1" rot="16200000">
              <a:off x="619200" y="5723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30270" y="2129461"/>
                    <a:pt x="1444868" y="2259006"/>
                    <a:pt x="1129218" y="2259006"/>
                  </a:cubicBezTo>
                  <a:cubicBezTo>
                    <a:pt x="1126094" y="2259006"/>
                    <a:pt x="1122972" y="2258993"/>
                    <a:pt x="1119902" y="2258968"/>
                  </a:cubicBezTo>
                  <a:lnTo>
                    <a:pt x="1129218" y="1129503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饼形 63"/>
            <p:cNvSpPr/>
            <p:nvPr/>
          </p:nvSpPr>
          <p:spPr>
            <a:xfrm flipV="1" rot="16200000">
              <a:off x="856080" y="59662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7" y="1504853"/>
                  </a:moveTo>
                  <a:cubicBezTo>
                    <a:pt x="1355555" y="1668524"/>
                    <a:pt x="1131946" y="1770055"/>
                    <a:pt x="884633" y="1770055"/>
                  </a:cubicBezTo>
                  <a:cubicBezTo>
                    <a:pt x="880586" y="1770055"/>
                    <a:pt x="876545" y="1770028"/>
                    <a:pt x="872571" y="1769974"/>
                  </a:cubicBezTo>
                  <a:lnTo>
                    <a:pt x="884633" y="885028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饼形 64"/>
            <p:cNvSpPr/>
            <p:nvPr/>
          </p:nvSpPr>
          <p:spPr>
            <a:xfrm flipV="1" rot="16200000">
              <a:off x="1023120" y="61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0" y="1244234"/>
                  </a:moveTo>
                  <a:cubicBezTo>
                    <a:pt x="1113479" y="1376839"/>
                    <a:pt x="930811" y="1458907"/>
                    <a:pt x="728988" y="1458907"/>
                  </a:cubicBezTo>
                  <a:cubicBezTo>
                    <a:pt x="725619" y="1458907"/>
                    <a:pt x="722255" y="1458884"/>
                    <a:pt x="718947" y="1458839"/>
                  </a:cubicBezTo>
                  <a:lnTo>
                    <a:pt x="728989" y="729454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1" name="组合 8242"/>
          <p:cNvGrpSpPr/>
          <p:nvPr/>
        </p:nvGrpSpPr>
        <p:grpSpPr>
          <a:xfrm>
            <a:off x="3643920" y="1213560"/>
            <a:ext cx="1738440" cy="1740600"/>
            <a:chOff x="3643920" y="1213560"/>
            <a:chExt cx="1738440" cy="1740600"/>
          </a:xfrm>
        </p:grpSpPr>
        <p:grpSp>
          <p:nvGrpSpPr>
            <p:cNvPr id="682" name="组合 8243"/>
            <p:cNvGrpSpPr/>
            <p:nvPr/>
          </p:nvGrpSpPr>
          <p:grpSpPr>
            <a:xfrm>
              <a:off x="3644280" y="1217160"/>
              <a:ext cx="1738080" cy="1737000"/>
              <a:chOff x="3644280" y="1217160"/>
              <a:chExt cx="1738080" cy="1737000"/>
            </a:xfrm>
          </p:grpSpPr>
          <p:sp>
            <p:nvSpPr>
              <p:cNvPr id="683" name="饼形 71"/>
              <p:cNvSpPr/>
              <p:nvPr/>
            </p:nvSpPr>
            <p:spPr>
              <a:xfrm rot="12161400">
                <a:off x="384876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3" y="3005199"/>
                    </a:moveTo>
                    <a:cubicBezTo>
                      <a:pt x="2694039" y="3327987"/>
                      <a:pt x="2251141" y="3527936"/>
                      <a:pt x="1761605" y="3527936"/>
                    </a:cubicBezTo>
                    <a:cubicBezTo>
                      <a:pt x="1759393" y="3527936"/>
                      <a:pt x="1757182" y="3527932"/>
                      <a:pt x="1755007" y="3527924"/>
                    </a:cubicBezTo>
                    <a:lnTo>
                      <a:pt x="1761605" y="176396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饼形 72"/>
              <p:cNvSpPr/>
              <p:nvPr/>
            </p:nvSpPr>
            <p:spPr>
              <a:xfrm rot="12161400">
                <a:off x="3990240" y="1559880"/>
                <a:ext cx="1046160" cy="104364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1" y="2358226"/>
                    </a:moveTo>
                    <a:cubicBezTo>
                      <a:pt x="2125031" y="2614497"/>
                      <a:pt x="1774570" y="2773455"/>
                      <a:pt x="1386976" y="2773455"/>
                    </a:cubicBezTo>
                    <a:cubicBezTo>
                      <a:pt x="1385540" y="2773455"/>
                      <a:pt x="1384104" y="2773453"/>
                      <a:pt x="1382692" y="2773449"/>
                    </a:cubicBezTo>
                    <a:lnTo>
                      <a:pt x="1386976" y="1386728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饼形 73"/>
              <p:cNvSpPr/>
              <p:nvPr/>
            </p:nvSpPr>
            <p:spPr>
              <a:xfrm rot="12161400">
                <a:off x="4084920" y="165312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5" y="1921874"/>
                    </a:moveTo>
                    <a:cubicBezTo>
                      <a:pt x="1734037" y="2130108"/>
                      <a:pt x="1448288" y="2259227"/>
                      <a:pt x="1132310" y="2259227"/>
                    </a:cubicBezTo>
                    <a:cubicBezTo>
                      <a:pt x="1129185" y="2259227"/>
                      <a:pt x="1126063" y="2259214"/>
                      <a:pt x="1122993" y="2259190"/>
                    </a:cubicBezTo>
                    <a:lnTo>
                      <a:pt x="1132311" y="1129614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饼形 74"/>
              <p:cNvSpPr/>
              <p:nvPr/>
            </p:nvSpPr>
            <p:spPr>
              <a:xfrm rot="12161400">
                <a:off x="4180680" y="174276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饼形 75"/>
              <p:cNvSpPr/>
              <p:nvPr/>
            </p:nvSpPr>
            <p:spPr>
              <a:xfrm rot="12161400">
                <a:off x="4236120" y="180648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7"/>
                    </a:moveTo>
                    <a:cubicBezTo>
                      <a:pt x="1115679" y="1380245"/>
                      <a:pt x="932603" y="1462596"/>
                      <a:pt x="730319" y="1462596"/>
                    </a:cubicBezTo>
                    <a:cubicBezTo>
                      <a:pt x="726942" y="1462596"/>
                      <a:pt x="723569" y="1462573"/>
                      <a:pt x="720253" y="1462528"/>
                    </a:cubicBezTo>
                    <a:lnTo>
                      <a:pt x="730319" y="7312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8" name="组合 8249"/>
            <p:cNvGrpSpPr/>
            <p:nvPr/>
          </p:nvGrpSpPr>
          <p:grpSpPr>
            <a:xfrm>
              <a:off x="3643920" y="1216800"/>
              <a:ext cx="1738080" cy="1737000"/>
              <a:chOff x="3643920" y="1216800"/>
              <a:chExt cx="1738080" cy="1737000"/>
            </a:xfrm>
          </p:grpSpPr>
          <p:sp>
            <p:nvSpPr>
              <p:cNvPr id="689" name="饼形 77"/>
              <p:cNvSpPr/>
              <p:nvPr/>
            </p:nvSpPr>
            <p:spPr>
              <a:xfrm flipH="1" rot="12160800">
                <a:off x="384840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2" y="3002357"/>
                    </a:moveTo>
                    <a:cubicBezTo>
                      <a:pt x="2693354" y="3324320"/>
                      <a:pt x="2250762" y="3523721"/>
                      <a:pt x="1761605" y="3523721"/>
                    </a:cubicBezTo>
                    <a:cubicBezTo>
                      <a:pt x="1759395" y="3523721"/>
                      <a:pt x="1757187" y="3523717"/>
                      <a:pt x="1755014" y="3523709"/>
                    </a:cubicBezTo>
                    <a:lnTo>
                      <a:pt x="1761605" y="17618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饼形 78"/>
              <p:cNvSpPr/>
              <p:nvPr/>
            </p:nvSpPr>
            <p:spPr>
              <a:xfrm flipH="1" rot="12160800">
                <a:off x="3985920" y="1559160"/>
                <a:ext cx="1047960" cy="104652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7" y="2361808"/>
                    </a:moveTo>
                    <a:cubicBezTo>
                      <a:pt x="2128255" y="2618469"/>
                      <a:pt x="1777262" y="2777669"/>
                      <a:pt x="1389080" y="2777669"/>
                    </a:cubicBezTo>
                    <a:cubicBezTo>
                      <a:pt x="1387641" y="2777669"/>
                      <a:pt x="1386203" y="2777667"/>
                      <a:pt x="1384789" y="2777663"/>
                    </a:cubicBezTo>
                    <a:lnTo>
                      <a:pt x="1389080" y="138883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饼形 79"/>
              <p:cNvSpPr/>
              <p:nvPr/>
            </p:nvSpPr>
            <p:spPr>
              <a:xfrm flipH="1" rot="12160800">
                <a:off x="4089600" y="1656720"/>
                <a:ext cx="852480" cy="85104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31498" y="2129800"/>
                      <a:pt x="1445975" y="2259228"/>
                      <a:pt x="1130206" y="2259228"/>
                    </a:cubicBezTo>
                    <a:cubicBezTo>
                      <a:pt x="1127081" y="2259228"/>
                      <a:pt x="1123959" y="2259215"/>
                      <a:pt x="1120889" y="2259190"/>
                    </a:cubicBezTo>
                    <a:lnTo>
                      <a:pt x="1130205" y="1129614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饼形 80"/>
              <p:cNvSpPr/>
              <p:nvPr/>
            </p:nvSpPr>
            <p:spPr>
              <a:xfrm flipH="1" rot="12160800">
                <a:off x="4183560" y="174600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54780" y="1668630"/>
                      <a:pt x="1131226" y="1770291"/>
                      <a:pt x="883960" y="1770291"/>
                    </a:cubicBezTo>
                    <a:cubicBezTo>
                      <a:pt x="879912" y="1770291"/>
                      <a:pt x="875871" y="1770264"/>
                      <a:pt x="871897" y="1770210"/>
                    </a:cubicBezTo>
                    <a:lnTo>
                      <a:pt x="883960" y="885145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饼形 81"/>
              <p:cNvSpPr/>
              <p:nvPr/>
            </p:nvSpPr>
            <p:spPr>
              <a:xfrm flipH="1" rot="12160800">
                <a:off x="4237200" y="1805400"/>
                <a:ext cx="552600" cy="54936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39" y="1245092"/>
                    </a:moveTo>
                    <a:cubicBezTo>
                      <a:pt x="1117519" y="1376882"/>
                      <a:pt x="934531" y="1458382"/>
                      <a:pt x="732423" y="1458382"/>
                    </a:cubicBezTo>
                    <a:cubicBezTo>
                      <a:pt x="729055" y="1458382"/>
                      <a:pt x="725693" y="1458359"/>
                      <a:pt x="722386" y="1458315"/>
                    </a:cubicBezTo>
                    <a:lnTo>
                      <a:pt x="732424" y="729191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4" name="组合 8255"/>
            <p:cNvGrpSpPr/>
            <p:nvPr/>
          </p:nvGrpSpPr>
          <p:grpSpPr>
            <a:xfrm>
              <a:off x="3644280" y="1213560"/>
              <a:ext cx="1737720" cy="1737000"/>
              <a:chOff x="3644280" y="1213560"/>
              <a:chExt cx="1737720" cy="1737000"/>
            </a:xfrm>
          </p:grpSpPr>
          <p:sp>
            <p:nvSpPr>
              <p:cNvPr id="695" name="饼形 101"/>
              <p:cNvSpPr/>
              <p:nvPr/>
            </p:nvSpPr>
            <p:spPr>
              <a:xfrm flipV="1" rot="17560800">
                <a:off x="3849120" y="1417320"/>
                <a:ext cx="132732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0"/>
                    </a:moveTo>
                    <a:cubicBezTo>
                      <a:pt x="2696114" y="3324221"/>
                      <a:pt x="2253310" y="3523210"/>
                      <a:pt x="1763968" y="3523210"/>
                    </a:cubicBezTo>
                    <a:cubicBezTo>
                      <a:pt x="1761759" y="3523210"/>
                      <a:pt x="1759551" y="3523206"/>
                      <a:pt x="1757379" y="3523198"/>
                    </a:cubicBezTo>
                    <a:lnTo>
                      <a:pt x="1763968" y="17616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饼形 102"/>
              <p:cNvSpPr/>
              <p:nvPr/>
            </p:nvSpPr>
            <p:spPr>
              <a:xfrm flipV="1" rot="17560800">
                <a:off x="3989520" y="1554120"/>
                <a:ext cx="104508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0" y="2362051"/>
                    </a:moveTo>
                    <a:cubicBezTo>
                      <a:pt x="2128041" y="2618859"/>
                      <a:pt x="1777038" y="2778160"/>
                      <a:pt x="1388836" y="2778160"/>
                    </a:cubicBezTo>
                    <a:cubicBezTo>
                      <a:pt x="1387399" y="2778160"/>
                      <a:pt x="1385963" y="2778158"/>
                      <a:pt x="1384551" y="2778154"/>
                    </a:cubicBezTo>
                    <a:lnTo>
                      <a:pt x="1388836" y="1389080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饼形 103"/>
              <p:cNvSpPr/>
              <p:nvPr/>
            </p:nvSpPr>
            <p:spPr>
              <a:xfrm flipV="1" rot="17560800">
                <a:off x="4082400" y="1651320"/>
                <a:ext cx="85176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1" y="1922463"/>
                    </a:moveTo>
                    <a:cubicBezTo>
                      <a:pt x="1733521" y="2131054"/>
                      <a:pt x="1447749" y="2260414"/>
                      <a:pt x="1131722" y="2260414"/>
                    </a:cubicBezTo>
                    <a:cubicBezTo>
                      <a:pt x="1128596" y="2260414"/>
                      <a:pt x="1125472" y="2260401"/>
                      <a:pt x="1122400" y="2260376"/>
                    </a:cubicBezTo>
                    <a:lnTo>
                      <a:pt x="1131722" y="1130207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饼形 104"/>
              <p:cNvSpPr/>
              <p:nvPr/>
            </p:nvSpPr>
            <p:spPr>
              <a:xfrm flipV="1" rot="17560800">
                <a:off x="4170960" y="1741320"/>
                <a:ext cx="66780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1" y="1507182"/>
                    </a:moveTo>
                    <a:cubicBezTo>
                      <a:pt x="1359052" y="1670714"/>
                      <a:pt x="1135012" y="1772130"/>
                      <a:pt x="887252" y="1772130"/>
                    </a:cubicBezTo>
                    <a:cubicBezTo>
                      <a:pt x="883200" y="1772130"/>
                      <a:pt x="879154" y="1772103"/>
                      <a:pt x="875176" y="1772050"/>
                    </a:cubicBezTo>
                    <a:lnTo>
                      <a:pt x="887252" y="88606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饼形 105"/>
              <p:cNvSpPr/>
              <p:nvPr/>
            </p:nvSpPr>
            <p:spPr>
              <a:xfrm flipV="1" rot="17560800">
                <a:off x="4235040" y="180288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0" y="1245476"/>
                    </a:moveTo>
                    <a:cubicBezTo>
                      <a:pt x="1114004" y="1378376"/>
                      <a:pt x="931189" y="1460639"/>
                      <a:pt x="729191" y="1460639"/>
                    </a:cubicBezTo>
                    <a:cubicBezTo>
                      <a:pt x="725818" y="1460639"/>
                      <a:pt x="722450" y="1460616"/>
                      <a:pt x="719138" y="1460571"/>
                    </a:cubicBezTo>
                    <a:lnTo>
                      <a:pt x="729191" y="730320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0" name="矩形 69"/>
          <p:cNvSpPr/>
          <p:nvPr/>
        </p:nvSpPr>
        <p:spPr>
          <a:xfrm>
            <a:off x="2147760" y="2641680"/>
            <a:ext cx="2328840" cy="711000"/>
          </a:xfrm>
          <a:prstGeom prst="rect">
            <a:avLst/>
          </a:prstGeom>
          <a:noFill/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像蚂蚁一样工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矩形 70"/>
          <p:cNvSpPr/>
          <p:nvPr/>
        </p:nvSpPr>
        <p:spPr>
          <a:xfrm flipH="1">
            <a:off x="4458600" y="2641680"/>
            <a:ext cx="2390760" cy="711000"/>
          </a:xfrm>
          <a:prstGeom prst="rect">
            <a:avLst/>
          </a:prstGeom>
          <a:noFill/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像蝴蝶一样生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2" name="组合 8263"/>
          <p:cNvGrpSpPr/>
          <p:nvPr/>
        </p:nvGrpSpPr>
        <p:grpSpPr>
          <a:xfrm>
            <a:off x="1797120" y="2292120"/>
            <a:ext cx="674640" cy="676440"/>
            <a:chOff x="1797120" y="2292120"/>
            <a:chExt cx="674640" cy="676440"/>
          </a:xfrm>
        </p:grpSpPr>
        <p:grpSp>
          <p:nvGrpSpPr>
            <p:cNvPr id="703" name="组合 8264"/>
            <p:cNvGrpSpPr/>
            <p:nvPr/>
          </p:nvGrpSpPr>
          <p:grpSpPr>
            <a:xfrm>
              <a:off x="1798560" y="2293920"/>
              <a:ext cx="673200" cy="674280"/>
              <a:chOff x="1798560" y="2293920"/>
              <a:chExt cx="673200" cy="674280"/>
            </a:xfrm>
          </p:grpSpPr>
          <p:sp>
            <p:nvSpPr>
              <p:cNvPr id="704" name="饼形 84"/>
              <p:cNvSpPr/>
              <p:nvPr/>
            </p:nvSpPr>
            <p:spPr>
              <a:xfrm rot="10800000">
                <a:off x="1798560" y="2293920"/>
                <a:ext cx="673200" cy="674280"/>
              </a:xfrm>
              <a:custGeom>
                <a:avLst/>
                <a:gdLst/>
                <a:ahLst/>
                <a:rect l="l" t="t" r="r" b="b"/>
                <a:pathLst>
                  <a:path w="3523029" h="3523859">
                    <a:moveTo>
                      <a:pt x="3012453" y="3002417"/>
                    </a:moveTo>
                    <a:cubicBezTo>
                      <a:pt x="2693267" y="3324427"/>
                      <a:pt x="2250675" y="3523859"/>
                      <a:pt x="1761514" y="3523859"/>
                    </a:cubicBezTo>
                    <a:cubicBezTo>
                      <a:pt x="1759304" y="3523859"/>
                      <a:pt x="1757096" y="3523855"/>
                      <a:pt x="1754923" y="3523847"/>
                    </a:cubicBezTo>
                    <a:lnTo>
                      <a:pt x="1761514" y="1761929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饼形 85"/>
              <p:cNvSpPr/>
              <p:nvPr/>
            </p:nvSpPr>
            <p:spPr>
              <a:xfrm rot="10800000">
                <a:off x="1869480" y="2363760"/>
                <a:ext cx="530280" cy="531720"/>
              </a:xfrm>
              <a:custGeom>
                <a:avLst/>
                <a:gdLst/>
                <a:ahLst/>
                <a:rect l="l" t="t" r="r" b="b"/>
                <a:pathLst>
                  <a:path w="2775216" h="2777629">
                    <a:moveTo>
                      <a:pt x="2378292" y="2361255"/>
                    </a:moveTo>
                    <a:cubicBezTo>
                      <a:pt x="2126471" y="2618216"/>
                      <a:pt x="1775639" y="2777628"/>
                      <a:pt x="1387607" y="2777628"/>
                    </a:cubicBezTo>
                    <a:cubicBezTo>
                      <a:pt x="1386168" y="2777628"/>
                      <a:pt x="1384730" y="2777626"/>
                      <a:pt x="1383316" y="2777621"/>
                    </a:cubicBezTo>
                    <a:lnTo>
                      <a:pt x="1387608" y="1388814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饼形 86"/>
              <p:cNvSpPr/>
              <p:nvPr/>
            </p:nvSpPr>
            <p:spPr>
              <a:xfrm rot="10800000">
                <a:off x="1917360" y="2412720"/>
                <a:ext cx="432000" cy="431640"/>
              </a:xfrm>
              <a:custGeom>
                <a:avLst/>
                <a:gdLst/>
                <a:ahLst/>
                <a:rect l="l" t="t" r="r" b="b"/>
                <a:pathLst>
                  <a:path w="2260056" h="2255271">
                    <a:moveTo>
                      <a:pt x="1935630" y="1918402"/>
                    </a:moveTo>
                    <a:cubicBezTo>
                      <a:pt x="1730639" y="2126335"/>
                      <a:pt x="1445423" y="2255271"/>
                      <a:pt x="1130028" y="2255271"/>
                    </a:cubicBezTo>
                    <a:cubicBezTo>
                      <a:pt x="1126909" y="2255271"/>
                      <a:pt x="1123792" y="2255258"/>
                      <a:pt x="1120727" y="2255234"/>
                    </a:cubicBezTo>
                    <a:lnTo>
                      <a:pt x="1130028" y="1127635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饼形 87"/>
              <p:cNvSpPr/>
              <p:nvPr/>
            </p:nvSpPr>
            <p:spPr>
              <a:xfrm rot="10800000">
                <a:off x="1964880" y="2457360"/>
                <a:ext cx="338040" cy="339480"/>
              </a:xfrm>
              <a:custGeom>
                <a:avLst/>
                <a:gdLst/>
                <a:ahLst/>
                <a:rect l="l" t="t" r="r" b="b"/>
                <a:pathLst>
                  <a:path w="1769826" h="1774368">
                    <a:moveTo>
                      <a:pt x="1517222" y="1507849"/>
                    </a:moveTo>
                    <a:cubicBezTo>
                      <a:pt x="1356592" y="1672312"/>
                      <a:pt x="1132640" y="1774368"/>
                      <a:pt x="884913" y="1774368"/>
                    </a:cubicBezTo>
                    <a:cubicBezTo>
                      <a:pt x="880856" y="1774368"/>
                      <a:pt x="876805" y="1774341"/>
                      <a:pt x="872822" y="1774287"/>
                    </a:cubicBezTo>
                    <a:lnTo>
                      <a:pt x="884913" y="887184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饼形 88"/>
              <p:cNvSpPr/>
              <p:nvPr/>
            </p:nvSpPr>
            <p:spPr>
              <a:xfrm rot="10800000">
                <a:off x="1995480" y="2489400"/>
                <a:ext cx="277920" cy="279360"/>
              </a:xfrm>
              <a:custGeom>
                <a:avLst/>
                <a:gdLst/>
                <a:ahLst/>
                <a:rect l="l" t="t" r="r" b="b"/>
                <a:pathLst>
                  <a:path w="1454078" h="1459293">
                    <a:moveTo>
                      <a:pt x="1242903" y="1243801"/>
                    </a:moveTo>
                    <a:cubicBezTo>
                      <a:pt x="1111198" y="1376888"/>
                      <a:pt x="928707" y="1459292"/>
                      <a:pt x="727039" y="1459292"/>
                    </a:cubicBezTo>
                    <a:cubicBezTo>
                      <a:pt x="723669" y="1459292"/>
                      <a:pt x="720305" y="1459269"/>
                      <a:pt x="716996" y="1459224"/>
                    </a:cubicBezTo>
                    <a:lnTo>
                      <a:pt x="727039" y="729646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9" name="组合 8270"/>
            <p:cNvGrpSpPr/>
            <p:nvPr/>
          </p:nvGrpSpPr>
          <p:grpSpPr>
            <a:xfrm>
              <a:off x="1798560" y="2293560"/>
              <a:ext cx="673200" cy="674280"/>
              <a:chOff x="1798560" y="2293560"/>
              <a:chExt cx="673200" cy="674280"/>
            </a:xfrm>
          </p:grpSpPr>
          <p:sp>
            <p:nvSpPr>
              <p:cNvPr id="710" name="饼形 90"/>
              <p:cNvSpPr/>
              <p:nvPr/>
            </p:nvSpPr>
            <p:spPr>
              <a:xfrm flipH="1" rot="10800000">
                <a:off x="1798560" y="2293560"/>
                <a:ext cx="673200" cy="674280"/>
              </a:xfrm>
              <a:custGeom>
                <a:avLst/>
                <a:gdLst/>
                <a:ahLst/>
                <a:rect l="l" t="t" r="r" b="b"/>
                <a:pathLst>
                  <a:path w="3523029" h="3523859">
                    <a:moveTo>
                      <a:pt x="3012453" y="3002417"/>
                    </a:moveTo>
                    <a:cubicBezTo>
                      <a:pt x="2693267" y="3324427"/>
                      <a:pt x="2250675" y="3523859"/>
                      <a:pt x="1761514" y="3523859"/>
                    </a:cubicBezTo>
                    <a:cubicBezTo>
                      <a:pt x="1759304" y="3523859"/>
                      <a:pt x="1757096" y="3523855"/>
                      <a:pt x="1754923" y="3523847"/>
                    </a:cubicBezTo>
                    <a:lnTo>
                      <a:pt x="1761514" y="17619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饼形 91"/>
              <p:cNvSpPr/>
              <p:nvPr/>
            </p:nvSpPr>
            <p:spPr>
              <a:xfrm flipH="1" rot="10800000">
                <a:off x="1868760" y="2363400"/>
                <a:ext cx="530280" cy="531720"/>
              </a:xfrm>
              <a:custGeom>
                <a:avLst/>
                <a:gdLst/>
                <a:ahLst/>
                <a:rect l="l" t="t" r="r" b="b"/>
                <a:pathLst>
                  <a:path w="2775216" h="2777629">
                    <a:moveTo>
                      <a:pt x="2378292" y="2361255"/>
                    </a:moveTo>
                    <a:cubicBezTo>
                      <a:pt x="2126471" y="2618216"/>
                      <a:pt x="1775639" y="2777628"/>
                      <a:pt x="1387607" y="2777628"/>
                    </a:cubicBezTo>
                    <a:cubicBezTo>
                      <a:pt x="1386168" y="2777628"/>
                      <a:pt x="1384730" y="2777626"/>
                      <a:pt x="1383316" y="2777621"/>
                    </a:cubicBezTo>
                    <a:lnTo>
                      <a:pt x="1387608" y="138881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饼形 92"/>
              <p:cNvSpPr/>
              <p:nvPr/>
            </p:nvSpPr>
            <p:spPr>
              <a:xfrm flipH="1" rot="10800000">
                <a:off x="1920600" y="2412360"/>
                <a:ext cx="432000" cy="431640"/>
              </a:xfrm>
              <a:custGeom>
                <a:avLst/>
                <a:gdLst/>
                <a:ahLst/>
                <a:rect l="l" t="t" r="r" b="b"/>
                <a:pathLst>
                  <a:path w="2260056" h="2255271">
                    <a:moveTo>
                      <a:pt x="1935630" y="1918402"/>
                    </a:moveTo>
                    <a:cubicBezTo>
                      <a:pt x="1730639" y="2126335"/>
                      <a:pt x="1445423" y="2255271"/>
                      <a:pt x="1130028" y="2255271"/>
                    </a:cubicBezTo>
                    <a:cubicBezTo>
                      <a:pt x="1126909" y="2255271"/>
                      <a:pt x="1123792" y="2255258"/>
                      <a:pt x="1120727" y="2255234"/>
                    </a:cubicBezTo>
                    <a:lnTo>
                      <a:pt x="1130028" y="1127635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饼形 93"/>
              <p:cNvSpPr/>
              <p:nvPr/>
            </p:nvSpPr>
            <p:spPr>
              <a:xfrm flipH="1" rot="10800000">
                <a:off x="1965600" y="2457000"/>
                <a:ext cx="338040" cy="339480"/>
              </a:xfrm>
              <a:custGeom>
                <a:avLst/>
                <a:gdLst/>
                <a:ahLst/>
                <a:rect l="l" t="t" r="r" b="b"/>
                <a:pathLst>
                  <a:path w="1769821" h="1774368">
                    <a:moveTo>
                      <a:pt x="1517219" y="1507848"/>
                    </a:moveTo>
                    <a:cubicBezTo>
                      <a:pt x="1356590" y="1672312"/>
                      <a:pt x="1132638" y="1774368"/>
                      <a:pt x="884911" y="1774368"/>
                    </a:cubicBezTo>
                    <a:cubicBezTo>
                      <a:pt x="880854" y="1774368"/>
                      <a:pt x="876803" y="1774341"/>
                      <a:pt x="872820" y="1774287"/>
                    </a:cubicBezTo>
                    <a:lnTo>
                      <a:pt x="884910" y="887184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饼形 94"/>
              <p:cNvSpPr/>
              <p:nvPr/>
            </p:nvSpPr>
            <p:spPr>
              <a:xfrm flipH="1" rot="10800000">
                <a:off x="1996920" y="2489040"/>
                <a:ext cx="277920" cy="279360"/>
              </a:xfrm>
              <a:custGeom>
                <a:avLst/>
                <a:gdLst/>
                <a:ahLst/>
                <a:rect l="l" t="t" r="r" b="b"/>
                <a:pathLst>
                  <a:path w="1454083" h="1459293">
                    <a:moveTo>
                      <a:pt x="1242906" y="1243802"/>
                    </a:moveTo>
                    <a:cubicBezTo>
                      <a:pt x="1111200" y="1376889"/>
                      <a:pt x="928710" y="1459293"/>
                      <a:pt x="727041" y="1459293"/>
                    </a:cubicBezTo>
                    <a:cubicBezTo>
                      <a:pt x="723671" y="1459293"/>
                      <a:pt x="720307" y="1459270"/>
                      <a:pt x="716998" y="1459225"/>
                    </a:cubicBezTo>
                    <a:lnTo>
                      <a:pt x="727041" y="729646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5" name="组合 8276"/>
            <p:cNvGrpSpPr/>
            <p:nvPr/>
          </p:nvGrpSpPr>
          <p:grpSpPr>
            <a:xfrm>
              <a:off x="1797840" y="2293200"/>
              <a:ext cx="673200" cy="674280"/>
              <a:chOff x="1797840" y="2293200"/>
              <a:chExt cx="673200" cy="674280"/>
            </a:xfrm>
          </p:grpSpPr>
          <p:sp>
            <p:nvSpPr>
              <p:cNvPr id="716" name="饼形 96"/>
              <p:cNvSpPr/>
              <p:nvPr/>
            </p:nvSpPr>
            <p:spPr>
              <a:xfrm flipV="1" rot="10800000">
                <a:off x="1797840" y="2292840"/>
                <a:ext cx="673200" cy="674280"/>
              </a:xfrm>
              <a:custGeom>
                <a:avLst/>
                <a:gdLst/>
                <a:ahLst/>
                <a:rect l="l" t="t" r="r" b="b"/>
                <a:pathLst>
                  <a:path w="3523029" h="3523859">
                    <a:moveTo>
                      <a:pt x="3012453" y="3002417"/>
                    </a:moveTo>
                    <a:cubicBezTo>
                      <a:pt x="2693267" y="3324427"/>
                      <a:pt x="2250675" y="3523859"/>
                      <a:pt x="1761514" y="3523859"/>
                    </a:cubicBezTo>
                    <a:cubicBezTo>
                      <a:pt x="1759304" y="3523859"/>
                      <a:pt x="1757096" y="3523855"/>
                      <a:pt x="1754923" y="3523847"/>
                    </a:cubicBezTo>
                    <a:lnTo>
                      <a:pt x="1761514" y="1761929"/>
                    </a:lnTo>
                    <a:close/>
                  </a:path>
                </a:pathLst>
              </a:custGeom>
              <a:solidFill>
                <a:srgbClr val="017c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饼形 97"/>
              <p:cNvSpPr/>
              <p:nvPr/>
            </p:nvSpPr>
            <p:spPr>
              <a:xfrm flipV="1" rot="10800000">
                <a:off x="1868760" y="2365560"/>
                <a:ext cx="530280" cy="531720"/>
              </a:xfrm>
              <a:custGeom>
                <a:avLst/>
                <a:gdLst/>
                <a:ahLst/>
                <a:rect l="l" t="t" r="r" b="b"/>
                <a:pathLst>
                  <a:path w="2775216" h="2777629">
                    <a:moveTo>
                      <a:pt x="2378292" y="2361255"/>
                    </a:moveTo>
                    <a:cubicBezTo>
                      <a:pt x="2126471" y="2618216"/>
                      <a:pt x="1775639" y="2777628"/>
                      <a:pt x="1387607" y="2777628"/>
                    </a:cubicBezTo>
                    <a:cubicBezTo>
                      <a:pt x="1386168" y="2777628"/>
                      <a:pt x="1384730" y="2777626"/>
                      <a:pt x="1383316" y="2777621"/>
                    </a:cubicBezTo>
                    <a:lnTo>
                      <a:pt x="1387608" y="1388814"/>
                    </a:lnTo>
                    <a:close/>
                  </a:path>
                </a:pathLst>
              </a:custGeom>
              <a:solidFill>
                <a:srgbClr val="0098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饼形 98"/>
              <p:cNvSpPr/>
              <p:nvPr/>
            </p:nvSpPr>
            <p:spPr>
              <a:xfrm flipV="1" rot="10800000">
                <a:off x="1916640" y="2416320"/>
                <a:ext cx="432000" cy="431640"/>
              </a:xfrm>
              <a:custGeom>
                <a:avLst/>
                <a:gdLst/>
                <a:ahLst/>
                <a:rect l="l" t="t" r="r" b="b"/>
                <a:pathLst>
                  <a:path w="2260056" h="2255271">
                    <a:moveTo>
                      <a:pt x="1935630" y="1918402"/>
                    </a:moveTo>
                    <a:cubicBezTo>
                      <a:pt x="1730639" y="2126335"/>
                      <a:pt x="1445423" y="2255271"/>
                      <a:pt x="1130028" y="2255271"/>
                    </a:cubicBezTo>
                    <a:cubicBezTo>
                      <a:pt x="1126909" y="2255271"/>
                      <a:pt x="1123792" y="2255258"/>
                      <a:pt x="1120727" y="2255234"/>
                    </a:cubicBezTo>
                    <a:lnTo>
                      <a:pt x="1130028" y="1127635"/>
                    </a:lnTo>
                    <a:close/>
                  </a:path>
                </a:pathLst>
              </a:custGeom>
              <a:solidFill>
                <a:srgbClr val="00c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饼形 99"/>
              <p:cNvSpPr/>
              <p:nvPr/>
            </p:nvSpPr>
            <p:spPr>
              <a:xfrm flipV="1" rot="10800000">
                <a:off x="1964160" y="2464200"/>
                <a:ext cx="338040" cy="339480"/>
              </a:xfrm>
              <a:custGeom>
                <a:avLst/>
                <a:gdLst/>
                <a:ahLst/>
                <a:rect l="l" t="t" r="r" b="b"/>
                <a:pathLst>
                  <a:path w="1769821" h="1774368">
                    <a:moveTo>
                      <a:pt x="1517219" y="1507848"/>
                    </a:moveTo>
                    <a:cubicBezTo>
                      <a:pt x="1356590" y="1672312"/>
                      <a:pt x="1132638" y="1774368"/>
                      <a:pt x="884911" y="1774368"/>
                    </a:cubicBezTo>
                    <a:cubicBezTo>
                      <a:pt x="880854" y="1774368"/>
                      <a:pt x="876803" y="1774341"/>
                      <a:pt x="872820" y="1774287"/>
                    </a:cubicBezTo>
                    <a:lnTo>
                      <a:pt x="884910" y="887184"/>
                    </a:lnTo>
                    <a:close/>
                  </a:path>
                </a:pathLst>
              </a:custGeom>
              <a:solidFill>
                <a:srgbClr val="71f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饼形 100"/>
              <p:cNvSpPr/>
              <p:nvPr/>
            </p:nvSpPr>
            <p:spPr>
              <a:xfrm flipV="1" rot="10800000">
                <a:off x="1994760" y="2493720"/>
                <a:ext cx="277920" cy="279360"/>
              </a:xfrm>
              <a:custGeom>
                <a:avLst/>
                <a:gdLst/>
                <a:ahLst/>
                <a:rect l="l" t="t" r="r" b="b"/>
                <a:pathLst>
                  <a:path w="1454083" h="1459293">
                    <a:moveTo>
                      <a:pt x="1242906" y="1243802"/>
                    </a:moveTo>
                    <a:cubicBezTo>
                      <a:pt x="1111200" y="1376889"/>
                      <a:pt x="928710" y="1459293"/>
                      <a:pt x="727041" y="1459293"/>
                    </a:cubicBezTo>
                    <a:cubicBezTo>
                      <a:pt x="723671" y="1459293"/>
                      <a:pt x="720307" y="1459270"/>
                      <a:pt x="716998" y="1459225"/>
                    </a:cubicBezTo>
                    <a:lnTo>
                      <a:pt x="727041" y="729646"/>
                    </a:lnTo>
                    <a:close/>
                  </a:path>
                </a:pathLst>
              </a:custGeom>
              <a:solidFill>
                <a:srgbClr val="a7f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1" name="组合 8282"/>
            <p:cNvGrpSpPr/>
            <p:nvPr/>
          </p:nvGrpSpPr>
          <p:grpSpPr>
            <a:xfrm>
              <a:off x="1797120" y="2294280"/>
              <a:ext cx="673200" cy="674280"/>
              <a:chOff x="1797120" y="2294280"/>
              <a:chExt cx="673200" cy="674280"/>
            </a:xfrm>
          </p:grpSpPr>
          <p:sp>
            <p:nvSpPr>
              <p:cNvPr id="722" name="饼形 114"/>
              <p:cNvSpPr/>
              <p:nvPr/>
            </p:nvSpPr>
            <p:spPr>
              <a:xfrm flipH="1" flipV="1" rot="5400000">
                <a:off x="1796400" y="2294280"/>
                <a:ext cx="674280" cy="673200"/>
              </a:xfrm>
              <a:custGeom>
                <a:avLst/>
                <a:gdLst/>
                <a:ahLst/>
                <a:rect l="l" t="t" r="r" b="b"/>
                <a:pathLst>
                  <a:path w="3523859" h="3523029">
                    <a:moveTo>
                      <a:pt x="3012870" y="3002004"/>
                    </a:moveTo>
                    <a:cubicBezTo>
                      <a:pt x="2693632" y="3323764"/>
                      <a:pt x="2251057" y="3523027"/>
                      <a:pt x="1761930" y="3523027"/>
                    </a:cubicBezTo>
                    <a:cubicBezTo>
                      <a:pt x="1759721" y="3523027"/>
                      <a:pt x="1757513" y="3523023"/>
                      <a:pt x="1755341" y="3523015"/>
                    </a:cubicBezTo>
                    <a:lnTo>
                      <a:pt x="1761929" y="17615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饼形 115"/>
              <p:cNvSpPr/>
              <p:nvPr/>
            </p:nvSpPr>
            <p:spPr>
              <a:xfrm flipH="1" flipV="1" rot="5400000">
                <a:off x="1868040" y="2365920"/>
                <a:ext cx="531720" cy="530280"/>
              </a:xfrm>
              <a:custGeom>
                <a:avLst/>
                <a:gdLst/>
                <a:ahLst/>
                <a:rect l="l" t="t" r="r" b="b"/>
                <a:pathLst>
                  <a:path w="2777634" h="2775216">
                    <a:moveTo>
                      <a:pt x="2379518" y="2360065"/>
                    </a:moveTo>
                    <a:cubicBezTo>
                      <a:pt x="2127538" y="2616297"/>
                      <a:pt x="1776752" y="2775215"/>
                      <a:pt x="1388816" y="2775215"/>
                    </a:cubicBezTo>
                    <a:cubicBezTo>
                      <a:pt x="1387381" y="2775215"/>
                      <a:pt x="1385946" y="2775213"/>
                      <a:pt x="1384535" y="2775209"/>
                    </a:cubicBezTo>
                    <a:lnTo>
                      <a:pt x="1388817" y="1387608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饼形 116"/>
              <p:cNvSpPr/>
              <p:nvPr/>
            </p:nvSpPr>
            <p:spPr>
              <a:xfrm flipH="1" flipV="1" rot="5400000">
                <a:off x="1919160" y="2421720"/>
                <a:ext cx="431640" cy="430200"/>
              </a:xfrm>
              <a:custGeom>
                <a:avLst/>
                <a:gdLst/>
                <a:ahLst/>
                <a:rect l="l" t="t" r="r" b="b"/>
                <a:pathLst>
                  <a:path w="2255271" h="2251750">
                    <a:moveTo>
                      <a:pt x="1931752" y="1915183"/>
                    </a:moveTo>
                    <a:cubicBezTo>
                      <a:pt x="1727179" y="2122922"/>
                      <a:pt x="1442475" y="2251750"/>
                      <a:pt x="1127635" y="2251750"/>
                    </a:cubicBezTo>
                    <a:cubicBezTo>
                      <a:pt x="1124521" y="2251750"/>
                      <a:pt x="1121409" y="2251737"/>
                      <a:pt x="1118349" y="2251713"/>
                    </a:cubicBezTo>
                    <a:lnTo>
                      <a:pt x="1127635" y="1125875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饼形 117"/>
              <p:cNvSpPr/>
              <p:nvPr/>
            </p:nvSpPr>
            <p:spPr>
              <a:xfrm flipH="1" flipV="1" rot="5400000">
                <a:off x="1966680" y="2467800"/>
                <a:ext cx="339480" cy="338040"/>
              </a:xfrm>
              <a:custGeom>
                <a:avLst/>
                <a:gdLst/>
                <a:ahLst/>
                <a:rect l="l" t="t" r="r" b="b"/>
                <a:pathLst>
                  <a:path w="1774368" h="1769826">
                    <a:moveTo>
                      <a:pt x="1519523" y="1505607"/>
                    </a:moveTo>
                    <a:cubicBezTo>
                      <a:pt x="1358595" y="1668700"/>
                      <a:pt x="1134729" y="1769825"/>
                      <a:pt x="887183" y="1769825"/>
                    </a:cubicBezTo>
                    <a:cubicBezTo>
                      <a:pt x="883136" y="1769825"/>
                      <a:pt x="879096" y="1769798"/>
                      <a:pt x="875123" y="1769745"/>
                    </a:cubicBezTo>
                    <a:lnTo>
                      <a:pt x="887184" y="884913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饼形 118"/>
              <p:cNvSpPr/>
              <p:nvPr/>
            </p:nvSpPr>
            <p:spPr>
              <a:xfrm flipH="1" flipV="1" rot="5400000">
                <a:off x="1995480" y="249660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1459293" h="1462389">
                    <a:moveTo>
                      <a:pt x="1246985" y="1246819"/>
                    </a:moveTo>
                    <a:cubicBezTo>
                      <a:pt x="1114836" y="1379966"/>
                      <a:pt x="931847" y="1462388"/>
                      <a:pt x="729647" y="1462388"/>
                    </a:cubicBezTo>
                    <a:cubicBezTo>
                      <a:pt x="726270" y="1462388"/>
                      <a:pt x="722898" y="1462365"/>
                      <a:pt x="719582" y="1462320"/>
                    </a:cubicBezTo>
                    <a:lnTo>
                      <a:pt x="729646" y="73119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7" name="组合 8288"/>
            <p:cNvGrpSpPr/>
            <p:nvPr/>
          </p:nvGrpSpPr>
          <p:grpSpPr>
            <a:xfrm>
              <a:off x="1797840" y="2293920"/>
              <a:ext cx="673200" cy="674280"/>
              <a:chOff x="1797840" y="2293920"/>
              <a:chExt cx="673200" cy="674280"/>
            </a:xfrm>
          </p:grpSpPr>
          <p:sp>
            <p:nvSpPr>
              <p:cNvPr id="728" name="饼形 120"/>
              <p:cNvSpPr/>
              <p:nvPr/>
            </p:nvSpPr>
            <p:spPr>
              <a:xfrm rot="5400000">
                <a:off x="1797120" y="2294280"/>
                <a:ext cx="674280" cy="673200"/>
              </a:xfrm>
              <a:custGeom>
                <a:avLst/>
                <a:gdLst/>
                <a:ahLst/>
                <a:rect l="l" t="t" r="r" b="b"/>
                <a:pathLst>
                  <a:path w="3523859" h="3523029">
                    <a:moveTo>
                      <a:pt x="3012870" y="3002004"/>
                    </a:moveTo>
                    <a:cubicBezTo>
                      <a:pt x="2693632" y="3323764"/>
                      <a:pt x="2251057" y="3523027"/>
                      <a:pt x="1761930" y="3523027"/>
                    </a:cubicBezTo>
                    <a:cubicBezTo>
                      <a:pt x="1759721" y="3523027"/>
                      <a:pt x="1757513" y="3523023"/>
                      <a:pt x="1755341" y="3523015"/>
                    </a:cubicBezTo>
                    <a:lnTo>
                      <a:pt x="1761929" y="17615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饼形 121"/>
              <p:cNvSpPr/>
              <p:nvPr/>
            </p:nvSpPr>
            <p:spPr>
              <a:xfrm rot="5400000">
                <a:off x="1866600" y="2365920"/>
                <a:ext cx="531720" cy="530280"/>
              </a:xfrm>
              <a:custGeom>
                <a:avLst/>
                <a:gdLst/>
                <a:ahLst/>
                <a:rect l="l" t="t" r="r" b="b"/>
                <a:pathLst>
                  <a:path w="2777634" h="2775216">
                    <a:moveTo>
                      <a:pt x="2379518" y="2360065"/>
                    </a:moveTo>
                    <a:cubicBezTo>
                      <a:pt x="2127538" y="2616297"/>
                      <a:pt x="1776752" y="2775215"/>
                      <a:pt x="1388816" y="2775215"/>
                    </a:cubicBezTo>
                    <a:cubicBezTo>
                      <a:pt x="1387381" y="2775215"/>
                      <a:pt x="1385946" y="2775213"/>
                      <a:pt x="1384535" y="2775209"/>
                    </a:cubicBezTo>
                    <a:lnTo>
                      <a:pt x="1388817" y="1387608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饼形 122"/>
              <p:cNvSpPr/>
              <p:nvPr/>
            </p:nvSpPr>
            <p:spPr>
              <a:xfrm rot="5400000">
                <a:off x="1915560" y="2416680"/>
                <a:ext cx="431640" cy="430200"/>
              </a:xfrm>
              <a:custGeom>
                <a:avLst/>
                <a:gdLst/>
                <a:ahLst/>
                <a:rect l="l" t="t" r="r" b="b"/>
                <a:pathLst>
                  <a:path w="2255271" h="2251750">
                    <a:moveTo>
                      <a:pt x="1931752" y="1915183"/>
                    </a:moveTo>
                    <a:cubicBezTo>
                      <a:pt x="1727179" y="2122922"/>
                      <a:pt x="1442475" y="2251750"/>
                      <a:pt x="1127635" y="2251750"/>
                    </a:cubicBezTo>
                    <a:cubicBezTo>
                      <a:pt x="1124521" y="2251750"/>
                      <a:pt x="1121409" y="2251737"/>
                      <a:pt x="1118349" y="2251713"/>
                    </a:cubicBezTo>
                    <a:lnTo>
                      <a:pt x="1127635" y="1125875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饼形 123"/>
              <p:cNvSpPr/>
              <p:nvPr/>
            </p:nvSpPr>
            <p:spPr>
              <a:xfrm rot="5400000">
                <a:off x="1960200" y="2462760"/>
                <a:ext cx="339480" cy="338040"/>
              </a:xfrm>
              <a:custGeom>
                <a:avLst/>
                <a:gdLst/>
                <a:ahLst/>
                <a:rect l="l" t="t" r="r" b="b"/>
                <a:pathLst>
                  <a:path w="1774368" h="1769826">
                    <a:moveTo>
                      <a:pt x="1519523" y="1505607"/>
                    </a:moveTo>
                    <a:cubicBezTo>
                      <a:pt x="1358595" y="1668700"/>
                      <a:pt x="1134729" y="1769825"/>
                      <a:pt x="887183" y="1769825"/>
                    </a:cubicBezTo>
                    <a:cubicBezTo>
                      <a:pt x="883136" y="1769825"/>
                      <a:pt x="879096" y="1769798"/>
                      <a:pt x="875123" y="1769745"/>
                    </a:cubicBezTo>
                    <a:lnTo>
                      <a:pt x="887184" y="884913"/>
                    </a:lnTo>
                    <a:close/>
                  </a:path>
                </a:pathLst>
              </a:custGeom>
              <a:solidFill>
                <a:srgbClr val="d00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饼形 124"/>
              <p:cNvSpPr/>
              <p:nvPr/>
            </p:nvSpPr>
            <p:spPr>
              <a:xfrm rot="5400000">
                <a:off x="1992960" y="249228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1459293" h="1462389">
                    <a:moveTo>
                      <a:pt x="1246985" y="1246819"/>
                    </a:moveTo>
                    <a:cubicBezTo>
                      <a:pt x="1114836" y="1379966"/>
                      <a:pt x="931847" y="1462388"/>
                      <a:pt x="729647" y="1462388"/>
                    </a:cubicBezTo>
                    <a:cubicBezTo>
                      <a:pt x="726270" y="1462388"/>
                      <a:pt x="722898" y="1462365"/>
                      <a:pt x="719582" y="1462320"/>
                    </a:cubicBezTo>
                    <a:lnTo>
                      <a:pt x="729646" y="731194"/>
                    </a:lnTo>
                    <a:close/>
                  </a:path>
                </a:pathLst>
              </a:custGeom>
              <a:solidFill>
                <a:srgbClr val="ff5b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3" name="组合 8294"/>
            <p:cNvGrpSpPr/>
            <p:nvPr/>
          </p:nvGrpSpPr>
          <p:grpSpPr>
            <a:xfrm>
              <a:off x="1797840" y="2292120"/>
              <a:ext cx="673200" cy="674280"/>
              <a:chOff x="1797840" y="2292120"/>
              <a:chExt cx="673200" cy="674280"/>
            </a:xfrm>
          </p:grpSpPr>
          <p:sp>
            <p:nvSpPr>
              <p:cNvPr id="734" name="饼形 132"/>
              <p:cNvSpPr/>
              <p:nvPr/>
            </p:nvSpPr>
            <p:spPr>
              <a:xfrm flipV="1" rot="16200000">
                <a:off x="1797120" y="2292120"/>
                <a:ext cx="674280" cy="673200"/>
              </a:xfrm>
              <a:custGeom>
                <a:avLst/>
                <a:gdLst/>
                <a:ahLst/>
                <a:rect l="l" t="t" r="r" b="b"/>
                <a:pathLst>
                  <a:path w="3523864" h="3523029">
                    <a:moveTo>
                      <a:pt x="3012874" y="3002005"/>
                    </a:moveTo>
                    <a:cubicBezTo>
                      <a:pt x="2693635" y="3323764"/>
                      <a:pt x="2251060" y="3523027"/>
                      <a:pt x="1761933" y="3523027"/>
                    </a:cubicBezTo>
                    <a:cubicBezTo>
                      <a:pt x="1759724" y="3523027"/>
                      <a:pt x="1757516" y="3523023"/>
                      <a:pt x="1755344" y="3523015"/>
                    </a:cubicBezTo>
                    <a:lnTo>
                      <a:pt x="1761932" y="17615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饼形 133"/>
              <p:cNvSpPr/>
              <p:nvPr/>
            </p:nvSpPr>
            <p:spPr>
              <a:xfrm flipV="1" rot="16200000">
                <a:off x="1866600" y="2363760"/>
                <a:ext cx="531720" cy="530280"/>
              </a:xfrm>
              <a:custGeom>
                <a:avLst/>
                <a:gdLst/>
                <a:ahLst/>
                <a:rect l="l" t="t" r="r" b="b"/>
                <a:pathLst>
                  <a:path w="2777629" h="2775216">
                    <a:moveTo>
                      <a:pt x="2379515" y="2360064"/>
                    </a:moveTo>
                    <a:cubicBezTo>
                      <a:pt x="2127535" y="2616297"/>
                      <a:pt x="1776749" y="2775215"/>
                      <a:pt x="1388814" y="2775215"/>
                    </a:cubicBezTo>
                    <a:cubicBezTo>
                      <a:pt x="1387379" y="2775215"/>
                      <a:pt x="1385944" y="2775213"/>
                      <a:pt x="1384533" y="2775209"/>
                    </a:cubicBezTo>
                    <a:lnTo>
                      <a:pt x="1388814" y="1387608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饼形 134"/>
              <p:cNvSpPr/>
              <p:nvPr/>
            </p:nvSpPr>
            <p:spPr>
              <a:xfrm flipV="1" rot="16200000">
                <a:off x="1915560" y="2413080"/>
                <a:ext cx="431640" cy="430200"/>
              </a:xfrm>
              <a:custGeom>
                <a:avLst/>
                <a:gdLst/>
                <a:ahLst/>
                <a:rect l="l" t="t" r="r" b="b"/>
                <a:pathLst>
                  <a:path w="2255271" h="2251745">
                    <a:moveTo>
                      <a:pt x="1931751" y="1915180"/>
                    </a:moveTo>
                    <a:cubicBezTo>
                      <a:pt x="1727178" y="2122918"/>
                      <a:pt x="1442475" y="2251745"/>
                      <a:pt x="1127635" y="2251745"/>
                    </a:cubicBezTo>
                    <a:cubicBezTo>
                      <a:pt x="1124521" y="2251745"/>
                      <a:pt x="1121409" y="2251732"/>
                      <a:pt x="1118349" y="2251708"/>
                    </a:cubicBezTo>
                    <a:lnTo>
                      <a:pt x="1127635" y="1125872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饼形 135"/>
              <p:cNvSpPr/>
              <p:nvPr/>
            </p:nvSpPr>
            <p:spPr>
              <a:xfrm flipV="1" rot="16200000">
                <a:off x="1960200" y="2458800"/>
                <a:ext cx="339480" cy="338040"/>
              </a:xfrm>
              <a:custGeom>
                <a:avLst/>
                <a:gdLst/>
                <a:ahLst/>
                <a:rect l="l" t="t" r="r" b="b"/>
                <a:pathLst>
                  <a:path w="1774368" h="1769821">
                    <a:moveTo>
                      <a:pt x="1519522" y="1505604"/>
                    </a:moveTo>
                    <a:cubicBezTo>
                      <a:pt x="1358594" y="1668696"/>
                      <a:pt x="1134728" y="1769820"/>
                      <a:pt x="887183" y="1769820"/>
                    </a:cubicBezTo>
                    <a:cubicBezTo>
                      <a:pt x="883136" y="1769820"/>
                      <a:pt x="879096" y="1769793"/>
                      <a:pt x="875123" y="1769740"/>
                    </a:cubicBezTo>
                    <a:lnTo>
                      <a:pt x="887184" y="884910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饼形 136"/>
              <p:cNvSpPr/>
              <p:nvPr/>
            </p:nvSpPr>
            <p:spPr>
              <a:xfrm flipV="1" rot="16200000">
                <a:off x="1992960" y="248904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1459293" h="1462389">
                    <a:moveTo>
                      <a:pt x="1246985" y="1246819"/>
                    </a:moveTo>
                    <a:cubicBezTo>
                      <a:pt x="1114836" y="1379966"/>
                      <a:pt x="931847" y="1462388"/>
                      <a:pt x="729647" y="1462388"/>
                    </a:cubicBezTo>
                    <a:cubicBezTo>
                      <a:pt x="726270" y="1462388"/>
                      <a:pt x="722898" y="1462365"/>
                      <a:pt x="719582" y="1462320"/>
                    </a:cubicBezTo>
                    <a:lnTo>
                      <a:pt x="729646" y="731194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39" name="组合 8300"/>
          <p:cNvGrpSpPr/>
          <p:nvPr/>
        </p:nvGrpSpPr>
        <p:grpSpPr>
          <a:xfrm>
            <a:off x="6537240" y="2292120"/>
            <a:ext cx="673200" cy="676440"/>
            <a:chOff x="6537240" y="2292120"/>
            <a:chExt cx="673200" cy="676440"/>
          </a:xfrm>
        </p:grpSpPr>
        <p:grpSp>
          <p:nvGrpSpPr>
            <p:cNvPr id="740" name="组合 8301"/>
            <p:cNvGrpSpPr/>
            <p:nvPr/>
          </p:nvGrpSpPr>
          <p:grpSpPr>
            <a:xfrm>
              <a:off x="6537240" y="2293920"/>
              <a:ext cx="671760" cy="674280"/>
              <a:chOff x="6537240" y="2293920"/>
              <a:chExt cx="671760" cy="674280"/>
            </a:xfrm>
          </p:grpSpPr>
          <p:sp>
            <p:nvSpPr>
              <p:cNvPr id="741" name="饼形 170"/>
              <p:cNvSpPr/>
              <p:nvPr/>
            </p:nvSpPr>
            <p:spPr>
              <a:xfrm flipH="1" rot="10800000">
                <a:off x="6537240" y="2293920"/>
                <a:ext cx="671760" cy="674280"/>
              </a:xfrm>
              <a:custGeom>
                <a:avLst/>
                <a:gdLst/>
                <a:ahLst/>
                <a:rect l="l" t="t" r="r" b="b"/>
                <a:pathLst>
                  <a:path w="3523014" h="3523859">
                    <a:moveTo>
                      <a:pt x="3012442" y="3002414"/>
                    </a:moveTo>
                    <a:cubicBezTo>
                      <a:pt x="2693258" y="3324424"/>
                      <a:pt x="2250667" y="3523857"/>
                      <a:pt x="1761507" y="3523857"/>
                    </a:cubicBezTo>
                    <a:cubicBezTo>
                      <a:pt x="1759297" y="3523857"/>
                      <a:pt x="1757088" y="3523853"/>
                      <a:pt x="1754916" y="3523845"/>
                    </a:cubicBezTo>
                    <a:lnTo>
                      <a:pt x="1761507" y="1761929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饼形 171"/>
              <p:cNvSpPr/>
              <p:nvPr/>
            </p:nvSpPr>
            <p:spPr>
              <a:xfrm flipH="1" rot="10800000">
                <a:off x="6608880" y="2363760"/>
                <a:ext cx="528840" cy="531720"/>
              </a:xfrm>
              <a:custGeom>
                <a:avLst/>
                <a:gdLst/>
                <a:ahLst/>
                <a:rect l="l" t="t" r="r" b="b"/>
                <a:pathLst>
                  <a:path w="2773432" h="2777629">
                    <a:moveTo>
                      <a:pt x="2377076" y="2360936"/>
                    </a:moveTo>
                    <a:cubicBezTo>
                      <a:pt x="2125395" y="2618083"/>
                      <a:pt x="1774660" y="2777627"/>
                      <a:pt x="1386717" y="2777627"/>
                    </a:cubicBezTo>
                    <a:cubicBezTo>
                      <a:pt x="1385278" y="2777627"/>
                      <a:pt x="1383840" y="2777625"/>
                      <a:pt x="1382426" y="2777620"/>
                    </a:cubicBezTo>
                    <a:lnTo>
                      <a:pt x="1386716" y="1388814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饼形 172"/>
              <p:cNvSpPr/>
              <p:nvPr/>
            </p:nvSpPr>
            <p:spPr>
              <a:xfrm flipH="1" rot="10800000">
                <a:off x="6657840" y="2412720"/>
                <a:ext cx="432000" cy="431640"/>
              </a:xfrm>
              <a:custGeom>
                <a:avLst/>
                <a:gdLst/>
                <a:ahLst/>
                <a:rect l="l" t="t" r="r" b="b"/>
                <a:pathLst>
                  <a:path w="2265388" h="2255271">
                    <a:moveTo>
                      <a:pt x="1939260" y="1919348"/>
                    </a:moveTo>
                    <a:cubicBezTo>
                      <a:pt x="1733854" y="2126725"/>
                      <a:pt x="1448353" y="2255270"/>
                      <a:pt x="1132694" y="2255270"/>
                    </a:cubicBezTo>
                    <a:cubicBezTo>
                      <a:pt x="1129575" y="2255270"/>
                      <a:pt x="1126458" y="2255257"/>
                      <a:pt x="1123393" y="2255233"/>
                    </a:cubicBezTo>
                    <a:lnTo>
                      <a:pt x="1132694" y="1127635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饼形 173"/>
              <p:cNvSpPr/>
              <p:nvPr/>
            </p:nvSpPr>
            <p:spPr>
              <a:xfrm flipH="1" rot="10800000">
                <a:off x="6705360" y="2457360"/>
                <a:ext cx="338400" cy="339480"/>
              </a:xfrm>
              <a:custGeom>
                <a:avLst/>
                <a:gdLst/>
                <a:ahLst/>
                <a:rect l="l" t="t" r="r" b="b"/>
                <a:pathLst>
                  <a:path w="1774001" h="1774368">
                    <a:moveTo>
                      <a:pt x="1520070" y="1508595"/>
                    </a:moveTo>
                    <a:cubicBezTo>
                      <a:pt x="1359114" y="1672620"/>
                      <a:pt x="1134937" y="1774367"/>
                      <a:pt x="887001" y="1774367"/>
                    </a:cubicBezTo>
                    <a:cubicBezTo>
                      <a:pt x="882944" y="1774367"/>
                      <a:pt x="878893" y="1774340"/>
                      <a:pt x="874910" y="1774286"/>
                    </a:cubicBezTo>
                    <a:lnTo>
                      <a:pt x="887000" y="887184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饼形 174"/>
              <p:cNvSpPr/>
              <p:nvPr/>
            </p:nvSpPr>
            <p:spPr>
              <a:xfrm flipH="1" rot="10800000">
                <a:off x="6734520" y="248940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1465839" h="1459293">
                    <a:moveTo>
                      <a:pt x="1250872" y="1245882"/>
                    </a:moveTo>
                    <a:cubicBezTo>
                      <a:pt x="1118264" y="1377746"/>
                      <a:pt x="935158" y="1459292"/>
                      <a:pt x="732920" y="1459292"/>
                    </a:cubicBezTo>
                    <a:cubicBezTo>
                      <a:pt x="729550" y="1459292"/>
                      <a:pt x="726186" y="1459269"/>
                      <a:pt x="722877" y="1459225"/>
                    </a:cubicBezTo>
                    <a:lnTo>
                      <a:pt x="732919" y="729646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6" name="组合 8307"/>
            <p:cNvGrpSpPr/>
            <p:nvPr/>
          </p:nvGrpSpPr>
          <p:grpSpPr>
            <a:xfrm>
              <a:off x="6537240" y="2293560"/>
              <a:ext cx="671760" cy="674280"/>
              <a:chOff x="6537240" y="2293560"/>
              <a:chExt cx="671760" cy="674280"/>
            </a:xfrm>
          </p:grpSpPr>
          <p:sp>
            <p:nvSpPr>
              <p:cNvPr id="747" name="饼形 165"/>
              <p:cNvSpPr/>
              <p:nvPr/>
            </p:nvSpPr>
            <p:spPr>
              <a:xfrm rot="10800000">
                <a:off x="6537240" y="2293560"/>
                <a:ext cx="671760" cy="674280"/>
              </a:xfrm>
              <a:custGeom>
                <a:avLst/>
                <a:gdLst/>
                <a:ahLst/>
                <a:rect l="l" t="t" r="r" b="b"/>
                <a:pathLst>
                  <a:path w="3523014" h="3523859">
                    <a:moveTo>
                      <a:pt x="3012442" y="3002414"/>
                    </a:moveTo>
                    <a:cubicBezTo>
                      <a:pt x="2693258" y="3324424"/>
                      <a:pt x="2250667" y="3523857"/>
                      <a:pt x="1761507" y="3523857"/>
                    </a:cubicBezTo>
                    <a:cubicBezTo>
                      <a:pt x="1759297" y="3523857"/>
                      <a:pt x="1757088" y="3523853"/>
                      <a:pt x="1754916" y="3523845"/>
                    </a:cubicBezTo>
                    <a:lnTo>
                      <a:pt x="1761507" y="17619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饼形 166"/>
              <p:cNvSpPr/>
              <p:nvPr/>
            </p:nvSpPr>
            <p:spPr>
              <a:xfrm rot="10800000">
                <a:off x="6609600" y="2363400"/>
                <a:ext cx="528840" cy="531720"/>
              </a:xfrm>
              <a:custGeom>
                <a:avLst/>
                <a:gdLst/>
                <a:ahLst/>
                <a:rect l="l" t="t" r="r" b="b"/>
                <a:pathLst>
                  <a:path w="2773432" h="2777629">
                    <a:moveTo>
                      <a:pt x="2377076" y="2360936"/>
                    </a:moveTo>
                    <a:cubicBezTo>
                      <a:pt x="2125395" y="2618083"/>
                      <a:pt x="1774660" y="2777627"/>
                      <a:pt x="1386717" y="2777627"/>
                    </a:cubicBezTo>
                    <a:cubicBezTo>
                      <a:pt x="1385278" y="2777627"/>
                      <a:pt x="1383840" y="2777625"/>
                      <a:pt x="1382426" y="2777620"/>
                    </a:cubicBezTo>
                    <a:lnTo>
                      <a:pt x="1386716" y="1388814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饼形 167"/>
              <p:cNvSpPr/>
              <p:nvPr/>
            </p:nvSpPr>
            <p:spPr>
              <a:xfrm rot="10800000">
                <a:off x="6656400" y="2412360"/>
                <a:ext cx="432000" cy="431640"/>
              </a:xfrm>
              <a:custGeom>
                <a:avLst/>
                <a:gdLst/>
                <a:ahLst/>
                <a:rect l="l" t="t" r="r" b="b"/>
                <a:pathLst>
                  <a:path w="2265388" h="2255271">
                    <a:moveTo>
                      <a:pt x="1939260" y="1919348"/>
                    </a:moveTo>
                    <a:cubicBezTo>
                      <a:pt x="1733854" y="2126725"/>
                      <a:pt x="1448353" y="2255270"/>
                      <a:pt x="1132694" y="2255270"/>
                    </a:cubicBezTo>
                    <a:cubicBezTo>
                      <a:pt x="1129575" y="2255270"/>
                      <a:pt x="1126458" y="2255257"/>
                      <a:pt x="1123393" y="2255233"/>
                    </a:cubicBezTo>
                    <a:lnTo>
                      <a:pt x="1132694" y="1127635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饼形 168"/>
              <p:cNvSpPr/>
              <p:nvPr/>
            </p:nvSpPr>
            <p:spPr>
              <a:xfrm rot="10800000">
                <a:off x="6702480" y="2457000"/>
                <a:ext cx="338400" cy="339480"/>
              </a:xfrm>
              <a:custGeom>
                <a:avLst/>
                <a:gdLst/>
                <a:ahLst/>
                <a:rect l="l" t="t" r="r" b="b"/>
                <a:pathLst>
                  <a:path w="1774001" h="1774368">
                    <a:moveTo>
                      <a:pt x="1520070" y="1508595"/>
                    </a:moveTo>
                    <a:cubicBezTo>
                      <a:pt x="1359114" y="1672620"/>
                      <a:pt x="1134937" y="1774367"/>
                      <a:pt x="887001" y="1774367"/>
                    </a:cubicBezTo>
                    <a:cubicBezTo>
                      <a:pt x="882944" y="1774367"/>
                      <a:pt x="878893" y="1774340"/>
                      <a:pt x="874910" y="1774286"/>
                    </a:cubicBezTo>
                    <a:lnTo>
                      <a:pt x="887000" y="887184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饼形 169"/>
              <p:cNvSpPr/>
              <p:nvPr/>
            </p:nvSpPr>
            <p:spPr>
              <a:xfrm rot="10800000">
                <a:off x="6732720" y="248904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1465839" h="1459293">
                    <a:moveTo>
                      <a:pt x="1250872" y="1245882"/>
                    </a:moveTo>
                    <a:cubicBezTo>
                      <a:pt x="1118264" y="1377746"/>
                      <a:pt x="935158" y="1459292"/>
                      <a:pt x="732920" y="1459292"/>
                    </a:cubicBezTo>
                    <a:cubicBezTo>
                      <a:pt x="729550" y="1459292"/>
                      <a:pt x="726186" y="1459269"/>
                      <a:pt x="722877" y="1459225"/>
                    </a:cubicBezTo>
                    <a:lnTo>
                      <a:pt x="732919" y="729646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2" name="组合 8313"/>
            <p:cNvGrpSpPr/>
            <p:nvPr/>
          </p:nvGrpSpPr>
          <p:grpSpPr>
            <a:xfrm>
              <a:off x="6537960" y="2293200"/>
              <a:ext cx="671760" cy="674280"/>
              <a:chOff x="6537960" y="2293200"/>
              <a:chExt cx="671760" cy="674280"/>
            </a:xfrm>
          </p:grpSpPr>
          <p:sp>
            <p:nvSpPr>
              <p:cNvPr id="753" name="饼形 160"/>
              <p:cNvSpPr/>
              <p:nvPr/>
            </p:nvSpPr>
            <p:spPr>
              <a:xfrm flipH="1" flipV="1" rot="10800000">
                <a:off x="6537960" y="2292840"/>
                <a:ext cx="671760" cy="674280"/>
              </a:xfrm>
              <a:custGeom>
                <a:avLst/>
                <a:gdLst/>
                <a:ahLst/>
                <a:rect l="l" t="t" r="r" b="b"/>
                <a:pathLst>
                  <a:path w="3523009" h="3523859">
                    <a:moveTo>
                      <a:pt x="3012439" y="3002413"/>
                    </a:moveTo>
                    <a:cubicBezTo>
                      <a:pt x="2693255" y="3324423"/>
                      <a:pt x="2250665" y="3523857"/>
                      <a:pt x="1761505" y="3523857"/>
                    </a:cubicBezTo>
                    <a:cubicBezTo>
                      <a:pt x="1759295" y="3523857"/>
                      <a:pt x="1757086" y="3523853"/>
                      <a:pt x="1754914" y="3523845"/>
                    </a:cubicBezTo>
                    <a:lnTo>
                      <a:pt x="1761504" y="1761929"/>
                    </a:lnTo>
                    <a:close/>
                  </a:path>
                </a:pathLst>
              </a:custGeom>
              <a:solidFill>
                <a:srgbClr val="017c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饼形 161"/>
              <p:cNvSpPr/>
              <p:nvPr/>
            </p:nvSpPr>
            <p:spPr>
              <a:xfrm flipH="1" flipV="1" rot="10800000">
                <a:off x="6609600" y="2365560"/>
                <a:ext cx="528840" cy="531720"/>
              </a:xfrm>
              <a:custGeom>
                <a:avLst/>
                <a:gdLst/>
                <a:ahLst/>
                <a:rect l="l" t="t" r="r" b="b"/>
                <a:pathLst>
                  <a:path w="2773437" h="2777629">
                    <a:moveTo>
                      <a:pt x="2377079" y="2360937"/>
                    </a:moveTo>
                    <a:cubicBezTo>
                      <a:pt x="2125397" y="2618084"/>
                      <a:pt x="1774661" y="2777628"/>
                      <a:pt x="1386718" y="2777628"/>
                    </a:cubicBezTo>
                    <a:cubicBezTo>
                      <a:pt x="1385279" y="2777628"/>
                      <a:pt x="1383841" y="2777626"/>
                      <a:pt x="1382427" y="2777621"/>
                    </a:cubicBezTo>
                    <a:lnTo>
                      <a:pt x="1386718" y="1388814"/>
                    </a:lnTo>
                    <a:close/>
                  </a:path>
                </a:pathLst>
              </a:custGeom>
              <a:solidFill>
                <a:srgbClr val="0098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饼形 162"/>
              <p:cNvSpPr/>
              <p:nvPr/>
            </p:nvSpPr>
            <p:spPr>
              <a:xfrm flipH="1" flipV="1" rot="10800000">
                <a:off x="6658560" y="2416320"/>
                <a:ext cx="432000" cy="431640"/>
              </a:xfrm>
              <a:custGeom>
                <a:avLst/>
                <a:gdLst/>
                <a:ahLst/>
                <a:rect l="l" t="t" r="r" b="b"/>
                <a:pathLst>
                  <a:path w="2265388" h="2255271">
                    <a:moveTo>
                      <a:pt x="1939260" y="1919348"/>
                    </a:moveTo>
                    <a:cubicBezTo>
                      <a:pt x="1733854" y="2126725"/>
                      <a:pt x="1448353" y="2255270"/>
                      <a:pt x="1132694" y="2255270"/>
                    </a:cubicBezTo>
                    <a:cubicBezTo>
                      <a:pt x="1129575" y="2255270"/>
                      <a:pt x="1126458" y="2255257"/>
                      <a:pt x="1123393" y="2255233"/>
                    </a:cubicBezTo>
                    <a:lnTo>
                      <a:pt x="1132694" y="1127635"/>
                    </a:lnTo>
                    <a:close/>
                  </a:path>
                </a:pathLst>
              </a:custGeom>
              <a:solidFill>
                <a:srgbClr val="00c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饼形 163"/>
              <p:cNvSpPr/>
              <p:nvPr/>
            </p:nvSpPr>
            <p:spPr>
              <a:xfrm flipH="1" flipV="1" rot="10800000">
                <a:off x="6706080" y="2464200"/>
                <a:ext cx="338400" cy="339480"/>
              </a:xfrm>
              <a:custGeom>
                <a:avLst/>
                <a:gdLst/>
                <a:ahLst/>
                <a:rect l="l" t="t" r="r" b="b"/>
                <a:pathLst>
                  <a:path w="1773996" h="1774368">
                    <a:moveTo>
                      <a:pt x="1520066" y="1508594"/>
                    </a:moveTo>
                    <a:cubicBezTo>
                      <a:pt x="1359109" y="1672620"/>
                      <a:pt x="1134933" y="1774367"/>
                      <a:pt x="886997" y="1774367"/>
                    </a:cubicBezTo>
                    <a:cubicBezTo>
                      <a:pt x="882940" y="1774367"/>
                      <a:pt x="878889" y="1774340"/>
                      <a:pt x="874906" y="1774286"/>
                    </a:cubicBezTo>
                    <a:lnTo>
                      <a:pt x="886998" y="887184"/>
                    </a:lnTo>
                    <a:close/>
                  </a:path>
                </a:pathLst>
              </a:custGeom>
              <a:solidFill>
                <a:srgbClr val="71f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饼形 164"/>
              <p:cNvSpPr/>
              <p:nvPr/>
            </p:nvSpPr>
            <p:spPr>
              <a:xfrm flipH="1" flipV="1" rot="10800000">
                <a:off x="6735240" y="249372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1465839" h="1459293">
                    <a:moveTo>
                      <a:pt x="1250872" y="1245882"/>
                    </a:moveTo>
                    <a:cubicBezTo>
                      <a:pt x="1118264" y="1377746"/>
                      <a:pt x="935158" y="1459292"/>
                      <a:pt x="732920" y="1459292"/>
                    </a:cubicBezTo>
                    <a:cubicBezTo>
                      <a:pt x="729550" y="1459292"/>
                      <a:pt x="726186" y="1459269"/>
                      <a:pt x="722877" y="1459225"/>
                    </a:cubicBezTo>
                    <a:lnTo>
                      <a:pt x="732919" y="729646"/>
                    </a:lnTo>
                    <a:close/>
                  </a:path>
                </a:pathLst>
              </a:custGeom>
              <a:solidFill>
                <a:srgbClr val="a7f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8" name="组合 8319"/>
            <p:cNvGrpSpPr/>
            <p:nvPr/>
          </p:nvGrpSpPr>
          <p:grpSpPr>
            <a:xfrm>
              <a:off x="6538680" y="2294280"/>
              <a:ext cx="671760" cy="674280"/>
              <a:chOff x="6538680" y="2294280"/>
              <a:chExt cx="671760" cy="674280"/>
            </a:xfrm>
          </p:grpSpPr>
          <p:sp>
            <p:nvSpPr>
              <p:cNvPr id="759" name="饼形 155"/>
              <p:cNvSpPr/>
              <p:nvPr/>
            </p:nvSpPr>
            <p:spPr>
              <a:xfrm flipV="1" rot="16200000">
                <a:off x="6537240" y="2295000"/>
                <a:ext cx="674280" cy="671760"/>
              </a:xfrm>
              <a:custGeom>
                <a:avLst/>
                <a:gdLst/>
                <a:ahLst/>
                <a:rect l="l" t="t" r="r" b="b"/>
                <a:pathLst>
                  <a:path w="3523859" h="3523009">
                    <a:moveTo>
                      <a:pt x="3012867" y="3001991"/>
                    </a:moveTo>
                    <a:cubicBezTo>
                      <a:pt x="2693628" y="3323748"/>
                      <a:pt x="2251054" y="3523009"/>
                      <a:pt x="1761929" y="3523009"/>
                    </a:cubicBezTo>
                    <a:cubicBezTo>
                      <a:pt x="1759720" y="3523009"/>
                      <a:pt x="1757512" y="3523005"/>
                      <a:pt x="1755340" y="3522997"/>
                    </a:cubicBezTo>
                    <a:lnTo>
                      <a:pt x="1761929" y="17615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饼形 156"/>
              <p:cNvSpPr/>
              <p:nvPr/>
            </p:nvSpPr>
            <p:spPr>
              <a:xfrm flipV="1" rot="16200000">
                <a:off x="6607800" y="2366640"/>
                <a:ext cx="531720" cy="528840"/>
              </a:xfrm>
              <a:custGeom>
                <a:avLst/>
                <a:gdLst/>
                <a:ahLst/>
                <a:rect l="l" t="t" r="r" b="b"/>
                <a:pathLst>
                  <a:path w="2777634" h="2773432">
                    <a:moveTo>
                      <a:pt x="2379205" y="2358866"/>
                    </a:moveTo>
                    <a:cubicBezTo>
                      <a:pt x="2127247" y="2614747"/>
                      <a:pt x="1776591" y="2773431"/>
                      <a:pt x="1388816" y="2773431"/>
                    </a:cubicBezTo>
                    <a:cubicBezTo>
                      <a:pt x="1387382" y="2773431"/>
                      <a:pt x="1385948" y="2773429"/>
                      <a:pt x="1384538" y="2773425"/>
                    </a:cubicBezTo>
                    <a:lnTo>
                      <a:pt x="1388817" y="1386716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饼形 157"/>
              <p:cNvSpPr/>
              <p:nvPr/>
            </p:nvSpPr>
            <p:spPr>
              <a:xfrm flipV="1" rot="16200000">
                <a:off x="6662520" y="2414160"/>
                <a:ext cx="431640" cy="432000"/>
              </a:xfrm>
              <a:custGeom>
                <a:avLst/>
                <a:gdLst/>
                <a:ahLst/>
                <a:rect l="l" t="t" r="r" b="b"/>
                <a:pathLst>
                  <a:path w="2255271" h="2265388">
                    <a:moveTo>
                      <a:pt x="1934134" y="1924341"/>
                    </a:moveTo>
                    <a:cubicBezTo>
                      <a:pt x="1729393" y="2134770"/>
                      <a:pt x="1443699" y="2265388"/>
                      <a:pt x="1127635" y="2265388"/>
                    </a:cubicBezTo>
                    <a:cubicBezTo>
                      <a:pt x="1124502" y="2265388"/>
                      <a:pt x="1121372" y="2265375"/>
                      <a:pt x="1118293" y="2265350"/>
                    </a:cubicBezTo>
                    <a:lnTo>
                      <a:pt x="1127635" y="1132694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饼形 158"/>
              <p:cNvSpPr/>
              <p:nvPr/>
            </p:nvSpPr>
            <p:spPr>
              <a:xfrm flipV="1" rot="16200000">
                <a:off x="6707880" y="2462040"/>
                <a:ext cx="339480" cy="336600"/>
              </a:xfrm>
              <a:custGeom>
                <a:avLst/>
                <a:gdLst/>
                <a:ahLst/>
                <a:rect l="l" t="t" r="r" b="b"/>
                <a:pathLst>
                  <a:path w="1774368" h="1765670">
                    <a:moveTo>
                      <a:pt x="1518791" y="1502811"/>
                    </a:moveTo>
                    <a:cubicBezTo>
                      <a:pt x="1357916" y="1665087"/>
                      <a:pt x="1134353" y="1765669"/>
                      <a:pt x="887183" y="1765669"/>
                    </a:cubicBezTo>
                    <a:cubicBezTo>
                      <a:pt x="883146" y="1765669"/>
                      <a:pt x="879115" y="1765642"/>
                      <a:pt x="875151" y="1765589"/>
                    </a:cubicBezTo>
                    <a:lnTo>
                      <a:pt x="887184" y="882835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饼形 159"/>
              <p:cNvSpPr/>
              <p:nvPr/>
            </p:nvSpPr>
            <p:spPr>
              <a:xfrm flipV="1" rot="16200000">
                <a:off x="6733440" y="2490840"/>
                <a:ext cx="279360" cy="277920"/>
              </a:xfrm>
              <a:custGeom>
                <a:avLst/>
                <a:gdLst/>
                <a:ahLst/>
                <a:rect l="l" t="t" r="r" b="b"/>
                <a:pathLst>
                  <a:path w="1459293" h="1457513">
                    <a:moveTo>
                      <a:pt x="1246125" y="1243524"/>
                    </a:moveTo>
                    <a:cubicBezTo>
                      <a:pt x="1114042" y="1375721"/>
                      <a:pt x="931407" y="1457513"/>
                      <a:pt x="729646" y="1457513"/>
                    </a:cubicBezTo>
                    <a:cubicBezTo>
                      <a:pt x="726280" y="1457513"/>
                      <a:pt x="722920" y="1457490"/>
                      <a:pt x="719615" y="1457446"/>
                    </a:cubicBezTo>
                    <a:lnTo>
                      <a:pt x="729646" y="728756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4" name="组合 8325"/>
            <p:cNvGrpSpPr/>
            <p:nvPr/>
          </p:nvGrpSpPr>
          <p:grpSpPr>
            <a:xfrm>
              <a:off x="6537960" y="2293920"/>
              <a:ext cx="671760" cy="674280"/>
              <a:chOff x="6537960" y="2293920"/>
              <a:chExt cx="671760" cy="674280"/>
            </a:xfrm>
          </p:grpSpPr>
          <p:sp>
            <p:nvSpPr>
              <p:cNvPr id="765" name="饼形 150"/>
              <p:cNvSpPr/>
              <p:nvPr/>
            </p:nvSpPr>
            <p:spPr>
              <a:xfrm flipH="1" rot="16200000">
                <a:off x="6536520" y="2295000"/>
                <a:ext cx="674280" cy="671760"/>
              </a:xfrm>
              <a:custGeom>
                <a:avLst/>
                <a:gdLst/>
                <a:ahLst/>
                <a:rect l="l" t="t" r="r" b="b"/>
                <a:pathLst>
                  <a:path w="3523859" h="3523014">
                    <a:moveTo>
                      <a:pt x="3012867" y="3001994"/>
                    </a:moveTo>
                    <a:cubicBezTo>
                      <a:pt x="2693628" y="3323752"/>
                      <a:pt x="2251054" y="3523014"/>
                      <a:pt x="1761928" y="3523014"/>
                    </a:cubicBezTo>
                    <a:cubicBezTo>
                      <a:pt x="1759719" y="3523014"/>
                      <a:pt x="1757511" y="3523010"/>
                      <a:pt x="1755339" y="3523002"/>
                    </a:cubicBezTo>
                    <a:lnTo>
                      <a:pt x="1761929" y="17615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饼形 151"/>
              <p:cNvSpPr/>
              <p:nvPr/>
            </p:nvSpPr>
            <p:spPr>
              <a:xfrm flipH="1" rot="16200000">
                <a:off x="6609600" y="2366640"/>
                <a:ext cx="531720" cy="528840"/>
              </a:xfrm>
              <a:custGeom>
                <a:avLst/>
                <a:gdLst/>
                <a:ahLst/>
                <a:rect l="l" t="t" r="r" b="b"/>
                <a:pathLst>
                  <a:path w="2777634" h="2773437">
                    <a:moveTo>
                      <a:pt x="2379206" y="2358869"/>
                    </a:moveTo>
                    <a:cubicBezTo>
                      <a:pt x="2127249" y="2614752"/>
                      <a:pt x="1776592" y="2773436"/>
                      <a:pt x="1388817" y="2773436"/>
                    </a:cubicBezTo>
                    <a:cubicBezTo>
                      <a:pt x="1387383" y="2773436"/>
                      <a:pt x="1385949" y="2773434"/>
                      <a:pt x="1384539" y="2773430"/>
                    </a:cubicBezTo>
                    <a:lnTo>
                      <a:pt x="1388817" y="1386718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饼形 152"/>
              <p:cNvSpPr/>
              <p:nvPr/>
            </p:nvSpPr>
            <p:spPr>
              <a:xfrm flipH="1" rot="16200000">
                <a:off x="6660360" y="2415600"/>
                <a:ext cx="431640" cy="432000"/>
              </a:xfrm>
              <a:custGeom>
                <a:avLst/>
                <a:gdLst/>
                <a:ahLst/>
                <a:rect l="l" t="t" r="r" b="b"/>
                <a:pathLst>
                  <a:path w="2255271" h="2265388">
                    <a:moveTo>
                      <a:pt x="1934134" y="1924341"/>
                    </a:moveTo>
                    <a:cubicBezTo>
                      <a:pt x="1729393" y="2134770"/>
                      <a:pt x="1443699" y="2265388"/>
                      <a:pt x="1127635" y="2265388"/>
                    </a:cubicBezTo>
                    <a:cubicBezTo>
                      <a:pt x="1124502" y="2265388"/>
                      <a:pt x="1121372" y="2265375"/>
                      <a:pt x="1118293" y="2265350"/>
                    </a:cubicBezTo>
                    <a:lnTo>
                      <a:pt x="1127635" y="1132694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饼形 153"/>
              <p:cNvSpPr/>
              <p:nvPr/>
            </p:nvSpPr>
            <p:spPr>
              <a:xfrm flipH="1" rot="16200000">
                <a:off x="6708240" y="2463480"/>
                <a:ext cx="339480" cy="336600"/>
              </a:xfrm>
              <a:custGeom>
                <a:avLst/>
                <a:gdLst/>
                <a:ahLst/>
                <a:rect l="l" t="t" r="r" b="b"/>
                <a:pathLst>
                  <a:path w="1774368" h="1765670">
                    <a:moveTo>
                      <a:pt x="1518791" y="1502811"/>
                    </a:moveTo>
                    <a:cubicBezTo>
                      <a:pt x="1357916" y="1665087"/>
                      <a:pt x="1134353" y="1765669"/>
                      <a:pt x="887183" y="1765669"/>
                    </a:cubicBezTo>
                    <a:cubicBezTo>
                      <a:pt x="883146" y="1765669"/>
                      <a:pt x="879115" y="1765642"/>
                      <a:pt x="875151" y="1765589"/>
                    </a:cubicBezTo>
                    <a:lnTo>
                      <a:pt x="887184" y="882835"/>
                    </a:lnTo>
                    <a:close/>
                  </a:path>
                </a:pathLst>
              </a:custGeom>
              <a:solidFill>
                <a:srgbClr val="d00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饼形 154"/>
              <p:cNvSpPr/>
              <p:nvPr/>
            </p:nvSpPr>
            <p:spPr>
              <a:xfrm flipH="1" rot="16200000">
                <a:off x="6735960" y="2493000"/>
                <a:ext cx="279360" cy="277920"/>
              </a:xfrm>
              <a:custGeom>
                <a:avLst/>
                <a:gdLst/>
                <a:ahLst/>
                <a:rect l="l" t="t" r="r" b="b"/>
                <a:pathLst>
                  <a:path w="1459293" h="1457508">
                    <a:moveTo>
                      <a:pt x="1246124" y="1243520"/>
                    </a:moveTo>
                    <a:cubicBezTo>
                      <a:pt x="1114041" y="1375716"/>
                      <a:pt x="931407" y="1457507"/>
                      <a:pt x="729646" y="1457507"/>
                    </a:cubicBezTo>
                    <a:cubicBezTo>
                      <a:pt x="726280" y="1457507"/>
                      <a:pt x="722920" y="1457484"/>
                      <a:pt x="719615" y="1457440"/>
                    </a:cubicBezTo>
                    <a:lnTo>
                      <a:pt x="729646" y="728754"/>
                    </a:lnTo>
                    <a:close/>
                  </a:path>
                </a:pathLst>
              </a:custGeom>
              <a:solidFill>
                <a:srgbClr val="ff5b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0" name="组合 8331"/>
            <p:cNvGrpSpPr/>
            <p:nvPr/>
          </p:nvGrpSpPr>
          <p:grpSpPr>
            <a:xfrm>
              <a:off x="6537960" y="2292120"/>
              <a:ext cx="671760" cy="674280"/>
              <a:chOff x="6537960" y="2292120"/>
              <a:chExt cx="671760" cy="674280"/>
            </a:xfrm>
          </p:grpSpPr>
          <p:sp>
            <p:nvSpPr>
              <p:cNvPr id="771" name="饼形 145"/>
              <p:cNvSpPr/>
              <p:nvPr/>
            </p:nvSpPr>
            <p:spPr>
              <a:xfrm flipH="1" flipV="1" rot="5400000">
                <a:off x="6536520" y="2292840"/>
                <a:ext cx="674280" cy="671760"/>
              </a:xfrm>
              <a:custGeom>
                <a:avLst/>
                <a:gdLst/>
                <a:ahLst/>
                <a:rect l="l" t="t" r="r" b="b"/>
                <a:pathLst>
                  <a:path w="3523864" h="3523009">
                    <a:moveTo>
                      <a:pt x="3012870" y="3001992"/>
                    </a:moveTo>
                    <a:cubicBezTo>
                      <a:pt x="2693631" y="3323748"/>
                      <a:pt x="2251056" y="3523009"/>
                      <a:pt x="1761931" y="3523009"/>
                    </a:cubicBezTo>
                    <a:cubicBezTo>
                      <a:pt x="1759722" y="3523009"/>
                      <a:pt x="1757514" y="3523005"/>
                      <a:pt x="1755342" y="3522997"/>
                    </a:cubicBezTo>
                    <a:lnTo>
                      <a:pt x="1761932" y="17615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饼形 146"/>
              <p:cNvSpPr/>
              <p:nvPr/>
            </p:nvSpPr>
            <p:spPr>
              <a:xfrm flipH="1" flipV="1" rot="5400000">
                <a:off x="6609600" y="2364480"/>
                <a:ext cx="531720" cy="528840"/>
              </a:xfrm>
              <a:custGeom>
                <a:avLst/>
                <a:gdLst/>
                <a:ahLst/>
                <a:rect l="l" t="t" r="r" b="b"/>
                <a:pathLst>
                  <a:path w="2777629" h="2773432">
                    <a:moveTo>
                      <a:pt x="2379202" y="2358865"/>
                    </a:moveTo>
                    <a:cubicBezTo>
                      <a:pt x="2127245" y="2614747"/>
                      <a:pt x="1776589" y="2773431"/>
                      <a:pt x="1388814" y="2773431"/>
                    </a:cubicBezTo>
                    <a:cubicBezTo>
                      <a:pt x="1387380" y="2773431"/>
                      <a:pt x="1385946" y="2773429"/>
                      <a:pt x="1384536" y="2773425"/>
                    </a:cubicBezTo>
                    <a:lnTo>
                      <a:pt x="1388814" y="1386716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饼形 147"/>
              <p:cNvSpPr/>
              <p:nvPr/>
            </p:nvSpPr>
            <p:spPr>
              <a:xfrm flipH="1" flipV="1" rot="5400000">
                <a:off x="6660360" y="2412000"/>
                <a:ext cx="431640" cy="432000"/>
              </a:xfrm>
              <a:custGeom>
                <a:avLst/>
                <a:gdLst/>
                <a:ahLst/>
                <a:rect l="l" t="t" r="r" b="b"/>
                <a:pathLst>
                  <a:path w="2255271" h="2265388">
                    <a:moveTo>
                      <a:pt x="1934134" y="1924341"/>
                    </a:moveTo>
                    <a:cubicBezTo>
                      <a:pt x="1729393" y="2134770"/>
                      <a:pt x="1443699" y="2265388"/>
                      <a:pt x="1127635" y="2265388"/>
                    </a:cubicBezTo>
                    <a:cubicBezTo>
                      <a:pt x="1124502" y="2265388"/>
                      <a:pt x="1121372" y="2265375"/>
                      <a:pt x="1118293" y="2265350"/>
                    </a:cubicBezTo>
                    <a:lnTo>
                      <a:pt x="1127635" y="1132694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饼形 148"/>
              <p:cNvSpPr/>
              <p:nvPr/>
            </p:nvSpPr>
            <p:spPr>
              <a:xfrm flipH="1" flipV="1" rot="5400000">
                <a:off x="6708240" y="2459520"/>
                <a:ext cx="339480" cy="336600"/>
              </a:xfrm>
              <a:custGeom>
                <a:avLst/>
                <a:gdLst/>
                <a:ahLst/>
                <a:rect l="l" t="t" r="r" b="b"/>
                <a:pathLst>
                  <a:path w="1774368" h="1765670">
                    <a:moveTo>
                      <a:pt x="1518791" y="1502811"/>
                    </a:moveTo>
                    <a:cubicBezTo>
                      <a:pt x="1357916" y="1665087"/>
                      <a:pt x="1134353" y="1765669"/>
                      <a:pt x="887183" y="1765669"/>
                    </a:cubicBezTo>
                    <a:cubicBezTo>
                      <a:pt x="883146" y="1765669"/>
                      <a:pt x="879115" y="1765642"/>
                      <a:pt x="875151" y="1765589"/>
                    </a:cubicBezTo>
                    <a:lnTo>
                      <a:pt x="887184" y="882835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饼形 149"/>
              <p:cNvSpPr/>
              <p:nvPr/>
            </p:nvSpPr>
            <p:spPr>
              <a:xfrm flipH="1" flipV="1" rot="5400000">
                <a:off x="6735960" y="2489760"/>
                <a:ext cx="279360" cy="277920"/>
              </a:xfrm>
              <a:custGeom>
                <a:avLst/>
                <a:gdLst/>
                <a:ahLst/>
                <a:rect l="l" t="t" r="r" b="b"/>
                <a:pathLst>
                  <a:path w="1459293" h="1457513">
                    <a:moveTo>
                      <a:pt x="1246125" y="1243524"/>
                    </a:moveTo>
                    <a:cubicBezTo>
                      <a:pt x="1114042" y="1375721"/>
                      <a:pt x="931407" y="1457513"/>
                      <a:pt x="729646" y="1457513"/>
                    </a:cubicBezTo>
                    <a:cubicBezTo>
                      <a:pt x="726280" y="1457513"/>
                      <a:pt x="722920" y="1457490"/>
                      <a:pt x="719615" y="1457446"/>
                    </a:cubicBezTo>
                    <a:lnTo>
                      <a:pt x="729646" y="728756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6" name="Text Box 155"/>
          <p:cNvSpPr/>
          <p:nvPr/>
        </p:nvSpPr>
        <p:spPr>
          <a:xfrm>
            <a:off x="1979640" y="3573360"/>
            <a:ext cx="56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人生也是如此，一旦进入生活娱乐程序，就该尽情自由放纵，抓住快乐，享受生活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如庄周梦蝶所寓，人如能打破生死、物我的界限，则无往而不快乐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像蚂蚁一样工作，像蝴蝶一样生活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喜欢这样的态度。全力以赴的努力工作，全力以赴的享受生活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156"/>
          <p:cNvSpPr/>
          <p:nvPr/>
        </p:nvSpPr>
        <p:spPr>
          <a:xfrm>
            <a:off x="3251160" y="620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努</a:t>
            </a:r>
            <a:r>
              <a:rPr b="1" lang="zh-CN" sz="3600" spc="-1" strike="noStrike">
                <a:solidFill>
                  <a:srgbClr val="8fcf01"/>
                </a:solidFill>
                <a:latin typeface="Arial"/>
              </a:rPr>
              <a:t>力</a:t>
            </a:r>
            <a:r>
              <a:rPr b="1" lang="zh-CN" sz="3600" spc="-1" strike="noStrike">
                <a:solidFill>
                  <a:srgbClr val="00b0f0"/>
                </a:solidFill>
                <a:latin typeface="Arial"/>
              </a:rPr>
              <a:t>工</a:t>
            </a:r>
            <a:r>
              <a:rPr b="1" lang="zh-CN" sz="3600" spc="-1" strike="noStrike">
                <a:solidFill>
                  <a:srgbClr val="ffc000"/>
                </a:solidFill>
                <a:latin typeface="Arial"/>
              </a:rPr>
              <a:t>作，</a:t>
            </a:r>
            <a:r>
              <a:rPr b="1" lang="zh-CN" sz="3600" spc="-1" strike="noStrike">
                <a:solidFill>
                  <a:srgbClr val="e46c0a"/>
                </a:solidFill>
                <a:latin typeface="Arial"/>
              </a:rPr>
              <a:t>享</a:t>
            </a:r>
            <a:r>
              <a:rPr b="1" lang="zh-CN" sz="3600" spc="-1" strike="noStrike">
                <a:solidFill>
                  <a:srgbClr val="ff5ba5"/>
                </a:solidFill>
                <a:latin typeface="Arial"/>
              </a:rPr>
              <a:t>受</a:t>
            </a:r>
            <a:r>
              <a:rPr b="1" lang="zh-CN" sz="3600" spc="-1" strike="noStrike">
                <a:solidFill>
                  <a:srgbClr val="8fcf01"/>
                </a:solidFill>
                <a:latin typeface="Arial"/>
              </a:rPr>
              <a:t>生</a:t>
            </a:r>
            <a:r>
              <a:rPr b="1" lang="zh-CN" sz="3600" spc="-1" strike="noStrike">
                <a:solidFill>
                  <a:srgbClr val="66ffcc"/>
                </a:solidFill>
                <a:latin typeface="Arial"/>
              </a:rPr>
              <a:t>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156"/>
          <p:cNvSpPr/>
          <p:nvPr/>
        </p:nvSpPr>
        <p:spPr>
          <a:xfrm>
            <a:off x="3243240" y="620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努</a:t>
            </a:r>
            <a:r>
              <a:rPr b="1" lang="zh-CN" sz="3600" spc="-1" strike="noStrike">
                <a:solidFill>
                  <a:srgbClr val="8fcf01"/>
                </a:solidFill>
                <a:latin typeface="Arial"/>
              </a:rPr>
              <a:t>力</a:t>
            </a:r>
            <a:r>
              <a:rPr b="1" lang="zh-CN" sz="3600" spc="-1" strike="noStrike">
                <a:solidFill>
                  <a:srgbClr val="00b0f0"/>
                </a:solidFill>
                <a:latin typeface="Arial"/>
              </a:rPr>
              <a:t>工</a:t>
            </a:r>
            <a:r>
              <a:rPr b="1" lang="zh-CN" sz="3600" spc="-1" strike="noStrike">
                <a:solidFill>
                  <a:srgbClr val="ffc000"/>
                </a:solidFill>
                <a:latin typeface="Arial"/>
              </a:rPr>
              <a:t>作，</a:t>
            </a:r>
            <a:r>
              <a:rPr b="1" lang="zh-CN" sz="3600" spc="-1" strike="noStrike">
                <a:solidFill>
                  <a:srgbClr val="e46c0a"/>
                </a:solidFill>
                <a:latin typeface="Arial"/>
              </a:rPr>
              <a:t>享</a:t>
            </a:r>
            <a:r>
              <a:rPr b="1" lang="zh-CN" sz="3600" spc="-1" strike="noStrike">
                <a:solidFill>
                  <a:srgbClr val="ff5ba5"/>
                </a:solidFill>
                <a:latin typeface="Arial"/>
              </a:rPr>
              <a:t>受</a:t>
            </a:r>
            <a:r>
              <a:rPr b="1" lang="zh-CN" sz="3600" spc="-1" strike="noStrike">
                <a:solidFill>
                  <a:srgbClr val="8fcf01"/>
                </a:solidFill>
                <a:latin typeface="Arial"/>
              </a:rPr>
              <a:t>生</a:t>
            </a:r>
            <a:r>
              <a:rPr b="1" lang="zh-CN" sz="3600" spc="-1" strike="noStrike">
                <a:solidFill>
                  <a:srgbClr val="66ffcc"/>
                </a:solidFill>
                <a:latin typeface="Arial"/>
              </a:rPr>
              <a:t>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文本框 8200"/>
          <p:cNvSpPr/>
          <p:nvPr/>
        </p:nvSpPr>
        <p:spPr>
          <a:xfrm>
            <a:off x="2195640" y="1989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2B64-0B34-4FD1-911E-AF5685A0E16E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组合 9217"/>
          <p:cNvGrpSpPr/>
          <p:nvPr/>
        </p:nvGrpSpPr>
        <p:grpSpPr>
          <a:xfrm>
            <a:off x="-360" y="142560"/>
            <a:ext cx="3522600" cy="3522600"/>
            <a:chOff x="-360" y="142560"/>
            <a:chExt cx="3522600" cy="3522600"/>
          </a:xfrm>
        </p:grpSpPr>
        <p:sp>
          <p:nvSpPr>
            <p:cNvPr id="785" name="饼形 11"/>
            <p:cNvSpPr/>
            <p:nvPr/>
          </p:nvSpPr>
          <p:spPr>
            <a:xfrm rot="10800000">
              <a:off x="-360" y="14256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饼形 9"/>
            <p:cNvSpPr/>
            <p:nvPr/>
          </p:nvSpPr>
          <p:spPr>
            <a:xfrm rot="10800000">
              <a:off x="375840" y="51048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1"/>
                  </a:moveTo>
                  <a:cubicBezTo>
                    <a:pt x="2122220" y="2611371"/>
                    <a:pt x="1772200" y="2770178"/>
                    <a:pt x="1385089" y="2770178"/>
                  </a:cubicBezTo>
                  <a:cubicBezTo>
                    <a:pt x="1383655" y="2770178"/>
                    <a:pt x="1382221" y="2770176"/>
                    <a:pt x="1380810" y="2770172"/>
                  </a:cubicBezTo>
                  <a:lnTo>
                    <a:pt x="1385089" y="1385089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饼形 8"/>
            <p:cNvSpPr/>
            <p:nvPr/>
          </p:nvSpPr>
          <p:spPr>
            <a:xfrm rot="10800000">
              <a:off x="626400" y="76140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5"/>
                  </a:moveTo>
                  <a:cubicBezTo>
                    <a:pt x="1730614" y="2129503"/>
                    <a:pt x="1445182" y="2259006"/>
                    <a:pt x="1129503" y="2259006"/>
                  </a:cubicBezTo>
                  <a:cubicBezTo>
                    <a:pt x="1126379" y="2259006"/>
                    <a:pt x="1123257" y="2258993"/>
                    <a:pt x="1120187" y="2258968"/>
                  </a:cubicBezTo>
                  <a:lnTo>
                    <a:pt x="1129502" y="1129503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饼形 7"/>
            <p:cNvSpPr/>
            <p:nvPr/>
          </p:nvSpPr>
          <p:spPr>
            <a:xfrm rot="10800000">
              <a:off x="869400" y="99828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6" y="1504994"/>
                  </a:moveTo>
                  <a:cubicBezTo>
                    <a:pt x="1356031" y="1668582"/>
                    <a:pt x="1132380" y="1770055"/>
                    <a:pt x="885028" y="1770055"/>
                  </a:cubicBezTo>
                  <a:cubicBezTo>
                    <a:pt x="880981" y="1770055"/>
                    <a:pt x="876940" y="1770028"/>
                    <a:pt x="872966" y="1769974"/>
                  </a:cubicBezTo>
                  <a:lnTo>
                    <a:pt x="885028" y="885028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饼形 6"/>
            <p:cNvSpPr/>
            <p:nvPr/>
          </p:nvSpPr>
          <p:spPr>
            <a:xfrm rot="10800000">
              <a:off x="1027080" y="116496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46110" y="1244399"/>
                  </a:moveTo>
                  <a:cubicBezTo>
                    <a:pt x="1114038" y="1376908"/>
                    <a:pt x="931321" y="1458908"/>
                    <a:pt x="729453" y="1458908"/>
                  </a:cubicBezTo>
                  <a:cubicBezTo>
                    <a:pt x="726084" y="1458908"/>
                    <a:pt x="722720" y="1458885"/>
                    <a:pt x="719412" y="1458840"/>
                  </a:cubicBezTo>
                  <a:lnTo>
                    <a:pt x="729453" y="729454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0" name="组合 9223"/>
          <p:cNvGrpSpPr/>
          <p:nvPr/>
        </p:nvGrpSpPr>
        <p:grpSpPr>
          <a:xfrm>
            <a:off x="232560" y="714240"/>
            <a:ext cx="3522600" cy="3522960"/>
            <a:chOff x="232560" y="714240"/>
            <a:chExt cx="3522600" cy="3522960"/>
          </a:xfrm>
        </p:grpSpPr>
        <p:sp>
          <p:nvSpPr>
            <p:cNvPr id="791" name="饼形 16"/>
            <p:cNvSpPr/>
            <p:nvPr/>
          </p:nvSpPr>
          <p:spPr>
            <a:xfrm flipH="1" rot="10800000">
              <a:off x="232200" y="714240"/>
              <a:ext cx="3522600" cy="35229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饼形 17"/>
            <p:cNvSpPr/>
            <p:nvPr/>
          </p:nvSpPr>
          <p:spPr>
            <a:xfrm flipH="1" rot="10800000">
              <a:off x="608040" y="1082520"/>
              <a:ext cx="2770200" cy="277056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5" y="2355352"/>
                  </a:moveTo>
                  <a:cubicBezTo>
                    <a:pt x="2122221" y="2611372"/>
                    <a:pt x="1772201" y="2770179"/>
                    <a:pt x="1385090" y="2770179"/>
                  </a:cubicBezTo>
                  <a:cubicBezTo>
                    <a:pt x="1383656" y="2770179"/>
                    <a:pt x="1382222" y="2770177"/>
                    <a:pt x="1380811" y="2770173"/>
                  </a:cubicBezTo>
                  <a:lnTo>
                    <a:pt x="1385090" y="1385089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饼形 18"/>
            <p:cNvSpPr/>
            <p:nvPr/>
          </p:nvSpPr>
          <p:spPr>
            <a:xfrm flipH="1" rot="10800000">
              <a:off x="868680" y="1333440"/>
              <a:ext cx="2259000" cy="225936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5"/>
                  </a:moveTo>
                  <a:cubicBezTo>
                    <a:pt x="1730614" y="2129502"/>
                    <a:pt x="1445182" y="2259005"/>
                    <a:pt x="1129503" y="2259005"/>
                  </a:cubicBezTo>
                  <a:cubicBezTo>
                    <a:pt x="1126379" y="2259005"/>
                    <a:pt x="1123257" y="2258992"/>
                    <a:pt x="1120187" y="2258967"/>
                  </a:cubicBezTo>
                  <a:lnTo>
                    <a:pt x="1129503" y="1129503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饼形 19"/>
            <p:cNvSpPr/>
            <p:nvPr/>
          </p:nvSpPr>
          <p:spPr>
            <a:xfrm flipH="1" rot="10800000">
              <a:off x="1114920" y="156960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6" y="1504994"/>
                  </a:moveTo>
                  <a:cubicBezTo>
                    <a:pt x="1356031" y="1668582"/>
                    <a:pt x="1132380" y="1770055"/>
                    <a:pt x="885028" y="1770055"/>
                  </a:cubicBezTo>
                  <a:cubicBezTo>
                    <a:pt x="880981" y="1770055"/>
                    <a:pt x="876940" y="1770028"/>
                    <a:pt x="872966" y="1769974"/>
                  </a:cubicBezTo>
                  <a:lnTo>
                    <a:pt x="885028" y="885028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饼形 20"/>
            <p:cNvSpPr/>
            <p:nvPr/>
          </p:nvSpPr>
          <p:spPr>
            <a:xfrm flipH="1" rot="10800000">
              <a:off x="1269360" y="1736280"/>
              <a:ext cx="1458720" cy="145908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1" y="1244399"/>
                  </a:moveTo>
                  <a:cubicBezTo>
                    <a:pt x="1114039" y="1376908"/>
                    <a:pt x="931323" y="1458908"/>
                    <a:pt x="729454" y="1458908"/>
                  </a:cubicBezTo>
                  <a:cubicBezTo>
                    <a:pt x="726085" y="1458908"/>
                    <a:pt x="722721" y="1458885"/>
                    <a:pt x="719413" y="1458840"/>
                  </a:cubicBezTo>
                  <a:lnTo>
                    <a:pt x="729454" y="729454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6" name="组合 9229"/>
          <p:cNvGrpSpPr/>
          <p:nvPr/>
        </p:nvGrpSpPr>
        <p:grpSpPr>
          <a:xfrm>
            <a:off x="71280" y="1071000"/>
            <a:ext cx="3522960" cy="3522600"/>
            <a:chOff x="71280" y="1071000"/>
            <a:chExt cx="3522960" cy="3522600"/>
          </a:xfrm>
        </p:grpSpPr>
        <p:sp>
          <p:nvSpPr>
            <p:cNvPr id="797" name="饼形 24"/>
            <p:cNvSpPr/>
            <p:nvPr/>
          </p:nvSpPr>
          <p:spPr>
            <a:xfrm flipV="1" rot="10800000">
              <a:off x="71280" y="1070640"/>
              <a:ext cx="35229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饼形 25"/>
            <p:cNvSpPr/>
            <p:nvPr/>
          </p:nvSpPr>
          <p:spPr>
            <a:xfrm flipV="1" rot="10800000">
              <a:off x="447480" y="1454760"/>
              <a:ext cx="2770560" cy="277020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5" y="2355352"/>
                  </a:moveTo>
                  <a:cubicBezTo>
                    <a:pt x="2122221" y="2611372"/>
                    <a:pt x="1772201" y="2770179"/>
                    <a:pt x="1385090" y="2770179"/>
                  </a:cubicBezTo>
                  <a:cubicBezTo>
                    <a:pt x="1383656" y="2770179"/>
                    <a:pt x="1382222" y="2770177"/>
                    <a:pt x="1380811" y="2770173"/>
                  </a:cubicBezTo>
                  <a:lnTo>
                    <a:pt x="1385090" y="1385089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饼形 26"/>
            <p:cNvSpPr/>
            <p:nvPr/>
          </p:nvSpPr>
          <p:spPr>
            <a:xfrm flipV="1" rot="10800000">
              <a:off x="698400" y="1715040"/>
              <a:ext cx="2259360" cy="225900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5"/>
                  </a:moveTo>
                  <a:cubicBezTo>
                    <a:pt x="1730614" y="2129502"/>
                    <a:pt x="1445182" y="2259005"/>
                    <a:pt x="1129503" y="2259005"/>
                  </a:cubicBezTo>
                  <a:cubicBezTo>
                    <a:pt x="1126379" y="2259005"/>
                    <a:pt x="1123257" y="2258992"/>
                    <a:pt x="1120187" y="2258967"/>
                  </a:cubicBezTo>
                  <a:lnTo>
                    <a:pt x="1129503" y="1129503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饼形 27"/>
            <p:cNvSpPr/>
            <p:nvPr/>
          </p:nvSpPr>
          <p:spPr>
            <a:xfrm flipV="1" rot="10800000">
              <a:off x="940680" y="196740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8">
                  <a:moveTo>
                    <a:pt x="1516626" y="1504996"/>
                  </a:moveTo>
                  <a:cubicBezTo>
                    <a:pt x="1356032" y="1668585"/>
                    <a:pt x="1132380" y="1770058"/>
                    <a:pt x="885028" y="1770058"/>
                  </a:cubicBezTo>
                  <a:cubicBezTo>
                    <a:pt x="880981" y="1770058"/>
                    <a:pt x="876940" y="1770031"/>
                    <a:pt x="872966" y="1769977"/>
                  </a:cubicBezTo>
                  <a:lnTo>
                    <a:pt x="885028" y="885029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饼形 28"/>
            <p:cNvSpPr/>
            <p:nvPr/>
          </p:nvSpPr>
          <p:spPr>
            <a:xfrm flipV="1" rot="10800000">
              <a:off x="1098000" y="2113200"/>
              <a:ext cx="1459080" cy="145872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1" y="1244399"/>
                  </a:moveTo>
                  <a:cubicBezTo>
                    <a:pt x="1114039" y="1376908"/>
                    <a:pt x="931323" y="1458908"/>
                    <a:pt x="729454" y="1458908"/>
                  </a:cubicBezTo>
                  <a:cubicBezTo>
                    <a:pt x="726085" y="1458908"/>
                    <a:pt x="722721" y="1458885"/>
                    <a:pt x="719413" y="1458840"/>
                  </a:cubicBezTo>
                  <a:lnTo>
                    <a:pt x="729454" y="729454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2" name="组合 9235"/>
          <p:cNvGrpSpPr/>
          <p:nvPr/>
        </p:nvGrpSpPr>
        <p:grpSpPr>
          <a:xfrm>
            <a:off x="227880" y="714240"/>
            <a:ext cx="3522600" cy="3522960"/>
            <a:chOff x="227880" y="714240"/>
            <a:chExt cx="3522600" cy="3522960"/>
          </a:xfrm>
        </p:grpSpPr>
        <p:sp>
          <p:nvSpPr>
            <p:cNvPr id="803" name="饼形 31"/>
            <p:cNvSpPr/>
            <p:nvPr/>
          </p:nvSpPr>
          <p:spPr>
            <a:xfrm flipH="1" flipV="1" rot="10800000">
              <a:off x="227520" y="714240"/>
              <a:ext cx="3522600" cy="35229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饼形 32"/>
            <p:cNvSpPr/>
            <p:nvPr/>
          </p:nvSpPr>
          <p:spPr>
            <a:xfrm flipH="1" flipV="1" rot="10800000">
              <a:off x="603720" y="1098360"/>
              <a:ext cx="2770200" cy="277056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1"/>
                  </a:moveTo>
                  <a:cubicBezTo>
                    <a:pt x="2122220" y="2611371"/>
                    <a:pt x="1772200" y="2770178"/>
                    <a:pt x="1385089" y="2770178"/>
                  </a:cubicBezTo>
                  <a:cubicBezTo>
                    <a:pt x="1383657" y="2770178"/>
                    <a:pt x="1382225" y="2770176"/>
                    <a:pt x="1380816" y="2770172"/>
                  </a:cubicBezTo>
                  <a:lnTo>
                    <a:pt x="138508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饼形 33"/>
            <p:cNvSpPr/>
            <p:nvPr/>
          </p:nvSpPr>
          <p:spPr>
            <a:xfrm flipH="1" flipV="1" rot="10800000">
              <a:off x="864000" y="1358640"/>
              <a:ext cx="2259000" cy="225936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5"/>
                  </a:moveTo>
                  <a:cubicBezTo>
                    <a:pt x="1730614" y="2129503"/>
                    <a:pt x="1445182" y="2259006"/>
                    <a:pt x="1129503" y="2259006"/>
                  </a:cubicBezTo>
                  <a:cubicBezTo>
                    <a:pt x="1126379" y="2259006"/>
                    <a:pt x="1123257" y="2258993"/>
                    <a:pt x="1120187" y="2258968"/>
                  </a:cubicBezTo>
                  <a:lnTo>
                    <a:pt x="1129502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饼形 34"/>
            <p:cNvSpPr/>
            <p:nvPr/>
          </p:nvSpPr>
          <p:spPr>
            <a:xfrm flipH="1" flipV="1" rot="10800000">
              <a:off x="1110240" y="160992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6" y="1504994"/>
                  </a:moveTo>
                  <a:cubicBezTo>
                    <a:pt x="1356031" y="1668582"/>
                    <a:pt x="1132380" y="1770055"/>
                    <a:pt x="885028" y="1770055"/>
                  </a:cubicBezTo>
                  <a:cubicBezTo>
                    <a:pt x="880981" y="1770055"/>
                    <a:pt x="876940" y="1770028"/>
                    <a:pt x="872966" y="1769974"/>
                  </a:cubicBezTo>
                  <a:lnTo>
                    <a:pt x="885028" y="885028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饼形 35"/>
            <p:cNvSpPr/>
            <p:nvPr/>
          </p:nvSpPr>
          <p:spPr>
            <a:xfrm flipH="1" flipV="1" rot="10800000">
              <a:off x="1265040" y="1754640"/>
              <a:ext cx="1458720" cy="145908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46110" y="1244399"/>
                  </a:moveTo>
                  <a:cubicBezTo>
                    <a:pt x="1114038" y="1376908"/>
                    <a:pt x="931321" y="1458908"/>
                    <a:pt x="729453" y="1458908"/>
                  </a:cubicBezTo>
                  <a:cubicBezTo>
                    <a:pt x="726084" y="1458908"/>
                    <a:pt x="722720" y="1458885"/>
                    <a:pt x="719412" y="1458840"/>
                  </a:cubicBezTo>
                  <a:lnTo>
                    <a:pt x="729453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8" name="组合 9241"/>
          <p:cNvGrpSpPr/>
          <p:nvPr/>
        </p:nvGrpSpPr>
        <p:grpSpPr>
          <a:xfrm>
            <a:off x="224640" y="716400"/>
            <a:ext cx="3522600" cy="3522600"/>
            <a:chOff x="224640" y="716400"/>
            <a:chExt cx="3522600" cy="3522600"/>
          </a:xfrm>
        </p:grpSpPr>
        <p:sp>
          <p:nvSpPr>
            <p:cNvPr id="809" name="饼形 38"/>
            <p:cNvSpPr/>
            <p:nvPr/>
          </p:nvSpPr>
          <p:spPr>
            <a:xfrm flipH="1" flipV="1" rot="5400000">
              <a:off x="224280" y="71604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饼形 39"/>
            <p:cNvSpPr/>
            <p:nvPr/>
          </p:nvSpPr>
          <p:spPr>
            <a:xfrm flipH="1" flipV="1" rot="5400000">
              <a:off x="608400" y="109224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5" y="2355352"/>
                  </a:moveTo>
                  <a:cubicBezTo>
                    <a:pt x="2122221" y="2611372"/>
                    <a:pt x="1772201" y="2770179"/>
                    <a:pt x="1385090" y="2770179"/>
                  </a:cubicBezTo>
                  <a:cubicBezTo>
                    <a:pt x="1383658" y="2770179"/>
                    <a:pt x="1382226" y="2770177"/>
                    <a:pt x="1380817" y="2770173"/>
                  </a:cubicBezTo>
                  <a:lnTo>
                    <a:pt x="1385090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饼形 40"/>
            <p:cNvSpPr/>
            <p:nvPr/>
          </p:nvSpPr>
          <p:spPr>
            <a:xfrm flipH="1" flipV="1" rot="5400000">
              <a:off x="868680" y="134316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5"/>
                  </a:moveTo>
                  <a:cubicBezTo>
                    <a:pt x="1730614" y="2129502"/>
                    <a:pt x="1445182" y="2259005"/>
                    <a:pt x="1129503" y="2259005"/>
                  </a:cubicBezTo>
                  <a:cubicBezTo>
                    <a:pt x="1126379" y="2259005"/>
                    <a:pt x="1123257" y="2258992"/>
                    <a:pt x="1120187" y="2258967"/>
                  </a:cubicBezTo>
                  <a:lnTo>
                    <a:pt x="1129503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饼形 41"/>
            <p:cNvSpPr/>
            <p:nvPr/>
          </p:nvSpPr>
          <p:spPr>
            <a:xfrm flipH="1" flipV="1" rot="5400000">
              <a:off x="1121040" y="158580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6" y="1504994"/>
                  </a:moveTo>
                  <a:cubicBezTo>
                    <a:pt x="1356031" y="1668582"/>
                    <a:pt x="1132380" y="1770055"/>
                    <a:pt x="885028" y="1770055"/>
                  </a:cubicBezTo>
                  <a:cubicBezTo>
                    <a:pt x="880981" y="1770055"/>
                    <a:pt x="876940" y="1770028"/>
                    <a:pt x="872966" y="1769974"/>
                  </a:cubicBezTo>
                  <a:lnTo>
                    <a:pt x="885028" y="885028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饼形 42"/>
            <p:cNvSpPr/>
            <p:nvPr/>
          </p:nvSpPr>
          <p:spPr>
            <a:xfrm flipH="1" flipV="1" rot="5400000">
              <a:off x="1266840" y="174312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1" y="1244399"/>
                  </a:moveTo>
                  <a:cubicBezTo>
                    <a:pt x="1114039" y="1376908"/>
                    <a:pt x="931323" y="1458908"/>
                    <a:pt x="729454" y="1458908"/>
                  </a:cubicBezTo>
                  <a:cubicBezTo>
                    <a:pt x="726085" y="1458908"/>
                    <a:pt x="722721" y="1458885"/>
                    <a:pt x="719413" y="1458840"/>
                  </a:cubicBezTo>
                  <a:lnTo>
                    <a:pt x="729454" y="7294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4" name="组合 9247"/>
          <p:cNvGrpSpPr/>
          <p:nvPr/>
        </p:nvGrpSpPr>
        <p:grpSpPr>
          <a:xfrm>
            <a:off x="230040" y="714240"/>
            <a:ext cx="3522960" cy="3522960"/>
            <a:chOff x="230040" y="714240"/>
            <a:chExt cx="3522960" cy="3522960"/>
          </a:xfrm>
        </p:grpSpPr>
        <p:sp>
          <p:nvSpPr>
            <p:cNvPr id="815" name="饼形 45"/>
            <p:cNvSpPr/>
            <p:nvPr/>
          </p:nvSpPr>
          <p:spPr>
            <a:xfrm rot="5400000">
              <a:off x="230040" y="713880"/>
              <a:ext cx="3522960" cy="35229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饼形 46"/>
            <p:cNvSpPr/>
            <p:nvPr/>
          </p:nvSpPr>
          <p:spPr>
            <a:xfrm rot="5400000">
              <a:off x="597960" y="1090080"/>
              <a:ext cx="2770560" cy="277056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1"/>
                  </a:moveTo>
                  <a:cubicBezTo>
                    <a:pt x="2122220" y="2611371"/>
                    <a:pt x="1772200" y="2770178"/>
                    <a:pt x="1385089" y="2770178"/>
                  </a:cubicBezTo>
                  <a:cubicBezTo>
                    <a:pt x="1383657" y="2770178"/>
                    <a:pt x="1382225" y="2770176"/>
                    <a:pt x="1380816" y="2770172"/>
                  </a:cubicBezTo>
                  <a:lnTo>
                    <a:pt x="1385089" y="138508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饼形 47"/>
            <p:cNvSpPr/>
            <p:nvPr/>
          </p:nvSpPr>
          <p:spPr>
            <a:xfrm rot="5400000">
              <a:off x="848880" y="1350360"/>
              <a:ext cx="2259360" cy="225936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5"/>
                  </a:moveTo>
                  <a:cubicBezTo>
                    <a:pt x="1730614" y="2129503"/>
                    <a:pt x="1445182" y="2259006"/>
                    <a:pt x="1129503" y="2259006"/>
                  </a:cubicBezTo>
                  <a:cubicBezTo>
                    <a:pt x="1126379" y="2259006"/>
                    <a:pt x="1123257" y="2258993"/>
                    <a:pt x="1120187" y="2258968"/>
                  </a:cubicBezTo>
                  <a:lnTo>
                    <a:pt x="1129502" y="112950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饼形 48"/>
            <p:cNvSpPr/>
            <p:nvPr/>
          </p:nvSpPr>
          <p:spPr>
            <a:xfrm rot="5400000">
              <a:off x="1085400" y="159696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8">
                  <a:moveTo>
                    <a:pt x="1516626" y="1504996"/>
                  </a:moveTo>
                  <a:cubicBezTo>
                    <a:pt x="1356032" y="1668585"/>
                    <a:pt x="1132380" y="1770058"/>
                    <a:pt x="885028" y="1770058"/>
                  </a:cubicBezTo>
                  <a:cubicBezTo>
                    <a:pt x="880981" y="1770058"/>
                    <a:pt x="876940" y="1770031"/>
                    <a:pt x="872966" y="1769977"/>
                  </a:cubicBezTo>
                  <a:lnTo>
                    <a:pt x="885028" y="885029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饼形 49"/>
            <p:cNvSpPr/>
            <p:nvPr/>
          </p:nvSpPr>
          <p:spPr>
            <a:xfrm rot="5400000">
              <a:off x="1251720" y="1751040"/>
              <a:ext cx="1459080" cy="145908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46110" y="1244399"/>
                  </a:moveTo>
                  <a:cubicBezTo>
                    <a:pt x="1114038" y="1376908"/>
                    <a:pt x="931321" y="1458908"/>
                    <a:pt x="729453" y="1458908"/>
                  </a:cubicBezTo>
                  <a:cubicBezTo>
                    <a:pt x="726084" y="1458908"/>
                    <a:pt x="722720" y="1458885"/>
                    <a:pt x="719412" y="1458840"/>
                  </a:cubicBezTo>
                  <a:lnTo>
                    <a:pt x="729453" y="729454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0" name="组合 9253"/>
          <p:cNvGrpSpPr/>
          <p:nvPr/>
        </p:nvGrpSpPr>
        <p:grpSpPr>
          <a:xfrm>
            <a:off x="570960" y="857160"/>
            <a:ext cx="3522600" cy="3522600"/>
            <a:chOff x="570960" y="857160"/>
            <a:chExt cx="3522600" cy="3522600"/>
          </a:xfrm>
        </p:grpSpPr>
        <p:sp>
          <p:nvSpPr>
            <p:cNvPr id="821" name="饼形 52"/>
            <p:cNvSpPr/>
            <p:nvPr/>
          </p:nvSpPr>
          <p:spPr>
            <a:xfrm flipH="1" rot="16200000">
              <a:off x="570600" y="85716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饼形 53"/>
            <p:cNvSpPr/>
            <p:nvPr/>
          </p:nvSpPr>
          <p:spPr>
            <a:xfrm flipH="1" rot="16200000">
              <a:off x="954720" y="123336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1"/>
                  </a:moveTo>
                  <a:cubicBezTo>
                    <a:pt x="2122220" y="2611371"/>
                    <a:pt x="1772200" y="2770178"/>
                    <a:pt x="1385089" y="2770178"/>
                  </a:cubicBezTo>
                  <a:cubicBezTo>
                    <a:pt x="1383657" y="2770178"/>
                    <a:pt x="1382225" y="2770176"/>
                    <a:pt x="1380816" y="2770172"/>
                  </a:cubicBezTo>
                  <a:lnTo>
                    <a:pt x="1385089" y="138508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饼形 54"/>
            <p:cNvSpPr/>
            <p:nvPr/>
          </p:nvSpPr>
          <p:spPr>
            <a:xfrm flipH="1" rot="16200000">
              <a:off x="1215000" y="149364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5"/>
                  </a:moveTo>
                  <a:cubicBezTo>
                    <a:pt x="1730614" y="2129503"/>
                    <a:pt x="1445182" y="2259006"/>
                    <a:pt x="1129503" y="2259006"/>
                  </a:cubicBezTo>
                  <a:cubicBezTo>
                    <a:pt x="1126379" y="2259006"/>
                    <a:pt x="1123257" y="2258993"/>
                    <a:pt x="1120187" y="2258968"/>
                  </a:cubicBezTo>
                  <a:lnTo>
                    <a:pt x="1129502" y="1129503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饼形 55"/>
            <p:cNvSpPr/>
            <p:nvPr/>
          </p:nvSpPr>
          <p:spPr>
            <a:xfrm flipH="1" rot="16200000">
              <a:off x="1467360" y="173988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6" y="1504994"/>
                  </a:moveTo>
                  <a:cubicBezTo>
                    <a:pt x="1356031" y="1668582"/>
                    <a:pt x="1132380" y="1770055"/>
                    <a:pt x="885028" y="1770055"/>
                  </a:cubicBezTo>
                  <a:cubicBezTo>
                    <a:pt x="880981" y="1770055"/>
                    <a:pt x="876940" y="1770028"/>
                    <a:pt x="872966" y="1769974"/>
                  </a:cubicBezTo>
                  <a:lnTo>
                    <a:pt x="885028" y="885028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饼形 56"/>
            <p:cNvSpPr/>
            <p:nvPr/>
          </p:nvSpPr>
          <p:spPr>
            <a:xfrm flipH="1" rot="16200000">
              <a:off x="1613160" y="189360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50201" y="1240261"/>
                  </a:moveTo>
                  <a:cubicBezTo>
                    <a:pt x="1117824" y="1375199"/>
                    <a:pt x="933414" y="1458908"/>
                    <a:pt x="729453" y="1458908"/>
                  </a:cubicBezTo>
                  <a:cubicBezTo>
                    <a:pt x="726084" y="1458908"/>
                    <a:pt x="722720" y="1458885"/>
                    <a:pt x="719412" y="1458840"/>
                  </a:cubicBezTo>
                  <a:lnTo>
                    <a:pt x="729453" y="729454"/>
                  </a:lnTo>
                  <a:close/>
                </a:path>
              </a:pathLst>
            </a:cu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6" name="组合 9259"/>
          <p:cNvGrpSpPr/>
          <p:nvPr/>
        </p:nvGrpSpPr>
        <p:grpSpPr>
          <a:xfrm>
            <a:off x="228240" y="706320"/>
            <a:ext cx="3522600" cy="3522960"/>
            <a:chOff x="228240" y="706320"/>
            <a:chExt cx="3522600" cy="3522960"/>
          </a:xfrm>
        </p:grpSpPr>
        <p:sp>
          <p:nvSpPr>
            <p:cNvPr id="827" name="饼形 60"/>
            <p:cNvSpPr/>
            <p:nvPr/>
          </p:nvSpPr>
          <p:spPr>
            <a:xfrm flipV="1" rot="16200000">
              <a:off x="227880" y="706320"/>
              <a:ext cx="35229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4" y="3001536"/>
                  </a:moveTo>
                  <a:cubicBezTo>
                    <a:pt x="2692843" y="3323349"/>
                    <a:pt x="2250359" y="3522652"/>
                    <a:pt x="1761325" y="3522652"/>
                  </a:cubicBezTo>
                  <a:cubicBezTo>
                    <a:pt x="1759116" y="3522652"/>
                    <a:pt x="1756909" y="3522648"/>
                    <a:pt x="1754737" y="3522640"/>
                  </a:cubicBezTo>
                  <a:lnTo>
                    <a:pt x="1761326" y="1761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饼形 61"/>
            <p:cNvSpPr/>
            <p:nvPr/>
          </p:nvSpPr>
          <p:spPr>
            <a:xfrm flipV="1" rot="16200000">
              <a:off x="596160" y="1082520"/>
              <a:ext cx="2770560" cy="277020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5" y="2355352"/>
                  </a:moveTo>
                  <a:cubicBezTo>
                    <a:pt x="2122221" y="2611372"/>
                    <a:pt x="1772201" y="2770179"/>
                    <a:pt x="1385090" y="2770179"/>
                  </a:cubicBezTo>
                  <a:cubicBezTo>
                    <a:pt x="1383658" y="2770179"/>
                    <a:pt x="1382226" y="2770177"/>
                    <a:pt x="1380817" y="2770173"/>
                  </a:cubicBezTo>
                  <a:lnTo>
                    <a:pt x="1385090" y="1385089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饼形 62"/>
            <p:cNvSpPr/>
            <p:nvPr/>
          </p:nvSpPr>
          <p:spPr>
            <a:xfrm flipV="1" rot="16200000">
              <a:off x="846720" y="1333440"/>
              <a:ext cx="2259360" cy="225900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5"/>
                  </a:moveTo>
                  <a:cubicBezTo>
                    <a:pt x="1730614" y="2129502"/>
                    <a:pt x="1445182" y="2259005"/>
                    <a:pt x="1129503" y="2259005"/>
                  </a:cubicBezTo>
                  <a:cubicBezTo>
                    <a:pt x="1126379" y="2259005"/>
                    <a:pt x="1123257" y="2258992"/>
                    <a:pt x="1120187" y="2258967"/>
                  </a:cubicBezTo>
                  <a:lnTo>
                    <a:pt x="1129503" y="1129503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饼形 63"/>
            <p:cNvSpPr/>
            <p:nvPr/>
          </p:nvSpPr>
          <p:spPr>
            <a:xfrm flipV="1" rot="16200000">
              <a:off x="1083960" y="157536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6" y="1504994"/>
                  </a:moveTo>
                  <a:cubicBezTo>
                    <a:pt x="1356031" y="1668582"/>
                    <a:pt x="1132380" y="1770055"/>
                    <a:pt x="885028" y="1770055"/>
                  </a:cubicBezTo>
                  <a:cubicBezTo>
                    <a:pt x="880981" y="1770055"/>
                    <a:pt x="876940" y="1770028"/>
                    <a:pt x="872966" y="1769974"/>
                  </a:cubicBezTo>
                  <a:lnTo>
                    <a:pt x="885028" y="885028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饼形 64"/>
            <p:cNvSpPr/>
            <p:nvPr/>
          </p:nvSpPr>
          <p:spPr>
            <a:xfrm flipV="1" rot="16200000">
              <a:off x="1250640" y="1732680"/>
              <a:ext cx="1459080" cy="145872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1" y="1244399"/>
                  </a:moveTo>
                  <a:cubicBezTo>
                    <a:pt x="1114039" y="1376908"/>
                    <a:pt x="931323" y="1458908"/>
                    <a:pt x="729454" y="1458908"/>
                  </a:cubicBezTo>
                  <a:cubicBezTo>
                    <a:pt x="726085" y="1458908"/>
                    <a:pt x="722721" y="1458885"/>
                    <a:pt x="719413" y="1458840"/>
                  </a:cubicBezTo>
                  <a:lnTo>
                    <a:pt x="729454" y="729454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2" name="TextBox 50"/>
          <p:cNvSpPr/>
          <p:nvPr/>
        </p:nvSpPr>
        <p:spPr>
          <a:xfrm>
            <a:off x="4707360" y="3000240"/>
            <a:ext cx="308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05:08:43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4:20Z</dcterms:modified>
  <cp:revision>33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