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864-D41A-419C-8C59-8EE12876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88992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2400" y="3696120"/>
            <a:ext cx="88992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085-83B1-4FCB-A24D-A6DB4C7C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240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252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41C-6DCA-46E7-8FEF-F33AD463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31280" y="83628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40160" y="83628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22400" y="369612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31280" y="369612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40160" y="369612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229-7DC9-4356-B2D8-5E30BD31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E52F-1AC7-4DE8-BA31-63777D1B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2400" y="836280"/>
            <a:ext cx="889920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C584-B7C9-4DBE-A7E5-459AE5F5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88992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D36D-24CD-4D39-BD53-1203B2AA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7AD0-A4E4-42F4-8FD1-0C4D4624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BDBA-8F7D-4518-AC34-B35DA801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7480" y="112320"/>
            <a:ext cx="83008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7771-2D3D-475F-B59B-E99F2809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240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3968-72B1-44B6-9D2D-0FECD3B6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22400" y="836280"/>
            <a:ext cx="889920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583-07DD-4EAA-8469-125C4747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252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DF09-6119-4B6F-8E79-EF9F61D6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2400" y="3696120"/>
            <a:ext cx="88992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9FCC-393C-4093-967B-5C9B44BD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88992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2400" y="3696120"/>
            <a:ext cx="88992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B06F-5A11-4E22-A520-1BAEA59F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240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252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DE5A-137A-497E-969C-472882E4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1280" y="83628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40160" y="83628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2400" y="369612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1280" y="369612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40160" y="369612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9E5B-300D-48D8-B934-39619389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95EBA-E580-402A-9243-B9E80B58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2400" y="836280"/>
            <a:ext cx="889920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8A0C2-B69B-4198-9A39-1C06D4B8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88992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0CDFE-6282-434E-8F10-DD473915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C663D-570A-49AE-BBB3-FCDB7128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DAE53-D39B-4D21-B1CB-116E48B0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88992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53B7-43E6-475D-9CF4-8888F731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7480" y="112320"/>
            <a:ext cx="83008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5CEA-BA03-4622-AA39-D00F6FC1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240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05F59-1876-4187-9DE1-1C211C15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252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83BEF-CDC4-4C69-8DFC-15EB57A9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2400" y="3696120"/>
            <a:ext cx="88992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9356F-2451-42F2-954D-F939631B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88992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2400" y="3696120"/>
            <a:ext cx="88992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0B83B-3B0E-4DC5-98A2-AEE310B2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240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8252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57F13-D2C1-4A82-9EC5-5CC6FEBB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131280" y="83628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40160" y="83628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2400" y="369612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131280" y="369612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40160" y="369612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B7CA8-A3F1-4024-A71C-5C701FDE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F7E-8F7A-454B-8B4D-53119743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466F-C5CC-4B54-8EFC-910D8F8F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7480" y="112320"/>
            <a:ext cx="83008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38A-59C5-4254-8DDF-469DB36B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240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FEE-834A-4790-81F7-541F2488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252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96C-60D6-45AD-A7F0-4DA58925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2400" y="3696120"/>
            <a:ext cx="88992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7D8-07D0-4146-A177-AD1C01CA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组合 102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2" name="图片 1027" descr="vineyard"/>
              <p:cNvPicPr/>
              <p:nvPr/>
            </p:nvPicPr>
            <p:blipFill>
              <a:blip r:embed="rId2">
                <a:lum contrast="-12000"/>
              </a:blip>
              <a:srcRect l="0" t="0" r="0" b="10355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圆角矩形 1028"/>
              <p:cNvSpPr/>
              <p:nvPr/>
            </p:nvSpPr>
            <p:spPr>
              <a:xfrm>
                <a:off x="0" y="0"/>
                <a:ext cx="9144000" cy="6858000"/>
              </a:xfrm>
              <a:prstGeom prst="roundRect">
                <a:avLst>
                  <a:gd name="adj" fmla="val 0"/>
                </a:avLst>
              </a:prstGeom>
              <a:solidFill>
                <a:srgbClr val="f5f5f3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矩形 1029"/>
              <p:cNvSpPr/>
              <p:nvPr/>
            </p:nvSpPr>
            <p:spPr>
              <a:xfrm>
                <a:off x="0" y="0"/>
                <a:ext cx="9144000" cy="3933720"/>
              </a:xfrm>
              <a:prstGeom prst="rect">
                <a:avLst/>
              </a:prstGeom>
              <a:gradFill rotWithShape="0">
                <a:gsLst>
                  <a:gs pos="0">
                    <a:srgbClr val="f5f5f3">
                      <a:alpha val="43137"/>
                    </a:srgbClr>
                  </a:gs>
                  <a:gs pos="100000">
                    <a:srgbClr val="71717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" name="组合 1030"/>
            <p:cNvGrpSpPr/>
            <p:nvPr/>
          </p:nvGrpSpPr>
          <p:grpSpPr>
            <a:xfrm>
              <a:off x="8632800" y="114480"/>
              <a:ext cx="372960" cy="591840"/>
              <a:chOff x="8632800" y="114480"/>
              <a:chExt cx="372960" cy="591840"/>
            </a:xfrm>
          </p:grpSpPr>
          <p:sp>
            <p:nvSpPr>
              <p:cNvPr id="6" name="未知"/>
              <p:cNvSpPr/>
              <p:nvPr/>
            </p:nvSpPr>
            <p:spPr>
              <a:xfrm>
                <a:off x="8778960" y="373320"/>
                <a:ext cx="226800" cy="333000"/>
              </a:xfrm>
              <a:custGeom>
                <a:avLst/>
                <a:gdLst/>
                <a:ahLst/>
                <a:rect l="l" t="t" r="r" b="b"/>
                <a:pathLst>
                  <a:path w="718" h="1053">
                    <a:moveTo>
                      <a:pt x="464" y="1007"/>
                    </a:moveTo>
                    <a:cubicBezTo>
                      <a:pt x="373" y="998"/>
                      <a:pt x="381" y="952"/>
                      <a:pt x="381" y="952"/>
                    </a:cubicBezTo>
                    <a:cubicBezTo>
                      <a:pt x="381" y="711"/>
                      <a:pt x="381" y="711"/>
                      <a:pt x="381" y="711"/>
                    </a:cubicBezTo>
                    <a:cubicBezTo>
                      <a:pt x="367" y="558"/>
                      <a:pt x="456" y="561"/>
                      <a:pt x="456" y="561"/>
                    </a:cubicBezTo>
                    <a:cubicBezTo>
                      <a:pt x="718" y="437"/>
                      <a:pt x="548" y="0"/>
                      <a:pt x="548" y="0"/>
                    </a:cubicBezTo>
                    <a:cubicBezTo>
                      <a:pt x="368" y="0"/>
                      <a:pt x="368" y="0"/>
                      <a:pt x="368" y="0"/>
                    </a:cubicBezTo>
                    <a:cubicBezTo>
                      <a:pt x="349" y="0"/>
                      <a:pt x="349" y="0"/>
                      <a:pt x="349" y="0"/>
                    </a:cubicBezTo>
                    <a:cubicBezTo>
                      <a:pt x="170" y="0"/>
                      <a:pt x="170" y="0"/>
                      <a:pt x="170" y="0"/>
                    </a:cubicBezTo>
                    <a:cubicBezTo>
                      <a:pt x="170" y="0"/>
                      <a:pt x="0" y="437"/>
                      <a:pt x="262" y="561"/>
                    </a:cubicBezTo>
                    <a:cubicBezTo>
                      <a:pt x="262" y="561"/>
                      <a:pt x="351" y="558"/>
                      <a:pt x="337" y="711"/>
                    </a:cubicBezTo>
                    <a:cubicBezTo>
                      <a:pt x="337" y="952"/>
                      <a:pt x="337" y="952"/>
                      <a:pt x="337" y="952"/>
                    </a:cubicBezTo>
                    <a:cubicBezTo>
                      <a:pt x="337" y="952"/>
                      <a:pt x="345" y="998"/>
                      <a:pt x="253" y="1007"/>
                    </a:cubicBezTo>
                    <a:cubicBezTo>
                      <a:pt x="253" y="1007"/>
                      <a:pt x="170" y="1021"/>
                      <a:pt x="164" y="1053"/>
                    </a:cubicBezTo>
                    <a:cubicBezTo>
                      <a:pt x="359" y="1052"/>
                      <a:pt x="359" y="1052"/>
                      <a:pt x="359" y="1052"/>
                    </a:cubicBezTo>
                    <a:cubicBezTo>
                      <a:pt x="554" y="1053"/>
                      <a:pt x="554" y="1053"/>
                      <a:pt x="554" y="1053"/>
                    </a:cubicBezTo>
                    <a:cubicBezTo>
                      <a:pt x="548" y="1021"/>
                      <a:pt x="464" y="1007"/>
                      <a:pt x="464" y="10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51c05"/>
                  </a:gs>
                  <a:gs pos="100000">
                    <a:srgbClr val="422b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未知"/>
              <p:cNvSpPr/>
              <p:nvPr/>
            </p:nvSpPr>
            <p:spPr>
              <a:xfrm>
                <a:off x="8632800" y="114480"/>
                <a:ext cx="146160" cy="591840"/>
              </a:xfrm>
              <a:custGeom>
                <a:avLst/>
                <a:gdLst/>
                <a:ahLst/>
                <a:rect l="l" t="t" r="r" b="b"/>
                <a:pathLst>
                  <a:path w="463" h="1872">
                    <a:moveTo>
                      <a:pt x="459" y="812"/>
                    </a:moveTo>
                    <a:cubicBezTo>
                      <a:pt x="463" y="668"/>
                      <a:pt x="417" y="628"/>
                      <a:pt x="417" y="628"/>
                    </a:cubicBezTo>
                    <a:cubicBezTo>
                      <a:pt x="297" y="494"/>
                      <a:pt x="300" y="419"/>
                      <a:pt x="300" y="419"/>
                    </a:cubicBezTo>
                    <a:cubicBezTo>
                      <a:pt x="300" y="129"/>
                      <a:pt x="300" y="129"/>
                      <a:pt x="300" y="129"/>
                    </a:cubicBezTo>
                    <a:cubicBezTo>
                      <a:pt x="308" y="122"/>
                      <a:pt x="314" y="111"/>
                      <a:pt x="314" y="99"/>
                    </a:cubicBezTo>
                    <a:cubicBezTo>
                      <a:pt x="314" y="40"/>
                      <a:pt x="314" y="40"/>
                      <a:pt x="314" y="40"/>
                    </a:cubicBezTo>
                    <a:cubicBezTo>
                      <a:pt x="314" y="18"/>
                      <a:pt x="296" y="0"/>
                      <a:pt x="274" y="0"/>
                    </a:cubicBezTo>
                    <a:cubicBezTo>
                      <a:pt x="274" y="0"/>
                      <a:pt x="274" y="0"/>
                      <a:pt x="274" y="0"/>
                    </a:cubicBezTo>
                    <a:cubicBezTo>
                      <a:pt x="236" y="0"/>
                      <a:pt x="236" y="0"/>
                      <a:pt x="236" y="0"/>
                    </a:cubicBezTo>
                    <a:cubicBezTo>
                      <a:pt x="228" y="0"/>
                      <a:pt x="228" y="0"/>
                      <a:pt x="228" y="0"/>
                    </a:cubicBezTo>
                    <a:cubicBezTo>
                      <a:pt x="190" y="0"/>
                      <a:pt x="190" y="0"/>
                      <a:pt x="190" y="0"/>
                    </a:cubicBezTo>
                    <a:cubicBezTo>
                      <a:pt x="190" y="0"/>
                      <a:pt x="190" y="0"/>
                      <a:pt x="190" y="0"/>
                    </a:cubicBezTo>
                    <a:cubicBezTo>
                      <a:pt x="168" y="0"/>
                      <a:pt x="150" y="18"/>
                      <a:pt x="150" y="40"/>
                    </a:cubicBezTo>
                    <a:cubicBezTo>
                      <a:pt x="150" y="99"/>
                      <a:pt x="150" y="99"/>
                      <a:pt x="150" y="99"/>
                    </a:cubicBezTo>
                    <a:cubicBezTo>
                      <a:pt x="150" y="111"/>
                      <a:pt x="155" y="122"/>
                      <a:pt x="164" y="129"/>
                    </a:cubicBezTo>
                    <a:cubicBezTo>
                      <a:pt x="164" y="419"/>
                      <a:pt x="164" y="419"/>
                      <a:pt x="164" y="419"/>
                    </a:cubicBezTo>
                    <a:cubicBezTo>
                      <a:pt x="164" y="419"/>
                      <a:pt x="166" y="494"/>
                      <a:pt x="47" y="628"/>
                    </a:cubicBezTo>
                    <a:cubicBezTo>
                      <a:pt x="47" y="628"/>
                      <a:pt x="0" y="668"/>
                      <a:pt x="5" y="812"/>
                    </a:cubicBezTo>
                    <a:cubicBezTo>
                      <a:pt x="4" y="815"/>
                      <a:pt x="4" y="818"/>
                      <a:pt x="4" y="820"/>
                    </a:cubicBezTo>
                    <a:cubicBezTo>
                      <a:pt x="4" y="1832"/>
                      <a:pt x="4" y="1832"/>
                      <a:pt x="4" y="1832"/>
                    </a:cubicBezTo>
                    <a:cubicBezTo>
                      <a:pt x="4" y="1854"/>
                      <a:pt x="22" y="1872"/>
                      <a:pt x="44" y="1872"/>
                    </a:cubicBezTo>
                    <a:cubicBezTo>
                      <a:pt x="228" y="1872"/>
                      <a:pt x="228" y="1872"/>
                      <a:pt x="228" y="1872"/>
                    </a:cubicBezTo>
                    <a:cubicBezTo>
                      <a:pt x="236" y="1872"/>
                      <a:pt x="236" y="1872"/>
                      <a:pt x="236" y="1872"/>
                    </a:cubicBezTo>
                    <a:cubicBezTo>
                      <a:pt x="420" y="1872"/>
                      <a:pt x="420" y="1872"/>
                      <a:pt x="420" y="1872"/>
                    </a:cubicBezTo>
                    <a:cubicBezTo>
                      <a:pt x="442" y="1872"/>
                      <a:pt x="460" y="1854"/>
                      <a:pt x="460" y="1832"/>
                    </a:cubicBezTo>
                    <a:cubicBezTo>
                      <a:pt x="460" y="820"/>
                      <a:pt x="460" y="820"/>
                      <a:pt x="460" y="820"/>
                    </a:cubicBezTo>
                    <a:cubicBezTo>
                      <a:pt x="460" y="818"/>
                      <a:pt x="459" y="815"/>
                      <a:pt x="459" y="8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51c05"/>
                  </a:gs>
                  <a:gs pos="100000">
                    <a:srgbClr val="422b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dt" idx="1"/>
          </p:nvPr>
        </p:nvSpPr>
        <p:spPr>
          <a:xfrm>
            <a:off x="122400" y="6418440"/>
            <a:ext cx="21333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2"/>
          </p:nvPr>
        </p:nvSpPr>
        <p:spPr>
          <a:xfrm>
            <a:off x="2454120" y="6418440"/>
            <a:ext cx="42357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3"/>
          </p:nvPr>
        </p:nvSpPr>
        <p:spPr>
          <a:xfrm>
            <a:off x="6888240" y="6418440"/>
            <a:ext cx="21333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f5f3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122400" y="836280"/>
            <a:ext cx="88992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1F42-2107-44A9-A99F-115334D9754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B483-1EBF-4AFA-B0E8-BF1E7EDCCD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204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1" name="图片 2050" descr="vineyard darker"/>
            <p:cNvPicPr/>
            <p:nvPr/>
          </p:nvPicPr>
          <p:blipFill>
            <a:blip r:embed="rId2">
              <a:lum contrast="-12000"/>
            </a:blip>
            <a:srcRect l="0" t="0" r="0" b="10372"/>
            <a:stretch/>
          </p:blipFill>
          <p:spPr>
            <a:xfrm>
              <a:off x="0" y="0"/>
              <a:ext cx="9144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圆角矩形 2051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0"/>
              </a:avLst>
            </a:prstGeom>
            <a:solidFill>
              <a:srgbClr val="f5f5f3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2052"/>
            <p:cNvGrpSpPr/>
            <p:nvPr/>
          </p:nvGrpSpPr>
          <p:grpSpPr>
            <a:xfrm>
              <a:off x="8632800" y="114480"/>
              <a:ext cx="372960" cy="591840"/>
              <a:chOff x="8632800" y="114480"/>
              <a:chExt cx="372960" cy="591840"/>
            </a:xfrm>
          </p:grpSpPr>
          <p:sp>
            <p:nvSpPr>
              <p:cNvPr id="94" name="未知"/>
              <p:cNvSpPr/>
              <p:nvPr/>
            </p:nvSpPr>
            <p:spPr>
              <a:xfrm>
                <a:off x="8778960" y="373320"/>
                <a:ext cx="226800" cy="333000"/>
              </a:xfrm>
              <a:custGeom>
                <a:avLst/>
                <a:gdLst/>
                <a:ahLst/>
                <a:rect l="l" t="t" r="r" b="b"/>
                <a:pathLst>
                  <a:path w="718" h="1053">
                    <a:moveTo>
                      <a:pt x="464" y="1007"/>
                    </a:moveTo>
                    <a:cubicBezTo>
                      <a:pt x="373" y="998"/>
                      <a:pt x="381" y="952"/>
                      <a:pt x="381" y="952"/>
                    </a:cubicBezTo>
                    <a:cubicBezTo>
                      <a:pt x="381" y="711"/>
                      <a:pt x="381" y="711"/>
                      <a:pt x="381" y="711"/>
                    </a:cubicBezTo>
                    <a:cubicBezTo>
                      <a:pt x="367" y="558"/>
                      <a:pt x="456" y="561"/>
                      <a:pt x="456" y="561"/>
                    </a:cubicBezTo>
                    <a:cubicBezTo>
                      <a:pt x="718" y="437"/>
                      <a:pt x="548" y="0"/>
                      <a:pt x="548" y="0"/>
                    </a:cubicBezTo>
                    <a:cubicBezTo>
                      <a:pt x="368" y="0"/>
                      <a:pt x="368" y="0"/>
                      <a:pt x="368" y="0"/>
                    </a:cubicBezTo>
                    <a:cubicBezTo>
                      <a:pt x="349" y="0"/>
                      <a:pt x="349" y="0"/>
                      <a:pt x="349" y="0"/>
                    </a:cubicBezTo>
                    <a:cubicBezTo>
                      <a:pt x="170" y="0"/>
                      <a:pt x="170" y="0"/>
                      <a:pt x="170" y="0"/>
                    </a:cubicBezTo>
                    <a:cubicBezTo>
                      <a:pt x="170" y="0"/>
                      <a:pt x="0" y="437"/>
                      <a:pt x="262" y="561"/>
                    </a:cubicBezTo>
                    <a:cubicBezTo>
                      <a:pt x="262" y="561"/>
                      <a:pt x="351" y="558"/>
                      <a:pt x="337" y="711"/>
                    </a:cubicBezTo>
                    <a:cubicBezTo>
                      <a:pt x="337" y="952"/>
                      <a:pt x="337" y="952"/>
                      <a:pt x="337" y="952"/>
                    </a:cubicBezTo>
                    <a:cubicBezTo>
                      <a:pt x="337" y="952"/>
                      <a:pt x="345" y="998"/>
                      <a:pt x="253" y="1007"/>
                    </a:cubicBezTo>
                    <a:cubicBezTo>
                      <a:pt x="253" y="1007"/>
                      <a:pt x="170" y="1021"/>
                      <a:pt x="164" y="1053"/>
                    </a:cubicBezTo>
                    <a:cubicBezTo>
                      <a:pt x="359" y="1052"/>
                      <a:pt x="359" y="1052"/>
                      <a:pt x="359" y="1052"/>
                    </a:cubicBezTo>
                    <a:cubicBezTo>
                      <a:pt x="554" y="1053"/>
                      <a:pt x="554" y="1053"/>
                      <a:pt x="554" y="1053"/>
                    </a:cubicBezTo>
                    <a:cubicBezTo>
                      <a:pt x="548" y="1021"/>
                      <a:pt x="464" y="1007"/>
                      <a:pt x="464" y="10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51c05"/>
                  </a:gs>
                  <a:gs pos="100000">
                    <a:srgbClr val="422b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8632800" y="114480"/>
                <a:ext cx="146160" cy="591840"/>
              </a:xfrm>
              <a:custGeom>
                <a:avLst/>
                <a:gdLst/>
                <a:ahLst/>
                <a:rect l="l" t="t" r="r" b="b"/>
                <a:pathLst>
                  <a:path w="463" h="1872">
                    <a:moveTo>
                      <a:pt x="459" y="812"/>
                    </a:moveTo>
                    <a:cubicBezTo>
                      <a:pt x="463" y="668"/>
                      <a:pt x="417" y="628"/>
                      <a:pt x="417" y="628"/>
                    </a:cubicBezTo>
                    <a:cubicBezTo>
                      <a:pt x="297" y="494"/>
                      <a:pt x="300" y="419"/>
                      <a:pt x="300" y="419"/>
                    </a:cubicBezTo>
                    <a:cubicBezTo>
                      <a:pt x="300" y="129"/>
                      <a:pt x="300" y="129"/>
                      <a:pt x="300" y="129"/>
                    </a:cubicBezTo>
                    <a:cubicBezTo>
                      <a:pt x="308" y="122"/>
                      <a:pt x="314" y="111"/>
                      <a:pt x="314" y="99"/>
                    </a:cubicBezTo>
                    <a:cubicBezTo>
                      <a:pt x="314" y="40"/>
                      <a:pt x="314" y="40"/>
                      <a:pt x="314" y="40"/>
                    </a:cubicBezTo>
                    <a:cubicBezTo>
                      <a:pt x="314" y="18"/>
                      <a:pt x="296" y="0"/>
                      <a:pt x="274" y="0"/>
                    </a:cubicBezTo>
                    <a:cubicBezTo>
                      <a:pt x="274" y="0"/>
                      <a:pt x="274" y="0"/>
                      <a:pt x="274" y="0"/>
                    </a:cubicBezTo>
                    <a:cubicBezTo>
                      <a:pt x="236" y="0"/>
                      <a:pt x="236" y="0"/>
                      <a:pt x="236" y="0"/>
                    </a:cubicBezTo>
                    <a:cubicBezTo>
                      <a:pt x="228" y="0"/>
                      <a:pt x="228" y="0"/>
                      <a:pt x="228" y="0"/>
                    </a:cubicBezTo>
                    <a:cubicBezTo>
                      <a:pt x="190" y="0"/>
                      <a:pt x="190" y="0"/>
                      <a:pt x="190" y="0"/>
                    </a:cubicBezTo>
                    <a:cubicBezTo>
                      <a:pt x="190" y="0"/>
                      <a:pt x="190" y="0"/>
                      <a:pt x="190" y="0"/>
                    </a:cubicBezTo>
                    <a:cubicBezTo>
                      <a:pt x="168" y="0"/>
                      <a:pt x="150" y="18"/>
                      <a:pt x="150" y="40"/>
                    </a:cubicBezTo>
                    <a:cubicBezTo>
                      <a:pt x="150" y="99"/>
                      <a:pt x="150" y="99"/>
                      <a:pt x="150" y="99"/>
                    </a:cubicBezTo>
                    <a:cubicBezTo>
                      <a:pt x="150" y="111"/>
                      <a:pt x="155" y="122"/>
                      <a:pt x="164" y="129"/>
                    </a:cubicBezTo>
                    <a:cubicBezTo>
                      <a:pt x="164" y="419"/>
                      <a:pt x="164" y="419"/>
                      <a:pt x="164" y="419"/>
                    </a:cubicBezTo>
                    <a:cubicBezTo>
                      <a:pt x="164" y="419"/>
                      <a:pt x="166" y="494"/>
                      <a:pt x="47" y="628"/>
                    </a:cubicBezTo>
                    <a:cubicBezTo>
                      <a:pt x="47" y="628"/>
                      <a:pt x="0" y="668"/>
                      <a:pt x="5" y="812"/>
                    </a:cubicBezTo>
                    <a:cubicBezTo>
                      <a:pt x="4" y="815"/>
                      <a:pt x="4" y="818"/>
                      <a:pt x="4" y="820"/>
                    </a:cubicBezTo>
                    <a:cubicBezTo>
                      <a:pt x="4" y="1832"/>
                      <a:pt x="4" y="1832"/>
                      <a:pt x="4" y="1832"/>
                    </a:cubicBezTo>
                    <a:cubicBezTo>
                      <a:pt x="4" y="1854"/>
                      <a:pt x="22" y="1872"/>
                      <a:pt x="44" y="1872"/>
                    </a:cubicBezTo>
                    <a:cubicBezTo>
                      <a:pt x="228" y="1872"/>
                      <a:pt x="228" y="1872"/>
                      <a:pt x="228" y="1872"/>
                    </a:cubicBezTo>
                    <a:cubicBezTo>
                      <a:pt x="236" y="1872"/>
                      <a:pt x="236" y="1872"/>
                      <a:pt x="236" y="1872"/>
                    </a:cubicBezTo>
                    <a:cubicBezTo>
                      <a:pt x="420" y="1872"/>
                      <a:pt x="420" y="1872"/>
                      <a:pt x="420" y="1872"/>
                    </a:cubicBezTo>
                    <a:cubicBezTo>
                      <a:pt x="442" y="1872"/>
                      <a:pt x="460" y="1854"/>
                      <a:pt x="460" y="1832"/>
                    </a:cubicBezTo>
                    <a:cubicBezTo>
                      <a:pt x="460" y="820"/>
                      <a:pt x="460" y="820"/>
                      <a:pt x="460" y="820"/>
                    </a:cubicBezTo>
                    <a:cubicBezTo>
                      <a:pt x="460" y="818"/>
                      <a:pt x="459" y="815"/>
                      <a:pt x="459" y="8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51c05"/>
                  </a:gs>
                  <a:gs pos="100000">
                    <a:srgbClr val="422b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f5f3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2400" y="836280"/>
            <a:ext cx="88992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122400" y="6418440"/>
            <a:ext cx="21333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2454120" y="6418440"/>
            <a:ext cx="42357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888240" y="6418440"/>
            <a:ext cx="21333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c05"/>
                </a:solidFill>
                <a:latin typeface="Arial Narrow"/>
              </a:rPr>
              <a:t>Insert Presentation Title</a:t>
            </a:r>
            <a:endParaRPr b="0" lang="en-US" sz="32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29275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 Narrow"/>
              </a:rPr>
              <a:t>Insert Presenter’s Name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 Narrow"/>
              </a:rPr>
              <a:t>Insert Presenter’s Title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3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"/>
          <p:cNvSpPr/>
          <p:nvPr/>
        </p:nvSpPr>
        <p:spPr>
          <a:xfrm>
            <a:off x="1776240" y="836640"/>
            <a:ext cx="52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农园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8113-C712-49C5-B222-132E7CF01D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22400" y="836280"/>
            <a:ext cx="88992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grpSp>
        <p:nvGrpSpPr>
          <p:cNvPr id="146" name="组合 6146"/>
          <p:cNvGrpSpPr/>
          <p:nvPr/>
        </p:nvGrpSpPr>
        <p:grpSpPr>
          <a:xfrm>
            <a:off x="-87480" y="103320"/>
            <a:ext cx="8608680" cy="676080"/>
            <a:chOff x="-87480" y="103320"/>
            <a:chExt cx="8608680" cy="676080"/>
          </a:xfrm>
        </p:grpSpPr>
        <p:pic>
          <p:nvPicPr>
            <p:cNvPr id="147" name="图片 6147" descr="bar shadow"/>
            <p:cNvPicPr/>
            <p:nvPr/>
          </p:nvPicPr>
          <p:blipFill>
            <a:blip r:embed="rId1">
              <a:lum bright="36000"/>
            </a:blip>
            <a:srcRect l="6297" t="0" r="0" b="0"/>
            <a:stretch/>
          </p:blipFill>
          <p:spPr>
            <a:xfrm>
              <a:off x="1080" y="103320"/>
              <a:ext cx="852012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圆角矩形 6148"/>
            <p:cNvSpPr/>
            <p:nvPr/>
          </p:nvSpPr>
          <p:spPr>
            <a:xfrm>
              <a:off x="-87480" y="112320"/>
              <a:ext cx="8534520" cy="576000"/>
            </a:xfrm>
            <a:prstGeom prst="roundRect">
              <a:avLst>
                <a:gd name="adj" fmla="val 12120"/>
              </a:avLst>
            </a:prstGeom>
            <a:gradFill rotWithShape="0">
              <a:gsLst>
                <a:gs pos="0">
                  <a:srgbClr val="351c05"/>
                </a:gs>
                <a:gs pos="100000">
                  <a:srgbClr val="190d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圆角矩形 6149"/>
            <p:cNvSpPr/>
            <p:nvPr/>
          </p:nvSpPr>
          <p:spPr>
            <a:xfrm>
              <a:off x="-65160" y="126720"/>
              <a:ext cx="8496360" cy="28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5f5f3">
                    <a:alpha val="22352"/>
                  </a:srgbClr>
                </a:gs>
                <a:gs pos="100000">
                  <a:srgbClr val="71717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圆角矩形 6150"/>
            <p:cNvSpPr/>
            <p:nvPr/>
          </p:nvSpPr>
          <p:spPr>
            <a:xfrm rot="5400000">
              <a:off x="8010720" y="251280"/>
              <a:ext cx="545760" cy="286920"/>
            </a:xfrm>
            <a:prstGeom prst="roundRect">
              <a:avLst>
                <a:gd name="adj" fmla="val 16829"/>
              </a:avLst>
            </a:prstGeom>
            <a:gradFill rotWithShape="0">
              <a:gsLst>
                <a:gs pos="0">
                  <a:srgbClr val="f5f5f3">
                    <a:alpha val="16078"/>
                  </a:srgbClr>
                </a:gs>
                <a:gs pos="100000">
                  <a:srgbClr val="71717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f5f3"/>
                </a:solidFill>
                <a:latin typeface="Arial"/>
              </a:rPr>
              <a:t>Insert Title Text</a:t>
            </a: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52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4b534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15:19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04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