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B63-FBB7-4C54-995A-DFF23DE7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08B-B6CE-4E59-803F-5CBC1084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471-A987-4111-BA8D-E8741091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50A-465C-4473-97CC-1D993450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CEB5-B85A-4C4E-BE7A-F9F6F92E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6C5D-7DF0-4B55-BDC5-0B57AB3C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06A8-1520-4C52-95E6-28D40FB1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AC9F-BBFC-47B0-A01A-B6E4EAFE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0095-9F5B-4347-8829-03A640C6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C3FC-7547-4591-9632-FB905FE8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0D42-5BEB-4373-9E59-8908B4DA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D28-E437-44CF-AA4C-1763B3AF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9839-0CA9-4BAF-AE0F-0FCC5519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0BD1-B594-4713-9F25-FAE3DD66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9E5B-39DC-47C1-92D2-07E1D725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FBAC-1BAE-4BC2-A21E-C2F161A9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64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77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64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77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09F7-E131-4D23-B443-B8E4F42D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2967-D09D-4606-865F-0BB9D199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579D1-D103-4878-ACCD-50A78330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49D9-6078-45C9-9CE2-9C67EC3A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F292-42C6-4652-A84C-D407351D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4876-2CD3-4A2A-A774-6218DB39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39A-CF79-49EB-A517-617130AD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4588-E136-48BC-B6E6-89E01D3C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B512-5931-4F94-96F7-8B6EBE43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27E1-53BC-4F70-B0F4-6E844659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4C1B-8E15-49F6-83D9-0F429277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0133-0FC9-43CE-8778-33357AA1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69E0-1F96-47AE-A0AB-487261A1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64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77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64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77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1490F-78F5-4FF4-B8D9-3903ED97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8D2-60F8-41DE-A653-76E5B40F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12F-55CC-4469-A874-1CAA9479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D0F-0905-4792-9372-E9ACAF8C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F94-31FA-402B-9D57-9C40D47B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AD6-5AC5-4093-8282-4F9299DD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54D-BC59-4139-BF6C-B0D166A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F265-BC22-4880-BEB8-35133C1FF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31EF-BBEA-479C-A289-9C46D3556D5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AD7D-8783-4782-A348-171AF59CE0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4550-E88B-4A80-9AC1-3275A9AF3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051"/>
          <p:cNvSpPr/>
          <p:nvPr/>
        </p:nvSpPr>
        <p:spPr>
          <a:xfrm>
            <a:off x="0" y="1905120"/>
            <a:ext cx="91440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矩形 2052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solidFill>
            <a:srgbClr val="cab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800" y="1268280"/>
            <a:ext cx="875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Heavy"/>
              </a:rPr>
              <a:t>能源基础设施企业</a:t>
            </a:r>
            <a:r>
              <a:rPr b="0" lang="en-US" sz="4000" spc="-1" strike="noStrike">
                <a:solidFill>
                  <a:srgbClr val="ffffff"/>
                </a:solidFill>
                <a:latin typeface="Franklin Gothic Heavy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Franklin Gothic Heavy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Franklin Gothic Heavy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072" descr="Z:\newtek\_backgrounds_1.02\Tim\_powerpoint templates\infrastructure of power\generator.jpg"/>
          <p:cNvPicPr/>
          <p:nvPr/>
        </p:nvPicPr>
        <p:blipFill>
          <a:blip r:embed="rId1"/>
          <a:stretch/>
        </p:blipFill>
        <p:spPr>
          <a:xfrm>
            <a:off x="758196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073" descr="Z:\newtek\_backgrounds_1.02\Tim\_powerpoint templates\infrastructure of power\lines.jpg"/>
          <p:cNvPicPr/>
          <p:nvPr/>
        </p:nvPicPr>
        <p:blipFill>
          <a:blip r:embed="rId2"/>
          <a:stretch/>
        </p:blipFill>
        <p:spPr>
          <a:xfrm>
            <a:off x="624852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074" descr="Z:\newtek\_backgrounds_1.02\Tim\_powerpoint templates\infrastructure of power\meter.jpg"/>
          <p:cNvPicPr/>
          <p:nvPr/>
        </p:nvPicPr>
        <p:blipFill>
          <a:blip r:embed="rId3"/>
          <a:stretch/>
        </p:blipFill>
        <p:spPr>
          <a:xfrm>
            <a:off x="487692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075" descr="Z:\newtek\_backgrounds_1.02\Tim\_powerpoint templates\infrastructure of power\nukes.jpg"/>
          <p:cNvPicPr/>
          <p:nvPr/>
        </p:nvPicPr>
        <p:blipFill>
          <a:blip r:embed="rId4"/>
          <a:stretch/>
        </p:blipFill>
        <p:spPr>
          <a:xfrm>
            <a:off x="342900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076" descr="Z:\newtek\_backgrounds_1.02\Tim\_powerpoint templates\infrastructure of power\stacks.jpg"/>
          <p:cNvPicPr/>
          <p:nvPr/>
        </p:nvPicPr>
        <p:blipFill>
          <a:blip r:embed="rId5"/>
          <a:stretch/>
        </p:blipFill>
        <p:spPr>
          <a:xfrm>
            <a:off x="1981080" y="2590920"/>
            <a:ext cx="1105200" cy="11048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077" descr="Z:\newtek\_backgrounds_1.02\Tim\_powerpoint templates\infrastructure of power\towers.jpg"/>
          <p:cNvPicPr/>
          <p:nvPr/>
        </p:nvPicPr>
        <p:blipFill>
          <a:blip r:embed="rId6"/>
          <a:stretch/>
        </p:blipFill>
        <p:spPr>
          <a:xfrm>
            <a:off x="609480" y="2590920"/>
            <a:ext cx="1105200" cy="110484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099"/>
          <p:cNvSpPr/>
          <p:nvPr/>
        </p:nvSpPr>
        <p:spPr>
          <a:xfrm>
            <a:off x="0" y="45720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4100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cab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4112" descr="Z:\newtek\_backgrounds_1.02\Tim\_powerpoint templates\infrastructure of power\generator.jpg"/>
          <p:cNvPicPr/>
          <p:nvPr/>
        </p:nvPicPr>
        <p:blipFill>
          <a:blip r:embed="rId1"/>
          <a:stretch/>
        </p:blipFill>
        <p:spPr>
          <a:xfrm>
            <a:off x="4610160" y="6095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113" descr="Z:\newtek\_backgrounds_1.02\Tim\_powerpoint templates\infrastructure of power\lines.jpg"/>
          <p:cNvPicPr/>
          <p:nvPr/>
        </p:nvPicPr>
        <p:blipFill>
          <a:blip r:embed="rId2"/>
          <a:stretch/>
        </p:blipFill>
        <p:spPr>
          <a:xfrm>
            <a:off x="3772080" y="6095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114" descr="Z:\newtek\_backgrounds_1.02\Tim\_powerpoint templates\infrastructure of power\meter.jpg"/>
          <p:cNvPicPr/>
          <p:nvPr/>
        </p:nvPicPr>
        <p:blipFill>
          <a:blip r:embed="rId3"/>
          <a:stretch/>
        </p:blipFill>
        <p:spPr>
          <a:xfrm>
            <a:off x="2857680" y="6095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4115" descr="Z:\newtek\_backgrounds_1.02\Tim\_powerpoint templates\infrastructure of power\nukes.jpg"/>
          <p:cNvPicPr/>
          <p:nvPr/>
        </p:nvPicPr>
        <p:blipFill>
          <a:blip r:embed="rId4"/>
          <a:stretch/>
        </p:blipFill>
        <p:spPr>
          <a:xfrm>
            <a:off x="2019240" y="6095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116" descr="Z:\newtek\_backgrounds_1.02\Tim\_powerpoint templates\infrastructure of power\stacks.jpg"/>
          <p:cNvPicPr/>
          <p:nvPr/>
        </p:nvPicPr>
        <p:blipFill>
          <a:blip r:embed="rId5"/>
          <a:stretch/>
        </p:blipFill>
        <p:spPr>
          <a:xfrm>
            <a:off x="1104840" y="6095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4117" descr="Z:\newtek\_backgrounds_1.02\Tim\_powerpoint templates\infrastructure of power\towers.jpg"/>
          <p:cNvPicPr/>
          <p:nvPr/>
        </p:nvPicPr>
        <p:blipFill>
          <a:blip r:embed="rId6"/>
          <a:stretch/>
        </p:blipFill>
        <p:spPr>
          <a:xfrm>
            <a:off x="190440" y="609588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Heavy"/>
              </a:rPr>
              <a:t>Transitional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0" y="1767600"/>
            <a:ext cx="91440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46" name="图片 5136" descr="Z:\newtek\_backgrounds_1.02\Tim\_powerpoint templates\infrastructure of power\generator.jpg"/>
          <p:cNvPicPr/>
          <p:nvPr/>
        </p:nvPicPr>
        <p:blipFill>
          <a:blip r:embed="rId2"/>
          <a:stretch/>
        </p:blipFill>
        <p:spPr>
          <a:xfrm>
            <a:off x="758196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137" descr="Z:\newtek\_backgrounds_1.02\Tim\_powerpoint templates\infrastructure of power\lines.jpg"/>
          <p:cNvPicPr/>
          <p:nvPr/>
        </p:nvPicPr>
        <p:blipFill>
          <a:blip r:embed="rId3"/>
          <a:stretch/>
        </p:blipFill>
        <p:spPr>
          <a:xfrm>
            <a:off x="624852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138" descr="Z:\newtek\_backgrounds_1.02\Tim\_powerpoint templates\infrastructure of power\meter.jpg"/>
          <p:cNvPicPr/>
          <p:nvPr/>
        </p:nvPicPr>
        <p:blipFill>
          <a:blip r:embed="rId4"/>
          <a:stretch/>
        </p:blipFill>
        <p:spPr>
          <a:xfrm>
            <a:off x="487692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5139" descr="Z:\newtek\_backgrounds_1.02\Tim\_powerpoint templates\infrastructure of power\nukes.jpg"/>
          <p:cNvPicPr/>
          <p:nvPr/>
        </p:nvPicPr>
        <p:blipFill>
          <a:blip r:embed="rId5"/>
          <a:stretch/>
        </p:blipFill>
        <p:spPr>
          <a:xfrm>
            <a:off x="342900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140" descr="Z:\newtek\_backgrounds_1.02\Tim\_powerpoint templates\infrastructure of power\stacks.jpg"/>
          <p:cNvPicPr/>
          <p:nvPr/>
        </p:nvPicPr>
        <p:blipFill>
          <a:blip r:embed="rId6"/>
          <a:stretch/>
        </p:blipFill>
        <p:spPr>
          <a:xfrm>
            <a:off x="1981080" y="2590920"/>
            <a:ext cx="1105200" cy="11048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5141" descr="Z:\newtek\_backgrounds_1.02\Tim\_powerpoint templates\infrastructure of power\towers.jpg"/>
          <p:cNvPicPr/>
          <p:nvPr/>
        </p:nvPicPr>
        <p:blipFill>
          <a:blip r:embed="rId7"/>
          <a:stretch/>
        </p:blipFill>
        <p:spPr>
          <a:xfrm>
            <a:off x="609480" y="2590920"/>
            <a:ext cx="1105200" cy="110484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8199"/>
          <p:cNvSpPr/>
          <p:nvPr/>
        </p:nvSpPr>
        <p:spPr>
          <a:xfrm>
            <a:off x="971640" y="63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6147"/>
          <p:cNvSpPr/>
          <p:nvPr/>
        </p:nvSpPr>
        <p:spPr>
          <a:xfrm>
            <a:off x="0" y="45720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矩形 614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cab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6160" descr="Z:\newtek\_backgrounds_1.02\Tim\_powerpoint templates\infrastructure of power\generator.jpg"/>
          <p:cNvPicPr/>
          <p:nvPr/>
        </p:nvPicPr>
        <p:blipFill>
          <a:blip r:embed="rId2"/>
          <a:stretch/>
        </p:blipFill>
        <p:spPr>
          <a:xfrm>
            <a:off x="4610160" y="6095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6161" descr="Z:\newtek\_backgrounds_1.02\Tim\_powerpoint templates\infrastructure of power\lines.jpg"/>
          <p:cNvPicPr/>
          <p:nvPr/>
        </p:nvPicPr>
        <p:blipFill>
          <a:blip r:embed="rId3"/>
          <a:stretch/>
        </p:blipFill>
        <p:spPr>
          <a:xfrm>
            <a:off x="3772080" y="6095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6162" descr="Z:\newtek\_backgrounds_1.02\Tim\_powerpoint templates\infrastructure of power\meter.jpg"/>
          <p:cNvPicPr/>
          <p:nvPr/>
        </p:nvPicPr>
        <p:blipFill>
          <a:blip r:embed="rId4"/>
          <a:stretch/>
        </p:blipFill>
        <p:spPr>
          <a:xfrm>
            <a:off x="2857680" y="6095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6163" descr="Z:\newtek\_backgrounds_1.02\Tim\_powerpoint templates\infrastructure of power\nukes.jpg"/>
          <p:cNvPicPr/>
          <p:nvPr/>
        </p:nvPicPr>
        <p:blipFill>
          <a:blip r:embed="rId5"/>
          <a:stretch/>
        </p:blipFill>
        <p:spPr>
          <a:xfrm>
            <a:off x="2019240" y="6095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6164" descr="Z:\newtek\_backgrounds_1.02\Tim\_powerpoint templates\infrastructure of power\stacks.jpg"/>
          <p:cNvPicPr/>
          <p:nvPr/>
        </p:nvPicPr>
        <p:blipFill>
          <a:blip r:embed="rId6"/>
          <a:stretch/>
        </p:blipFill>
        <p:spPr>
          <a:xfrm>
            <a:off x="1104840" y="6095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6165" descr="Z:\newtek\_backgrounds_1.02\Tim\_powerpoint templates\infrastructure of power\towers.jpg"/>
          <p:cNvPicPr/>
          <p:nvPr/>
        </p:nvPicPr>
        <p:blipFill>
          <a:blip r:embed="rId7"/>
          <a:stretch/>
        </p:blipFill>
        <p:spPr>
          <a:xfrm>
            <a:off x="190440" y="609588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2A0D-64B9-4F83-86F1-5D4D714366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Heavy"/>
              </a:rPr>
              <a:t>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图片 7194" descr="Z:\newtek\_backgrounds_1.02\Tim\_powerpoint templates\infrastructure of power\iop_cover.jpg"/>
          <p:cNvPicPr/>
          <p:nvPr/>
        </p:nvPicPr>
        <p:blipFill>
          <a:blip r:embed="rId1"/>
          <a:stretch/>
        </p:blipFill>
        <p:spPr>
          <a:xfrm>
            <a:off x="838080" y="2971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195" descr="Z:\newtek\_backgrounds_1.02\Tim\_powerpoint templates\infrastructure of power\iop_printslide.jpg"/>
          <p:cNvPicPr/>
          <p:nvPr/>
        </p:nvPicPr>
        <p:blipFill>
          <a:blip r:embed="rId2"/>
          <a:stretch/>
        </p:blipFill>
        <p:spPr>
          <a:xfrm>
            <a:off x="5715000" y="2971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7196" descr="Z:\newtek\_backgrounds_1.02\Tim\_powerpoint templates\infrastructure of power\iop_slide.jpg"/>
          <p:cNvPicPr/>
          <p:nvPr/>
        </p:nvPicPr>
        <p:blipFill>
          <a:blip r:embed="rId3"/>
          <a:stretch/>
        </p:blipFill>
        <p:spPr>
          <a:xfrm>
            <a:off x="3276720" y="2971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7197" descr="Z:\newtek\_backgrounds_1.02\Tim\_powerpoint templates\infrastructure of power\generator.jpg"/>
          <p:cNvPicPr/>
          <p:nvPr/>
        </p:nvPicPr>
        <p:blipFill>
          <a:blip r:embed="rId4"/>
          <a:stretch/>
        </p:blipFill>
        <p:spPr>
          <a:xfrm>
            <a:off x="7543800" y="5335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198" descr="Z:\newtek\_backgrounds_1.02\Tim\_powerpoint templates\infrastructure of power\lines.jpg"/>
          <p:cNvPicPr/>
          <p:nvPr/>
        </p:nvPicPr>
        <p:blipFill>
          <a:blip r:embed="rId5"/>
          <a:stretch/>
        </p:blipFill>
        <p:spPr>
          <a:xfrm>
            <a:off x="6210360" y="5335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7199" descr="Z:\newtek\_backgrounds_1.02\Tim\_powerpoint templates\infrastructure of power\meter.jpg"/>
          <p:cNvPicPr/>
          <p:nvPr/>
        </p:nvPicPr>
        <p:blipFill>
          <a:blip r:embed="rId6"/>
          <a:stretch/>
        </p:blipFill>
        <p:spPr>
          <a:xfrm>
            <a:off x="4838760" y="5335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7200" descr="Z:\newtek\_backgrounds_1.02\Tim\_powerpoint templates\infrastructure of power\nukes.jpg"/>
          <p:cNvPicPr/>
          <p:nvPr/>
        </p:nvPicPr>
        <p:blipFill>
          <a:blip r:embed="rId7"/>
          <a:stretch/>
        </p:blipFill>
        <p:spPr>
          <a:xfrm>
            <a:off x="3390840" y="5335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201" descr="Z:\newtek\_backgrounds_1.02\Tim\_powerpoint templates\infrastructure of power\stacks.jpg"/>
          <p:cNvPicPr/>
          <p:nvPr/>
        </p:nvPicPr>
        <p:blipFill>
          <a:blip r:embed="rId8"/>
          <a:stretch/>
        </p:blipFill>
        <p:spPr>
          <a:xfrm>
            <a:off x="1943280" y="5335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7202" descr="Z:\newtek\_backgrounds_1.02\Tim\_powerpoint templates\infrastructure of power\towers.jpg"/>
          <p:cNvPicPr/>
          <p:nvPr/>
        </p:nvPicPr>
        <p:blipFill>
          <a:blip r:embed="rId9"/>
          <a:stretch/>
        </p:blipFill>
        <p:spPr>
          <a:xfrm>
            <a:off x="571680" y="5335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21:24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09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