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7F9-968F-4AEE-94E8-D646A99A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501-61A5-48D8-B22A-12EB77FD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CFB-792C-4F06-B311-121D92A9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20CD-00E9-4F02-8EE2-6D47CB60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DB52-4769-414F-9714-1E576AD6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6E9B-421A-482F-ABD2-38C04FF0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B155-F4E9-45AE-9CF6-694EF16B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FDDA-4B4D-4626-863A-5FD976E9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43D6-C722-487E-9C8D-C383B11A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EA77-0425-4EC4-918F-6B6634BD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DF8B-F5C1-47E1-A60E-C4BE1AEF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C6F-A78C-48B9-BAA1-03FDA350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9626-373B-4CC6-A8A8-E2290D89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7B6C-649D-4C6E-A0A7-1E8A9B92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72E8-A431-410F-8B72-64A0554E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1319-4182-4155-AD83-A4362940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B070-5FE1-43E8-97AF-CC0E5CE6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ABFCA-B889-4FE4-A181-9CE0020D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1AF72-E64C-4FFC-887C-1EA09C64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8B611-C415-4751-8AA6-7CE7F078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5F970-6EEF-4DD8-BC4B-7682C47E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09882-FD3E-48F6-A14B-52395331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331-3CDB-4BA6-9881-76D268F5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82658-6F7C-4596-9661-853F550D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DFF9-0654-4405-910B-C616D9A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CE5E4-FF87-42E8-B5BA-749AAB63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95177-5CB3-4CBB-AD8C-E9DE7F06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4C3A-F7D6-4F5A-B1CA-2C34BFE6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0C002-A6BC-40CF-965F-CF4A3466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33C8-CCC9-4222-907D-F58A764F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79D-EFF7-4788-9C3B-C91008B5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523-237F-498E-A118-D9CA325D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4C7-808B-4535-B9E7-9CD4D08B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4F2-8E28-44B3-A632-552EEB2B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BCD-2F4F-4F19-8C5D-2CAC2020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C2F-1B1A-4BD2-A1DD-1FDEA8E8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52D0-0F56-4942-9865-394BD7DA6F68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A2D1-5B03-4AC4-B80C-0118DC49B477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E4CA-202F-4784-9F79-0695F0DC5B4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3111-F236-4478-9F63-C603CC2071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cover_wave"/>
          <p:cNvPicPr/>
          <p:nvPr/>
        </p:nvPicPr>
        <p:blipFill>
          <a:blip r:embed="rId2"/>
          <a:stretch/>
        </p:blipFill>
        <p:spPr>
          <a:xfrm>
            <a:off x="0" y="0"/>
            <a:ext cx="9145440" cy="5572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570A-0904-423C-87EC-ED1C34AF1BA6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CE6C-8D33-4628-AED9-F2275B7DEC68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</a:rPr>
              <a:t>年终工作汇报幻灯片下载</a:t>
            </a:r>
            <a:r>
              <a:rPr b="1" lang="en-US" sz="4800" spc="-1" strike="noStrike">
                <a:solidFill>
                  <a:srgbClr val="f2f2f2"/>
                </a:solidFill>
                <a:latin typeface="微软雅黑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714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98989"/>
                </a:solidFill>
                <a:latin typeface="微软雅黑"/>
              </a:rPr>
              <a:t>汇报人：</a:t>
            </a:r>
            <a:r>
              <a:rPr b="0" lang="en-US" sz="2800" spc="-1" strike="noStrike">
                <a:solidFill>
                  <a:srgbClr val="898989"/>
                </a:solidFill>
                <a:latin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微软雅黑"/>
              </a:rPr>
              <a:t>2011-12-30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a1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d0a1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6"/>
          <p:cNvGrpSpPr/>
          <p:nvPr/>
        </p:nvGrpSpPr>
        <p:grpSpPr>
          <a:xfrm>
            <a:off x="0" y="0"/>
            <a:ext cx="9144000" cy="6929280"/>
            <a:chOff x="0" y="0"/>
            <a:chExt cx="9144000" cy="6929280"/>
          </a:xfrm>
        </p:grpSpPr>
        <p:pic>
          <p:nvPicPr>
            <p:cNvPr id="180" name="Picture 2" descr="E:\素材库\maps-world-map-02 拷贝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2" descr="E:\素材库\maps-world-map-02 拷贝.jpg"/>
            <p:cNvPicPr/>
            <p:nvPr/>
          </p:nvPicPr>
          <p:blipFill>
            <a:blip r:embed="rId2"/>
            <a:stretch/>
          </p:blipFill>
          <p:spPr>
            <a:xfrm>
              <a:off x="586080" y="2428920"/>
              <a:ext cx="7971840" cy="45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2.1  Enhance your website 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428480"/>
            <a:ext cx="82296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Use free online tracking tools to optimize your site 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Use free online tracking tools to optimize your site 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84" name="Picture 2" descr="E:\素材库\pin.png"/>
          <p:cNvPicPr/>
          <p:nvPr/>
        </p:nvPicPr>
        <p:blipFill>
          <a:blip r:embed="rId3"/>
          <a:stretch/>
        </p:blipFill>
        <p:spPr>
          <a:xfrm>
            <a:off x="5357880" y="4572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E:\素材库\pin.png"/>
          <p:cNvPicPr/>
          <p:nvPr/>
        </p:nvPicPr>
        <p:blipFill>
          <a:blip r:embed="rId4"/>
          <a:stretch/>
        </p:blipFill>
        <p:spPr>
          <a:xfrm>
            <a:off x="5143680" y="46432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E:\素材库\pin.png"/>
          <p:cNvPicPr/>
          <p:nvPr/>
        </p:nvPicPr>
        <p:blipFill>
          <a:blip r:embed="rId5"/>
          <a:stretch/>
        </p:blipFill>
        <p:spPr>
          <a:xfrm>
            <a:off x="5214960" y="44290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剪影,手,掐,太阳"/>
          <p:cNvPicPr/>
          <p:nvPr/>
        </p:nvPicPr>
        <p:blipFill>
          <a:blip r:embed="rId1"/>
          <a:srcRect l="0" t="0" r="13215" b="3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4"/>
          <p:cNvSpPr/>
          <p:nvPr/>
        </p:nvSpPr>
        <p:spPr>
          <a:xfrm>
            <a:off x="1643040" y="4071960"/>
            <a:ext cx="7358040" cy="273348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2.1  Enhance your website 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0" name="矩形 6"/>
          <p:cNvSpPr/>
          <p:nvPr/>
        </p:nvSpPr>
        <p:spPr>
          <a:xfrm>
            <a:off x="1857240" y="4195800"/>
            <a:ext cx="7072560" cy="251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se free online tracking tools to optimize your site Use free online tracking tools to optimize your s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5"/>
          <p:cNvSpPr/>
          <p:nvPr/>
        </p:nvSpPr>
        <p:spPr>
          <a:xfrm rot="16200000">
            <a:off x="8298720" y="3370680"/>
            <a:ext cx="144360" cy="126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矩形 6"/>
          <p:cNvSpPr/>
          <p:nvPr/>
        </p:nvSpPr>
        <p:spPr>
          <a:xfrm>
            <a:off x="1357200" y="4071960"/>
            <a:ext cx="7786800" cy="2214720"/>
          </a:xfrm>
          <a:prstGeom prst="rect">
            <a:avLst/>
          </a:prstGeom>
          <a:solidFill>
            <a:srgbClr val="948a5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.1  Enhance your website 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500120" y="4285800"/>
            <a:ext cx="75009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Use free online tracking tools to optimize your site Use free online tracking tools to optimize your site 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矩形 5"/>
          <p:cNvSpPr/>
          <p:nvPr/>
        </p:nvSpPr>
        <p:spPr>
          <a:xfrm rot="16200000">
            <a:off x="8441640" y="3370680"/>
            <a:ext cx="144360" cy="126036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FF44-5A1E-45FD-B2E7-81FD1A01C6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4"/>
          <p:cNvSpPr/>
          <p:nvPr/>
        </p:nvSpPr>
        <p:spPr>
          <a:xfrm>
            <a:off x="0" y="0"/>
            <a:ext cx="9144000" cy="3714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1581840" y="1830240"/>
            <a:ext cx="32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谢谢</a:t>
            </a:r>
            <a:r>
              <a:rPr b="1" lang="zh-CN" sz="8000" spc="-1" strike="noStrike">
                <a:solidFill>
                  <a:srgbClr val="00b0f0"/>
                </a:solidFill>
                <a:latin typeface="微软雅黑"/>
                <a:ea typeface="微软雅黑"/>
              </a:rPr>
              <a:t>聆听</a:t>
            </a:r>
            <a:r>
              <a:rPr b="1" lang="zh-CN" sz="8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0" y="3714840"/>
            <a:ext cx="9144000" cy="31431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3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98E0-27CD-4D7C-875F-96CB6CBAD8D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单圆角矩形 3"/>
          <p:cNvSpPr/>
          <p:nvPr/>
        </p:nvSpPr>
        <p:spPr>
          <a:xfrm flipV="1">
            <a:off x="4610160" y="226800"/>
            <a:ext cx="4357800" cy="6416640"/>
          </a:xfrm>
          <a:custGeom>
            <a:avLst/>
            <a:gdLst/>
            <a:ahLst/>
            <a:rect l="l" t="t" r="r" b="b"/>
            <a:pathLst>
              <a:path w="4357687" h="6416675">
                <a:moveTo>
                  <a:pt x="0" y="0"/>
                </a:moveTo>
                <a:lnTo>
                  <a:pt x="3934861" y="0"/>
                </a:lnTo>
                <a:cubicBezTo>
                  <a:pt x="4168381" y="0"/>
                  <a:pt x="4357687" y="189306"/>
                  <a:pt x="4357687" y="422826"/>
                </a:cubicBezTo>
                <a:lnTo>
                  <a:pt x="4357687" y="6416675"/>
                </a:lnTo>
                <a:lnTo>
                  <a:pt x="0" y="6416675"/>
                </a:lnTo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单圆角矩形 4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4697280" y="2733840"/>
            <a:ext cx="430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一、</a:t>
            </a:r>
            <a:r>
              <a:rPr b="1" lang="en-US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11</a:t>
            </a: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工作总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4697280" y="3848040"/>
            <a:ext cx="430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二、</a:t>
            </a:r>
            <a:r>
              <a:rPr b="1" lang="en-US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12</a:t>
            </a: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工作思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www.blake.co.za/wp-content/uploads/2011/11/economic-growth.jpg"/>
          <p:cNvPicPr/>
          <p:nvPr/>
        </p:nvPicPr>
        <p:blipFill>
          <a:blip r:embed="rId1"/>
          <a:stretch/>
        </p:blipFill>
        <p:spPr>
          <a:xfrm>
            <a:off x="4286160" y="2500200"/>
            <a:ext cx="48578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6840" y="1599840"/>
            <a:ext cx="8472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201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年，业绩有了较大提升。 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销售收入从去年的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，增长到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， 增长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XX%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微软雅黑"/>
              </a:rPr>
              <a:t>1.1  </a:t>
            </a:r>
            <a:r>
              <a:rPr b="1" lang="zh-CN" sz="3800" spc="-1" strike="noStrike">
                <a:solidFill>
                  <a:srgbClr val="000000"/>
                </a:solidFill>
                <a:latin typeface="微软雅黑"/>
              </a:rPr>
              <a:t>跨上</a:t>
            </a:r>
            <a:r>
              <a:rPr b="1" lang="en-US" sz="3800" spc="-1" strike="noStrike">
                <a:solidFill>
                  <a:srgbClr val="000000"/>
                </a:solidFill>
                <a:latin typeface="微软雅黑"/>
              </a:rPr>
              <a:t>XX</a:t>
            </a:r>
            <a:r>
              <a:rPr b="1" lang="zh-CN" sz="3800" spc="-1" strike="noStrike">
                <a:solidFill>
                  <a:srgbClr val="000000"/>
                </a:solidFill>
                <a:latin typeface="微软雅黑"/>
              </a:rPr>
              <a:t>新台阶</a:t>
            </a:r>
            <a:r>
              <a:rPr b="1" lang="en-US" sz="3800" spc="-1" strike="noStrike">
                <a:solidFill>
                  <a:srgbClr val="000000"/>
                </a:solidFill>
                <a:latin typeface="微软雅黑"/>
              </a:rPr>
              <a:t>    </a:t>
            </a: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36" name="TextBox 29" descr=""/>
          <p:cNvPicPr/>
          <p:nvPr/>
        </p:nvPicPr>
        <p:blipFill>
          <a:blip r:embed="rId2"/>
          <a:stretch/>
        </p:blipFill>
        <p:spPr>
          <a:xfrm>
            <a:off x="5813280" y="3668760"/>
            <a:ext cx="1305000" cy="103824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太阳天空现代建筑"/>
          <p:cNvPicPr/>
          <p:nvPr/>
        </p:nvPicPr>
        <p:blipFill>
          <a:blip r:embed="rId1"/>
          <a:srcRect l="0" t="0" r="1107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微软雅黑"/>
              </a:rPr>
              <a:t>1.2  Enhance your website </a:t>
            </a: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2643120" y="3071880"/>
            <a:ext cx="6500880" cy="3000240"/>
          </a:xfrm>
          <a:prstGeom prst="rect">
            <a:avLst/>
          </a:prstGeom>
          <a:solidFill>
            <a:srgbClr val="93cddd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2857680" y="3214800"/>
            <a:ext cx="621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Use free online tracking tools to optimize your s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Use free online tracking tools to optimize your s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3"/>
          <p:cNvSpPr/>
          <p:nvPr/>
        </p:nvSpPr>
        <p:spPr>
          <a:xfrm rot="16200000">
            <a:off x="8748000" y="2676960"/>
            <a:ext cx="144360" cy="647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7"/>
          <p:cNvSpPr/>
          <p:nvPr/>
        </p:nvSpPr>
        <p:spPr>
          <a:xfrm>
            <a:off x="3220200" y="542916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三联素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3lian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Technicians holding blueprints talking near large solar panels"/>
          <p:cNvPicPr/>
          <p:nvPr/>
        </p:nvPicPr>
        <p:blipFill>
          <a:blip r:embed="rId1"/>
          <a:srcRect l="0" t="0" r="1107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矩形 8"/>
          <p:cNvSpPr/>
          <p:nvPr/>
        </p:nvSpPr>
        <p:spPr>
          <a:xfrm>
            <a:off x="0" y="3929040"/>
            <a:ext cx="8643960" cy="192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微软雅黑"/>
              </a:rPr>
              <a:t>1.2  Enhance your website </a:t>
            </a: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0920" y="4214880"/>
            <a:ext cx="85014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Use free online tracking tools to optimize your site 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矩形 9"/>
          <p:cNvSpPr/>
          <p:nvPr/>
        </p:nvSpPr>
        <p:spPr>
          <a:xfrm rot="16200000">
            <a:off x="251640" y="3534120"/>
            <a:ext cx="144360" cy="647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特写,球体,箭头"/>
          <p:cNvPicPr/>
          <p:nvPr/>
        </p:nvPicPr>
        <p:blipFill>
          <a:blip r:embed="rId1"/>
          <a:srcRect l="12318" t="4392" r="265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对角圆角矩形 9"/>
          <p:cNvSpPr/>
          <p:nvPr/>
        </p:nvSpPr>
        <p:spPr>
          <a:xfrm>
            <a:off x="0" y="3786120"/>
            <a:ext cx="9144000" cy="2857680"/>
          </a:xfrm>
          <a:custGeom>
            <a:avLst/>
            <a:gdLst/>
            <a:ahLst/>
            <a:rect l="l" t="t" r="r" b="b"/>
            <a:pathLst>
              <a:path w="9144000" h="2857500">
                <a:moveTo>
                  <a:pt x="476259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2381240"/>
                </a:lnTo>
                <a:cubicBezTo>
                  <a:pt x="9144000" y="2644271"/>
                  <a:pt x="8930772" y="2857499"/>
                  <a:pt x="8667741" y="2857499"/>
                </a:cubicBezTo>
                <a:lnTo>
                  <a:pt x="0" y="2857500"/>
                </a:lnTo>
                <a:lnTo>
                  <a:pt x="0" y="2857500"/>
                </a:lnTo>
                <a:lnTo>
                  <a:pt x="0" y="476259"/>
                </a:lnTo>
                <a:cubicBezTo>
                  <a:pt x="0" y="213228"/>
                  <a:pt x="213228" y="0"/>
                  <a:pt x="476259" y="0"/>
                </a:cubicBezTo>
                <a:close/>
              </a:path>
            </a:pathLst>
          </a:cu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微软雅黑"/>
              </a:rPr>
              <a:t>1.2  Enhance your website </a:t>
            </a:r>
            <a:endParaRPr b="1" lang="en-US" sz="3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7120" y="4000320"/>
            <a:ext cx="87868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Use free online tracking tools to optimize your site 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Use free online tracking tools to optimize your site 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3" name="Picture 2" descr="C:\Documents and Settings\Administrator\桌面\1324869145_Gnome-Document-Send-48.png"/>
          <p:cNvPicPr/>
          <p:nvPr/>
        </p:nvPicPr>
        <p:blipFill>
          <a:blip r:embed="rId2"/>
          <a:stretch/>
        </p:blipFill>
        <p:spPr>
          <a:xfrm flipH="1" rot="20490600">
            <a:off x="7157520" y="33364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154" name="矩形 11"/>
          <p:cNvSpPr/>
          <p:nvPr/>
        </p:nvSpPr>
        <p:spPr>
          <a:xfrm rot="16200000">
            <a:off x="8441280" y="3085200"/>
            <a:ext cx="144720" cy="126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7"/>
          <p:cNvSpPr/>
          <p:nvPr/>
        </p:nvSpPr>
        <p:spPr>
          <a:xfrm>
            <a:off x="2817720" y="6488280"/>
            <a:ext cx="577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三联素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3lian.com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三联素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3lian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3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349A-B6BE-4285-8FED-95E2CCCBD2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单圆角矩形 3"/>
          <p:cNvSpPr/>
          <p:nvPr/>
        </p:nvSpPr>
        <p:spPr>
          <a:xfrm flipV="1">
            <a:off x="4610160" y="226800"/>
            <a:ext cx="4357800" cy="6416640"/>
          </a:xfrm>
          <a:custGeom>
            <a:avLst/>
            <a:gdLst/>
            <a:ahLst/>
            <a:rect l="l" t="t" r="r" b="b"/>
            <a:pathLst>
              <a:path w="4357687" h="6416675">
                <a:moveTo>
                  <a:pt x="0" y="0"/>
                </a:moveTo>
                <a:lnTo>
                  <a:pt x="3934861" y="0"/>
                </a:lnTo>
                <a:cubicBezTo>
                  <a:pt x="4168381" y="0"/>
                  <a:pt x="4357687" y="189306"/>
                  <a:pt x="4357687" y="422826"/>
                </a:cubicBezTo>
                <a:lnTo>
                  <a:pt x="4357687" y="6416675"/>
                </a:lnTo>
                <a:lnTo>
                  <a:pt x="0" y="6416675"/>
                </a:lnTo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单圆角矩形 4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5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4697280" y="2733840"/>
            <a:ext cx="430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一、</a:t>
            </a:r>
            <a:r>
              <a:rPr b="1" lang="en-US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11</a:t>
            </a: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工作总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4697280" y="3848040"/>
            <a:ext cx="430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二、</a:t>
            </a:r>
            <a:r>
              <a:rPr b="1" lang="en-US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12</a:t>
            </a: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工作思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椭圆 18" descr=""/>
          <p:cNvPicPr/>
          <p:nvPr/>
        </p:nvPicPr>
        <p:blipFill>
          <a:blip r:embed="rId1"/>
          <a:stretch/>
        </p:blipFill>
        <p:spPr>
          <a:xfrm>
            <a:off x="2303640" y="17640"/>
            <a:ext cx="6840360" cy="6840360"/>
          </a:xfrm>
          <a:prstGeom prst="rect">
            <a:avLst/>
          </a:prstGeom>
          <a:ln w="0">
            <a:noFill/>
          </a:ln>
        </p:spPr>
      </p:pic>
      <p:pic>
        <p:nvPicPr>
          <p:cNvPr id="163" name="椭圆 16" descr=""/>
          <p:cNvPicPr/>
          <p:nvPr/>
        </p:nvPicPr>
        <p:blipFill>
          <a:blip r:embed="rId2"/>
          <a:stretch/>
        </p:blipFill>
        <p:spPr>
          <a:xfrm>
            <a:off x="3946680" y="1214280"/>
            <a:ext cx="5040000" cy="5040360"/>
          </a:xfrm>
          <a:prstGeom prst="rect">
            <a:avLst/>
          </a:prstGeom>
          <a:ln w="0">
            <a:noFill/>
          </a:ln>
        </p:spPr>
      </p:pic>
      <p:pic>
        <p:nvPicPr>
          <p:cNvPr id="164" name="椭圆 14" descr=""/>
          <p:cNvPicPr/>
          <p:nvPr/>
        </p:nvPicPr>
        <p:blipFill>
          <a:blip r:embed="rId3"/>
          <a:stretch/>
        </p:blipFill>
        <p:spPr>
          <a:xfrm>
            <a:off x="5303880" y="1857240"/>
            <a:ext cx="3600360" cy="36007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.1  Enhance your website 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2198160" y="3332160"/>
            <a:ext cx="14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访问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组合 19"/>
          <p:cNvGrpSpPr/>
          <p:nvPr/>
        </p:nvGrpSpPr>
        <p:grpSpPr>
          <a:xfrm>
            <a:off x="6485040" y="2214720"/>
            <a:ext cx="2520720" cy="2519280"/>
            <a:chOff x="6485040" y="2214720"/>
            <a:chExt cx="2520720" cy="2519280"/>
          </a:xfrm>
        </p:grpSpPr>
        <p:pic>
          <p:nvPicPr>
            <p:cNvPr id="168" name="椭圆 10" descr=""/>
            <p:cNvPicPr/>
            <p:nvPr/>
          </p:nvPicPr>
          <p:blipFill>
            <a:blip r:embed="rId4"/>
            <a:stretch/>
          </p:blipFill>
          <p:spPr>
            <a:xfrm>
              <a:off x="6485040" y="2214720"/>
              <a:ext cx="252072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6"/>
            <p:cNvSpPr/>
            <p:nvPr/>
          </p:nvSpPr>
          <p:spPr>
            <a:xfrm>
              <a:off x="6858000" y="2857320"/>
              <a:ext cx="203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核心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Rectangle 6"/>
          <p:cNvSpPr/>
          <p:nvPr/>
        </p:nvSpPr>
        <p:spPr>
          <a:xfrm>
            <a:off x="5126040" y="313200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伙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7"/>
          <p:cNvSpPr/>
          <p:nvPr/>
        </p:nvSpPr>
        <p:spPr>
          <a:xfrm>
            <a:off x="4000680" y="313200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单圆角矩形 26"/>
          <p:cNvSpPr/>
          <p:nvPr/>
        </p:nvSpPr>
        <p:spPr>
          <a:xfrm flipV="1">
            <a:off x="0" y="5643720"/>
            <a:ext cx="357120" cy="1000080"/>
          </a:xfrm>
          <a:custGeom>
            <a:avLst/>
            <a:gdLst/>
            <a:ahLst/>
            <a:rect l="l" t="t" r="r" b="b"/>
            <a:pathLst>
              <a:path w="357187" h="1000125">
                <a:moveTo>
                  <a:pt x="0" y="0"/>
                </a:moveTo>
                <a:lnTo>
                  <a:pt x="297655" y="0"/>
                </a:lnTo>
                <a:cubicBezTo>
                  <a:pt x="330534" y="0"/>
                  <a:pt x="357187" y="26653"/>
                  <a:pt x="357187" y="59532"/>
                </a:cubicBezTo>
                <a:lnTo>
                  <a:pt x="357187" y="1000125"/>
                </a:lnTo>
                <a:lnTo>
                  <a:pt x="0" y="10001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单圆角矩形 27"/>
          <p:cNvSpPr/>
          <p:nvPr/>
        </p:nvSpPr>
        <p:spPr>
          <a:xfrm>
            <a:off x="0" y="214200"/>
            <a:ext cx="357120" cy="5429520"/>
          </a:xfrm>
          <a:custGeom>
            <a:avLst/>
            <a:gdLst/>
            <a:ahLst/>
            <a:rect l="l" t="t" r="r" b="b"/>
            <a:pathLst>
              <a:path w="357187" h="5429250">
                <a:moveTo>
                  <a:pt x="0" y="0"/>
                </a:moveTo>
                <a:lnTo>
                  <a:pt x="297655" y="0"/>
                </a:lnTo>
                <a:cubicBezTo>
                  <a:pt x="330534" y="0"/>
                  <a:pt x="357187" y="26653"/>
                  <a:pt x="357187" y="59532"/>
                </a:cubicBezTo>
                <a:lnTo>
                  <a:pt x="357187" y="5429250"/>
                </a:lnTo>
                <a:lnTo>
                  <a:pt x="0" y="542925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28"/>
          <p:cNvSpPr/>
          <p:nvPr/>
        </p:nvSpPr>
        <p:spPr>
          <a:xfrm>
            <a:off x="-25920" y="500040"/>
            <a:ext cx="45468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nhance your websi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特写,箭头标志"/>
          <p:cNvPicPr/>
          <p:nvPr/>
        </p:nvPicPr>
        <p:blipFill>
          <a:blip r:embed="rId1"/>
          <a:srcRect l="0" t="0" r="1107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图示 21" descr=""/>
          <p:cNvPicPr/>
          <p:nvPr/>
        </p:nvPicPr>
        <p:blipFill>
          <a:blip r:embed="rId2"/>
          <a:stretch/>
        </p:blipFill>
        <p:spPr>
          <a:xfrm>
            <a:off x="1500120" y="2143080"/>
            <a:ext cx="6643800" cy="4429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2.1  Enhance your website 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3:1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1:12Z</dcterms:modified>
  <cp:revision>1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