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20E-4061-4CB7-802A-38B4A225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482-61CA-4D98-A6B2-AC4A21A0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F53-67D6-4D00-9711-7C5D5094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BF6-21B3-4F61-A0BA-C62EF175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0DD4-9825-4BB8-889A-451DE7B0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213D-8974-416C-8636-F415FE9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508B-9638-4D1C-9D7D-ACDA9D5C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0E1-A0EB-4BCC-876D-9D8AF36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4128-8184-47E1-BB1A-497CAFBD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B936-1407-4F41-B985-6F140504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4591-FE25-43B3-B285-B932C179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C3A-4173-4FEB-BD27-A897DB4F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DA69-8D4B-4E3A-B5AB-51357E70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937B-7DA4-4F3D-9AA6-8341F5D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9121-FCE5-4423-9D58-770B395A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1C14-B151-487A-9BE1-2778B25F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5083-3D8A-4196-89B6-388348EF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7E4-B966-4751-BEEB-F4A724B3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F96-4F9A-49E3-9744-F95095A0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B36-8D20-43C1-B37E-27F396B6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2C5-BB26-4167-82BA-DB6291DB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ED5-88D1-480F-B5B5-AE10D6F5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819-88B6-42DC-8026-E0F6477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2F5-2EEC-4C79-8E1B-FA5DA6A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E9F0-4C68-461B-9E0B-84ACB8430FC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BF93-82FF-4CEC-A985-46E9AC7FA84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D640-2E95-4BC2-BB61-A3E4FB3056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934920"/>
            <a:ext cx="68580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002040"/>
            <a:ext cx="68580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1372680" y="1273320"/>
            <a:ext cx="67734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2011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097000" y="379404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年终总结报告</a:t>
            </a:r>
            <a:r>
              <a:rPr b="1" lang="en-US" sz="40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87" name="Halo Remember.wma" descr=""/>
          <p:cNvPicPr/>
          <p:nvPr/>
        </p:nvPicPr>
        <p:blipFill>
          <a:blip r:embed="rId2"/>
          <a:stretch/>
        </p:blipFill>
        <p:spPr>
          <a:xfrm>
            <a:off x="4130640" y="-81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5342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-2698920" y="1308240"/>
            <a:ext cx="2708280" cy="3638520"/>
          </a:xfrm>
          <a:prstGeom prst="rect">
            <a:avLst/>
          </a:prstGeom>
          <a:ln w="0">
            <a:noFill/>
          </a:ln>
        </p:spPr>
      </p:pic>
      <p:sp>
        <p:nvSpPr>
          <p:cNvPr id="292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宋体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564000" y="4441680"/>
            <a:ext cx="4824360" cy="360"/>
            <a:chOff x="3564000" y="4441680"/>
            <a:chExt cx="4824360" cy="360"/>
          </a:xfrm>
        </p:grpSpPr>
        <p:sp>
          <p:nvSpPr>
            <p:cNvPr id="295" name="直接连接符 15"/>
            <p:cNvSpPr/>
            <p:nvPr/>
          </p:nvSpPr>
          <p:spPr>
            <a:xfrm>
              <a:off x="3564000" y="4441680"/>
              <a:ext cx="482436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564000" y="4441680"/>
              <a:ext cx="482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564000" y="4865760"/>
            <a:ext cx="4824360" cy="1440"/>
            <a:chOff x="3564000" y="4865760"/>
            <a:chExt cx="4824360" cy="1440"/>
          </a:xfrm>
        </p:grpSpPr>
        <p:sp>
          <p:nvSpPr>
            <p:cNvPr id="298" name="直接连接符 16"/>
            <p:cNvSpPr/>
            <p:nvPr/>
          </p:nvSpPr>
          <p:spPr>
            <a:xfrm>
              <a:off x="3564000" y="4865760"/>
              <a:ext cx="482436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3564000" y="4865760"/>
              <a:ext cx="482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564000" y="5289480"/>
            <a:ext cx="4824360" cy="1800"/>
            <a:chOff x="3564000" y="5289480"/>
            <a:chExt cx="4824360" cy="1800"/>
          </a:xfrm>
        </p:grpSpPr>
        <p:sp>
          <p:nvSpPr>
            <p:cNvPr id="301" name="直接连接符 17"/>
            <p:cNvSpPr/>
            <p:nvPr/>
          </p:nvSpPr>
          <p:spPr>
            <a:xfrm>
              <a:off x="3564000" y="5289480"/>
              <a:ext cx="4824360" cy="180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564000" y="5289480"/>
              <a:ext cx="4824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"/>
          <p:cNvPicPr/>
          <p:nvPr/>
        </p:nvPicPr>
        <p:blipFill>
          <a:blip r:embed="rId3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305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86CE-AB26-45D2-ACD7-11C781734B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6"/>
          <p:cNvSpPr/>
          <p:nvPr/>
        </p:nvSpPr>
        <p:spPr>
          <a:xfrm>
            <a:off x="291636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160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4103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96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5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4106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99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4109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02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矩形 12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4113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106" name="椭圆 10"/>
            <p:cNvSpPr/>
            <p:nvPr/>
          </p:nvSpPr>
          <p:spPr>
            <a:xfrm>
              <a:off x="7093080" y="1712880"/>
              <a:ext cx="50328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200000">
                                      <p:cBhvr>
                                        <p:cTn id="67" dur="17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7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5"/>
          <p:cNvSpPr/>
          <p:nvPr/>
        </p:nvSpPr>
        <p:spPr>
          <a:xfrm>
            <a:off x="-322200" y="912960"/>
            <a:ext cx="101520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114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55640" y="2184480"/>
            <a:ext cx="5400720" cy="360"/>
            <a:chOff x="755640" y="2184480"/>
            <a:chExt cx="5400720" cy="360"/>
          </a:xfrm>
        </p:grpSpPr>
        <p:sp>
          <p:nvSpPr>
            <p:cNvPr id="116" name="直接连接符 11"/>
            <p:cNvSpPr/>
            <p:nvPr/>
          </p:nvSpPr>
          <p:spPr>
            <a:xfrm>
              <a:off x="755640" y="218448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755640" y="218448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55640" y="2608200"/>
            <a:ext cx="5400720" cy="1800"/>
            <a:chOff x="755640" y="2608200"/>
            <a:chExt cx="5400720" cy="1800"/>
          </a:xfrm>
        </p:grpSpPr>
        <p:sp>
          <p:nvSpPr>
            <p:cNvPr id="119" name="直接连接符 15"/>
            <p:cNvSpPr/>
            <p:nvPr/>
          </p:nvSpPr>
          <p:spPr>
            <a:xfrm>
              <a:off x="755640" y="2608200"/>
              <a:ext cx="5400720" cy="180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755640" y="2608200"/>
              <a:ext cx="5400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55640" y="3032280"/>
            <a:ext cx="5400720" cy="1440"/>
            <a:chOff x="755640" y="3032280"/>
            <a:chExt cx="5400720" cy="1440"/>
          </a:xfrm>
        </p:grpSpPr>
        <p:sp>
          <p:nvSpPr>
            <p:cNvPr id="122" name="直接连接符 16"/>
            <p:cNvSpPr/>
            <p:nvPr/>
          </p:nvSpPr>
          <p:spPr>
            <a:xfrm>
              <a:off x="755640" y="3032280"/>
              <a:ext cx="540072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755640" y="3032280"/>
              <a:ext cx="540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55640" y="3457440"/>
            <a:ext cx="5400720" cy="360"/>
            <a:chOff x="755640" y="3457440"/>
            <a:chExt cx="5400720" cy="360"/>
          </a:xfrm>
        </p:grpSpPr>
        <p:sp>
          <p:nvSpPr>
            <p:cNvPr id="125" name="直接连接符 17"/>
            <p:cNvSpPr/>
            <p:nvPr/>
          </p:nvSpPr>
          <p:spPr>
            <a:xfrm>
              <a:off x="755640" y="345744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755640" y="345744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55640" y="3881520"/>
            <a:ext cx="5400720" cy="360"/>
            <a:chOff x="755640" y="3881520"/>
            <a:chExt cx="5400720" cy="360"/>
          </a:xfrm>
        </p:grpSpPr>
        <p:sp>
          <p:nvSpPr>
            <p:cNvPr id="128" name="直接连接符 18"/>
            <p:cNvSpPr/>
            <p:nvPr/>
          </p:nvSpPr>
          <p:spPr>
            <a:xfrm>
              <a:off x="755640" y="388152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55640" y="388152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55640" y="4305240"/>
            <a:ext cx="5400720" cy="360"/>
            <a:chOff x="755640" y="4305240"/>
            <a:chExt cx="5400720" cy="360"/>
          </a:xfrm>
        </p:grpSpPr>
        <p:sp>
          <p:nvSpPr>
            <p:cNvPr id="131" name="直接连接符 19"/>
            <p:cNvSpPr/>
            <p:nvPr/>
          </p:nvSpPr>
          <p:spPr>
            <a:xfrm>
              <a:off x="755640" y="4305240"/>
              <a:ext cx="540072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755640" y="430524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55640" y="4729320"/>
            <a:ext cx="5400720" cy="1440"/>
            <a:chOff x="755640" y="4729320"/>
            <a:chExt cx="5400720" cy="1440"/>
          </a:xfrm>
        </p:grpSpPr>
        <p:sp>
          <p:nvSpPr>
            <p:cNvPr id="134" name="直接连接符 20"/>
            <p:cNvSpPr/>
            <p:nvPr/>
          </p:nvSpPr>
          <p:spPr>
            <a:xfrm>
              <a:off x="755640" y="4729320"/>
              <a:ext cx="540072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755640" y="4729320"/>
              <a:ext cx="540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 rot="5400000">
            <a:off x="266760" y="1878840"/>
            <a:ext cx="266220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2843280" y="-596880"/>
            <a:ext cx="5761080" cy="734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148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03640" y="2184480"/>
            <a:ext cx="4879800" cy="360"/>
            <a:chOff x="3203640" y="2184480"/>
            <a:chExt cx="4879800" cy="360"/>
          </a:xfrm>
        </p:grpSpPr>
        <p:sp>
          <p:nvSpPr>
            <p:cNvPr id="151" name="直接连接符 9"/>
            <p:cNvSpPr/>
            <p:nvPr/>
          </p:nvSpPr>
          <p:spPr>
            <a:xfrm>
              <a:off x="3203640" y="218448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203640" y="218448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203640" y="2608200"/>
            <a:ext cx="4879800" cy="1800"/>
            <a:chOff x="3203640" y="2608200"/>
            <a:chExt cx="4879800" cy="1800"/>
          </a:xfrm>
        </p:grpSpPr>
        <p:sp>
          <p:nvSpPr>
            <p:cNvPr id="154" name="直接连接符 10"/>
            <p:cNvSpPr/>
            <p:nvPr/>
          </p:nvSpPr>
          <p:spPr>
            <a:xfrm>
              <a:off x="3203640" y="2608200"/>
              <a:ext cx="4879800" cy="180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203640" y="2608200"/>
              <a:ext cx="4879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03640" y="3032280"/>
            <a:ext cx="4879800" cy="1440"/>
            <a:chOff x="3203640" y="3032280"/>
            <a:chExt cx="4879800" cy="1440"/>
          </a:xfrm>
        </p:grpSpPr>
        <p:sp>
          <p:nvSpPr>
            <p:cNvPr id="157" name="直接连接符 11"/>
            <p:cNvSpPr/>
            <p:nvPr/>
          </p:nvSpPr>
          <p:spPr>
            <a:xfrm>
              <a:off x="3203640" y="3032280"/>
              <a:ext cx="487980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203640" y="3032280"/>
              <a:ext cx="487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203640" y="3457440"/>
            <a:ext cx="4879800" cy="360"/>
            <a:chOff x="3203640" y="3457440"/>
            <a:chExt cx="4879800" cy="360"/>
          </a:xfrm>
        </p:grpSpPr>
        <p:sp>
          <p:nvSpPr>
            <p:cNvPr id="160" name="直接连接符 12"/>
            <p:cNvSpPr/>
            <p:nvPr/>
          </p:nvSpPr>
          <p:spPr>
            <a:xfrm>
              <a:off x="3203640" y="345744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203640" y="345744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03640" y="3881520"/>
            <a:ext cx="4879800" cy="360"/>
            <a:chOff x="3203640" y="3881520"/>
            <a:chExt cx="4879800" cy="360"/>
          </a:xfrm>
        </p:grpSpPr>
        <p:sp>
          <p:nvSpPr>
            <p:cNvPr id="163" name="直接连接符 13"/>
            <p:cNvSpPr/>
            <p:nvPr/>
          </p:nvSpPr>
          <p:spPr>
            <a:xfrm>
              <a:off x="3203640" y="388152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3203640" y="388152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203640" y="4305240"/>
            <a:ext cx="4879800" cy="360"/>
            <a:chOff x="3203640" y="4305240"/>
            <a:chExt cx="4879800" cy="360"/>
          </a:xfrm>
        </p:grpSpPr>
        <p:sp>
          <p:nvSpPr>
            <p:cNvPr id="166" name="直接连接符 14"/>
            <p:cNvSpPr/>
            <p:nvPr/>
          </p:nvSpPr>
          <p:spPr>
            <a:xfrm>
              <a:off x="3203640" y="4305240"/>
              <a:ext cx="4879800" cy="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203640" y="4305240"/>
              <a:ext cx="487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203640" y="4729320"/>
            <a:ext cx="4879800" cy="1440"/>
            <a:chOff x="3203640" y="4729320"/>
            <a:chExt cx="4879800" cy="1440"/>
          </a:xfrm>
        </p:grpSpPr>
        <p:sp>
          <p:nvSpPr>
            <p:cNvPr id="169" name="直接连接符 15"/>
            <p:cNvSpPr/>
            <p:nvPr/>
          </p:nvSpPr>
          <p:spPr>
            <a:xfrm>
              <a:off x="3203640" y="4729320"/>
              <a:ext cx="4879800" cy="1440"/>
            </a:xfrm>
            <a:prstGeom prst="line">
              <a:avLst/>
            </a:prstGeom>
            <a:ln w="15840">
              <a:solidFill>
                <a:srgbClr val="595959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3203640" y="4729320"/>
              <a:ext cx="4879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1D0-E1A6-4123-BE16-D8D0B54DDF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7174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185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1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7177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88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7180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91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718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95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27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8194"/>
          <p:cNvSpPr/>
          <p:nvPr/>
        </p:nvSpPr>
        <p:spPr>
          <a:xfrm>
            <a:off x="1871640" y="4657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200000">
                                      <p:cBhvr>
                                        <p:cTn id="141" dur="1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7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32000" y="3936960"/>
            <a:ext cx="6191280" cy="1800"/>
            <a:chOff x="1332000" y="3936960"/>
            <a:chExt cx="6191280" cy="1800"/>
          </a:xfrm>
        </p:grpSpPr>
        <p:sp>
          <p:nvSpPr>
            <p:cNvPr id="202" name="直接连接符 30"/>
            <p:cNvSpPr/>
            <p:nvPr/>
          </p:nvSpPr>
          <p:spPr>
            <a:xfrm>
              <a:off x="1332000" y="3936960"/>
              <a:ext cx="6191280" cy="1800"/>
            </a:xfrm>
            <a:prstGeom prst="line">
              <a:avLst/>
            </a:prstGeom>
            <a:ln w="15840">
              <a:solidFill>
                <a:srgbClr val="f2f2f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332000" y="3936960"/>
              <a:ext cx="6191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317600" y="3073320"/>
            <a:ext cx="6192720" cy="360"/>
            <a:chOff x="1317600" y="3073320"/>
            <a:chExt cx="6192720" cy="360"/>
          </a:xfrm>
        </p:grpSpPr>
        <p:sp>
          <p:nvSpPr>
            <p:cNvPr id="205" name="直接连接符 29"/>
            <p:cNvSpPr/>
            <p:nvPr/>
          </p:nvSpPr>
          <p:spPr>
            <a:xfrm>
              <a:off x="1317600" y="3073320"/>
              <a:ext cx="6192720" cy="0"/>
            </a:xfrm>
            <a:prstGeom prst="line">
              <a:avLst/>
            </a:prstGeom>
            <a:ln w="15840">
              <a:solidFill>
                <a:srgbClr val="f2f2f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1317600" y="3073320"/>
              <a:ext cx="619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60360" y="2235240"/>
            <a:ext cx="6191280" cy="360"/>
            <a:chOff x="1260360" y="2235240"/>
            <a:chExt cx="6191280" cy="360"/>
          </a:xfrm>
        </p:grpSpPr>
        <p:sp>
          <p:nvSpPr>
            <p:cNvPr id="208" name="直接连接符 28"/>
            <p:cNvSpPr/>
            <p:nvPr/>
          </p:nvSpPr>
          <p:spPr>
            <a:xfrm>
              <a:off x="1260360" y="2235240"/>
              <a:ext cx="6191280" cy="0"/>
            </a:xfrm>
            <a:prstGeom prst="line">
              <a:avLst/>
            </a:prstGeom>
            <a:ln w="15840">
              <a:solidFill>
                <a:srgbClr val="f2f2f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1260360" y="2235240"/>
              <a:ext cx="619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116000" y="4873320"/>
            <a:ext cx="6789960" cy="720"/>
            <a:chOff x="1116000" y="4873320"/>
            <a:chExt cx="6789960" cy="720"/>
          </a:xfrm>
        </p:grpSpPr>
        <p:cxnSp>
          <p:nvCxnSpPr>
            <p:cNvPr id="220" name="直接箭头连接符 7"/>
            <p:cNvCxnSpPr/>
            <p:nvPr/>
          </p:nvCxnSpPr>
          <p:spPr>
            <a:xfrm>
              <a:off x="1116000" y="4873320"/>
              <a:ext cx="67903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round/>
              <a:tailEnd len="med" type="arrow" w="med"/>
            </a:ln>
          </p:spPr>
        </p:cxnSp>
        <p:sp>
          <p:nvSpPr>
            <p:cNvPr id="221" name=""/>
            <p:cNvSpPr txBox="1"/>
            <p:nvPr/>
          </p:nvSpPr>
          <p:spPr>
            <a:xfrm>
              <a:off x="1116000" y="487332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267560" y="1416960"/>
            <a:ext cx="1080" cy="3608640"/>
            <a:chOff x="1267560" y="1416960"/>
            <a:chExt cx="1080" cy="3608640"/>
          </a:xfrm>
        </p:grpSpPr>
        <p:cxnSp>
          <p:nvCxnSpPr>
            <p:cNvPr id="223" name="直接箭头连接符 8"/>
            <p:cNvCxnSpPr/>
            <p:nvPr/>
          </p:nvCxnSpPr>
          <p:spPr>
            <a:xfrm flipV="1">
              <a:off x="1267920" y="1416960"/>
              <a:ext cx="1080" cy="36090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round/>
              <a:tailEnd len="med" type="arrow" w="med"/>
            </a:ln>
          </p:spPr>
        </p:cxnSp>
        <p:sp>
          <p:nvSpPr>
            <p:cNvPr id="224" name=""/>
            <p:cNvSpPr txBox="1"/>
            <p:nvPr/>
          </p:nvSpPr>
          <p:spPr>
            <a:xfrm rot="10800000">
              <a:off x="1267560" y="1416960"/>
              <a:ext cx="360" cy="36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41652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9222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243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9225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46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9229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250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254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9235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56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灯片编号占位符 1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78B7-BDC5-420C-886F-08E912D6C0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200000">
                                      <p:cBhvr>
                                        <p:cTn id="188" dur="175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7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62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264" name="TextBox 4"/>
          <p:cNvSpPr/>
          <p:nvPr/>
        </p:nvSpPr>
        <p:spPr>
          <a:xfrm>
            <a:off x="708372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宋体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11270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272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127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276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280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1280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82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矩形 27"/>
          <p:cNvSpPr/>
          <p:nvPr/>
        </p:nvSpPr>
        <p:spPr>
          <a:xfrm>
            <a:off x="431136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1284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86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8194"/>
          <p:cNvSpPr/>
          <p:nvPr/>
        </p:nvSpPr>
        <p:spPr>
          <a:xfrm>
            <a:off x="1692360" y="113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200000">
                                      <p:cBhvr>
                                        <p:cTn id="253" dur="17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7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17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