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D11-A628-4CC7-8F6E-F24BAB30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56A0-D668-4EE2-9BC4-BAE4EE7F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C1E-3909-41F2-9A15-6DA761B9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7904-42D8-40E9-815D-1F21755F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7F59-AAC4-4861-B369-D5907849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BF5D-B35E-4775-8E80-A7701FFE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41EB-2B14-4DB0-84FB-89BDA34D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742A-E611-466E-8186-0C40F01F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2D55-4B4E-4C9E-B5A3-8C7A0DBD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EECB-D4E7-46AC-9B7E-96B9A0A1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ABB9-88FC-4FD0-BAA0-64B08B39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BD9B-7A39-4B5B-A9F1-B9E49727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AD19-2417-4B47-9D4A-FC76CEA4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0C97-0D5A-4339-931A-2AEB497D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AF42-FE05-46D8-8950-9743EA49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F959-F949-41FA-B76E-28A62E43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9BB4-376F-43F5-B76A-44B53676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46513-A909-46DF-8944-2D1B0900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73FA9-591A-4988-9C46-2CAEAEF7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AF051-530B-434A-A067-A0818C5A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C07DE-E637-4D2E-9CDF-4CCBF9A8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522EE-11C9-4F28-B842-44160691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519-ECBD-4C18-858C-CFAB57D2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CA8AA-813B-4706-958D-D7FA9713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1C0C6-926B-4DF2-9F16-00862F5C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8A013-EB17-43E7-902A-BFA41372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4EE5E-646F-4C63-BB77-CF7B83DF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30B21-D86E-4D61-B3A9-B98D2AE8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7102D-BEE5-435D-9951-1FEDD97C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B5C0A-7712-4656-8187-D04A91BA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DB0-1C04-45D9-ACF0-15897C8A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E80-E585-44E5-8D1F-066A7240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A873-1614-4E92-9E58-A628BEAD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3468-CCC4-40D6-9159-CEBDC5AE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E03-3606-4DFE-BA49-5ADFE527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8CBD-7304-4978-972A-46943123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941D-118C-4F59-BD64-38C906536AA5}" type="slidenum">
              <a:rPr b="1" lang="zh-CN" sz="8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48E7-FD32-4478-9650-7E9EE7B55CD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8FD6-E6AE-476A-A617-7ADD1E18F4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AF62-D286-42DF-A933-98E67BA9C21C}" type="slidenum">
              <a:rPr b="1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4097" descr="1yeartext"/>
          <p:cNvPicPr/>
          <p:nvPr/>
        </p:nvPicPr>
        <p:blipFill>
          <a:blip r:embed="rId1"/>
          <a:stretch/>
        </p:blipFill>
        <p:spPr>
          <a:xfrm>
            <a:off x="1066680" y="333360"/>
            <a:ext cx="7000920" cy="141912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4098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84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文本框 4100"/>
          <p:cNvSpPr/>
          <p:nvPr/>
        </p:nvSpPr>
        <p:spPr>
          <a:xfrm>
            <a:off x="1625400" y="1844640"/>
            <a:ext cx="55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年终总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会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6145"/>
          <p:cNvSpPr/>
          <p:nvPr/>
        </p:nvSpPr>
        <p:spPr>
          <a:xfrm>
            <a:off x="3048120" y="1522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tyle Bold Extended ATT"/>
                <a:ea typeface="宋体"/>
              </a:rPr>
              <a:t>TRANS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6146"/>
          <p:cNvSpPr/>
          <p:nvPr/>
        </p:nvSpPr>
        <p:spPr>
          <a:xfrm>
            <a:off x="755640" y="249408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EE3E-2F53-4CD8-8415-079D700BB7E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5120" y="533160"/>
            <a:ext cx="4876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icrostyle Bold Extended AT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Microstyle Bold Extended AT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2:25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1:15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