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1EC-34B2-4698-AB47-7FD39045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075-C95E-4745-943C-6C25C638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277-D624-4026-B734-9475699C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9700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908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492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9700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908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0A0-644A-4782-BC93-DCE9065B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DD14-2E2D-4415-BCDA-8077E9AF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8B68-C3CE-46D5-B8F3-C963FC06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B709-B4C9-4BFF-B626-86419966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27E3-64F1-429A-8A24-2847D9A0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A8A6-672A-4B4B-A283-BA26E4CA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520" y="50292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1D89-F513-4E04-96BF-5EAD45BD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DC4B-4559-4341-AB61-56E96F2D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B78-8E5F-4206-AC4F-3E9117BC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0391-C4E2-439A-9857-7A965110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C6D9-2931-4B6E-8A56-C7892D8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3FAF-05EB-43C9-9F49-9F078856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012D-9235-4DD4-A0A1-02D82021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9700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9908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9492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9700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9908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5248-F204-43A3-B9AD-E42770C1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314C-37FC-45BD-9D34-637497FF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5D3A9-C5B0-4807-B8D7-70903C2D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9E9D0-E462-468C-A9F4-99EE70E3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50371-76B7-47A8-B3DF-33729102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6DD54-60E9-4AD5-A247-63FB70DC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BA6-E544-4FFC-95E2-30D210A8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676520" y="50292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5880C-C16B-4C10-B6B8-7C9A3F58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AE43-020F-4C36-AEAC-0A6C71E9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26142-A070-41B0-8234-BE2D6945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CD14-39C8-4173-AE3B-9AD1FBAB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B0E52-D60F-4440-BB11-B01A8C52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82B5-5427-4890-9975-93C76D8E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9700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9908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9492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9700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9908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D2FC-4ED4-450C-9F4E-5E418BE0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A6B-A8E4-4F8D-9F6F-3E3AD06F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4DB-99AC-487D-B891-8AA6D8A9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76520" y="50292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DDF-CC40-407B-9B85-B65A3D12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BC6-F834-46E9-BBCB-6120F416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055-1C13-483C-B7BE-64312DD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C85-125F-4F57-82A8-43E9900F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057" descr=""/>
          <p:cNvPicPr/>
          <p:nvPr/>
        </p:nvPicPr>
        <p:blipFill>
          <a:blip r:embed="rId2"/>
          <a:stretch/>
        </p:blipFill>
        <p:spPr>
          <a:xfrm>
            <a:off x="12600" y="-3240"/>
            <a:ext cx="9131400" cy="61128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058"/>
          <p:cNvGrpSpPr/>
          <p:nvPr/>
        </p:nvGrpSpPr>
        <p:grpSpPr>
          <a:xfrm>
            <a:off x="0" y="849960"/>
            <a:ext cx="2133360" cy="4712760"/>
            <a:chOff x="0" y="849960"/>
            <a:chExt cx="2133360" cy="4712760"/>
          </a:xfrm>
        </p:grpSpPr>
        <p:sp>
          <p:nvSpPr>
            <p:cNvPr id="2" name="新月形 1059"/>
            <p:cNvSpPr/>
            <p:nvPr/>
          </p:nvSpPr>
          <p:spPr>
            <a:xfrm rot="559200">
              <a:off x="840600" y="894960"/>
              <a:ext cx="930240" cy="454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f1a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任意多边形 1060"/>
            <p:cNvSpPr/>
            <p:nvPr/>
          </p:nvSpPr>
          <p:spPr>
            <a:xfrm>
              <a:off x="0" y="1082520"/>
              <a:ext cx="1835280" cy="44802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ddf1a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矩形 1061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062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1066680"/>
            <a:ext cx="8915400" cy="360"/>
            <a:chOff x="228600" y="1066680"/>
            <a:chExt cx="8915400" cy="360"/>
          </a:xfrm>
        </p:grpSpPr>
        <p:sp>
          <p:nvSpPr>
            <p:cNvPr id="7" name="直接连接符 1063"/>
            <p:cNvSpPr/>
            <p:nvPr/>
          </p:nvSpPr>
          <p:spPr>
            <a:xfrm>
              <a:off x="228600" y="1066680"/>
              <a:ext cx="89154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228600" y="1066680"/>
              <a:ext cx="8915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任意多边形 1064"/>
          <p:cNvSpPr/>
          <p:nvPr/>
        </p:nvSpPr>
        <p:spPr>
          <a:xfrm>
            <a:off x="-9360" y="-1440"/>
            <a:ext cx="2277720" cy="1638000"/>
          </a:xfrm>
          <a:custGeom>
            <a:avLst/>
            <a:gdLst/>
            <a:ahLst/>
            <a:rect l="l" t="t" r="r" b="b"/>
            <a:pathLst>
              <a:path w="1429" h="1032">
                <a:moveTo>
                  <a:pt x="0" y="0"/>
                </a:moveTo>
                <a:lnTo>
                  <a:pt x="1429" y="1"/>
                </a:lnTo>
                <a:cubicBezTo>
                  <a:pt x="1404" y="4"/>
                  <a:pt x="1266" y="99"/>
                  <a:pt x="1098" y="309"/>
                </a:cubicBezTo>
                <a:cubicBezTo>
                  <a:pt x="932" y="520"/>
                  <a:pt x="880" y="977"/>
                  <a:pt x="885" y="1032"/>
                </a:cubicBezTo>
                <a:lnTo>
                  <a:pt x="0" y="102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9c012"/>
              </a:gs>
              <a:gs pos="100000">
                <a:srgbClr val="5ba6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ddf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437C-5D42-4FC5-8E15-94306C0B99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5" name="文本框 1065"/>
          <p:cNvSpPr/>
          <p:nvPr/>
        </p:nvSpPr>
        <p:spPr>
          <a:xfrm>
            <a:off x="154440" y="380880"/>
            <a:ext cx="11134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Lo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E755-6B48-4DAD-89F3-99A7D434A16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F825-3E71-4D0B-AB55-B1CC81B1A3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对象 3100" descr=""/>
          <p:cNvPicPr/>
          <p:nvPr/>
        </p:nvPicPr>
        <p:blipFill>
          <a:blip r:embed="rId2"/>
          <a:stretch/>
        </p:blipFill>
        <p:spPr>
          <a:xfrm>
            <a:off x="2003400" y="-7920"/>
            <a:ext cx="7151760" cy="2860560"/>
          </a:xfrm>
          <a:prstGeom prst="rect">
            <a:avLst/>
          </a:prstGeom>
          <a:ln w="0">
            <a:noFill/>
          </a:ln>
        </p:spPr>
      </p:pic>
      <p:sp>
        <p:nvSpPr>
          <p:cNvPr id="94" name="任意多边形 3101"/>
          <p:cNvSpPr/>
          <p:nvPr/>
        </p:nvSpPr>
        <p:spPr>
          <a:xfrm>
            <a:off x="-3240" y="2938320"/>
            <a:ext cx="2271600" cy="3552840"/>
          </a:xfrm>
          <a:custGeom>
            <a:avLst/>
            <a:gdLst/>
            <a:ahLst/>
            <a:rect l="l" t="t" r="r" b="b"/>
            <a:pathLst>
              <a:path w="1431" h="2238">
                <a:moveTo>
                  <a:pt x="0" y="0"/>
                </a:moveTo>
                <a:lnTo>
                  <a:pt x="1431" y="0"/>
                </a:lnTo>
                <a:cubicBezTo>
                  <a:pt x="1409" y="7"/>
                  <a:pt x="960" y="406"/>
                  <a:pt x="859" y="1009"/>
                </a:cubicBezTo>
                <a:cubicBezTo>
                  <a:pt x="757" y="1612"/>
                  <a:pt x="845" y="2101"/>
                  <a:pt x="839" y="2228"/>
                </a:cubicBezTo>
                <a:lnTo>
                  <a:pt x="0" y="223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9c01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2938320"/>
            <a:ext cx="9144000" cy="360"/>
            <a:chOff x="0" y="2938320"/>
            <a:chExt cx="9144000" cy="360"/>
          </a:xfrm>
        </p:grpSpPr>
        <p:sp>
          <p:nvSpPr>
            <p:cNvPr id="96" name="直接连接符 3102"/>
            <p:cNvSpPr/>
            <p:nvPr/>
          </p:nvSpPr>
          <p:spPr>
            <a:xfrm>
              <a:off x="0" y="293832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0" y="2938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3103"/>
          <p:cNvGrpSpPr/>
          <p:nvPr/>
        </p:nvGrpSpPr>
        <p:grpSpPr>
          <a:xfrm>
            <a:off x="1573200" y="1969920"/>
            <a:ext cx="7589880" cy="925560"/>
            <a:chOff x="1573200" y="1969920"/>
            <a:chExt cx="7589880" cy="925560"/>
          </a:xfrm>
        </p:grpSpPr>
        <p:sp>
          <p:nvSpPr>
            <p:cNvPr id="99" name="矩形 3104"/>
            <p:cNvSpPr/>
            <p:nvPr/>
          </p:nvSpPr>
          <p:spPr>
            <a:xfrm>
              <a:off x="1576440" y="1969920"/>
              <a:ext cx="2977920" cy="81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3105"/>
            <p:cNvSpPr/>
            <p:nvPr/>
          </p:nvSpPr>
          <p:spPr>
            <a:xfrm>
              <a:off x="1573200" y="2133720"/>
              <a:ext cx="7589880" cy="76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3099"/>
          <p:cNvSpPr/>
          <p:nvPr/>
        </p:nvSpPr>
        <p:spPr>
          <a:xfrm>
            <a:off x="3792240" y="5470560"/>
            <a:ext cx="154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o m p a 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c012"/>
                </a:solidFill>
                <a:latin typeface="Verdana"/>
                <a:ea typeface="Arial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ddf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624F-CA59-4E02-8267-A16D40696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欧美风格</a:t>
            </a:r>
            <a:r>
              <a:rPr b="1" lang="zh-CN" sz="4000" spc="-1" strike="noStrike">
                <a:solidFill>
                  <a:srgbClr val="ddf1ab"/>
                </a:solidFill>
                <a:latin typeface="Arial"/>
              </a:rPr>
              <a:t>报告</a:t>
            </a: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PPT</a:t>
            </a: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模板</a:t>
            </a:r>
            <a:r>
              <a:rPr b="1" lang="zh-CN" sz="4000" spc="-1" strike="noStrike">
                <a:solidFill>
                  <a:srgbClr val="ddf1ab"/>
                </a:solidFill>
                <a:latin typeface="Arial"/>
              </a:rPr>
              <a:t>下载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44" name="页脚占位符 2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34" name="组合 71720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35" name="圆角矩形 71681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圆角矩形 71682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圆角矩形 71683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燕尾形 71685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燕尾形 71686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71687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71688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80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71689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004500"/>
                </a:gs>
                <a:gs pos="50000">
                  <a:srgbClr val="008000"/>
                </a:gs>
                <a:gs pos="100000">
                  <a:srgbClr val="0045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71690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8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71691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71692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椭圆 71693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71694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71695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71696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71697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51" name="椭圆 71698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71699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椭圆 71700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椭圆 71701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椭圆 71702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df1a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71703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ddf1ab">
                    <a:alpha val="32156"/>
                  </a:srgbClr>
                </a:gs>
                <a:gs pos="100000">
                  <a:srgbClr val="6670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1704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78825d"/>
                </a:gs>
                <a:gs pos="50000">
                  <a:srgbClr val="ddf1ab"/>
                </a:gs>
                <a:gs pos="100000">
                  <a:srgbClr val="78825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71705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8c996d"/>
                </a:gs>
                <a:gs pos="100000">
                  <a:srgbClr val="ddf1a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71706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组合 71707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361" name="椭圆 71708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椭圆 71709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椭圆 71710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71711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组合 71712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66" name="椭圆 71713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椭圆 71714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椭圆 71715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椭圆 71716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文本框 71717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1718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71719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75" name="组合 72706"/>
          <p:cNvGrpSpPr/>
          <p:nvPr/>
        </p:nvGrpSpPr>
        <p:grpSpPr>
          <a:xfrm>
            <a:off x="1981080" y="1828800"/>
            <a:ext cx="5181480" cy="4495680"/>
            <a:chOff x="1981080" y="1828800"/>
            <a:chExt cx="5181480" cy="4495680"/>
          </a:xfrm>
        </p:grpSpPr>
        <p:sp>
          <p:nvSpPr>
            <p:cNvPr id="376" name="矩形 72707"/>
            <p:cNvSpPr/>
            <p:nvPr/>
          </p:nvSpPr>
          <p:spPr>
            <a:xfrm rot="13770000">
              <a:off x="5034240" y="4002480"/>
              <a:ext cx="85680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72708"/>
            <p:cNvSpPr/>
            <p:nvPr/>
          </p:nvSpPr>
          <p:spPr>
            <a:xfrm rot="20856000">
              <a:off x="3167280" y="3604320"/>
              <a:ext cx="938880" cy="153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72709"/>
            <p:cNvSpPr/>
            <p:nvPr/>
          </p:nvSpPr>
          <p:spPr>
            <a:xfrm rot="18394200">
              <a:off x="5144760" y="2622240"/>
              <a:ext cx="532440" cy="123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组合 72710"/>
            <p:cNvGrpSpPr/>
            <p:nvPr/>
          </p:nvGrpSpPr>
          <p:grpSpPr>
            <a:xfrm>
              <a:off x="4041000" y="2657160"/>
              <a:ext cx="1498320" cy="1420200"/>
              <a:chOff x="4041000" y="2657160"/>
              <a:chExt cx="1498320" cy="1420200"/>
            </a:xfrm>
          </p:grpSpPr>
          <p:grpSp>
            <p:nvGrpSpPr>
              <p:cNvPr id="380" name="组合 72711"/>
              <p:cNvGrpSpPr/>
              <p:nvPr/>
            </p:nvGrpSpPr>
            <p:grpSpPr>
              <a:xfrm>
                <a:off x="4041000" y="2657160"/>
                <a:ext cx="1498320" cy="1420200"/>
                <a:chOff x="4041000" y="2657160"/>
                <a:chExt cx="1498320" cy="1420200"/>
              </a:xfrm>
            </p:grpSpPr>
            <p:sp>
              <p:nvSpPr>
                <p:cNvPr id="381" name="椭圆 72712"/>
                <p:cNvSpPr/>
                <p:nvPr/>
              </p:nvSpPr>
              <p:spPr>
                <a:xfrm>
                  <a:off x="4041000" y="2657160"/>
                  <a:ext cx="149832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任意多边形 72713"/>
                <p:cNvSpPr/>
                <p:nvPr/>
              </p:nvSpPr>
              <p:spPr>
                <a:xfrm>
                  <a:off x="4212000" y="268056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文本框 72714"/>
              <p:cNvSpPr/>
              <p:nvPr/>
            </p:nvSpPr>
            <p:spPr>
              <a:xfrm>
                <a:off x="4073400" y="3274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72715"/>
            <p:cNvGrpSpPr/>
            <p:nvPr/>
          </p:nvGrpSpPr>
          <p:grpSpPr>
            <a:xfrm>
              <a:off x="5325840" y="1828800"/>
              <a:ext cx="909360" cy="768960"/>
              <a:chOff x="5325840" y="1828800"/>
              <a:chExt cx="909360" cy="768960"/>
            </a:xfrm>
          </p:grpSpPr>
          <p:grpSp>
            <p:nvGrpSpPr>
              <p:cNvPr id="385" name="组合 72716"/>
              <p:cNvGrpSpPr/>
              <p:nvPr/>
            </p:nvGrpSpPr>
            <p:grpSpPr>
              <a:xfrm>
                <a:off x="5352120" y="1828800"/>
                <a:ext cx="811440" cy="768960"/>
                <a:chOff x="5352120" y="1828800"/>
                <a:chExt cx="811440" cy="768960"/>
              </a:xfrm>
            </p:grpSpPr>
            <p:sp>
              <p:nvSpPr>
                <p:cNvPr id="386" name="椭圆 72717"/>
                <p:cNvSpPr/>
                <p:nvPr/>
              </p:nvSpPr>
              <p:spPr>
                <a:xfrm>
                  <a:off x="5352120" y="1828800"/>
                  <a:ext cx="811440" cy="76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363b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任意多边形 72718"/>
                <p:cNvSpPr/>
                <p:nvPr/>
              </p:nvSpPr>
              <p:spPr>
                <a:xfrm>
                  <a:off x="5444640" y="1841400"/>
                  <a:ext cx="626040" cy="290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f1a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文本框 72719"/>
              <p:cNvSpPr/>
              <p:nvPr/>
            </p:nvSpPr>
            <p:spPr>
              <a:xfrm>
                <a:off x="5325840" y="21258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组合 72720"/>
            <p:cNvGrpSpPr/>
            <p:nvPr/>
          </p:nvGrpSpPr>
          <p:grpSpPr>
            <a:xfrm>
              <a:off x="1981080" y="2953080"/>
              <a:ext cx="1623240" cy="1597680"/>
              <a:chOff x="1981080" y="2953080"/>
              <a:chExt cx="1623240" cy="1597680"/>
            </a:xfrm>
          </p:grpSpPr>
          <p:grpSp>
            <p:nvGrpSpPr>
              <p:cNvPr id="390" name="组合 72721"/>
              <p:cNvGrpSpPr/>
              <p:nvPr/>
            </p:nvGrpSpPr>
            <p:grpSpPr>
              <a:xfrm>
                <a:off x="1981080" y="2953080"/>
                <a:ext cx="1623240" cy="1597680"/>
                <a:chOff x="1981080" y="2953080"/>
                <a:chExt cx="1623240" cy="1597680"/>
              </a:xfrm>
            </p:grpSpPr>
            <p:sp>
              <p:nvSpPr>
                <p:cNvPr id="391" name="椭圆 72722"/>
                <p:cNvSpPr/>
                <p:nvPr/>
              </p:nvSpPr>
              <p:spPr>
                <a:xfrm>
                  <a:off x="1981080" y="2953080"/>
                  <a:ext cx="162324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c012"/>
                    </a:gs>
                    <a:gs pos="100000">
                      <a:srgbClr val="437a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任意多边形 72723"/>
                <p:cNvSpPr/>
                <p:nvPr/>
              </p:nvSpPr>
              <p:spPr>
                <a:xfrm>
                  <a:off x="2166480" y="2979360"/>
                  <a:ext cx="125208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9c0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文本框 72724"/>
              <p:cNvSpPr/>
              <p:nvPr/>
            </p:nvSpPr>
            <p:spPr>
              <a:xfrm>
                <a:off x="2014560" y="3664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组合 72725"/>
            <p:cNvGrpSpPr/>
            <p:nvPr/>
          </p:nvGrpSpPr>
          <p:grpSpPr>
            <a:xfrm>
              <a:off x="5289840" y="4136760"/>
              <a:ext cx="1872720" cy="1775520"/>
              <a:chOff x="5289840" y="4136760"/>
              <a:chExt cx="1872720" cy="1775520"/>
            </a:xfrm>
          </p:grpSpPr>
          <p:grpSp>
            <p:nvGrpSpPr>
              <p:cNvPr id="395" name="组合 72726"/>
              <p:cNvGrpSpPr/>
              <p:nvPr/>
            </p:nvGrpSpPr>
            <p:grpSpPr>
              <a:xfrm>
                <a:off x="5289840" y="4136760"/>
                <a:ext cx="1872720" cy="1775520"/>
                <a:chOff x="5289840" y="4136760"/>
                <a:chExt cx="1872720" cy="1775520"/>
              </a:xfrm>
            </p:grpSpPr>
            <p:sp>
              <p:nvSpPr>
                <p:cNvPr id="396" name="椭圆 72727"/>
                <p:cNvSpPr/>
                <p:nvPr/>
              </p:nvSpPr>
              <p:spPr>
                <a:xfrm>
                  <a:off x="5289840" y="413676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4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任意多边形 72728"/>
                <p:cNvSpPr/>
                <p:nvPr/>
              </p:nvSpPr>
              <p:spPr>
                <a:xfrm>
                  <a:off x="5503680" y="4165920"/>
                  <a:ext cx="1444680" cy="66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文本框 72729"/>
              <p:cNvSpPr/>
              <p:nvPr/>
            </p:nvSpPr>
            <p:spPr>
              <a:xfrm>
                <a:off x="5503320" y="4906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椭圆 72730"/>
            <p:cNvSpPr/>
            <p:nvPr/>
          </p:nvSpPr>
          <p:spPr>
            <a:xfrm>
              <a:off x="2168280" y="461016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椭圆 72731"/>
            <p:cNvSpPr/>
            <p:nvPr/>
          </p:nvSpPr>
          <p:spPr>
            <a:xfrm>
              <a:off x="4166280" y="408024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椭圆 72732"/>
            <p:cNvSpPr/>
            <p:nvPr/>
          </p:nvSpPr>
          <p:spPr>
            <a:xfrm>
              <a:off x="5601960" y="591264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72733"/>
            <p:cNvSpPr/>
            <p:nvPr/>
          </p:nvSpPr>
          <p:spPr>
            <a:xfrm>
              <a:off x="5477040" y="2657160"/>
              <a:ext cx="604440" cy="205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405" name="组合 82976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406" name="右箭头 82946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右箭头 82947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右箭头 82948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右箭头 82949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右箭头 82950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右箭头 82951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82952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82953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文本框 82954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82955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文本框 82956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文本框 82957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82958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82959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82960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82961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椭圆 82962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82963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82964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82965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82966"/>
            <p:cNvSpPr/>
            <p:nvPr/>
          </p:nvSpPr>
          <p:spPr>
            <a:xfrm>
              <a:off x="355428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80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82967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4500"/>
                </a:gs>
                <a:gs pos="50000">
                  <a:srgbClr val="008000"/>
                </a:gs>
                <a:gs pos="100000">
                  <a:srgbClr val="0045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椭圆 82968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8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椭圆 82969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组合 82970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31" name="椭圆 82971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椭圆 82972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椭圆 82973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椭圆 82974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文本框 82975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438" name="组合 74843"/>
          <p:cNvGrpSpPr/>
          <p:nvPr/>
        </p:nvGrpSpPr>
        <p:grpSpPr>
          <a:xfrm>
            <a:off x="1722600" y="1908000"/>
            <a:ext cx="2170080" cy="4035600"/>
            <a:chOff x="1722600" y="1908000"/>
            <a:chExt cx="2170080" cy="4035600"/>
          </a:xfrm>
        </p:grpSpPr>
        <p:sp>
          <p:nvSpPr>
            <p:cNvPr id="439" name="圆角矩形 74844"/>
            <p:cNvSpPr/>
            <p:nvPr/>
          </p:nvSpPr>
          <p:spPr>
            <a:xfrm>
              <a:off x="172260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74845"/>
            <p:cNvSpPr/>
            <p:nvPr/>
          </p:nvSpPr>
          <p:spPr>
            <a:xfrm>
              <a:off x="175608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74846"/>
            <p:cNvSpPr/>
            <p:nvPr/>
          </p:nvSpPr>
          <p:spPr>
            <a:xfrm>
              <a:off x="177336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74847"/>
            <p:cNvSpPr/>
            <p:nvPr/>
          </p:nvSpPr>
          <p:spPr>
            <a:xfrm>
              <a:off x="177336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圆角矩形 74848"/>
            <p:cNvSpPr/>
            <p:nvPr/>
          </p:nvSpPr>
          <p:spPr>
            <a:xfrm>
              <a:off x="172908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圆角矩形 74849"/>
            <p:cNvSpPr/>
            <p:nvPr/>
          </p:nvSpPr>
          <p:spPr>
            <a:xfrm>
              <a:off x="177336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74850"/>
            <p:cNvGrpSpPr/>
            <p:nvPr/>
          </p:nvGrpSpPr>
          <p:grpSpPr>
            <a:xfrm>
              <a:off x="2467080" y="1908000"/>
              <a:ext cx="642960" cy="642960"/>
              <a:chOff x="2467080" y="1908000"/>
              <a:chExt cx="642960" cy="642960"/>
            </a:xfrm>
          </p:grpSpPr>
          <p:sp>
            <p:nvSpPr>
              <p:cNvPr id="446" name="椭圆 74851"/>
              <p:cNvSpPr/>
              <p:nvPr/>
            </p:nvSpPr>
            <p:spPr>
              <a:xfrm>
                <a:off x="246708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椭圆 74852"/>
              <p:cNvSpPr/>
              <p:nvPr/>
            </p:nvSpPr>
            <p:spPr>
              <a:xfrm>
                <a:off x="247356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椭圆 74853"/>
              <p:cNvSpPr/>
              <p:nvPr/>
            </p:nvSpPr>
            <p:spPr>
              <a:xfrm>
                <a:off x="248148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椭圆 74854"/>
              <p:cNvSpPr/>
              <p:nvPr/>
            </p:nvSpPr>
            <p:spPr>
              <a:xfrm>
                <a:off x="248796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椭圆 74855"/>
              <p:cNvSpPr/>
              <p:nvPr/>
            </p:nvSpPr>
            <p:spPr>
              <a:xfrm>
                <a:off x="252180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文本框 74856"/>
            <p:cNvSpPr/>
            <p:nvPr/>
          </p:nvSpPr>
          <p:spPr>
            <a:xfrm>
              <a:off x="2607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文本框 74857"/>
            <p:cNvSpPr/>
            <p:nvPr/>
          </p:nvSpPr>
          <p:spPr>
            <a:xfrm>
              <a:off x="179892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74858"/>
          <p:cNvGrpSpPr/>
          <p:nvPr/>
        </p:nvGrpSpPr>
        <p:grpSpPr>
          <a:xfrm>
            <a:off x="4084560" y="1908000"/>
            <a:ext cx="2166840" cy="4035600"/>
            <a:chOff x="4084560" y="1908000"/>
            <a:chExt cx="2166840" cy="4035600"/>
          </a:xfrm>
        </p:grpSpPr>
        <p:sp>
          <p:nvSpPr>
            <p:cNvPr id="454" name="圆角矩形 74859"/>
            <p:cNvSpPr/>
            <p:nvPr/>
          </p:nvSpPr>
          <p:spPr>
            <a:xfrm>
              <a:off x="408456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圆角矩形 74860"/>
            <p:cNvSpPr/>
            <p:nvPr/>
          </p:nvSpPr>
          <p:spPr>
            <a:xfrm>
              <a:off x="411768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74861"/>
            <p:cNvSpPr/>
            <p:nvPr/>
          </p:nvSpPr>
          <p:spPr>
            <a:xfrm>
              <a:off x="413532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圆角矩形 74862"/>
            <p:cNvSpPr/>
            <p:nvPr/>
          </p:nvSpPr>
          <p:spPr>
            <a:xfrm>
              <a:off x="413532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 74863"/>
            <p:cNvSpPr/>
            <p:nvPr/>
          </p:nvSpPr>
          <p:spPr>
            <a:xfrm>
              <a:off x="482904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 74864"/>
            <p:cNvSpPr/>
            <p:nvPr/>
          </p:nvSpPr>
          <p:spPr>
            <a:xfrm>
              <a:off x="483516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椭圆 74865"/>
            <p:cNvSpPr/>
            <p:nvPr/>
          </p:nvSpPr>
          <p:spPr>
            <a:xfrm>
              <a:off x="484344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椭圆 74866"/>
            <p:cNvSpPr/>
            <p:nvPr/>
          </p:nvSpPr>
          <p:spPr>
            <a:xfrm>
              <a:off x="484956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椭圆 74867"/>
            <p:cNvSpPr/>
            <p:nvPr/>
          </p:nvSpPr>
          <p:spPr>
            <a:xfrm>
              <a:off x="488448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文本框 74868"/>
            <p:cNvSpPr/>
            <p:nvPr/>
          </p:nvSpPr>
          <p:spPr>
            <a:xfrm>
              <a:off x="496908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文本框 74869"/>
            <p:cNvSpPr/>
            <p:nvPr/>
          </p:nvSpPr>
          <p:spPr>
            <a:xfrm>
              <a:off x="416052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圆角矩形 74870"/>
            <p:cNvSpPr/>
            <p:nvPr/>
          </p:nvSpPr>
          <p:spPr>
            <a:xfrm>
              <a:off x="408744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74871"/>
            <p:cNvSpPr/>
            <p:nvPr/>
          </p:nvSpPr>
          <p:spPr>
            <a:xfrm>
              <a:off x="4132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组合 74872"/>
          <p:cNvGrpSpPr/>
          <p:nvPr/>
        </p:nvGrpSpPr>
        <p:grpSpPr>
          <a:xfrm>
            <a:off x="6440400" y="1908000"/>
            <a:ext cx="2170080" cy="4035600"/>
            <a:chOff x="6440400" y="1908000"/>
            <a:chExt cx="2170080" cy="4035600"/>
          </a:xfrm>
        </p:grpSpPr>
        <p:sp>
          <p:nvSpPr>
            <p:cNvPr id="468" name="圆角矩形 74873"/>
            <p:cNvSpPr/>
            <p:nvPr/>
          </p:nvSpPr>
          <p:spPr>
            <a:xfrm>
              <a:off x="644652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圆角矩形 74874"/>
            <p:cNvSpPr/>
            <p:nvPr/>
          </p:nvSpPr>
          <p:spPr>
            <a:xfrm>
              <a:off x="64800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圆角矩形 74875"/>
            <p:cNvSpPr/>
            <p:nvPr/>
          </p:nvSpPr>
          <p:spPr>
            <a:xfrm>
              <a:off x="649728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圆角矩形 74876"/>
            <p:cNvSpPr/>
            <p:nvPr/>
          </p:nvSpPr>
          <p:spPr>
            <a:xfrm>
              <a:off x="649728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组合 74877"/>
            <p:cNvGrpSpPr/>
            <p:nvPr/>
          </p:nvGrpSpPr>
          <p:grpSpPr>
            <a:xfrm>
              <a:off x="7191000" y="1908000"/>
              <a:ext cx="642960" cy="642960"/>
              <a:chOff x="7191000" y="1908000"/>
              <a:chExt cx="642960" cy="642960"/>
            </a:xfrm>
          </p:grpSpPr>
          <p:sp>
            <p:nvSpPr>
              <p:cNvPr id="473" name="椭圆 74878"/>
              <p:cNvSpPr/>
              <p:nvPr/>
            </p:nvSpPr>
            <p:spPr>
              <a:xfrm>
                <a:off x="71910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椭圆 74879"/>
              <p:cNvSpPr/>
              <p:nvPr/>
            </p:nvSpPr>
            <p:spPr>
              <a:xfrm>
                <a:off x="71974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椭圆 74880"/>
              <p:cNvSpPr/>
              <p:nvPr/>
            </p:nvSpPr>
            <p:spPr>
              <a:xfrm>
                <a:off x="72054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椭圆 74881"/>
              <p:cNvSpPr/>
              <p:nvPr/>
            </p:nvSpPr>
            <p:spPr>
              <a:xfrm>
                <a:off x="72118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椭圆 74882"/>
              <p:cNvSpPr/>
              <p:nvPr/>
            </p:nvSpPr>
            <p:spPr>
              <a:xfrm>
                <a:off x="72457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文本框 74883"/>
            <p:cNvSpPr/>
            <p:nvPr/>
          </p:nvSpPr>
          <p:spPr>
            <a:xfrm>
              <a:off x="73314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文本框 74884"/>
            <p:cNvSpPr/>
            <p:nvPr/>
          </p:nvSpPr>
          <p:spPr>
            <a:xfrm>
              <a:off x="65228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74885"/>
            <p:cNvSpPr/>
            <p:nvPr/>
          </p:nvSpPr>
          <p:spPr>
            <a:xfrm>
              <a:off x="64404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74886"/>
            <p:cNvSpPr/>
            <p:nvPr/>
          </p:nvSpPr>
          <p:spPr>
            <a:xfrm>
              <a:off x="64846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484" name="组合 75872"/>
          <p:cNvGrpSpPr/>
          <p:nvPr/>
        </p:nvGrpSpPr>
        <p:grpSpPr>
          <a:xfrm>
            <a:off x="241200" y="2031840"/>
            <a:ext cx="8664840" cy="3985920"/>
            <a:chOff x="241200" y="2031840"/>
            <a:chExt cx="8664840" cy="3985920"/>
          </a:xfrm>
        </p:grpSpPr>
        <p:grpSp>
          <p:nvGrpSpPr>
            <p:cNvPr id="485" name="组合 75778"/>
            <p:cNvGrpSpPr/>
            <p:nvPr/>
          </p:nvGrpSpPr>
          <p:grpSpPr>
            <a:xfrm>
              <a:off x="241200" y="3238560"/>
              <a:ext cx="8664840" cy="142560"/>
              <a:chOff x="241200" y="3238560"/>
              <a:chExt cx="8664840" cy="142560"/>
            </a:xfrm>
          </p:grpSpPr>
          <p:sp>
            <p:nvSpPr>
              <p:cNvPr id="486" name="矩形 75779"/>
              <p:cNvSpPr/>
              <p:nvPr/>
            </p:nvSpPr>
            <p:spPr>
              <a:xfrm>
                <a:off x="241200" y="3238560"/>
                <a:ext cx="866484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矩形 75780"/>
              <p:cNvSpPr/>
              <p:nvPr/>
            </p:nvSpPr>
            <p:spPr>
              <a:xfrm>
                <a:off x="241200" y="3293280"/>
                <a:ext cx="866484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组合 75868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89" name="组合 75834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90" name="组合 75835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91" name="任意多边形 75836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任意多边形 75837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组合 75838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94" name="任意多边形 75839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任意多边形 75840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组合 75841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97" name="椭圆 75842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椭圆 75843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椭圆 75844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椭圆 75845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椭圆 75846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组合 75847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503" name="椭圆 75848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椭圆 75849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椭圆 75850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椭圆 75851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7" name="文本框 75852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文本框 75853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组合 75869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10" name="组合 75816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11" name="组合 75817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12" name="任意多边形 75818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任意多边形 75819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组合 75820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15" name="任意多边形 75821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任意多边形 75822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7" name="组合 75823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18" name="椭圆 75824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75825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75826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椭圆 75827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椭圆 75828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3" name="组合 75829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24" name="椭圆 75830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椭圆 75831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椭圆 75832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椭圆 75833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文本框 75854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文本框 75855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组合 75870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31" name="组合 75781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32" name="组合 75782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33" name="任意多边形 75783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任意多边形 75784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组合 75785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36" name="任意多边形 75786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任意多边形 75787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8" name="组合 75788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9" name="椭圆 75789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75790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椭圆 75791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椭圆 75792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椭圆 75793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组合 75794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45" name="椭圆 75795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椭圆 75796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椭圆 75797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椭圆 75798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9" name="文本框 75856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文本框 75857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组合 75871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52" name="组合 75799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53" name="组合 75800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54" name="任意多边形 75801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任意多边形 75802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组合 75803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57" name="任意多边形 75804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任意多边形 75805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9" name="椭圆 75806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椭圆 75807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椭圆 75808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椭圆 75809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椭圆 75810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组合 75811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65" name="椭圆 75812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椭圆 75813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椭圆 75814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椭圆 75815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文本框 75858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文本框 75859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组合 75860"/>
            <p:cNvGrpSpPr/>
            <p:nvPr/>
          </p:nvGrpSpPr>
          <p:grpSpPr>
            <a:xfrm>
              <a:off x="1098360" y="2031840"/>
              <a:ext cx="6057000" cy="407880"/>
              <a:chOff x="1098360" y="2031840"/>
              <a:chExt cx="6057000" cy="407880"/>
            </a:xfrm>
          </p:grpSpPr>
          <p:sp>
            <p:nvSpPr>
              <p:cNvPr id="572" name="文本框 75861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文本框 75862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文本框 75863"/>
              <p:cNvSpPr/>
              <p:nvPr/>
            </p:nvSpPr>
            <p:spPr>
              <a:xfrm>
                <a:off x="459900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文本框 75864"/>
              <p:cNvSpPr/>
              <p:nvPr/>
            </p:nvSpPr>
            <p:spPr>
              <a:xfrm>
                <a:off x="638928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6" name="直接箭头连接符 75865"/>
              <p:cNvCxnSpPr>
                <a:stCxn id="572" idx="3"/>
                <a:endCxn id="573" idx="1"/>
              </p:cNvCxnSpPr>
              <p:nvPr/>
            </p:nvCxnSpPr>
            <p:spPr>
              <a:xfrm>
                <a:off x="1835280" y="225540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77" name="直接箭头连接符 75866"/>
              <p:cNvCxnSpPr>
                <a:stCxn id="573" idx="3"/>
                <a:endCxn id="574" idx="1"/>
              </p:cNvCxnSpPr>
              <p:nvPr/>
            </p:nvCxnSpPr>
            <p:spPr>
              <a:xfrm>
                <a:off x="3588840" y="225540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78" name="直接箭头连接符 75867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79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581" name="组合 76802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82" name="组合 76803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83" name="圆角矩形 76804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组合 76805"/>
              <p:cNvGrpSpPr/>
              <p:nvPr/>
            </p:nvGrpSpPr>
            <p:grpSpPr>
              <a:xfrm>
                <a:off x="1801080" y="1638360"/>
                <a:ext cx="1101600" cy="1020600"/>
                <a:chOff x="1801080" y="1638360"/>
                <a:chExt cx="1101600" cy="1020600"/>
              </a:xfrm>
            </p:grpSpPr>
            <p:sp>
              <p:nvSpPr>
                <p:cNvPr id="585" name="圆角矩形 76806"/>
                <p:cNvSpPr/>
                <p:nvPr/>
              </p:nvSpPr>
              <p:spPr>
                <a:xfrm>
                  <a:off x="1801080" y="1638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9aa877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任意多边形 76807"/>
                <p:cNvSpPr/>
                <p:nvPr/>
              </p:nvSpPr>
              <p:spPr>
                <a:xfrm>
                  <a:off x="1869840" y="170388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cf7d1"/>
                    </a:gs>
                    <a:gs pos="50000">
                      <a:srgbClr val="ddf1ab">
                        <a:alpha val="0"/>
                      </a:srgbClr>
                    </a:gs>
                    <a:gs pos="100000">
                      <a:srgbClr val="ecf7d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文本框 76808"/>
                <p:cNvSpPr/>
                <p:nvPr/>
              </p:nvSpPr>
              <p:spPr>
                <a:xfrm>
                  <a:off x="1913760" y="19162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文本框 76809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组合 76810"/>
            <p:cNvGrpSpPr/>
            <p:nvPr/>
          </p:nvGrpSpPr>
          <p:grpSpPr>
            <a:xfrm>
              <a:off x="1676520" y="2990520"/>
              <a:ext cx="5715000" cy="1247760"/>
              <a:chOff x="1676520" y="2990520"/>
              <a:chExt cx="5715000" cy="1247760"/>
            </a:xfrm>
          </p:grpSpPr>
          <p:sp>
            <p:nvSpPr>
              <p:cNvPr id="590" name="圆角矩形 76811"/>
              <p:cNvSpPr/>
              <p:nvPr/>
            </p:nvSpPr>
            <p:spPr>
              <a:xfrm>
                <a:off x="1676520" y="299052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1" name="组合 76812"/>
              <p:cNvGrpSpPr/>
              <p:nvPr/>
            </p:nvGrpSpPr>
            <p:grpSpPr>
              <a:xfrm>
                <a:off x="1801080" y="3105000"/>
                <a:ext cx="1101600" cy="1020600"/>
                <a:chOff x="1801080" y="3105000"/>
                <a:chExt cx="1101600" cy="1020600"/>
              </a:xfrm>
            </p:grpSpPr>
            <p:sp>
              <p:nvSpPr>
                <p:cNvPr id="592" name="圆角矩形 76813"/>
                <p:cNvSpPr/>
                <p:nvPr/>
              </p:nvSpPr>
              <p:spPr>
                <a:xfrm>
                  <a:off x="1801080" y="310500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6a346"/>
                    </a:gs>
                    <a:gs pos="100000">
                      <a:srgbClr val="0080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任意多边形 76814"/>
                <p:cNvSpPr/>
                <p:nvPr/>
              </p:nvSpPr>
              <p:spPr>
                <a:xfrm>
                  <a:off x="1869840" y="317052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3c993"/>
                    </a:gs>
                    <a:gs pos="100000">
                      <a:srgbClr val="008000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文本框 76815"/>
                <p:cNvSpPr/>
                <p:nvPr/>
              </p:nvSpPr>
              <p:spPr>
                <a:xfrm>
                  <a:off x="1913760" y="33840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文本框 76816"/>
              <p:cNvSpPr/>
              <p:nvPr/>
            </p:nvSpPr>
            <p:spPr>
              <a:xfrm>
                <a:off x="3052080" y="316116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组合 76817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97" name="圆角矩形 76818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组合 76819"/>
              <p:cNvGrpSpPr/>
              <p:nvPr/>
            </p:nvGrpSpPr>
            <p:grpSpPr>
              <a:xfrm>
                <a:off x="1801080" y="4581360"/>
                <a:ext cx="1101600" cy="1020600"/>
                <a:chOff x="1801080" y="4581360"/>
                <a:chExt cx="1101600" cy="1020600"/>
              </a:xfrm>
            </p:grpSpPr>
            <p:sp>
              <p:nvSpPr>
                <p:cNvPr id="599" name="圆角矩形 76820"/>
                <p:cNvSpPr/>
                <p:nvPr/>
              </p:nvSpPr>
              <p:spPr>
                <a:xfrm>
                  <a:off x="1801080" y="4581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a0d768"/>
                    </a:gs>
                    <a:gs pos="100000">
                      <a:srgbClr val="69c012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任意多边形 76821"/>
                <p:cNvSpPr/>
                <p:nvPr/>
              </p:nvSpPr>
              <p:spPr>
                <a:xfrm>
                  <a:off x="1869840" y="464688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6e08c"/>
                    </a:gs>
                    <a:gs pos="100000">
                      <a:srgbClr val="69c012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文本框 76822"/>
                <p:cNvSpPr/>
                <p:nvPr/>
              </p:nvSpPr>
              <p:spPr>
                <a:xfrm>
                  <a:off x="191376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文本框 76823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3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05" name="圆角矩形 77826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圆角矩形 77827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圆角矩形 77828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圆角矩形 77829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组合 77830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610" name="矩形 77831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组合 77832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12" name="椭圆 77833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矩形 77834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椭圆 77835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77836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矩形 77837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组合 77838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18" name="椭圆 77839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矩形 77840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椭圆 77841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77842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矩形 77843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组合 77844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24" name="椭圆 77845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矩形 77846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椭圆 77847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77848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矩形 77849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矩形 77850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77851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77852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77853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77854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77855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77856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77857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650960" y="2360520"/>
          <a:ext cx="6842160" cy="2847960"/>
        </p:xfrm>
        <a:graphic>
          <a:graphicData uri="http://schemas.openxmlformats.org/drawingml/2006/table">
            <a:tbl>
              <a:tblPr/>
              <a:tblGrid>
                <a:gridCol w="1542960"/>
                <a:gridCol w="1076400"/>
                <a:gridCol w="1055880"/>
                <a:gridCol w="1054080"/>
                <a:gridCol w="1060200"/>
                <a:gridCol w="1052640"/>
              </a:tblGrid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9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40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642" name="组合 79874"/>
          <p:cNvGrpSpPr/>
          <p:nvPr/>
        </p:nvGrpSpPr>
        <p:grpSpPr>
          <a:xfrm>
            <a:off x="1349280" y="1509120"/>
            <a:ext cx="6575400" cy="4666320"/>
            <a:chOff x="1349280" y="1509120"/>
            <a:chExt cx="6575400" cy="4666320"/>
          </a:xfrm>
        </p:grpSpPr>
        <p:sp>
          <p:nvSpPr>
            <p:cNvPr id="643" name="椭圆 79875"/>
            <p:cNvSpPr/>
            <p:nvPr/>
          </p:nvSpPr>
          <p:spPr>
            <a:xfrm>
              <a:off x="2362320" y="45194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椭圆 79876"/>
            <p:cNvSpPr/>
            <p:nvPr/>
          </p:nvSpPr>
          <p:spPr>
            <a:xfrm rot="20601600">
              <a:off x="1672920" y="24084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79877"/>
            <p:cNvSpPr/>
            <p:nvPr/>
          </p:nvSpPr>
          <p:spPr>
            <a:xfrm rot="20601600">
              <a:off x="1692000" y="22446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79878"/>
            <p:cNvSpPr/>
            <p:nvPr/>
          </p:nvSpPr>
          <p:spPr>
            <a:xfrm rot="20601600">
              <a:off x="4349880" y="2133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5aa5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79879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d4964a"/>
                </a:gs>
                <a:gs pos="100000">
                  <a:srgbClr val="815b2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79880"/>
            <p:cNvSpPr/>
            <p:nvPr/>
          </p:nvSpPr>
          <p:spPr>
            <a:xfrm rot="20601600">
              <a:off x="2823840" y="2224080"/>
              <a:ext cx="3184560" cy="14158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solidFill>
              <a:srgbClr val="69c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79881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ddf1ab"/>
                </a:gs>
                <a:gs pos="100000">
                  <a:srgbClr val="78835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椭圆 79882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79883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文本框 79884"/>
            <p:cNvSpPr/>
            <p:nvPr/>
          </p:nvSpPr>
          <p:spPr>
            <a:xfrm>
              <a:off x="4050360" y="2419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文本框 79885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组合 79886"/>
            <p:cNvGrpSpPr/>
            <p:nvPr/>
          </p:nvGrpSpPr>
          <p:grpSpPr>
            <a:xfrm>
              <a:off x="4514400" y="2694960"/>
              <a:ext cx="3164760" cy="2769120"/>
              <a:chOff x="4514400" y="2694960"/>
              <a:chExt cx="3164760" cy="2769120"/>
            </a:xfrm>
          </p:grpSpPr>
          <p:sp>
            <p:nvSpPr>
              <p:cNvPr id="655" name="任意多边形 79887"/>
              <p:cNvSpPr/>
              <p:nvPr/>
            </p:nvSpPr>
            <p:spPr>
              <a:xfrm>
                <a:off x="5668920" y="36766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b5b5b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79888"/>
              <p:cNvSpPr/>
              <p:nvPr/>
            </p:nvSpPr>
            <p:spPr>
              <a:xfrm rot="20539200">
                <a:off x="4732200" y="30650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79889"/>
              <p:cNvSpPr/>
              <p:nvPr/>
            </p:nvSpPr>
            <p:spPr>
              <a:xfrm>
                <a:off x="4803840" y="41529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9890"/>
              <p:cNvSpPr/>
              <p:nvPr/>
            </p:nvSpPr>
            <p:spPr>
              <a:xfrm>
                <a:off x="5574240" y="39434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文本框 79891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79892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79893"/>
            <p:cNvSpPr/>
            <p:nvPr/>
          </p:nvSpPr>
          <p:spPr>
            <a:xfrm rot="20601600">
              <a:off x="3257640" y="32097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664" name="组合 80898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665" name="上箭头 80899"/>
            <p:cNvSpPr/>
            <p:nvPr/>
          </p:nvSpPr>
          <p:spPr>
            <a:xfrm>
              <a:off x="2127960" y="2440800"/>
              <a:ext cx="5074200" cy="247752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圆角矩形 80900"/>
            <p:cNvSpPr/>
            <p:nvPr/>
          </p:nvSpPr>
          <p:spPr>
            <a:xfrm>
              <a:off x="1918440" y="1752480"/>
              <a:ext cx="5312880" cy="51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bad5b"/>
                </a:gs>
                <a:gs pos="100000">
                  <a:srgbClr val="008000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文本框 80901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组合 80902"/>
            <p:cNvGrpSpPr/>
            <p:nvPr/>
          </p:nvGrpSpPr>
          <p:grpSpPr>
            <a:xfrm>
              <a:off x="1219320" y="4132440"/>
              <a:ext cx="1363320" cy="1796400"/>
              <a:chOff x="1219320" y="4132440"/>
              <a:chExt cx="1363320" cy="1796400"/>
            </a:xfrm>
          </p:grpSpPr>
          <p:grpSp>
            <p:nvGrpSpPr>
              <p:cNvPr id="669" name="组合 80903"/>
              <p:cNvGrpSpPr/>
              <p:nvPr/>
            </p:nvGrpSpPr>
            <p:grpSpPr>
              <a:xfrm>
                <a:off x="1219320" y="4132440"/>
                <a:ext cx="1363320" cy="1368000"/>
                <a:chOff x="1219320" y="4132440"/>
                <a:chExt cx="1363320" cy="1368000"/>
              </a:xfrm>
            </p:grpSpPr>
            <p:grpSp>
              <p:nvGrpSpPr>
                <p:cNvPr id="670" name="组合 80904"/>
                <p:cNvGrpSpPr/>
                <p:nvPr/>
              </p:nvGrpSpPr>
              <p:grpSpPr>
                <a:xfrm>
                  <a:off x="1219320" y="4132440"/>
                  <a:ext cx="1363320" cy="1368000"/>
                  <a:chOff x="1219320" y="4132440"/>
                  <a:chExt cx="1363320" cy="1368000"/>
                </a:xfrm>
              </p:grpSpPr>
              <p:sp>
                <p:nvSpPr>
                  <p:cNvPr id="671" name="椭圆 80905"/>
                  <p:cNvSpPr/>
                  <p:nvPr/>
                </p:nvSpPr>
                <p:spPr>
                  <a:xfrm>
                    <a:off x="1219320" y="413244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9c012"/>
                      </a:gs>
                      <a:gs pos="100000">
                        <a:srgbClr val="437a0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任意多边形 80906"/>
                  <p:cNvSpPr/>
                  <p:nvPr/>
                </p:nvSpPr>
                <p:spPr>
                  <a:xfrm>
                    <a:off x="1375200" y="415512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9c0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3" name="文本框 80907"/>
                <p:cNvSpPr/>
                <p:nvPr/>
              </p:nvSpPr>
              <p:spPr>
                <a:xfrm>
                  <a:off x="1316160" y="48279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椭圆 80908"/>
              <p:cNvSpPr/>
              <p:nvPr/>
            </p:nvSpPr>
            <p:spPr>
              <a:xfrm>
                <a:off x="1359000" y="5577840"/>
                <a:ext cx="110664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组合 80909"/>
            <p:cNvGrpSpPr/>
            <p:nvPr/>
          </p:nvGrpSpPr>
          <p:grpSpPr>
            <a:xfrm>
              <a:off x="6602400" y="4092480"/>
              <a:ext cx="1398240" cy="1866240"/>
              <a:chOff x="6602400" y="4092480"/>
              <a:chExt cx="1398240" cy="1866240"/>
            </a:xfrm>
          </p:grpSpPr>
          <p:grpSp>
            <p:nvGrpSpPr>
              <p:cNvPr id="676" name="组合 80910"/>
              <p:cNvGrpSpPr/>
              <p:nvPr/>
            </p:nvGrpSpPr>
            <p:grpSpPr>
              <a:xfrm>
                <a:off x="6602400" y="4092480"/>
                <a:ext cx="1398240" cy="1383120"/>
                <a:chOff x="6602400" y="4092480"/>
                <a:chExt cx="1398240" cy="1383120"/>
              </a:xfrm>
            </p:grpSpPr>
            <p:grpSp>
              <p:nvGrpSpPr>
                <p:cNvPr id="677" name="组合 80911"/>
                <p:cNvGrpSpPr/>
                <p:nvPr/>
              </p:nvGrpSpPr>
              <p:grpSpPr>
                <a:xfrm>
                  <a:off x="6602400" y="4092480"/>
                  <a:ext cx="1398240" cy="1383120"/>
                  <a:chOff x="6602400" y="4092480"/>
                  <a:chExt cx="1398240" cy="1383120"/>
                </a:xfrm>
              </p:grpSpPr>
              <p:sp>
                <p:nvSpPr>
                  <p:cNvPr id="678" name="椭圆 80912"/>
                  <p:cNvSpPr/>
                  <p:nvPr/>
                </p:nvSpPr>
                <p:spPr>
                  <a:xfrm>
                    <a:off x="6602400" y="409248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任意多边形 80913"/>
                  <p:cNvSpPr/>
                  <p:nvPr/>
                </p:nvSpPr>
                <p:spPr>
                  <a:xfrm>
                    <a:off x="6762240" y="411516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" name="文本框 80914"/>
                <p:cNvSpPr/>
                <p:nvPr/>
              </p:nvSpPr>
              <p:spPr>
                <a:xfrm>
                  <a:off x="6684120" y="47358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椭圆 80915"/>
              <p:cNvSpPr/>
              <p:nvPr/>
            </p:nvSpPr>
            <p:spPr>
              <a:xfrm>
                <a:off x="6641640" y="5518800"/>
                <a:ext cx="1335240" cy="4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组合 80916"/>
            <p:cNvGrpSpPr/>
            <p:nvPr/>
          </p:nvGrpSpPr>
          <p:grpSpPr>
            <a:xfrm>
              <a:off x="2967120" y="4132440"/>
              <a:ext cx="1397880" cy="1886760"/>
              <a:chOff x="2967120" y="4132440"/>
              <a:chExt cx="1397880" cy="1886760"/>
            </a:xfrm>
          </p:grpSpPr>
          <p:grpSp>
            <p:nvGrpSpPr>
              <p:cNvPr id="683" name="组合 80917"/>
              <p:cNvGrpSpPr/>
              <p:nvPr/>
            </p:nvGrpSpPr>
            <p:grpSpPr>
              <a:xfrm>
                <a:off x="2967120" y="4132440"/>
                <a:ext cx="1397880" cy="1373400"/>
                <a:chOff x="2967120" y="4132440"/>
                <a:chExt cx="1397880" cy="1373400"/>
              </a:xfrm>
            </p:grpSpPr>
            <p:sp>
              <p:nvSpPr>
                <p:cNvPr id="684" name="椭圆 80918"/>
                <p:cNvSpPr/>
                <p:nvPr/>
              </p:nvSpPr>
              <p:spPr>
                <a:xfrm>
                  <a:off x="2967120" y="41324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4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任意多边形 80919"/>
                <p:cNvSpPr/>
                <p:nvPr/>
              </p:nvSpPr>
              <p:spPr>
                <a:xfrm>
                  <a:off x="3126960" y="41551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文本框 80920"/>
              <p:cNvSpPr/>
              <p:nvPr/>
            </p:nvSpPr>
            <p:spPr>
              <a:xfrm>
                <a:off x="3036960" y="479160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椭圆 80921"/>
              <p:cNvSpPr/>
              <p:nvPr/>
            </p:nvSpPr>
            <p:spPr>
              <a:xfrm>
                <a:off x="2967120" y="55778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组合 80922"/>
            <p:cNvGrpSpPr/>
            <p:nvPr/>
          </p:nvGrpSpPr>
          <p:grpSpPr>
            <a:xfrm>
              <a:off x="4854600" y="4092480"/>
              <a:ext cx="1397880" cy="1886400"/>
              <a:chOff x="4854600" y="4092480"/>
              <a:chExt cx="1397880" cy="1886400"/>
            </a:xfrm>
          </p:grpSpPr>
          <p:grpSp>
            <p:nvGrpSpPr>
              <p:cNvPr id="689" name="组合 80923"/>
              <p:cNvGrpSpPr/>
              <p:nvPr/>
            </p:nvGrpSpPr>
            <p:grpSpPr>
              <a:xfrm>
                <a:off x="4854600" y="4092480"/>
                <a:ext cx="1397880" cy="1373040"/>
                <a:chOff x="4854600" y="4092480"/>
                <a:chExt cx="1397880" cy="1373040"/>
              </a:xfrm>
            </p:grpSpPr>
            <p:sp>
              <p:nvSpPr>
                <p:cNvPr id="690" name="椭圆 80924"/>
                <p:cNvSpPr/>
                <p:nvPr/>
              </p:nvSpPr>
              <p:spPr>
                <a:xfrm>
                  <a:off x="4854600" y="4092480"/>
                  <a:ext cx="1397880" cy="13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727c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任意多边形 80925"/>
                <p:cNvSpPr/>
                <p:nvPr/>
              </p:nvSpPr>
              <p:spPr>
                <a:xfrm>
                  <a:off x="5014440" y="4115160"/>
                  <a:ext cx="1078200" cy="518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f1a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文本框 80926"/>
              <p:cNvSpPr/>
              <p:nvPr/>
            </p:nvSpPr>
            <p:spPr>
              <a:xfrm>
                <a:off x="4924440" y="475164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椭圆 80927"/>
              <p:cNvSpPr/>
              <p:nvPr/>
            </p:nvSpPr>
            <p:spPr>
              <a:xfrm>
                <a:off x="4854600" y="553752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47" name="文本框 64514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64515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49" name="圆角矩形 64516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f2cd"/>
                </a:gs>
                <a:gs pos="100000">
                  <a:srgbClr val="69c012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菱形 64517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69c01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64518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64519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64520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54" name="圆角矩形 64521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9dcb9"/>
                </a:gs>
                <a:gs pos="100000">
                  <a:srgbClr val="008000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菱形 64522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64523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64524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64525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59" name="圆角矩形 64526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f2cd"/>
                </a:gs>
                <a:gs pos="100000">
                  <a:srgbClr val="69c012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菱形 64527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9c01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64528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64529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64530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64" name="圆角矩形 64531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e4c9"/>
                </a:gs>
                <a:gs pos="100000">
                  <a:srgbClr val="008000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菱形 64532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64533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64534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076B-3E99-4507-A436-AB0DA899EB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81921"/>
          <p:cNvSpPr txBox="1"/>
          <p:nvPr/>
        </p:nvSpPr>
        <p:spPr>
          <a:xfrm>
            <a:off x="2895480" y="220968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df1a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8000"/>
                  </a:gs>
                  <a:gs pos="100000">
                    <a:srgbClr val="ddf1ab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0" name="页脚占位符 2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240" y="16761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6"/>
              </a:spcBef>
              <a:buClr>
                <a:srgbClr val="ddf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9c01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9c01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9c01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9c01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73" name="组合 65554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74" name="圆角矩形 65539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65540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任意多边形 65541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c012"/>
              </a:gs>
              <a:gs pos="100000">
                <a:srgbClr val="a0d7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5542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65556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79" name="组合 65544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80" name="组合 65545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81" name="椭圆 65546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3e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椭圆 65547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c78e"/>
                    </a:gs>
                    <a:gs pos="100000">
                      <a:srgbClr val="008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椭圆 65548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6704f"/>
                  </a:gs>
                  <a:gs pos="100000">
                    <a:srgbClr val="ddf1a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65549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ddf1ab">
                      <a:alpha val="0"/>
                    </a:srgbClr>
                  </a:gs>
                  <a:gs pos="100000">
                    <a:srgbClr val="f3fa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65550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afbf87"/>
                  </a:gs>
                  <a:gs pos="100000">
                    <a:srgbClr val="ddf1ab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椭圆 65551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f1ab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文本框 65552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65555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9" name="圆角矩形 65538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65553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任意多边形 65543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aed7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94" name="组合 66562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95" name="任意多边形 66563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66564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2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66565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f1ab"/>
                </a:gs>
                <a:gs pos="100000">
                  <a:srgbClr val="454c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66566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9c012"/>
                </a:gs>
                <a:gs pos="100000">
                  <a:srgbClr val="2545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66567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66568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66569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66570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66571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66572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66573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66574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08" name="直接连接符 66575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0" name="直接箭头连接符 66576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11" name="文本框 66577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14" name="组合 67586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15" name="圆柱形 67587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圆柱形 67588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圆柱形 67589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67590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67591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67592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左箭头 67593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角矩形 67594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67595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圆角矩形 67596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67597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右箭头 67598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圆柱形 67599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15908"/>
                </a:gs>
                <a:gs pos="50000">
                  <a:srgbClr val="69c012"/>
                </a:gs>
                <a:gs pos="100000">
                  <a:srgbClr val="3159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上箭头 67600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67601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圆柱形 67602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67603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下箭头 67604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35" name="组合 68610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6" name="组合 68611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37" name="上箭头 68612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上箭头 68613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上箭头 68614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椭圆 68615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椭圆 68616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椭圆 68617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80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椭圆 68618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椭圆 68619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004500"/>
                  </a:gs>
                  <a:gs pos="50000">
                    <a:srgbClr val="008000"/>
                  </a:gs>
                  <a:gs pos="100000">
                    <a:srgbClr val="0045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椭圆 68620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圆柱形 68621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圆柱形 68622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柱形 68623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柱形 68624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704f"/>
                </a:gs>
                <a:gs pos="50000">
                  <a:srgbClr val="ddf1ab"/>
                </a:gs>
                <a:gs pos="100000">
                  <a:srgbClr val="66704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圆柱形 68625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704f"/>
                </a:gs>
                <a:gs pos="50000">
                  <a:srgbClr val="ddf1ab"/>
                </a:gs>
                <a:gs pos="100000">
                  <a:srgbClr val="66704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圆柱形 68626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704f"/>
                </a:gs>
                <a:gs pos="50000">
                  <a:srgbClr val="ddf1ab"/>
                </a:gs>
                <a:gs pos="100000">
                  <a:srgbClr val="66704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8627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圆角矩形 68628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68629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68630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68631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68632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68633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68634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62" name="组合 69661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63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64" name="直接连接符 69634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67" name="直接连接符 69635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70" name="直接连接符 69636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73" name="直接连接符 69637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76" name="直接连接符 69638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79" name="直接连接符 69639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82" name="直接连接符 69640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85" name="直接连接符 69641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288" name="直接连接符 69642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文本框 69643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6964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69645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文本框 6964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69647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95" name="任意多边形 69648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5908"/>
                  </a:gs>
                  <a:gs pos="50000">
                    <a:srgbClr val="69c012"/>
                  </a:gs>
                  <a:gs pos="100000">
                    <a:srgbClr val="31590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任意多边形 69649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69c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任意多边形 69650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任意多边形 69651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任意多边形 69652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任意多边形 69653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704f"/>
                  </a:gs>
                  <a:gs pos="50000">
                    <a:srgbClr val="ddf1ab"/>
                  </a:gs>
                  <a:gs pos="100000">
                    <a:srgbClr val="6670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任意多边形 69654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ddf1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任意多边形 69655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69656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4c8b0d"/>
                  </a:gs>
                  <a:gs pos="50000">
                    <a:srgbClr val="69c012"/>
                  </a:gs>
                  <a:gs pos="100000">
                    <a:srgbClr val="4c8b0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6965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5d00"/>
                  </a:gs>
                  <a:gs pos="50000">
                    <a:srgbClr val="008000"/>
                  </a:gs>
                  <a:gs pos="100000">
                    <a:srgbClr val="005d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任意多边形 69658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69659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d6d6d"/>
                  </a:gs>
                  <a:gs pos="50000">
                    <a:srgbClr val="969696"/>
                  </a:gs>
                  <a:gs pos="100000">
                    <a:srgbClr val="6d6d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矩形 69660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a0af7c"/>
                  </a:gs>
                  <a:gs pos="50000">
                    <a:srgbClr val="ddf1ab"/>
                  </a:gs>
                  <a:gs pos="100000">
                    <a:srgbClr val="a0af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10" name="组合 70658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311" name="任意多边形 70659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178b17">
                    <a:alpha val="32156"/>
                  </a:srgbClr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圆角矩形 70660"/>
            <p:cNvSpPr/>
            <p:nvPr/>
          </p:nvSpPr>
          <p:spPr>
            <a:xfrm>
              <a:off x="329580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9c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70661"/>
            <p:cNvSpPr/>
            <p:nvPr/>
          </p:nvSpPr>
          <p:spPr>
            <a:xfrm>
              <a:off x="352440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5908"/>
                </a:gs>
                <a:gs pos="50000">
                  <a:srgbClr val="69c012"/>
                </a:gs>
                <a:gs pos="100000">
                  <a:srgbClr val="3159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八边形 70662"/>
            <p:cNvSpPr/>
            <p:nvPr/>
          </p:nvSpPr>
          <p:spPr>
            <a:xfrm flipH="1">
              <a:off x="5164920" y="2698920"/>
              <a:ext cx="716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八边形 70663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圆角矩形 70664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圆角矩形 70665"/>
            <p:cNvSpPr/>
            <p:nvPr/>
          </p:nvSpPr>
          <p:spPr>
            <a:xfrm>
              <a:off x="5964120" y="2135160"/>
              <a:ext cx="182592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八边形 70666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八边形 70667"/>
            <p:cNvSpPr/>
            <p:nvPr/>
          </p:nvSpPr>
          <p:spPr>
            <a:xfrm flipH="1">
              <a:off x="606600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70668"/>
            <p:cNvSpPr/>
            <p:nvPr/>
          </p:nvSpPr>
          <p:spPr>
            <a:xfrm>
              <a:off x="2382840" y="185724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70669"/>
            <p:cNvSpPr/>
            <p:nvPr/>
          </p:nvSpPr>
          <p:spPr>
            <a:xfrm>
              <a:off x="376092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70670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组合 70671"/>
            <p:cNvGrpSpPr/>
            <p:nvPr/>
          </p:nvGrpSpPr>
          <p:grpSpPr>
            <a:xfrm>
              <a:off x="838080" y="2994120"/>
              <a:ext cx="2248200" cy="2949120"/>
              <a:chOff x="838080" y="2994120"/>
              <a:chExt cx="2248200" cy="2949120"/>
            </a:xfrm>
          </p:grpSpPr>
          <p:sp>
            <p:nvSpPr>
              <p:cNvPr id="324" name="圆角矩形 70672"/>
              <p:cNvSpPr/>
              <p:nvPr/>
            </p:nvSpPr>
            <p:spPr>
              <a:xfrm>
                <a:off x="838080" y="3143520"/>
                <a:ext cx="2248200" cy="2799720"/>
              </a:xfrm>
              <a:custGeom>
                <a:avLst/>
                <a:gdLst>
                  <a:gd name="textAreaLeft" fmla="*/ 30600 w 2248200"/>
                  <a:gd name="textAreaRight" fmla="*/ 2217600 w 2248200"/>
                  <a:gd name="textAreaTop" fmla="*/ 30600 h 2799720"/>
                  <a:gd name="textAreaBottom" fmla="*/ 2769120 h 2799720"/>
                </a:gdLst>
                <a:ahLst/>
                <a:rect l="textAreaLeft" t="textAreaTop" r="textAreaRight" b="textAreaBottom"/>
                <a:pathLst>
                  <a:path w="21600" h="26898">
                    <a:moveTo>
                      <a:pt x="1013" y="0"/>
                    </a:moveTo>
                    <a:arcTo wR="1013" hR="1013" stAng="16200000" swAng="-5400000"/>
                    <a:lnTo>
                      <a:pt x="0" y="25885"/>
                    </a:lnTo>
                    <a:arcTo wR="1013" hR="1013" stAng="10800000" swAng="-5400000"/>
                    <a:lnTo>
                      <a:pt x="20587" y="26898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圆角矩形 70673"/>
              <p:cNvSpPr/>
              <p:nvPr/>
            </p:nvSpPr>
            <p:spPr>
              <a:xfrm>
                <a:off x="1049400" y="3016440"/>
                <a:ext cx="182520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八边形 70674"/>
              <p:cNvSpPr/>
              <p:nvPr/>
            </p:nvSpPr>
            <p:spPr>
              <a:xfrm flipH="1">
                <a:off x="2698920" y="3079800"/>
                <a:ext cx="6984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八边形 70675"/>
              <p:cNvSpPr/>
              <p:nvPr/>
            </p:nvSpPr>
            <p:spPr>
              <a:xfrm flipH="1">
                <a:off x="1148760" y="3079800"/>
                <a:ext cx="7128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文本框 70676"/>
              <p:cNvSpPr/>
              <p:nvPr/>
            </p:nvSpPr>
            <p:spPr>
              <a:xfrm>
                <a:off x="130032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文本框 70677"/>
              <p:cNvSpPr/>
              <p:nvPr/>
            </p:nvSpPr>
            <p:spPr>
              <a:xfrm>
                <a:off x="912600" y="3374280"/>
                <a:ext cx="20894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文本框 70678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70679"/>
            <p:cNvSpPr/>
            <p:nvPr/>
          </p:nvSpPr>
          <p:spPr>
            <a:xfrm>
              <a:off x="583740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3:43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36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