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92E7-B126-49CA-84C0-96568A4C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8315-6EA3-4FFC-9818-D6C0CE5C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A133-3306-466B-A992-6FA231E4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DE79-C2A2-4BE5-9A70-09A87ED9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78EF-69AD-4595-8900-AADC897F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C092-BBAF-4D7C-B784-A1BF006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ED60-4B2A-4D5B-A4CF-8526FB3E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4DEA-01F1-45AA-AAE5-562B2E2C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C86E-882A-4A3F-9A06-4CDBFBD0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9FAF-F4C2-452D-9E85-FFE10FC8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35A1-7FD1-4172-A2B8-343225F1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1B19-E30B-4ADB-90E5-B6B458F3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5250-AF79-493F-9F0D-5A01FFB7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CDE8-6E52-4443-B837-42444176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626B-FC65-4CD7-913F-BEA3AE22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A43D-F950-4127-8DE2-FC72C632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57EC-60CD-4AE8-A579-C5FA0721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24E5-D38F-4B20-B224-315BBFD8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97415-7C28-4AB6-A5E9-5030EA7B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78E7-D2BA-405D-86A1-8D1E9512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26B5C-EC13-4E80-827A-A0D0FAE5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55CCB-EBB9-46D4-8A83-278F7C5A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E535-4E1F-4321-9145-17CC9685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067D-FB45-444D-8DA3-4D5D7AF5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EC2B6-8387-413F-9DF0-8B923F3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109A4-8310-43E0-97E3-5201D50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310E7-7314-4A86-A673-4498380C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9F1D-42A4-4E84-9279-CBB0D434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8652-E8CE-4125-8757-1ADAA10A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FE3AE-A692-4817-947C-58DE1110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328E-1FA5-4864-A0B6-CBD62DE0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8BA9-D6FA-4624-A02A-1C96BF51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5939-0A59-4281-9F9C-40769086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D837-EDE8-4B3A-A53A-DABF9DD7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C841-F9A7-429A-B5E0-864F6663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95560"/>
            <a:ext cx="6324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B348-05B3-4ACC-A50D-B2267934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9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2b166e"/>
              </a:gs>
              <a:gs pos="100000">
                <a:srgbClr val="458f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" name="图片 1091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05360" y="6508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AD4B-CBD1-4229-9951-5BF46A334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50844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8" name="直接连接符 1092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3E05-CA74-45C6-AB0E-0CE67146F80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8BC1-9E7A-44A6-B00D-6FCA0349E2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137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2b166e"/>
              </a:gs>
              <a:gs pos="100000">
                <a:srgbClr val="458f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8" name="文本框 3135"/>
          <p:cNvSpPr/>
          <p:nvPr/>
        </p:nvSpPr>
        <p:spPr>
          <a:xfrm>
            <a:off x="30492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7C47-9233-48FA-9D2F-924FA4F40C97}" type="slidenum">
              <a:rPr b="0" lang="en-US" sz="1400" spc="-1" strike="noStrike">
                <a:solidFill>
                  <a:srgbClr val="2b166e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3434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166e"/>
                </a:solidFill>
                <a:latin typeface="Verdana"/>
              </a:rPr>
              <a:t>欧美风格商务</a:t>
            </a:r>
            <a:r>
              <a:rPr b="1" lang="en-US" sz="4000" spc="-1" strike="noStrike">
                <a:solidFill>
                  <a:srgbClr val="2b166e"/>
                </a:solidFill>
                <a:latin typeface="Verdana"/>
              </a:rPr>
              <a:t>PPT</a:t>
            </a:r>
            <a:r>
              <a:rPr b="1" lang="en-US" sz="4000" spc="-1" strike="noStrike">
                <a:solidFill>
                  <a:srgbClr val="2b166e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2b166e"/>
                </a:solidFill>
                <a:latin typeface="Verdana"/>
              </a:rPr>
              <a:t>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页脚占位符 1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7560" y="53337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b166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组合 70696"/>
          <p:cNvGrpSpPr/>
          <p:nvPr/>
        </p:nvGrpSpPr>
        <p:grpSpPr>
          <a:xfrm>
            <a:off x="1219320" y="1447920"/>
            <a:ext cx="6781680" cy="4114800"/>
            <a:chOff x="1219320" y="1447920"/>
            <a:chExt cx="6781680" cy="4114800"/>
          </a:xfrm>
        </p:grpSpPr>
        <p:sp>
          <p:nvSpPr>
            <p:cNvPr id="307" name="圆角矩形 70657"/>
            <p:cNvSpPr/>
            <p:nvPr/>
          </p:nvSpPr>
          <p:spPr>
            <a:xfrm>
              <a:off x="3722760" y="327672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8" name="圆角矩形 70658"/>
            <p:cNvSpPr/>
            <p:nvPr/>
          </p:nvSpPr>
          <p:spPr>
            <a:xfrm>
              <a:off x="1219320" y="327672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9" name="圆角矩形 70659"/>
            <p:cNvSpPr/>
            <p:nvPr/>
          </p:nvSpPr>
          <p:spPr>
            <a:xfrm>
              <a:off x="6248520" y="327672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0" name="燕尾形 70661"/>
            <p:cNvSpPr/>
            <p:nvPr/>
          </p:nvSpPr>
          <p:spPr>
            <a:xfrm>
              <a:off x="3151080" y="207180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1" name="燕尾形 70662"/>
            <p:cNvSpPr/>
            <p:nvPr/>
          </p:nvSpPr>
          <p:spPr>
            <a:xfrm>
              <a:off x="5613480" y="207180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2" name="椭圆 70663"/>
            <p:cNvSpPr/>
            <p:nvPr/>
          </p:nvSpPr>
          <p:spPr>
            <a:xfrm>
              <a:off x="6221520" y="145260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3" name="椭圆 70664"/>
            <p:cNvSpPr/>
            <p:nvPr/>
          </p:nvSpPr>
          <p:spPr>
            <a:xfrm>
              <a:off x="6221520" y="145260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4" name="椭圆 70665"/>
            <p:cNvSpPr/>
            <p:nvPr/>
          </p:nvSpPr>
          <p:spPr>
            <a:xfrm>
              <a:off x="6332400" y="15638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5" name="椭圆 70666"/>
            <p:cNvSpPr/>
            <p:nvPr/>
          </p:nvSpPr>
          <p:spPr>
            <a:xfrm>
              <a:off x="6357960" y="15717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6" name="椭圆 70667"/>
            <p:cNvSpPr/>
            <p:nvPr/>
          </p:nvSpPr>
          <p:spPr>
            <a:xfrm>
              <a:off x="6411960" y="163512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7" name="椭圆 70668"/>
            <p:cNvSpPr/>
            <p:nvPr/>
          </p:nvSpPr>
          <p:spPr>
            <a:xfrm>
              <a:off x="1295280" y="14479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c9bb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8" name="椭圆 70669"/>
            <p:cNvSpPr/>
            <p:nvPr/>
          </p:nvSpPr>
          <p:spPr>
            <a:xfrm>
              <a:off x="1295280" y="14479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6c9bb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9" name="椭圆 70670"/>
            <p:cNvSpPr/>
            <p:nvPr/>
          </p:nvSpPr>
          <p:spPr>
            <a:xfrm>
              <a:off x="1406520" y="15573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a5467"/>
                </a:gs>
                <a:gs pos="50000">
                  <a:srgbClr val="6c9bbe"/>
                </a:gs>
                <a:gs pos="100000">
                  <a:srgbClr val="3a54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0" name="椭圆 70671"/>
            <p:cNvSpPr/>
            <p:nvPr/>
          </p:nvSpPr>
          <p:spPr>
            <a:xfrm>
              <a:off x="1407960" y="156060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56279"/>
                </a:gs>
                <a:gs pos="100000">
                  <a:srgbClr val="6c9bb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1" name="椭圆 70672"/>
            <p:cNvSpPr/>
            <p:nvPr/>
          </p:nvSpPr>
          <p:spPr>
            <a:xfrm>
              <a:off x="1481040" y="163188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22" name="组合 70673"/>
            <p:cNvGrpSpPr/>
            <p:nvPr/>
          </p:nvGrpSpPr>
          <p:grpSpPr>
            <a:xfrm>
              <a:off x="1501920" y="1650960"/>
              <a:ext cx="1290600" cy="1278000"/>
              <a:chOff x="1501920" y="1650960"/>
              <a:chExt cx="1290600" cy="1278000"/>
            </a:xfrm>
          </p:grpSpPr>
          <p:sp>
            <p:nvSpPr>
              <p:cNvPr id="323" name="椭圆 70674"/>
              <p:cNvSpPr/>
              <p:nvPr/>
            </p:nvSpPr>
            <p:spPr>
              <a:xfrm>
                <a:off x="150192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4" name="椭圆 70675"/>
              <p:cNvSpPr/>
              <p:nvPr/>
            </p:nvSpPr>
            <p:spPr>
              <a:xfrm>
                <a:off x="1518120" y="165780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5" name="椭圆 70676"/>
              <p:cNvSpPr/>
              <p:nvPr/>
            </p:nvSpPr>
            <p:spPr>
              <a:xfrm>
                <a:off x="153180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6" name="椭圆 70677"/>
              <p:cNvSpPr/>
              <p:nvPr/>
            </p:nvSpPr>
            <p:spPr>
              <a:xfrm>
                <a:off x="160164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27" name="椭圆 70678"/>
            <p:cNvSpPr/>
            <p:nvPr/>
          </p:nvSpPr>
          <p:spPr>
            <a:xfrm>
              <a:off x="3759120" y="145260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58f8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8" name="椭圆 70679"/>
            <p:cNvSpPr/>
            <p:nvPr/>
          </p:nvSpPr>
          <p:spPr>
            <a:xfrm>
              <a:off x="3759120" y="145260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458f8f">
                    <a:alpha val="32156"/>
                  </a:srgbClr>
                </a:gs>
                <a:gs pos="100000">
                  <a:srgbClr val="2042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9" name="椭圆 70680"/>
            <p:cNvSpPr/>
            <p:nvPr/>
          </p:nvSpPr>
          <p:spPr>
            <a:xfrm>
              <a:off x="3870360" y="15638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54d4d"/>
                </a:gs>
                <a:gs pos="50000">
                  <a:srgbClr val="458f8f"/>
                </a:gs>
                <a:gs pos="100000">
                  <a:srgbClr val="254d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0" name="椭圆 70681"/>
            <p:cNvSpPr/>
            <p:nvPr/>
          </p:nvSpPr>
          <p:spPr>
            <a:xfrm>
              <a:off x="3871800" y="15652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2c5b5b"/>
                </a:gs>
                <a:gs pos="100000">
                  <a:srgbClr val="458f8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1" name="椭圆 70682"/>
            <p:cNvSpPr/>
            <p:nvPr/>
          </p:nvSpPr>
          <p:spPr>
            <a:xfrm>
              <a:off x="3943440" y="163512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32" name="组合 70683"/>
            <p:cNvGrpSpPr/>
            <p:nvPr/>
          </p:nvGrpSpPr>
          <p:grpSpPr>
            <a:xfrm>
              <a:off x="3965400" y="1650960"/>
              <a:ext cx="1290960" cy="1278000"/>
              <a:chOff x="3965400" y="1650960"/>
              <a:chExt cx="1290960" cy="1278000"/>
            </a:xfrm>
          </p:grpSpPr>
          <p:sp>
            <p:nvSpPr>
              <p:cNvPr id="333" name="椭圆 70684"/>
              <p:cNvSpPr/>
              <p:nvPr/>
            </p:nvSpPr>
            <p:spPr>
              <a:xfrm>
                <a:off x="3965400" y="165096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4" name="椭圆 70685"/>
              <p:cNvSpPr/>
              <p:nvPr/>
            </p:nvSpPr>
            <p:spPr>
              <a:xfrm>
                <a:off x="3981600" y="165780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5" name="椭圆 70686"/>
              <p:cNvSpPr/>
              <p:nvPr/>
            </p:nvSpPr>
            <p:spPr>
              <a:xfrm>
                <a:off x="3995280" y="167040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6" name="椭圆 70687"/>
              <p:cNvSpPr/>
              <p:nvPr/>
            </p:nvSpPr>
            <p:spPr>
              <a:xfrm>
                <a:off x="406548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37" name="组合 70688"/>
            <p:cNvGrpSpPr/>
            <p:nvPr/>
          </p:nvGrpSpPr>
          <p:grpSpPr>
            <a:xfrm>
              <a:off x="6435720" y="1650960"/>
              <a:ext cx="1292400" cy="1278000"/>
              <a:chOff x="6435720" y="1650960"/>
              <a:chExt cx="1292400" cy="1278000"/>
            </a:xfrm>
          </p:grpSpPr>
          <p:sp>
            <p:nvSpPr>
              <p:cNvPr id="338" name="椭圆 70689"/>
              <p:cNvSpPr/>
              <p:nvPr/>
            </p:nvSpPr>
            <p:spPr>
              <a:xfrm>
                <a:off x="6435720" y="165096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9" name="椭圆 70690"/>
              <p:cNvSpPr/>
              <p:nvPr/>
            </p:nvSpPr>
            <p:spPr>
              <a:xfrm>
                <a:off x="6451920" y="165780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40" name="椭圆 70691"/>
              <p:cNvSpPr/>
              <p:nvPr/>
            </p:nvSpPr>
            <p:spPr>
              <a:xfrm>
                <a:off x="6465600" y="167040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41" name="椭圆 70692"/>
              <p:cNvSpPr/>
              <p:nvPr/>
            </p:nvSpPr>
            <p:spPr>
              <a:xfrm>
                <a:off x="6535800" y="170280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42" name="文本框 70693"/>
            <p:cNvSpPr/>
            <p:nvPr/>
          </p:nvSpPr>
          <p:spPr>
            <a:xfrm>
              <a:off x="1765080" y="2124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3" name="文本框 70694"/>
            <p:cNvSpPr/>
            <p:nvPr/>
          </p:nvSpPr>
          <p:spPr>
            <a:xfrm>
              <a:off x="4233600" y="2124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4" name="文本框 70695"/>
            <p:cNvSpPr/>
            <p:nvPr/>
          </p:nvSpPr>
          <p:spPr>
            <a:xfrm>
              <a:off x="6700320" y="2124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45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4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组合 71710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349" name="矩形 71683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0" name="矩形 71684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1" name="矩形 71685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52" name="组合 71686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53" name="组合 71687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54" name="椭圆 71688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6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55" name="任意多边形 71689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文本框 71690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57" name="组合 71691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58" name="组合 71692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59" name="椭圆 71693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112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60" name="任意多边形 71694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文本框 71695"/>
              <p:cNvSpPr/>
              <p:nvPr/>
            </p:nvSpPr>
            <p:spPr>
              <a:xfrm>
                <a:off x="5105520" y="14940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62" name="组合 71696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63" name="组合 71697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64" name="椭圆 71698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828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65" name="任意多边形 71699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文本框 71700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71701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68" name="组合 71702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69" name="椭圆 71703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f4f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70" name="任意多边形 71704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文本框 71705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72" name="椭圆 71706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3" name="椭圆 71707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4" name="椭圆 71708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5" name="椭圆 71709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76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组合 81952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79" name="右箭头 81922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0" name="右箭头 81923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1" name="右箭头 81924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2" name="右箭头 81925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3" name="右箭头 81926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4" name="右箭头 81927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458f8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5" name="椭圆 81928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文本框 81929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7" name="文本框 81930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8" name="文本框 81931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9" name="文本框 81932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0" name="文本框 81933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1" name="文本框 81934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2" name="椭圆 81935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3" name="椭圆 81936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4" name="椭圆 81937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5" name="椭圆 81938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6" name="椭圆 81939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7" name="椭圆 81940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8" name="椭圆 81941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9" name="椭圆 81942"/>
            <p:cNvSpPr/>
            <p:nvPr/>
          </p:nvSpPr>
          <p:spPr>
            <a:xfrm>
              <a:off x="35496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0" name="椭圆 81943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1" name="椭圆 81944"/>
            <p:cNvSpPr/>
            <p:nvPr/>
          </p:nvSpPr>
          <p:spPr>
            <a:xfrm>
              <a:off x="365292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2" name="椭圆 81945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3" name="组合 81946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04" name="椭圆 81947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5" name="椭圆 81948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6" name="椭圆 81949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7" name="椭圆 81950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08" name="文本框 81951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09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组合 73819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12" name="圆角矩形 73820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3" name="圆角矩形 73821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4" name="圆角矩形 73822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5" name="圆角矩形 73823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6" name="圆角矩形 73824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7" name="圆角矩形 73825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18" name="组合 73826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19" name="椭圆 73827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0" name="椭圆 73828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1" name="椭圆 73829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2" name="椭圆 73830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3" name="椭圆 73831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24" name="文本框 73832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5" name="文本框 73833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26" name="组合 73834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27" name="圆角矩形 73835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8" name="圆角矩形 73836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9" name="圆角矩形 73837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0" name="圆角矩形 73838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1" name="椭圆 73839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2" name="椭圆 73840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3" name="椭圆 73841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4" name="椭圆 73842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5" name="椭圆 73843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6" name="文本框 73844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7" name="文本框 73845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8" name="圆角矩形 73846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9" name="圆角矩形 73847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40" name="组合 73848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41" name="圆角矩形 73849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2" name="圆角矩形 73850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3" name="圆角矩形 73851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4" name="圆角矩形 73852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45" name="组合 73853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46" name="椭圆 73854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7" name="椭圆 73855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8" name="椭圆 73856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9" name="椭圆 73857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50" name="椭圆 73858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51" name="文本框 73859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2" name="文本框 73860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3" name="圆角矩形 73861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4" name="圆角矩形 73862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55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74848"/>
          <p:cNvGrpSpPr/>
          <p:nvPr/>
        </p:nvGrpSpPr>
        <p:grpSpPr>
          <a:xfrm>
            <a:off x="228600" y="1828800"/>
            <a:ext cx="8686800" cy="4188960"/>
            <a:chOff x="228600" y="1828800"/>
            <a:chExt cx="8686800" cy="4188960"/>
          </a:xfrm>
        </p:grpSpPr>
        <p:grpSp>
          <p:nvGrpSpPr>
            <p:cNvPr id="458" name="组合 74754"/>
            <p:cNvGrpSpPr/>
            <p:nvPr/>
          </p:nvGrpSpPr>
          <p:grpSpPr>
            <a:xfrm>
              <a:off x="228600" y="3238560"/>
              <a:ext cx="8686800" cy="113760"/>
              <a:chOff x="228600" y="3238560"/>
              <a:chExt cx="8686800" cy="113760"/>
            </a:xfrm>
          </p:grpSpPr>
          <p:sp>
            <p:nvSpPr>
              <p:cNvPr id="459" name="矩形 74755"/>
              <p:cNvSpPr/>
              <p:nvPr/>
            </p:nvSpPr>
            <p:spPr>
              <a:xfrm>
                <a:off x="228600" y="3238560"/>
                <a:ext cx="8686800" cy="44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60" name="矩形 74756"/>
              <p:cNvSpPr/>
              <p:nvPr/>
            </p:nvSpPr>
            <p:spPr>
              <a:xfrm>
                <a:off x="228600" y="3282120"/>
                <a:ext cx="8686800" cy="702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61" name="组合 74844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62" name="组合 74810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63" name="组合 74811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64" name="任意多边形 74812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任意多边形 74813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组合 74814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67" name="任意多边形 74815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任意多边形 74816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" name="组合 74817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70" name="椭圆 74818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1" name="椭圆 74819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2" name="椭圆 74820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3" name="椭圆 74821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4" name="椭圆 74822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组合 74823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476" name="椭圆 74824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椭圆 74825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椭圆 74826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椭圆 74827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0" name="文本框 74828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1" name="文本框 74829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82" name="组合 7484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83" name="组合 74792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484" name="组合 74793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485" name="任意多边形 74794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任意多边形 74795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组合 74796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88" name="任意多边形 74797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任意多边形 74798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组合 74799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91" name="椭圆 74800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2" name="椭圆 74801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74802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74803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74804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组合 74805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497" name="椭圆 74806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椭圆 74807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椭圆 74808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74809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文本框 74830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2" name="文本框 74831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03" name="组合 74846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04" name="组合 74757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05" name="组合 74758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06" name="任意多边形 74759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任意多边形 74760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组合 74761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09" name="任意多边形 74762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任意多边形 74763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1" name="组合 747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12" name="椭圆 747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747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74767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74768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74769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组合 74770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18" name="椭圆 74771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74772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椭圆 74773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74774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2" name="文本框 74832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3" name="文本框 74833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24" name="组合 74847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25" name="组合 74775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26" name="组合 74776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27" name="任意多边形 74777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任意多边形 74778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组合 74779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30" name="任意多边形 74780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任意多边形 74781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椭圆 74782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3" name="椭圆 74783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4" name="椭圆 74784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5" name="椭圆 74785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6" name="椭圆 74786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537" name="组合 74787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38" name="椭圆 74788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74789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74790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74791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文本框 74834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3" name="文本框 74835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44" name="组合 74836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45" name="文本框 74837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6" name="文本框 74838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7" name="文本框 74839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8" name="文本框 74840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cxnSp>
            <p:nvCxnSpPr>
              <p:cNvPr id="549" name="直接箭头连接符 74841"/>
              <p:cNvCxnSpPr>
                <a:stCxn id="545" idx="3"/>
                <a:endCxn id="546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round/>
                <a:tailEnd len="med" type="triangle" w="med"/>
              </a:ln>
            </p:spPr>
          </p:cxnSp>
          <p:cxnSp>
            <p:nvCxnSpPr>
              <p:cNvPr id="550" name="直接箭头连接符 74842"/>
              <p:cNvCxnSpPr>
                <a:stCxn id="546" idx="3"/>
                <a:endCxn id="547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round/>
                <a:tailEnd len="med" type="triangle" w="med"/>
              </a:ln>
            </p:spPr>
          </p:cxnSp>
          <p:cxnSp>
            <p:nvCxnSpPr>
              <p:cNvPr id="551" name="直接箭头连接符 74843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52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75778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55" name="圆角矩形 75779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56" name="组合 75780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57" name="圆角矩形 75781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30646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8" name="任意多边形 75782"/>
              <p:cNvSpPr/>
              <p:nvPr/>
            </p:nvSpPr>
            <p:spPr>
              <a:xfrm>
                <a:off x="1874880" y="171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c2c2"/>
                  </a:gs>
                  <a:gs pos="50000">
                    <a:srgbClr val="458f8f">
                      <a:alpha val="0"/>
                    </a:srgbClr>
                  </a:gs>
                  <a:gs pos="100000">
                    <a:srgbClr val="9ac2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9" name="文本框 75783"/>
              <p:cNvSpPr/>
              <p:nvPr/>
            </p:nvSpPr>
            <p:spPr>
              <a:xfrm>
                <a:off x="1931040" y="193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60" name="文本框 75784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61" name="组合 75785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62" name="圆角矩形 75786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63" name="组合 75787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64" name="圆角矩形 75788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5b5ff"/>
                  </a:gs>
                  <a:gs pos="100000">
                    <a:srgbClr val="9999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65" name="任意多边形 75789"/>
              <p:cNvSpPr/>
              <p:nvPr/>
            </p:nvSpPr>
            <p:spPr>
              <a:xfrm>
                <a:off x="1874880" y="324216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d4ff"/>
                  </a:gs>
                  <a:gs pos="100000">
                    <a:srgbClr val="99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66" name="文本框 75790"/>
              <p:cNvSpPr/>
              <p:nvPr/>
            </p:nvSpPr>
            <p:spPr>
              <a:xfrm>
                <a:off x="193104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67" name="文本框 75791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68" name="组合 75792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69" name="圆角矩形 75793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70" name="组合 75794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71" name="圆角矩形 75795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fdf5d"/>
                  </a:gs>
                  <a:gs pos="100000">
                    <a:srgbClr val="ccc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72" name="任意多边形 75796"/>
              <p:cNvSpPr/>
              <p:nvPr/>
            </p:nvSpPr>
            <p:spPr>
              <a:xfrm>
                <a:off x="1874880" y="478224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83"/>
                  </a:gs>
                  <a:gs pos="100000">
                    <a:srgbClr val="cccc0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73" name="文本框 75797"/>
              <p:cNvSpPr/>
              <p:nvPr/>
            </p:nvSpPr>
            <p:spPr>
              <a:xfrm>
                <a:off x="193104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74" name="文本框 75798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75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圆角矩形 76802"/>
          <p:cNvSpPr/>
          <p:nvPr/>
        </p:nvSpPr>
        <p:spPr>
          <a:xfrm>
            <a:off x="6151680" y="29764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8" name="圆角矩形 76803"/>
          <p:cNvSpPr/>
          <p:nvPr/>
        </p:nvSpPr>
        <p:spPr>
          <a:xfrm>
            <a:off x="4456080" y="29764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9" name="圆角矩形 76804"/>
          <p:cNvSpPr/>
          <p:nvPr/>
        </p:nvSpPr>
        <p:spPr>
          <a:xfrm>
            <a:off x="2773440" y="29764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80" name="圆角矩形 76805"/>
          <p:cNvSpPr/>
          <p:nvPr/>
        </p:nvSpPr>
        <p:spPr>
          <a:xfrm>
            <a:off x="1066680" y="29764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81" name="组合 76806"/>
          <p:cNvGrpSpPr/>
          <p:nvPr/>
        </p:nvGrpSpPr>
        <p:grpSpPr>
          <a:xfrm>
            <a:off x="1127520" y="1406520"/>
            <a:ext cx="6215040" cy="1324440"/>
            <a:chOff x="1127520" y="1406520"/>
            <a:chExt cx="6215040" cy="1324440"/>
          </a:xfrm>
        </p:grpSpPr>
        <p:sp>
          <p:nvSpPr>
            <p:cNvPr id="582" name="矩形 76807"/>
            <p:cNvSpPr/>
            <p:nvPr/>
          </p:nvSpPr>
          <p:spPr>
            <a:xfrm rot="3418800">
              <a:off x="1335240" y="161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83" name="组合 76808"/>
            <p:cNvGrpSpPr/>
            <p:nvPr/>
          </p:nvGrpSpPr>
          <p:grpSpPr>
            <a:xfrm>
              <a:off x="2258280" y="1787400"/>
              <a:ext cx="901440" cy="124200"/>
              <a:chOff x="2258280" y="1787400"/>
              <a:chExt cx="901440" cy="124200"/>
            </a:xfrm>
          </p:grpSpPr>
          <p:sp>
            <p:nvSpPr>
              <p:cNvPr id="584" name="椭圆 76809"/>
              <p:cNvSpPr/>
              <p:nvPr/>
            </p:nvSpPr>
            <p:spPr>
              <a:xfrm>
                <a:off x="225828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5" name="矩形 76810"/>
              <p:cNvSpPr/>
              <p:nvPr/>
            </p:nvSpPr>
            <p:spPr>
              <a:xfrm>
                <a:off x="2344680" y="17881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6" name="椭圆 76811"/>
              <p:cNvSpPr/>
              <p:nvPr/>
            </p:nvSpPr>
            <p:spPr>
              <a:xfrm>
                <a:off x="3022920" y="17892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7" name="椭圆 76812"/>
              <p:cNvSpPr/>
              <p:nvPr/>
            </p:nvSpPr>
            <p:spPr>
              <a:xfrm>
                <a:off x="309636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88" name="矩形 76813"/>
            <p:cNvSpPr/>
            <p:nvPr/>
          </p:nvSpPr>
          <p:spPr>
            <a:xfrm rot="3418800">
              <a:off x="2999880" y="1551960"/>
              <a:ext cx="874080" cy="970920"/>
            </a:xfrm>
            <a:prstGeom prst="rect">
              <a:avLst/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89" name="组合 76814"/>
            <p:cNvGrpSpPr/>
            <p:nvPr/>
          </p:nvGrpSpPr>
          <p:grpSpPr>
            <a:xfrm>
              <a:off x="3922920" y="1787400"/>
              <a:ext cx="901440" cy="124200"/>
              <a:chOff x="3922920" y="1787400"/>
              <a:chExt cx="901440" cy="124200"/>
            </a:xfrm>
          </p:grpSpPr>
          <p:sp>
            <p:nvSpPr>
              <p:cNvPr id="590" name="椭圆 76815"/>
              <p:cNvSpPr/>
              <p:nvPr/>
            </p:nvSpPr>
            <p:spPr>
              <a:xfrm>
                <a:off x="392292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1" name="矩形 76816"/>
              <p:cNvSpPr/>
              <p:nvPr/>
            </p:nvSpPr>
            <p:spPr>
              <a:xfrm>
                <a:off x="4009320" y="17881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2" name="椭圆 76817"/>
              <p:cNvSpPr/>
              <p:nvPr/>
            </p:nvSpPr>
            <p:spPr>
              <a:xfrm>
                <a:off x="4687560" y="17892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3" name="椭圆 76818"/>
              <p:cNvSpPr/>
              <p:nvPr/>
            </p:nvSpPr>
            <p:spPr>
              <a:xfrm>
                <a:off x="476100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94" name="矩形 76819"/>
            <p:cNvSpPr/>
            <p:nvPr/>
          </p:nvSpPr>
          <p:spPr>
            <a:xfrm rot="3418800">
              <a:off x="4595400" y="15519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95" name="组合 76820"/>
            <p:cNvGrpSpPr/>
            <p:nvPr/>
          </p:nvGrpSpPr>
          <p:grpSpPr>
            <a:xfrm>
              <a:off x="5587920" y="1787400"/>
              <a:ext cx="1178280" cy="124200"/>
              <a:chOff x="5587920" y="1787400"/>
              <a:chExt cx="1178280" cy="124200"/>
            </a:xfrm>
          </p:grpSpPr>
          <p:sp>
            <p:nvSpPr>
              <p:cNvPr id="596" name="椭圆 76821"/>
              <p:cNvSpPr/>
              <p:nvPr/>
            </p:nvSpPr>
            <p:spPr>
              <a:xfrm>
                <a:off x="5587920" y="17874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7" name="矩形 76822"/>
              <p:cNvSpPr/>
              <p:nvPr/>
            </p:nvSpPr>
            <p:spPr>
              <a:xfrm>
                <a:off x="5700960" y="17881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8" name="椭圆 76823"/>
              <p:cNvSpPr/>
              <p:nvPr/>
            </p:nvSpPr>
            <p:spPr>
              <a:xfrm>
                <a:off x="6587640" y="17892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9" name="椭圆 76824"/>
              <p:cNvSpPr/>
              <p:nvPr/>
            </p:nvSpPr>
            <p:spPr>
              <a:xfrm>
                <a:off x="6683760" y="18280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00" name="矩形 76825"/>
            <p:cNvSpPr/>
            <p:nvPr/>
          </p:nvSpPr>
          <p:spPr>
            <a:xfrm rot="3418800">
              <a:off x="6260040" y="1551960"/>
              <a:ext cx="874080" cy="970920"/>
            </a:xfrm>
            <a:prstGeom prst="rect">
              <a:avLst/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601" name="矩形 76826"/>
          <p:cNvSpPr/>
          <p:nvPr/>
        </p:nvSpPr>
        <p:spPr>
          <a:xfrm>
            <a:off x="14425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2" name="矩形 76827"/>
          <p:cNvSpPr/>
          <p:nvPr/>
        </p:nvSpPr>
        <p:spPr>
          <a:xfrm>
            <a:off x="31381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3" name="矩形 76828"/>
          <p:cNvSpPr/>
          <p:nvPr/>
        </p:nvSpPr>
        <p:spPr>
          <a:xfrm>
            <a:off x="46843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4" name="矩形 76829"/>
          <p:cNvSpPr/>
          <p:nvPr/>
        </p:nvSpPr>
        <p:spPr>
          <a:xfrm>
            <a:off x="637956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5" name="矩形 76830"/>
          <p:cNvSpPr/>
          <p:nvPr/>
        </p:nvSpPr>
        <p:spPr>
          <a:xfrm>
            <a:off x="14490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6" name="矩形 76831"/>
          <p:cNvSpPr/>
          <p:nvPr/>
        </p:nvSpPr>
        <p:spPr>
          <a:xfrm>
            <a:off x="31428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7" name="矩形 76832"/>
          <p:cNvSpPr/>
          <p:nvPr/>
        </p:nvSpPr>
        <p:spPr>
          <a:xfrm>
            <a:off x="48380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8" name="矩形 76833"/>
          <p:cNvSpPr/>
          <p:nvPr/>
        </p:nvSpPr>
        <p:spPr>
          <a:xfrm>
            <a:off x="65336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9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2397240"/>
          <a:ext cx="7467480" cy="299232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458f8f"/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2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30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2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组合 78850"/>
          <p:cNvGrpSpPr/>
          <p:nvPr/>
        </p:nvGrpSpPr>
        <p:grpSpPr>
          <a:xfrm>
            <a:off x="1128600" y="1280520"/>
            <a:ext cx="6575400" cy="4666320"/>
            <a:chOff x="1128600" y="1280520"/>
            <a:chExt cx="6575400" cy="4666320"/>
          </a:xfrm>
        </p:grpSpPr>
        <p:sp>
          <p:nvSpPr>
            <p:cNvPr id="615" name="椭圆 78851"/>
            <p:cNvSpPr/>
            <p:nvPr/>
          </p:nvSpPr>
          <p:spPr>
            <a:xfrm>
              <a:off x="214164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4f4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6" name="椭圆 78852"/>
            <p:cNvSpPr/>
            <p:nvPr/>
          </p:nvSpPr>
          <p:spPr>
            <a:xfrm rot="20601600">
              <a:off x="145224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7" name="椭圆 78853"/>
            <p:cNvSpPr/>
            <p:nvPr/>
          </p:nvSpPr>
          <p:spPr>
            <a:xfrm rot="20601600">
              <a:off x="147132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8" name="任意多边形 78854"/>
            <p:cNvSpPr/>
            <p:nvPr/>
          </p:nvSpPr>
          <p:spPr>
            <a:xfrm rot="20601600">
              <a:off x="412920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bbbf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9" name="任意多边形 78855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458f8f"/>
                </a:gs>
                <a:gs pos="100000">
                  <a:srgbClr val="2a575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0" name="任意多边形 78856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1" name="任意多边形 78857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6f6f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2" name="椭圆 78858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3" name="文本框 78859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4" name="文本框 78860"/>
            <p:cNvSpPr/>
            <p:nvPr/>
          </p:nvSpPr>
          <p:spPr>
            <a:xfrm>
              <a:off x="382968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5" name="文本框 78861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26" name="组合 78862"/>
            <p:cNvGrpSpPr/>
            <p:nvPr/>
          </p:nvGrpSpPr>
          <p:grpSpPr>
            <a:xfrm>
              <a:off x="4293720" y="2466360"/>
              <a:ext cx="3164760" cy="2769120"/>
              <a:chOff x="4293720" y="2466360"/>
              <a:chExt cx="3164760" cy="2769120"/>
            </a:xfrm>
          </p:grpSpPr>
          <p:sp>
            <p:nvSpPr>
              <p:cNvPr id="627" name="任意多边形 78863"/>
              <p:cNvSpPr/>
              <p:nvPr/>
            </p:nvSpPr>
            <p:spPr>
              <a:xfrm>
                <a:off x="544824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25e73"/>
                  </a:gs>
                  <a:gs pos="100000">
                    <a:srgbClr val="6c9b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28" name="任意多边形 78864"/>
              <p:cNvSpPr/>
              <p:nvPr/>
            </p:nvSpPr>
            <p:spPr>
              <a:xfrm rot="20539200">
                <a:off x="451152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100000">
                    <a:srgbClr val="324858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29" name="任意多边形 78865"/>
              <p:cNvSpPr/>
              <p:nvPr/>
            </p:nvSpPr>
            <p:spPr>
              <a:xfrm>
                <a:off x="458316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100000">
                    <a:srgbClr val="324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30" name="文本框 78866"/>
              <p:cNvSpPr/>
              <p:nvPr/>
            </p:nvSpPr>
            <p:spPr>
              <a:xfrm>
                <a:off x="535356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31" name="文本框 78867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2" name="任意多边形 78868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b166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3" name="椭圆 78869"/>
            <p:cNvSpPr/>
            <p:nvPr/>
          </p:nvSpPr>
          <p:spPr>
            <a:xfrm rot="20601600">
              <a:off x="303696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634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组合 79904"/>
          <p:cNvGrpSpPr/>
          <p:nvPr/>
        </p:nvGrpSpPr>
        <p:grpSpPr>
          <a:xfrm>
            <a:off x="914400" y="1447920"/>
            <a:ext cx="7391520" cy="4724280"/>
            <a:chOff x="914400" y="1447920"/>
            <a:chExt cx="7391520" cy="4724280"/>
          </a:xfrm>
        </p:grpSpPr>
        <p:sp>
          <p:nvSpPr>
            <p:cNvPr id="637" name="上箭头 79874"/>
            <p:cNvSpPr/>
            <p:nvPr/>
          </p:nvSpPr>
          <p:spPr>
            <a:xfrm>
              <a:off x="1752480" y="2209680"/>
              <a:ext cx="5531040" cy="274320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8" name="圆角矩形 79875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b166e"/>
                </a:gs>
                <a:gs pos="50000">
                  <a:srgbClr val="7769a2"/>
                </a:gs>
                <a:gs pos="100000">
                  <a:srgbClr val="2b166e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9" name="文本框 79876"/>
            <p:cNvSpPr/>
            <p:nvPr/>
          </p:nvSpPr>
          <p:spPr>
            <a:xfrm>
              <a:off x="350352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40" name="组合 79900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641" name="组合 79877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642" name="组合 79878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643" name="椭圆 79879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00"/>
                      </a:gs>
                      <a:gs pos="100000">
                        <a:srgbClr val="8282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任意多边形 79880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5" name="文本框 79881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椭圆 79882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47" name="组合 79903"/>
            <p:cNvGrpSpPr/>
            <p:nvPr/>
          </p:nvGrpSpPr>
          <p:grpSpPr>
            <a:xfrm>
              <a:off x="6781680" y="4038480"/>
              <a:ext cx="1524240" cy="2067120"/>
              <a:chOff x="6781680" y="4038480"/>
              <a:chExt cx="1524240" cy="2067120"/>
            </a:xfrm>
          </p:grpSpPr>
          <p:grpSp>
            <p:nvGrpSpPr>
              <p:cNvPr id="648" name="组合 79883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grpSp>
              <p:nvGrpSpPr>
                <p:cNvPr id="649" name="组合 79884"/>
                <p:cNvGrpSpPr/>
                <p:nvPr/>
              </p:nvGrpSpPr>
              <p:grpSpPr>
                <a:xfrm>
                  <a:off x="6781680" y="4038480"/>
                  <a:ext cx="1524240" cy="1532160"/>
                  <a:chOff x="6781680" y="4038480"/>
                  <a:chExt cx="1524240" cy="1532160"/>
                </a:xfrm>
              </p:grpSpPr>
              <p:sp>
                <p:nvSpPr>
                  <p:cNvPr id="650" name="椭圆 79885"/>
                  <p:cNvSpPr/>
                  <p:nvPr/>
                </p:nvSpPr>
                <p:spPr>
                  <a:xfrm>
                    <a:off x="6781680" y="4038480"/>
                    <a:ext cx="1524240" cy="153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9bbe"/>
                      </a:gs>
                      <a:gs pos="100000">
                        <a:srgbClr val="1a26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任意多边形 79886"/>
                  <p:cNvSpPr/>
                  <p:nvPr/>
                </p:nvSpPr>
                <p:spPr>
                  <a:xfrm>
                    <a:off x="6955920" y="406368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c9bb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文本框 79887"/>
                <p:cNvSpPr/>
                <p:nvPr/>
              </p:nvSpPr>
              <p:spPr>
                <a:xfrm>
                  <a:off x="6924960" y="47523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椭圆 79888"/>
              <p:cNvSpPr/>
              <p:nvPr/>
            </p:nvSpPr>
            <p:spPr>
              <a:xfrm>
                <a:off x="6781680" y="5618160"/>
                <a:ext cx="1455840" cy="4874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79901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55" name="组合 79889"/>
              <p:cNvGrpSpPr/>
              <p:nvPr/>
            </p:nvGrpSpPr>
            <p:grpSpPr>
              <a:xfrm>
                <a:off x="2819520" y="4083120"/>
                <a:ext cx="1523880" cy="1520640"/>
                <a:chOff x="2819520" y="4083120"/>
                <a:chExt cx="1523880" cy="1520640"/>
              </a:xfrm>
            </p:grpSpPr>
            <p:sp>
              <p:nvSpPr>
                <p:cNvPr id="656" name="椭圆 79890"/>
                <p:cNvSpPr/>
                <p:nvPr/>
              </p:nvSpPr>
              <p:spPr>
                <a:xfrm>
                  <a:off x="2819520" y="408312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f4f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 79891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文本框 79892"/>
              <p:cNvSpPr/>
              <p:nvPr/>
            </p:nvSpPr>
            <p:spPr>
              <a:xfrm>
                <a:off x="289548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9" name="椭圆 79893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60" name="组合 79902"/>
            <p:cNvGrpSpPr/>
            <p:nvPr/>
          </p:nvGrpSpPr>
          <p:grpSpPr>
            <a:xfrm>
              <a:off x="4876920" y="4038480"/>
              <a:ext cx="1523880" cy="2089440"/>
              <a:chOff x="4876920" y="4038480"/>
              <a:chExt cx="1523880" cy="2089440"/>
            </a:xfrm>
          </p:grpSpPr>
          <p:grpSp>
            <p:nvGrpSpPr>
              <p:cNvPr id="661" name="组合 79894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grpSp>
              <p:nvGrpSpPr>
                <p:cNvPr id="662" name="组合 79895"/>
                <p:cNvGrpSpPr/>
                <p:nvPr/>
              </p:nvGrpSpPr>
              <p:grpSpPr>
                <a:xfrm>
                  <a:off x="4876920" y="4038480"/>
                  <a:ext cx="1523880" cy="1521000"/>
                  <a:chOff x="4876920" y="4038480"/>
                  <a:chExt cx="1523880" cy="1521000"/>
                </a:xfrm>
              </p:grpSpPr>
              <p:sp>
                <p:nvSpPr>
                  <p:cNvPr id="663" name="椭圆 79896"/>
                  <p:cNvSpPr/>
                  <p:nvPr/>
                </p:nvSpPr>
                <p:spPr>
                  <a:xfrm>
                    <a:off x="4876920" y="403848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58f8f"/>
                      </a:gs>
                      <a:gs pos="100000">
                        <a:srgbClr val="2349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任意多边形 79897"/>
                  <p:cNvSpPr/>
                  <p:nvPr/>
                </p:nvSpPr>
                <p:spPr>
                  <a:xfrm>
                    <a:off x="5051160" y="406368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58f8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5" name="文本框 79898"/>
                <p:cNvSpPr/>
                <p:nvPr/>
              </p:nvSpPr>
              <p:spPr>
                <a:xfrm>
                  <a:off x="495288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椭圆 79899"/>
              <p:cNvSpPr/>
              <p:nvPr/>
            </p:nvSpPr>
            <p:spPr>
              <a:xfrm>
                <a:off x="4876920" y="5638680"/>
                <a:ext cx="1454040" cy="4892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圆角矩形 61442"/>
          <p:cNvSpPr/>
          <p:nvPr/>
        </p:nvSpPr>
        <p:spPr>
          <a:xfrm>
            <a:off x="2057400" y="18288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552e"/>
              </a:gs>
              <a:gs pos="50000">
                <a:srgbClr val="eab764"/>
              </a:gs>
              <a:gs pos="100000">
                <a:srgbClr val="6c552e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Click to add 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6" name="圆角矩形 61443"/>
          <p:cNvSpPr/>
          <p:nvPr/>
        </p:nvSpPr>
        <p:spPr>
          <a:xfrm>
            <a:off x="2057400" y="25909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858"/>
              </a:gs>
              <a:gs pos="50000">
                <a:srgbClr val="6c9bbe"/>
              </a:gs>
              <a:gs pos="100000">
                <a:srgbClr val="324858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Click to add 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7" name="圆角矩形 61444"/>
          <p:cNvSpPr/>
          <p:nvPr/>
        </p:nvSpPr>
        <p:spPr>
          <a:xfrm>
            <a:off x="2057400" y="33526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Click to add 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8" name="圆角矩形 61445"/>
          <p:cNvSpPr/>
          <p:nvPr/>
        </p:nvSpPr>
        <p:spPr>
          <a:xfrm>
            <a:off x="2057400" y="41148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Click to add 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9" name="圆角矩形 61446"/>
          <p:cNvSpPr/>
          <p:nvPr/>
        </p:nvSpPr>
        <p:spPr>
          <a:xfrm>
            <a:off x="2057400" y="48769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. Click to add 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0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CA42-E5BE-4A6E-BABC-775C93DF9776}" type="slidenum">
              <a:rPr b="0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80897"/>
          <p:cNvSpPr txBox="1"/>
          <p:nvPr/>
        </p:nvSpPr>
        <p:spPr>
          <a:xfrm>
            <a:off x="1892160" y="2666880"/>
            <a:ext cx="5499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458f8f"/>
                    </a:gs>
                    <a:gs pos="100000">
                      <a:srgbClr val="33669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b166e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458f8f"/>
                  </a:gs>
                  <a:gs pos="100000">
                    <a:srgbClr val="336699"/>
                  </a:gs>
                </a:gsLst>
                <a:lin ang="0"/>
              </a:gradFill>
              <a:effectLst>
                <a:outerShdw dist="53966" dir="2700000" blurRad="0" rotWithShape="0">
                  <a:srgbClr val="2b166e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4" name="页脚占位符 1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1447560" y="53337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3712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166e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4000" spc="-1" strike="noStrike">
                <a:solidFill>
                  <a:srgbClr val="2b166e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2b166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b166e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58f8f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3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453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46" name="圆角矩形 64515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" name="文本框 64516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48" name="任意多边形 6451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dfdf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9" name="矩形 6451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50" name="组合 64532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51" name="组合 64520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52" name="组合 64521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53" name="椭圆 64522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a4a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54" name="椭圆 64523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2ff"/>
                    </a:gs>
                    <a:gs pos="100000">
                      <a:srgbClr val="9999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椭圆 64524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04242"/>
                  </a:gs>
                  <a:gs pos="100000">
                    <a:srgbClr val="458f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6" name="椭圆 64525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0"/>
                    </a:srgbClr>
                  </a:gs>
                  <a:gs pos="100000">
                    <a:srgbClr val="be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7" name="椭圆 64526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377171"/>
                  </a:gs>
                  <a:gs pos="100000">
                    <a:srgbClr val="458f8f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8" name="椭圆 64527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58f8f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59" name="文本框 64528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60" name="组合 64531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61" name="圆角矩形 64514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" name="文本框 64529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63" name="任意多边形 6451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4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组合 65538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67" name="任意多边形 65539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8" name="椭圆 6554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9" name="椭圆 6554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100000">
                  <a:srgbClr val="16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0" name="椭圆 6554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椭圆 6554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椭圆 6554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3" name="文本框 65545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4" name="文本框 65546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5" name="文本框 65547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6" name="文本框 65548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7" name="文本框 65549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8" name="文本框 6555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80" name="直接连接符 65551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cxnSp>
          <p:nvCxnSpPr>
            <p:cNvPr id="182" name="直接箭头连接符 6555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round/>
            </a:ln>
          </p:spPr>
        </p:cxnSp>
        <p:sp>
          <p:nvSpPr>
            <p:cNvPr id="183" name="文本框 6555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84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组合 66562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7" name="圆柱形 66563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8"/>
                </a:gs>
                <a:gs pos="50000">
                  <a:srgbClr val="6c9bbe"/>
                </a:gs>
                <a:gs pos="100000">
                  <a:srgbClr val="324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8" name="圆柱形 66564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8"/>
                </a:gs>
                <a:gs pos="50000">
                  <a:srgbClr val="6c9bbe"/>
                </a:gs>
                <a:gs pos="100000">
                  <a:srgbClr val="324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9" name="圆柱形 66565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8"/>
                </a:gs>
                <a:gs pos="50000">
                  <a:srgbClr val="6c9bbe"/>
                </a:gs>
                <a:gs pos="100000">
                  <a:srgbClr val="324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0" name="文本框 66566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1" name="文本框 66567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2" name="文本框 66568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3" name="左箭头 66569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4" name="圆角矩形 66570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5" name="文本框 66571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6" name="圆角矩形 66572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7" name="文本框 66573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8" name="右箭头 66574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9" name="圆柱形 66575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242"/>
                </a:gs>
                <a:gs pos="50000">
                  <a:srgbClr val="458f8f"/>
                </a:gs>
                <a:gs pos="100000">
                  <a:srgbClr val="2042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0" name="上箭头 66576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1" name="文本框 66577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圆柱形 66578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文本框 66579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下箭头 66580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05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组合 67586"/>
          <p:cNvGrpSpPr/>
          <p:nvPr/>
        </p:nvGrpSpPr>
        <p:grpSpPr>
          <a:xfrm>
            <a:off x="1143000" y="1905120"/>
            <a:ext cx="6705720" cy="3352320"/>
            <a:chOff x="1143000" y="1905120"/>
            <a:chExt cx="6705720" cy="3352320"/>
          </a:xfrm>
        </p:grpSpPr>
        <p:grpSp>
          <p:nvGrpSpPr>
            <p:cNvPr id="208" name="组合 67587"/>
            <p:cNvGrpSpPr/>
            <p:nvPr/>
          </p:nvGrpSpPr>
          <p:grpSpPr>
            <a:xfrm>
              <a:off x="3009240" y="1905120"/>
              <a:ext cx="2899800" cy="2705040"/>
              <a:chOff x="3009240" y="1905120"/>
              <a:chExt cx="2899800" cy="2705040"/>
            </a:xfrm>
          </p:grpSpPr>
          <p:sp>
            <p:nvSpPr>
              <p:cNvPr id="209" name="上箭头 67588"/>
              <p:cNvSpPr/>
              <p:nvPr/>
            </p:nvSpPr>
            <p:spPr>
              <a:xfrm flipH="1" rot="16200000">
                <a:off x="2928240" y="295200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99"/>
                  </a:gs>
                  <a:gs pos="100000">
                    <a:srgbClr val="afc3d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0" name="上箭头 67589"/>
              <p:cNvSpPr/>
              <p:nvPr/>
            </p:nvSpPr>
            <p:spPr>
              <a:xfrm flipH="1" rot="5400000">
                <a:off x="5531040" y="290160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99"/>
                  </a:gs>
                  <a:gs pos="100000">
                    <a:srgbClr val="afc3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1" name="上箭头 67590"/>
              <p:cNvSpPr/>
              <p:nvPr/>
            </p:nvSpPr>
            <p:spPr>
              <a:xfrm flipH="1" rot="10800000">
                <a:off x="4240440" y="430452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99"/>
                  </a:gs>
                  <a:gs pos="100000">
                    <a:srgbClr val="afc3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2" name="椭圆 67591"/>
              <p:cNvSpPr/>
              <p:nvPr/>
            </p:nvSpPr>
            <p:spPr>
              <a:xfrm>
                <a:off x="3308400" y="1905120"/>
                <a:ext cx="232596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3" name="椭圆 67592"/>
              <p:cNvSpPr/>
              <p:nvPr/>
            </p:nvSpPr>
            <p:spPr>
              <a:xfrm>
                <a:off x="3441240" y="2040480"/>
                <a:ext cx="20592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4" name="椭圆 67593"/>
              <p:cNvSpPr/>
              <p:nvPr/>
            </p:nvSpPr>
            <p:spPr>
              <a:xfrm>
                <a:off x="3562200" y="216648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5" name="椭圆 67594"/>
              <p:cNvSpPr/>
              <p:nvPr/>
            </p:nvSpPr>
            <p:spPr>
              <a:xfrm>
                <a:off x="3562200" y="216648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6" name="椭圆 67595"/>
              <p:cNvSpPr/>
              <p:nvPr/>
            </p:nvSpPr>
            <p:spPr>
              <a:xfrm>
                <a:off x="3681720" y="228960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7" name="椭圆 67596"/>
              <p:cNvSpPr/>
              <p:nvPr/>
            </p:nvSpPr>
            <p:spPr>
              <a:xfrm>
                <a:off x="3681720" y="228960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18" name="圆柱形 67597"/>
            <p:cNvSpPr/>
            <p:nvPr/>
          </p:nvSpPr>
          <p:spPr>
            <a:xfrm>
              <a:off x="1143000" y="340272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9" name="圆柱形 67598"/>
            <p:cNvSpPr/>
            <p:nvPr/>
          </p:nvSpPr>
          <p:spPr>
            <a:xfrm>
              <a:off x="1143000" y="290376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0" name="圆柱形 67599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1" name="圆柱形 67600"/>
            <p:cNvSpPr/>
            <p:nvPr/>
          </p:nvSpPr>
          <p:spPr>
            <a:xfrm>
              <a:off x="6120360" y="340272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04242"/>
                </a:gs>
                <a:gs pos="50000">
                  <a:srgbClr val="458f8f"/>
                </a:gs>
                <a:gs pos="100000">
                  <a:srgbClr val="2042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2" name="圆柱形 67601"/>
            <p:cNvSpPr/>
            <p:nvPr/>
          </p:nvSpPr>
          <p:spPr>
            <a:xfrm>
              <a:off x="6120360" y="290376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04242"/>
                </a:gs>
                <a:gs pos="50000">
                  <a:srgbClr val="458f8f"/>
                </a:gs>
                <a:gs pos="100000">
                  <a:srgbClr val="2042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3" name="圆柱形 67602"/>
            <p:cNvSpPr/>
            <p:nvPr/>
          </p:nvSpPr>
          <p:spPr>
            <a:xfrm>
              <a:off x="6120360" y="24044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04242"/>
                </a:gs>
                <a:gs pos="50000">
                  <a:srgbClr val="458f8f"/>
                </a:gs>
                <a:gs pos="100000">
                  <a:srgbClr val="2042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4" name="文本框 67603"/>
            <p:cNvSpPr/>
            <p:nvPr/>
          </p:nvSpPr>
          <p:spPr>
            <a:xfrm>
              <a:off x="3775320" y="2903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5" name="圆角矩形 67604"/>
            <p:cNvSpPr/>
            <p:nvPr/>
          </p:nvSpPr>
          <p:spPr>
            <a:xfrm>
              <a:off x="2702520" y="475812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6" name="文本框 67605"/>
            <p:cNvSpPr/>
            <p:nvPr/>
          </p:nvSpPr>
          <p:spPr>
            <a:xfrm>
              <a:off x="1588320" y="2551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7" name="文本框 67606"/>
            <p:cNvSpPr/>
            <p:nvPr/>
          </p:nvSpPr>
          <p:spPr>
            <a:xfrm>
              <a:off x="158832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8" name="文本框 67607"/>
            <p:cNvSpPr/>
            <p:nvPr/>
          </p:nvSpPr>
          <p:spPr>
            <a:xfrm>
              <a:off x="1588320" y="3549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9" name="文本框 67608"/>
            <p:cNvSpPr/>
            <p:nvPr/>
          </p:nvSpPr>
          <p:spPr>
            <a:xfrm>
              <a:off x="6685560" y="2551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0" name="文本框 67609"/>
            <p:cNvSpPr/>
            <p:nvPr/>
          </p:nvSpPr>
          <p:spPr>
            <a:xfrm>
              <a:off x="668556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1" name="文本框 67610"/>
            <p:cNvSpPr/>
            <p:nvPr/>
          </p:nvSpPr>
          <p:spPr>
            <a:xfrm>
              <a:off x="6685560" y="3549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32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组合 68637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35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36" name="直接连接符 68610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39" name="直接连接符 68611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42" name="直接连接符 68612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45" name="直接连接符 68613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48" name="直接连接符 68614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51" name="直接连接符 68615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54" name="直接连接符 68616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57" name="直接连接符 68617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260" name="直接连接符 68618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2b166e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62" name="文本框 6861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3" name="文本框 68620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4" name="文本框 68621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5" name="文本框 68622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66" name="组合 68623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67" name="任意多边形 68624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5000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8" name="任意多边形 68625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9" name="任意多边形 68626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76"/>
                  </a:gs>
                  <a:gs pos="50000">
                    <a:srgbClr val="9999ff"/>
                  </a:gs>
                  <a:gs pos="100000">
                    <a:srgbClr val="4747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0" name="任意多边形 68627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1" name="任意多边形 68628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8"/>
                  </a:gs>
                  <a:gs pos="50000">
                    <a:srgbClr val="6c9bbe"/>
                  </a:gs>
                  <a:gs pos="100000">
                    <a:srgbClr val="32485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2" name="任意多边形 68629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04242"/>
                  </a:gs>
                  <a:gs pos="50000">
                    <a:srgbClr val="458f8f"/>
                  </a:gs>
                  <a:gs pos="100000">
                    <a:srgbClr val="2042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3" name="任意多边形 68630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5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4" name="任意多边形 68631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5" name="矩形 68632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949400"/>
                  </a:gs>
                  <a:gs pos="50000">
                    <a:srgbClr val="cccc00"/>
                  </a:gs>
                  <a:gs pos="100000">
                    <a:srgbClr val="94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6" name="矩形 68633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f6fb9"/>
                  </a:gs>
                  <a:gs pos="50000">
                    <a:srgbClr val="9999ff"/>
                  </a:gs>
                  <a:gs pos="100000">
                    <a:srgbClr val="6f6f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7" name="任意多边形 68634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c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8" name="矩形 68635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4e708a"/>
                  </a:gs>
                  <a:gs pos="50000">
                    <a:srgbClr val="6c9bbe"/>
                  </a:gs>
                  <a:gs pos="100000">
                    <a:srgbClr val="4e708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9" name="矩形 68636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326868"/>
                  </a:gs>
                  <a:gs pos="50000">
                    <a:srgbClr val="458f8f"/>
                  </a:gs>
                  <a:gs pos="100000">
                    <a:srgbClr val="3268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组合 69655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283" name="任意多边形 69634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2a2ff">
                    <a:alpha val="32156"/>
                  </a:srgbClr>
                </a:gs>
                <a:gs pos="100000">
                  <a:srgbClr val="99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4" name="圆角矩形 69635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5" name="圆角矩形 69636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6" name="八边形 69637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7" name="八边形 69638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8" name="圆角矩形 69639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9" name="圆角矩形 69640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0" name="八边形 69641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1" name="八边形 69642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2" name="任意多边形 69643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ac5da">
                    <a:alpha val="32156"/>
                  </a:srgbClr>
                </a:gs>
                <a:gs pos="100000">
                  <a:srgbClr val="6c9b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3" name="文本框 69644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4" name="文本框 69645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95" name="组合 69646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296" name="圆角矩形 69647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c9b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7" name="圆角矩形 69648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a3c4a"/>
                  </a:gs>
                  <a:gs pos="50000">
                    <a:srgbClr val="6c9bbe"/>
                  </a:gs>
                  <a:gs pos="100000">
                    <a:srgbClr val="2a3c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8" name="八边形 69649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9" name="八边形 69650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0" name="文本框 6965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1" name="文本框 69652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02" name="文本框 69653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3" name="文本框 6965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04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32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