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0EA-2697-4804-957D-E43F8707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924-5989-4525-9358-07A1E63A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F89-9C13-45CE-8A53-AEEEA8A0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C95-D7B5-4A86-BA5A-3E9770C5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E36-DA6F-495D-9D7E-0542AD82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3D4-4AA6-4C06-84A6-8B088D2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453-110D-4804-AD68-8077200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7634-EF79-4FCA-BCD8-9AAFC7E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97D-1AA9-428C-9B98-2F7508B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8F02-439A-490E-AEB6-054DF8B6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DEA3-E0B1-4916-ABA1-013F3B9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2D8-DC62-4D33-AAB1-747E113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D267-D935-44B3-A507-AA47848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3238-16B0-42D5-9D9B-AD8F76B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FA7-9E98-42E6-ADBC-603C5547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8469-1EEC-4F62-846B-81287F05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915-26CC-42DC-8DBB-BB659DDA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DFC0-555E-4F97-9201-3BE6C6D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5F0E-75CD-4194-AD3B-EB1F10C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476B-D3C5-4444-95EB-F59BB64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333C-0AC9-4352-83EF-018115E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3646-FD06-4E4C-8854-C729F42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C76-4843-4502-A2B6-A233D04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894A-5051-44B0-AC40-A7B8D682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69C2-A141-4C7F-9E68-D74E3F2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8466-B89A-46A5-BE2A-5BCF3F0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D58F-C55E-47D2-8B37-C8B2A1E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00BF-9288-41AF-85AC-C82E6871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D815-E860-4432-B09C-F9FB2DD2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3C4F-A4CB-4F45-96AC-581F9709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408-3168-4F8B-9475-7B8BA27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B66-D60A-4C29-9A2F-9A20FF10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E32-FBAD-4CEC-B971-070F397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FA4-449A-42F6-AFF7-C207D1C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4EC-C1A4-4B29-9D70-9DB8D123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9067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97C-3195-4DE7-89ED-C67C5E7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Eras Bold ITC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E29F-29BA-4C3D-867E-BD096FD07041}" type="slidenum">
              <a:rPr b="0" lang="en-US" sz="1400" spc="-1" strike="noStrike">
                <a:solidFill>
                  <a:srgbClr val="000000"/>
                </a:solidFill>
                <a:latin typeface="Eras Bold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797040"/>
            <a:ext cx="9144000" cy="360"/>
            <a:chOff x="6480" y="797040"/>
            <a:chExt cx="9144000" cy="360"/>
          </a:xfrm>
        </p:grpSpPr>
        <p:sp>
          <p:nvSpPr>
            <p:cNvPr id="6" name="直接连接符 1030"/>
            <p:cNvSpPr/>
            <p:nvPr/>
          </p:nvSpPr>
          <p:spPr>
            <a:xfrm>
              <a:off x="6480" y="79704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6480" y="797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9577-B276-441B-A1F7-237313BB5A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90F9-AF8D-464F-89E5-46131A4672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2819520"/>
            <a:ext cx="9144000" cy="360"/>
            <a:chOff x="0" y="2819520"/>
            <a:chExt cx="9144000" cy="360"/>
          </a:xfrm>
        </p:grpSpPr>
        <p:sp>
          <p:nvSpPr>
            <p:cNvPr id="86" name="直接连接符 7174"/>
            <p:cNvSpPr/>
            <p:nvPr/>
          </p:nvSpPr>
          <p:spPr>
            <a:xfrm>
              <a:off x="0" y="2819520"/>
              <a:ext cx="9144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0" y="2819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649-DC7F-475F-BE9F-18EED0A713F6}" type="slidenum">
              <a:rPr b="0" lang="en-US" sz="1400" spc="-1" strike="noStrike">
                <a:solidFill>
                  <a:srgbClr val="ffffff"/>
                </a:solidFill>
                <a:latin typeface="Franklin Gothic Heavy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2133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Microscopic Detai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Heavy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055" descr="Z:\newtek\_backgrounds_1.02\Tim\powerpoint templates\21-40\microscopic_details\elements\amoeba.png"/>
          <p:cNvPicPr/>
          <p:nvPr/>
        </p:nvPicPr>
        <p:blipFill>
          <a:blip r:embed="rId1"/>
          <a:stretch/>
        </p:blipFill>
        <p:spPr>
          <a:xfrm>
            <a:off x="257040" y="662040"/>
            <a:ext cx="126684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056" descr="Z:\newtek\_backgrounds_1.02\Tim\powerpoint templates\21-40\microscopic_details\elements\arcella.png"/>
          <p:cNvPicPr/>
          <p:nvPr/>
        </p:nvPicPr>
        <p:blipFill>
          <a:blip r:embed="rId2"/>
          <a:stretch/>
        </p:blipFill>
        <p:spPr>
          <a:xfrm>
            <a:off x="2009880" y="766800"/>
            <a:ext cx="1266840" cy="1081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057" descr="Z:\newtek\_backgrounds_1.02\Tim\powerpoint templates\21-40\microscopic_details\elements\keckleball.png"/>
          <p:cNvPicPr/>
          <p:nvPr/>
        </p:nvPicPr>
        <p:blipFill>
          <a:blip r:embed="rId3"/>
          <a:stretch/>
        </p:blipFill>
        <p:spPr>
          <a:xfrm>
            <a:off x="3938760" y="609480"/>
            <a:ext cx="1266480" cy="12668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058" descr="Z:\newtek\_backgrounds_1.02\Tim\powerpoint templates\21-40\microscopic_details\elements\mite.png"/>
          <p:cNvPicPr/>
          <p:nvPr/>
        </p:nvPicPr>
        <p:blipFill>
          <a:blip r:embed="rId4"/>
          <a:stretch/>
        </p:blipFill>
        <p:spPr>
          <a:xfrm>
            <a:off x="5715000" y="657360"/>
            <a:ext cx="1322280" cy="1322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059" descr="Z:\newtek\_backgrounds_1.02\Tim\powerpoint templates\21-40\microscopic_details\elements\particle.png"/>
          <p:cNvPicPr/>
          <p:nvPr/>
        </p:nvPicPr>
        <p:blipFill>
          <a:blip r:embed="rId5"/>
          <a:stretch/>
        </p:blipFill>
        <p:spPr>
          <a:xfrm>
            <a:off x="7696080" y="65736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1146240" y="3564000"/>
            <a:ext cx="62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欧美公司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3075" descr="Z:\newtek\_backgrounds_1.02\Tim\powerpoint templates\21-40\microscopic_details\elements\amoeba.png"/>
          <p:cNvPicPr/>
          <p:nvPr/>
        </p:nvPicPr>
        <p:blipFill>
          <a:blip r:embed="rId1"/>
          <a:stretch/>
        </p:blipFill>
        <p:spPr>
          <a:xfrm>
            <a:off x="7696080" y="152280"/>
            <a:ext cx="1266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40" y="2133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6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Heavy"/>
            </a:endParaRPr>
          </a:p>
        </p:txBody>
      </p:sp>
      <p:pic>
        <p:nvPicPr>
          <p:cNvPr id="143" name="图片 4099" descr="Z:\newtek\_backgrounds_1.02\Tim\powerpoint templates\21-40\microscopic_details\elements\arcella.png"/>
          <p:cNvPicPr/>
          <p:nvPr/>
        </p:nvPicPr>
        <p:blipFill>
          <a:blip r:embed="rId2"/>
          <a:stretch/>
        </p:blipFill>
        <p:spPr>
          <a:xfrm>
            <a:off x="2362320" y="3076560"/>
            <a:ext cx="1266840" cy="1081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100" descr="Z:\newtek\_backgrounds_1.02\Tim\powerpoint templates\21-40\microscopic_details\elements\keckleball.png"/>
          <p:cNvPicPr/>
          <p:nvPr/>
        </p:nvPicPr>
        <p:blipFill>
          <a:blip r:embed="rId3"/>
          <a:stretch/>
        </p:blipFill>
        <p:spPr>
          <a:xfrm>
            <a:off x="5486400" y="300024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101" descr="Z:\newtek\_backgrounds_1.02\Tim\powerpoint templates\21-40\microscopic_details\elements\mite.png"/>
          <p:cNvPicPr/>
          <p:nvPr/>
        </p:nvPicPr>
        <p:blipFill>
          <a:blip r:embed="rId4"/>
          <a:stretch/>
        </p:blipFill>
        <p:spPr>
          <a:xfrm>
            <a:off x="3909960" y="2924280"/>
            <a:ext cx="1322280" cy="132228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1C1-901B-4237-8EAC-667C914E64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ext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126" descr="Z:\newtek\_backgrounds_1.02\Tim\powerpoint templates\21-40\microscopic_details\elements\particle.png"/>
          <p:cNvPicPr/>
          <p:nvPr/>
        </p:nvPicPr>
        <p:blipFill>
          <a:blip r:embed="rId2"/>
          <a:stretch/>
        </p:blipFill>
        <p:spPr>
          <a:xfrm>
            <a:off x="76960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5:22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9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