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FDBC7-EC2D-4377-B3E1-8401E4289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2133360" y="137160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727CC-E346-480E-A0F3-71844BB9F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EF648-41BC-4A89-9F99-79686A787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21333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3491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5649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21333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43491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5649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6B358-51BD-4B29-8936-2B9A3E82D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09684-65C1-4CA0-A69A-4AF42B855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2133360" y="1371600"/>
            <a:ext cx="655308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D1620-86AB-4F8B-9D94-D22142D93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2133360" y="1371600"/>
            <a:ext cx="65530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9BFF9-767E-41C6-85A9-40D1C27A8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23033-7949-44DC-A5B6-36D74E3CF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A3F99-62BE-4A45-A4E3-9ED1ED51F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616E5-8CD9-4AFC-B6DE-7C9059740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9D520-10AB-4FA1-81AD-6BB36B50A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2133360" y="1371600"/>
            <a:ext cx="655308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C9D8F-4C36-4977-9B89-87C2302CC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35127-9E54-4419-A102-5487824A2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E54B0-EFD8-49FA-86ED-457385595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2133360" y="137160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D4EB1-EC2E-414B-81A3-501115527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22CC4-3A5C-4E81-9A1C-FDA882FE0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21333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3491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5649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21333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43491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5649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4F337-BC28-4ADF-949A-E19736AD3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2133360" y="1371600"/>
            <a:ext cx="65530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F2C4E-FAB7-4739-B049-4E0735189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240C4-B271-4F4D-9FC9-8A0FF901C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7C2BD-DDB2-4646-8E88-9A2B175AA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19BC0-8589-4E03-9C70-CD84DE3B9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56126-B3D5-4E6B-8878-49EF4AFE0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184FA-8B9A-4C74-86AA-BDB1B0CB0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67F7-A605-4208-8B9A-97412C17D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2133360" y="13716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9144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1371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8288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8288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8288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189D-557D-4B85-99E8-D05AE012842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A2D5-ACAF-419D-9BFA-076075EF6803}"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3D7F-FE0C-4247-9E75-6F33F4C5B6F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评估报告商务</a:t>
            </a:r>
            <a:r>
              <a:rPr b="1" lang="zh-CN" sz="4000" spc="-1" strike="noStrike">
                <a:solidFill>
                  <a:srgbClr val="000000"/>
                </a:solidFill>
                <a:latin typeface="Tahoma"/>
              </a:rPr>
              <a:t>PPT</a:t>
            </a:r>
            <a:r>
              <a:rPr b="1" lang="zh-CN" sz="4000" spc="-1" strike="noStrike">
                <a:solidFill>
                  <a:srgbClr val="000000"/>
                </a:solidFill>
                <a:latin typeface="Tahoma"/>
              </a:rPr>
              <a:t>模板免费下载</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295280" y="1371600"/>
            <a:ext cx="6400800" cy="914400"/>
          </a:xfrm>
          <a:prstGeom prst="rect">
            <a:avLst/>
          </a:prstGeom>
          <a:noFill/>
          <a:ln w="0">
            <a:noFill/>
          </a:ln>
        </p:spPr>
        <p:txBody>
          <a:bodyPr anchor="t">
            <a:noAutofit/>
          </a:bodyPr>
          <a:p>
            <a:pPr indent="0" algn="ctr">
              <a:lnSpc>
                <a:spcPct val="100000"/>
              </a:lnSpc>
              <a:spcBef>
                <a:spcPts val="601"/>
              </a:spcBef>
              <a:buNone/>
              <a:tabLst>
                <a:tab algn="l" pos="0"/>
              </a:tabLst>
            </a:pPr>
            <a:r>
              <a:rPr b="1" lang="zh-CN" sz="2400" spc="-1" strike="noStrike">
                <a:solidFill>
                  <a:srgbClr val="000000"/>
                </a:solidFill>
                <a:latin typeface="Arial"/>
              </a:rPr>
              <a:t>Presentation subtitle</a:t>
            </a:r>
            <a:endParaRPr b="0" lang="en-US" sz="2400" spc="-1" strike="noStrike">
              <a:solidFill>
                <a:srgbClr val="000000"/>
              </a:solidFill>
              <a:latin typeface="Calibri"/>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Slide Master</a:t>
            </a:r>
            <a:endParaRPr b="0" lang="en-US" sz="4400" spc="-1" strike="noStrike">
              <a:solidFill>
                <a:srgbClr val="000000"/>
              </a:solidFill>
              <a:latin typeface="Calibri"/>
            </a:endParaRPr>
          </a:p>
        </p:txBody>
      </p:sp>
      <p:sp>
        <p:nvSpPr>
          <p:cNvPr id="86" name=""/>
          <p:cNvSpPr txBox="1"/>
          <p:nvPr/>
        </p:nvSpPr>
        <p:spPr>
          <a:xfrm>
            <a:off x="2133360" y="1371240"/>
            <a:ext cx="655308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Lorem ipsum dolor sit amet, consectetuer adipisc ing elit, sed diam nonummy nibh euismod tincidunt ut laoreet dolore mag na aliquam erat volutpat. Ut wisi enim ad minim veniam, quis nostrud exerci tati on ullamcorper suscipit lobortis nisl ut aliq uip ex ea commodo cons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Duis autem vel eum iriure dolor in hendrerit in vulpu tate velit esse molestie consequat, vel illum dolore eu feugiat nulla faci lisis at vero eros et accu msan et iusto odio dignissim qui blan dit praese nt lupta tum zzril delenit augue duis dolore te feug ait nulla facilisi</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
        <p:nvSpPr>
          <p:cNvPr id="87" name="文本框 8194"/>
          <p:cNvSpPr/>
          <p:nvPr/>
        </p:nvSpPr>
        <p:spPr>
          <a:xfrm>
            <a:off x="2124000" y="17017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2D9D-17EC-4CF4-B4F0-840FD5F4820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274680"/>
            <a:ext cx="67057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Print Master</a:t>
            </a:r>
            <a:endParaRPr b="0" lang="en-US" sz="4400" spc="-1" strike="noStrike">
              <a:solidFill>
                <a:srgbClr val="000000"/>
              </a:solidFill>
              <a:latin typeface="Calibri"/>
            </a:endParaRPr>
          </a:p>
        </p:txBody>
      </p:sp>
      <p:sp>
        <p:nvSpPr>
          <p:cNvPr id="93" name=""/>
          <p:cNvSpPr txBox="1"/>
          <p:nvPr/>
        </p:nvSpPr>
        <p:spPr>
          <a:xfrm>
            <a:off x="1980720" y="164628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Lorem ipsum dolor sit amet, consectetuer adipisc ing elit, sed diam nonummy nibh euismod tincidunt ut laoreet dolore mag na aliquam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Duis autem vel eum iriure dolor in hendrerit in vulputa te velit esse molestie consequat, vel illum dolore eu feugiat nulla faci lisis at vero eros et accu msan et iusto odio </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8:12Z</dcterms:created>
  <dc:creator>幻灯片之家：www.eeppt.com</dc:creator>
  <dc:description>幻灯片之家：www.eeppt.com</dc:description>
  <cp:keywords>幻灯片之家：www.eeppt.com</cp:keywords>
  <dc:language>en-US</dc:language>
  <cp:lastModifiedBy>pc</cp:lastModifiedBy>
  <dcterms:modified xsi:type="dcterms:W3CDTF">2015-12-12T07:18:07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y fmtid="{D5CDD505-2E9C-101B-9397-08002B2CF9AE}" pid="3" name="_TemplateID">
    <vt:lpwstr>TC019831649991</vt:lpwstr>
  </property>
</Properties>
</file>