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250-A43B-4698-B056-F59FD5F6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002-BAED-4EBD-8E08-D5CF5820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C9B-D1EE-4002-874B-5A30795D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093-928A-4B40-AB80-27EDA73C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C491-FADD-4F48-BDD6-B4A9E6B8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97B-2118-4086-8F1A-AFE7AA53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D57C-7B9E-4F16-A359-ADA64C66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F9D-78DC-44CE-B1C3-1A37C73C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FB86-393C-4E54-98C3-38863317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AC5-B0BD-4523-859C-24AB83A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A14C-4A12-4DBE-B3F3-DF004D5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930-2105-445A-9D63-C48066A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93BC-BAE4-4176-A9D8-A070540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3E4-AB37-4A21-9741-396CD0D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0EE-B82A-47A5-A790-46B7412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0F19-AC85-4E34-851E-B5C509E6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10B-938A-4ECA-B474-3A9A3B9F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1F60-6CAD-427C-9846-83E0AA87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D5F0-4D48-452D-A554-9CB16BC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2D4D-C3F6-4666-A9F9-0036369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159F-DF74-4E36-8C08-EDC50BFB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F09F-FE0D-4271-A55E-C596B9E9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788-E6C2-4A67-84E9-46DEDF4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3E75-65BB-4A53-8768-3E66EFE5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1B70-3F28-4D25-8884-F871EB4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0C73-5426-4F8E-A6C2-1E5D97D2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79FA-7058-4AC9-A4CB-86B4F00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69BC-302D-4954-8E85-48CE71E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1518-E1AC-496F-AF79-4C5E7504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C448-E796-4C65-A3BD-9FB4C2CB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163-00BD-4780-BB29-E7A7112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661-EA79-408D-849A-A43583FA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1886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D01-DFAF-437B-BF5B-A430AE6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751-9087-4063-A497-E0D9B2A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34A-BEB0-4C7C-B539-86D25C6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3DE-DDA3-4232-9412-34FE262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825C-3230-4610-A4DA-E01F4C9833C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9E65-6313-4FA5-9E39-5BE6F5515F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6637-B1F6-41E7-ACC4-EC518FB0DA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4C59-103A-4024-95CE-0999318B28D6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10"/>
          <p:cNvSpPr txBox="1"/>
          <p:nvPr/>
        </p:nvSpPr>
        <p:spPr>
          <a:xfrm>
            <a:off x="250920" y="1197000"/>
            <a:ext cx="75056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454545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黑体"/>
              </a:rPr>
              <a:t>漂亮的六一儿童节卡通幻灯片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454545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585880" y="4383000"/>
            <a:ext cx="23767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c0c0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46040" y="16128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修改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格式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设计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配色方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编辑配色方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的添加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内页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添加修改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视图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首页直接选择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图片删除或修改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字体格式的设置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括标题和文本格式的设置在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视图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--&gt;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【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幻灯片母版</a:t>
            </a:r>
            <a:r>
              <a:rPr b="0" lang="en-US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】</a:t>
            </a:r>
            <a:r>
              <a:rPr b="0" lang="zh-CN" sz="2000" spc="-1" strike="noStrike">
                <a:solidFill>
                  <a:srgbClr val="0c0c0c"/>
                </a:solidFill>
                <a:latin typeface="Adobe 黑体 Std R"/>
                <a:ea typeface="Adobe 黑体 Std R"/>
              </a:rPr>
              <a:t>下调整。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9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2D4-1A52-49CC-BF4F-6FBE277A816D}" type="slidenum">
              <a:rPr b="0" lang="zh-CN" sz="1400" spc="-1" strike="noStrike">
                <a:solidFill>
                  <a:srgbClr val="0c0c0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135400" y="3032280"/>
            <a:ext cx="2189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黑体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6Z</dcterms:modified>
  <cp:revision>1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