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805F-0FDA-448A-B756-257209E9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F315-0888-4285-8702-2B4B9D35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A098-BACB-401C-A8A2-5A7D2366C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5FB-FCE8-49CE-A4BF-F9FB9D9D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5578-0D16-46DC-BBF9-D40A6E2C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5F03-77D4-4657-BE58-B259490A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9C85-D9D1-43FE-991F-16ECC5ED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5C91-BCDE-4A5A-922C-792BA267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ED8E-8808-491A-B935-95A70E2A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D922-FC4E-4769-9D00-8178D500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8C77-C830-4485-A60B-8799098E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937A-B94C-4C18-80F8-8FE63D03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9157-9931-496B-AB85-C45AD0A8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53A3-11AE-4449-B057-94DB7996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D439-D598-4CF3-B71E-AC06AC2D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AE5E-5C4F-4EC2-A0AC-99411CBA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1096-947A-4435-A94E-B955A7BD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75A83-87B8-49DD-A71B-BFCE568F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F5B08-3CDD-439C-A932-74E5E8CB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4804E-DDD0-4638-8111-B27EA996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2FBE8-54A0-4D6F-80BE-04459CCC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7ED6A-08E3-4001-9163-B2256FE5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2BEA-2CE1-4F4C-9638-6DECCDC0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1E705-593F-4DC7-A10E-DE0E7835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3186B-D2D8-40E9-8479-79F5E9CF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8AC09-C4B6-47EB-808A-2F30C39B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AB152-6C60-413F-92A6-6FC517ED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23F9D-2143-4E02-AB15-33B3C1D3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1EFBA-9CB1-4553-9416-C873533F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D88B8-018E-485F-B63A-DA08A04E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2012-7F84-4B47-A829-11E255CF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CD59-E41C-4A05-90E4-87B331B6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DE69-47F5-40FC-8A61-3C37DFAB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DC3E-D6FB-4F85-ADAA-7BD7D62B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C854-BF0D-45B5-B7FD-59821108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587C-3285-4ABF-8480-2359C9A5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Rounded MT Bol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7BD3-3C04-4870-B9CE-0F6A02F32B5F}" type="slidenum">
              <a:rPr b="0" lang="en-US" sz="1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Rounded MT Bol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089B-52FF-4438-9AF1-9A43561EF1D9}" type="slidenum">
              <a:rPr b="0" lang="en-US" sz="14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F8B2-4E8E-491C-B495-6BFCD20238B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1C18-41D4-4C69-B794-7827664508A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青春之泉企业</a:t>
            </a:r>
            <a:r>
              <a:rPr b="0" lang="zh-CN" sz="4400" spc="-1" strike="noStrike">
                <a:solidFill>
                  <a:srgbClr val="ffffff"/>
                </a:solidFill>
                <a:latin typeface="Arial Rounded MT Bold"/>
              </a:rPr>
              <a:t>幻灯片下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Your Subtitle Goes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subtopics go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FOUNTAIN OF YOU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Your Subtitle Goes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33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al P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3657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title Goes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E315-00F0-41F3-9724-E2DDDABE0D1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20:41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9:17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