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F0F-1907-4B72-B664-4829B049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AC3-B178-406C-8603-A47B23FE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417-7DCC-41FE-B040-52B8D8B1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42B-B0DD-4B53-9705-F2301C4B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EFC1-6591-43A2-BB17-6FC6485B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5100-887D-49FD-80AC-999A2864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5B86-1DD7-480D-B37E-86922E70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73E7-5ECB-4542-86B8-234FD5FC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8D2A-83B7-4C54-9688-578766BE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9C7D-E8C2-4A54-B3EC-91F5F801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5E48-6231-4221-8CD1-88A579E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FD6-7F34-4000-9261-581934FB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7AAE-FC19-490E-B582-A5B951CB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D1C3-0713-4C1E-9F24-B710B92F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DAA7-CD82-4ACB-8ED3-8E6592E1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874B-FF6D-4B84-BDE1-E28063AA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0E66-DBE0-4594-8866-0DA5C40B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C02-34F2-4B42-B331-B61C3444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D65-B49A-4B75-89E8-5A9DE888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955-948D-4DB0-B466-AA2F3744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0EB-FB64-45B7-A92E-9463A293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479-CAAA-44F8-9090-20F60E22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529-1D41-483C-A780-A06D5580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800-1B82-4689-8715-CE86B0E2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94C7-433C-498C-9EC9-77D22194D9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BBD3-C0E6-4EED-9101-7D68B388D07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D7ED-99F5-4714-9343-AEC787AEB1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pps.facebook.com/yefgarage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349360"/>
            <a:ext cx="6948360" cy="1224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標楷體"/>
              </a:rPr>
              <a:t>Young Entrepreneur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標楷體"/>
              </a:rPr>
              <a:t>of the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1332000" y="83664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业介绍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95200" y="115920"/>
            <a:ext cx="50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導師 </a:t>
            </a:r>
            <a:r>
              <a:rPr b="1" i="1" lang="en-US" sz="40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Mentors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團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346480" y="286236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68360" y="765000"/>
            <a:ext cx="52466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方頌仁 合夥人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達盈管顧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王大任 副總經理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毅成建設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何奕達 總經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Arial"/>
                <a:ea typeface="標楷體"/>
              </a:rPr>
              <a:t>永豐餘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李岳奇 總經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歐聯財顧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李聖珉 副總監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應用預測技術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李滿營 專家顧問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易坤析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林明昇 策略長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中興保全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邱仁鈿 董事長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Arial"/>
                <a:ea typeface="標楷體"/>
              </a:rPr>
              <a:t>碩網科技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馬述康 開發總監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崴嘉科技公司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張世忠 董事長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基亞生技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郭大經 總經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華矽半導體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陳正君 技術長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智邦科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陳素蘭 社  長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Arial"/>
                <a:ea typeface="標楷體"/>
              </a:rPr>
              <a:t>數位時代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黃世嘉 總經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北歐櫥窗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r>
              <a:rPr b="1" lang="en-US" sz="800" spc="-1" strike="noStrike">
                <a:solidFill>
                  <a:srgbClr val="5f5f5f"/>
                </a:solidFill>
                <a:latin typeface="標楷體"/>
                <a:ea typeface="標楷體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黃冠華 執行董事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旭榮集團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葉志鴻 總經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台灣微脂體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詹兆源 副總經理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神達電腦手機事業部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潘唯浩 經  理    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振業化工</a:t>
            </a:r>
            <a:r>
              <a:rPr b="1" lang="en-US" sz="2000" spc="-1" strike="noStrike">
                <a:solidFill>
                  <a:srgbClr val="5f5f5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__4_0098"/>
          <p:cNvPicPr/>
          <p:nvPr/>
        </p:nvPicPr>
        <p:blipFill>
          <a:blip r:embed="rId1"/>
          <a:stretch/>
        </p:blipFill>
        <p:spPr>
          <a:xfrm>
            <a:off x="5194440" y="333360"/>
            <a:ext cx="3233520" cy="234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_26_0120"/>
          <p:cNvPicPr/>
          <p:nvPr/>
        </p:nvPicPr>
        <p:blipFill>
          <a:blip r:embed="rId2"/>
          <a:stretch/>
        </p:blipFill>
        <p:spPr>
          <a:xfrm>
            <a:off x="6234120" y="2637000"/>
            <a:ext cx="2714760" cy="196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20A_0092"/>
          <p:cNvPicPr/>
          <p:nvPr/>
        </p:nvPicPr>
        <p:blipFill>
          <a:blip r:embed="rId3"/>
          <a:stretch/>
        </p:blipFill>
        <p:spPr>
          <a:xfrm>
            <a:off x="5635800" y="4516560"/>
            <a:ext cx="3232080" cy="234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42960" y="714240"/>
          <a:ext cx="7704000" cy="6269040"/>
        </p:xfrm>
        <a:graphic>
          <a:graphicData uri="http://schemas.openxmlformats.org/drawingml/2006/table">
            <a:tbl>
              <a:tblPr/>
              <a:tblGrid>
                <a:gridCol w="3959280"/>
                <a:gridCol w="3744720"/>
              </a:tblGrid>
              <a:tr h="24084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Opportunity Recognition and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usiness Model in Emerging Mar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主持教授：溫肇東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政大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林富元董事長（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多元創投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徐小波董事長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宇智顧問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張永聲董事長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中華海洋生技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Arial"/>
                          <a:ea typeface="標楷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ntrepreneurial Financ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Fundraising and Finan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anagement for Start-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主持教授：黃振聰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（中山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黃俊傑總經理（永豐創投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王耀庭合夥人（盈達管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hallenges for Scientists as Entrepren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主持教授：簡禎富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（清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張世忠董事長（基亞生技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邱仁鈿董事長（碩網資訊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Leadership and Team Building at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tart-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主持教授：管康彥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 （政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王國雄副董事長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王品集團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李錫華董事長（達方電子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Innovation in New Products and Service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主持教授：朱博湧</a:t>
                      </a: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（交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簡立峰總經理（台灣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Google</a:t>
                      </a: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00080"/>
                        </a:buClr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陳立恆總裁（法藍瓷</a:t>
                      </a:r>
                      <a:r>
                        <a:rPr b="0" lang="zh-TW" sz="1600" spc="-1" strike="noStrike">
                          <a:solidFill>
                            <a:srgbClr val="6600cc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Founder’s Dilemma:   Dream vs. Reality in Entrepreneurial Ven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ff"/>
                          </a:solidFill>
                          <a:latin typeface="標楷體"/>
                          <a:ea typeface="標楷體"/>
                        </a:rPr>
                        <a:t>主持人：趙如媛副執行長</a:t>
                      </a:r>
                      <a:r>
                        <a:rPr b="0" lang="zh-TW" sz="1600" spc="-1" strike="noStrike">
                          <a:solidFill>
                            <a:srgbClr val="3333ff"/>
                          </a:solidFill>
                          <a:latin typeface="Arial"/>
                          <a:ea typeface="標楷體"/>
                        </a:rPr>
                        <a:t>（時代基金會）</a:t>
                      </a:r>
                      <a:r>
                        <a:rPr b="0" lang="en-US" sz="1600" spc="-1" strike="noStrike">
                          <a:solidFill>
                            <a:srgbClr val="3333ff"/>
                          </a:solidFill>
                          <a:latin typeface="Arial"/>
                          <a:ea typeface="標楷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創業家講者：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Times New Roman"/>
                          <a:ea typeface="標楷體"/>
                        </a:rPr>
                        <a:t>YEF Alum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邱繼弘、沈育德、王威詔、鍾震寰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800080"/>
                          </a:solidFill>
                          <a:latin typeface="標楷體"/>
                          <a:ea typeface="標楷體"/>
                        </a:rPr>
                        <a:t>宋牧奇、徐正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1600" spc="-1" strike="noStrike" u="sng">
                          <a:solidFill>
                            <a:srgbClr val="3333ff"/>
                          </a:solidFill>
                          <a:uFillTx/>
                          <a:latin typeface="標楷體"/>
                          <a:ea typeface="標楷體"/>
                        </a:rPr>
                        <a:t>結業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142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</a:rPr>
              <a:t>Entrepreneurial Workshops</a:t>
            </a:r>
            <a:br>
              <a:rPr sz="4400"/>
            </a:b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8199"/>
          <p:cNvSpPr/>
          <p:nvPr/>
        </p:nvSpPr>
        <p:spPr>
          <a:xfrm>
            <a:off x="25092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Entrepreneurial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旋轉對象 P1000141"/>
          <p:cNvPicPr/>
          <p:nvPr/>
        </p:nvPicPr>
        <p:blipFill>
          <a:blip r:embed="rId1"/>
          <a:stretch/>
        </p:blipFill>
        <p:spPr>
          <a:xfrm>
            <a:off x="539640" y="4000680"/>
            <a:ext cx="4032360" cy="256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P1070005"/>
          <p:cNvPicPr/>
          <p:nvPr/>
        </p:nvPicPr>
        <p:blipFill>
          <a:blip r:embed="rId2"/>
          <a:stretch/>
        </p:blipFill>
        <p:spPr>
          <a:xfrm>
            <a:off x="4572000" y="1484280"/>
            <a:ext cx="4032360" cy="254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創業領袖面對面-3"/>
          <p:cNvPicPr/>
          <p:nvPr/>
        </p:nvPicPr>
        <p:blipFill>
          <a:blip r:embed="rId3"/>
          <a:stretch/>
        </p:blipFill>
        <p:spPr>
          <a:xfrm>
            <a:off x="4572000" y="4005360"/>
            <a:ext cx="4032360" cy="251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mage0001"/>
          <p:cNvPicPr/>
          <p:nvPr/>
        </p:nvPicPr>
        <p:blipFill>
          <a:blip r:embed="rId4"/>
          <a:stretch/>
        </p:blipFill>
        <p:spPr>
          <a:xfrm>
            <a:off x="539640" y="1471680"/>
            <a:ext cx="4032360" cy="253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1070005"/>
          <p:cNvPicPr/>
          <p:nvPr/>
        </p:nvPicPr>
        <p:blipFill>
          <a:blip r:embed="rId1"/>
          <a:stretch/>
        </p:blipFill>
        <p:spPr>
          <a:xfrm>
            <a:off x="4572000" y="1484280"/>
            <a:ext cx="4071960" cy="254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image0001"/>
          <p:cNvPicPr/>
          <p:nvPr/>
        </p:nvPicPr>
        <p:blipFill>
          <a:blip r:embed="rId2"/>
          <a:stretch/>
        </p:blipFill>
        <p:spPr>
          <a:xfrm>
            <a:off x="500040" y="1471680"/>
            <a:ext cx="4071960" cy="2533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\\file-server\Photo Video\專案活動\2008\2008 YEF\20080807_YEF Workshop\第三天\照片 1309.jpg"/>
          <p:cNvPicPr/>
          <p:nvPr/>
        </p:nvPicPr>
        <p:blipFill>
          <a:blip r:embed="rId3"/>
          <a:stretch/>
        </p:blipFill>
        <p:spPr>
          <a:xfrm>
            <a:off x="500040" y="4000680"/>
            <a:ext cx="4071960" cy="264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\\file-server\Photo Video\專案活動\2008\2008 YEF\20080807_YEF Workshop\第二天\照片 721.jpg"/>
          <p:cNvPicPr/>
          <p:nvPr/>
        </p:nvPicPr>
        <p:blipFill>
          <a:blip r:embed="rId4"/>
          <a:stretch/>
        </p:blipFill>
        <p:spPr>
          <a:xfrm>
            <a:off x="4572000" y="4000680"/>
            <a:ext cx="4071960" cy="2643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Entrepreneurial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Elevator Pitch / Ora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'040806 YEF 國際青年創業領袖計畫 Elevator Pitch 創業投資選秀會 240"/>
          <p:cNvPicPr/>
          <p:nvPr/>
        </p:nvPicPr>
        <p:blipFill>
          <a:blip r:embed="rId1"/>
          <a:stretch/>
        </p:blipFill>
        <p:spPr>
          <a:xfrm>
            <a:off x="468360" y="1600200"/>
            <a:ext cx="4032360" cy="2260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'040806 YEF 國際青年創業領袖計畫 Elevator Pitch 創業投資選秀會 201"/>
          <p:cNvPicPr/>
          <p:nvPr/>
        </p:nvPicPr>
        <p:blipFill>
          <a:blip r:embed="rId2"/>
          <a:stretch/>
        </p:blipFill>
        <p:spPr>
          <a:xfrm>
            <a:off x="4500720" y="1600200"/>
            <a:ext cx="410364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ICT0192"/>
          <p:cNvPicPr/>
          <p:nvPr/>
        </p:nvPicPr>
        <p:blipFill>
          <a:blip r:embed="rId3"/>
          <a:stretch/>
        </p:blipFill>
        <p:spPr>
          <a:xfrm>
            <a:off x="468360" y="3860640"/>
            <a:ext cx="4032360" cy="259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PICT0181"/>
          <p:cNvPicPr/>
          <p:nvPr/>
        </p:nvPicPr>
        <p:blipFill>
          <a:blip r:embed="rId4"/>
          <a:stretch/>
        </p:blipFill>
        <p:spPr>
          <a:xfrm>
            <a:off x="4500720" y="3789360"/>
            <a:ext cx="4103640" cy="263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圖片 3" descr="YEF Vis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</a:rPr>
              <a:t>Overseas Visit</a:t>
            </a:r>
            <a:br>
              <a:rPr sz="4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85560" y="1642680"/>
            <a:ext cx="6985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北京：聯發科、中心半導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           </a:t>
            </a: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北京遊戲谷、遠盟康健科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  <a:ea typeface="標楷體"/>
              </a:rPr>
              <a:t>          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  <a:ea typeface="標楷體"/>
              </a:rPr>
              <a:t>Microsoft Research Asia</a:t>
            </a: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、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  <a:ea typeface="標楷體"/>
              </a:rPr>
              <a:t>Google</a:t>
            </a: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北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          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  <a:ea typeface="標楷體"/>
              </a:rPr>
              <a:t>CNEX</a:t>
            </a:r>
            <a:r>
              <a:rPr b="1" lang="zh-TW" sz="2000" spc="-1" strike="noStrike">
                <a:solidFill>
                  <a:srgbClr val="cc0066"/>
                </a:solidFill>
                <a:latin typeface="Arial"/>
                <a:ea typeface="標楷體"/>
              </a:rPr>
              <a:t>、北京清大、故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000"/>
                </a:solidFill>
                <a:latin typeface="Arial"/>
                <a:ea typeface="標楷體"/>
              </a:rPr>
              <a:t>舊金山：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IDEO</a:t>
            </a:r>
            <a:r>
              <a:rPr b="1" lang="zh-TW" sz="2000" spc="-1" strike="noStrike">
                <a:solidFill>
                  <a:srgbClr val="ffc000"/>
                </a:solidFill>
                <a:latin typeface="Arial"/>
                <a:ea typeface="標楷體"/>
              </a:rPr>
              <a:t>、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CISCO</a:t>
            </a:r>
            <a:r>
              <a:rPr b="1" lang="zh-TW" sz="2000" spc="-1" strike="noStrike">
                <a:solidFill>
                  <a:srgbClr val="ffc000"/>
                </a:solidFill>
                <a:latin typeface="Arial"/>
                <a:ea typeface="標楷體"/>
              </a:rPr>
              <a:t>、聯發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000"/>
                </a:solidFill>
                <a:latin typeface="Arial"/>
                <a:ea typeface="標楷體"/>
              </a:rPr>
              <a:t>              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Cardiva 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              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Stanford, UC Berke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              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標楷體"/>
              </a:rPr>
              <a:t>Wi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Expedition into the Heart of Entrepreneurshi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normal_P1050072[1]"/>
          <p:cNvPicPr/>
          <p:nvPr/>
        </p:nvPicPr>
        <p:blipFill>
          <a:blip r:embed="rId1"/>
          <a:stretch/>
        </p:blipFill>
        <p:spPr>
          <a:xfrm>
            <a:off x="4572000" y="4005360"/>
            <a:ext cx="4103640" cy="2519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normal_IMG_0306[1]"/>
          <p:cNvPicPr/>
          <p:nvPr/>
        </p:nvPicPr>
        <p:blipFill>
          <a:blip r:embed="rId2"/>
          <a:stretch/>
        </p:blipFill>
        <p:spPr>
          <a:xfrm>
            <a:off x="468360" y="4005360"/>
            <a:ext cx="4103640" cy="251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557"/>
          <p:cNvPicPr/>
          <p:nvPr/>
        </p:nvPicPr>
        <p:blipFill>
          <a:blip r:embed="rId3"/>
          <a:stretch/>
        </p:blipFill>
        <p:spPr>
          <a:xfrm>
            <a:off x="4572000" y="1700280"/>
            <a:ext cx="4103640" cy="23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\\file-server\Photo Video\專案活動\2009\YEF\Overseas Visit\DSC05470.JPG"/>
          <p:cNvPicPr/>
          <p:nvPr/>
        </p:nvPicPr>
        <p:blipFill>
          <a:blip r:embed="rId4"/>
          <a:stretch/>
        </p:blipFill>
        <p:spPr>
          <a:xfrm>
            <a:off x="461880" y="1714680"/>
            <a:ext cx="410868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0" y="1700280"/>
            <a:ext cx="98298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1280" y="2286000"/>
            <a:ext cx="2124360" cy="15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全真細圓體"/>
              </a:rPr>
              <a:t>5/20</a:t>
            </a:r>
            <a:r>
              <a:rPr b="1" lang="zh-TW" sz="1300" spc="-1" strike="noStrike">
                <a:solidFill>
                  <a:srgbClr val="000000"/>
                </a:solidFill>
                <a:latin typeface="Calibri"/>
              </a:rPr>
              <a:t>創業構想摘要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全真細圓體"/>
              </a:rPr>
              <a:t>1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90360" y="4508640"/>
            <a:ext cx="2124360" cy="1374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6/30</a:t>
            </a:r>
            <a:r>
              <a:rPr b="1" lang="zh-TW" sz="1300" spc="-1" strike="noStrike">
                <a:solidFill>
                  <a:srgbClr val="000000"/>
                </a:solidFill>
                <a:latin typeface="Calibri"/>
              </a:rPr>
              <a:t>創業計畫書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20%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00"/>
                </a:solidFill>
                <a:latin typeface="Calibri"/>
              </a:rPr>
              <a:t>7/15</a:t>
            </a:r>
            <a:r>
              <a:rPr b="1" lang="zh-TW" sz="1300" spc="-1" strike="noStrike">
                <a:solidFill>
                  <a:srgbClr val="800000"/>
                </a:solidFill>
                <a:latin typeface="Calibri"/>
              </a:rPr>
              <a:t>創業投資選秀會</a:t>
            </a:r>
            <a:r>
              <a:rPr b="1" lang="en-US" sz="1300" spc="-1" strike="noStrike">
                <a:solidFill>
                  <a:srgbClr val="800000"/>
                </a:solidFill>
                <a:latin typeface="Calibri"/>
              </a:rPr>
              <a:t>7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79280" y="1700280"/>
            <a:ext cx="18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華康粗圓體"/>
              </a:rPr>
              <a:t>BP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華康粗圓體"/>
                <a:ea typeface="華康粗圓體"/>
              </a:rPr>
              <a:t> 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華康粗圓體"/>
                <a:ea typeface="華康粗圓體"/>
              </a:rPr>
              <a:t>階段評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214960" y="1628640"/>
            <a:ext cx="257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Workshop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華康粗圓體"/>
                <a:ea typeface="華康粗圓體"/>
              </a:rPr>
              <a:t> 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華康粗圓體"/>
                <a:ea typeface="華康粗圓體"/>
              </a:rPr>
              <a:t>階段評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4286160" y="4071960"/>
            <a:ext cx="244440" cy="114120"/>
          </a:xfrm>
          <a:prstGeom prst="rightArrow">
            <a:avLst>
              <a:gd name="adj1" fmla="val 50000"/>
              <a:gd name="adj2" fmla="val 53529"/>
            </a:avLst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286160" y="3286080"/>
            <a:ext cx="360" cy="1714680"/>
            <a:chOff x="4286160" y="3286080"/>
            <a:chExt cx="360" cy="1714680"/>
          </a:xfrm>
        </p:grpSpPr>
        <p:sp>
          <p:nvSpPr>
            <p:cNvPr id="163" name="Line 10"/>
            <p:cNvSpPr/>
            <p:nvPr/>
          </p:nvSpPr>
          <p:spPr>
            <a:xfrm>
              <a:off x="4286160" y="3286080"/>
              <a:ext cx="0" cy="171468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286160" y="3286080"/>
              <a:ext cx="360" cy="17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18"/>
          <p:cNvSpPr/>
          <p:nvPr/>
        </p:nvSpPr>
        <p:spPr>
          <a:xfrm>
            <a:off x="71280" y="3860640"/>
            <a:ext cx="2124360" cy="648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全真細圓體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9"/>
          <p:cNvSpPr/>
          <p:nvPr/>
        </p:nvSpPr>
        <p:spPr>
          <a:xfrm>
            <a:off x="7956720" y="4221000"/>
            <a:ext cx="342720" cy="114480"/>
          </a:xfrm>
          <a:prstGeom prst="rightArrow">
            <a:avLst>
              <a:gd name="adj1" fmla="val 50000"/>
              <a:gd name="adj2" fmla="val 74843"/>
            </a:avLst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2857680" y="2500200"/>
            <a:ext cx="1169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800080"/>
                </a:solidFill>
                <a:latin typeface="華康粗圓體"/>
                <a:ea typeface="華康粗圓體"/>
              </a:rPr>
              <a:t>全隊晉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2"/>
          <p:cNvGrpSpPr/>
          <p:nvPr/>
        </p:nvGrpSpPr>
        <p:grpSpPr>
          <a:xfrm>
            <a:off x="2057400" y="3330720"/>
            <a:ext cx="1014120" cy="1713960"/>
            <a:chOff x="2057400" y="3330720"/>
            <a:chExt cx="1014120" cy="1713960"/>
          </a:xfrm>
        </p:grpSpPr>
        <p:grpSp>
          <p:nvGrpSpPr>
            <p:cNvPr id="169" name=""/>
            <p:cNvGrpSpPr/>
            <p:nvPr/>
          </p:nvGrpSpPr>
          <p:grpSpPr>
            <a:xfrm>
              <a:off x="2564280" y="3330720"/>
              <a:ext cx="507240" cy="360"/>
              <a:chOff x="2564280" y="3330720"/>
              <a:chExt cx="507240" cy="360"/>
            </a:xfrm>
          </p:grpSpPr>
          <p:sp>
            <p:nvSpPr>
              <p:cNvPr id="170" name="Line 23"/>
              <p:cNvSpPr/>
              <p:nvPr/>
            </p:nvSpPr>
            <p:spPr>
              <a:xfrm>
                <a:off x="2564280" y="3330720"/>
                <a:ext cx="507240" cy="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2564280" y="3330720"/>
                <a:ext cx="50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564280" y="5044320"/>
              <a:ext cx="507240" cy="360"/>
              <a:chOff x="2564280" y="5044320"/>
              <a:chExt cx="507240" cy="360"/>
            </a:xfrm>
          </p:grpSpPr>
          <p:sp>
            <p:nvSpPr>
              <p:cNvPr id="173" name="Line 24"/>
              <p:cNvSpPr/>
              <p:nvPr/>
            </p:nvSpPr>
            <p:spPr>
              <a:xfrm>
                <a:off x="2564280" y="5044320"/>
                <a:ext cx="507240" cy="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2564280" y="5044320"/>
                <a:ext cx="50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AutoShape 25"/>
            <p:cNvSpPr/>
            <p:nvPr/>
          </p:nvSpPr>
          <p:spPr>
            <a:xfrm>
              <a:off x="2057400" y="4130280"/>
              <a:ext cx="506880" cy="114120"/>
            </a:xfrm>
            <a:prstGeom prst="rightArrow">
              <a:avLst>
                <a:gd name="adj1" fmla="val 50000"/>
                <a:gd name="adj2" fmla="val 111041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64280" y="3330720"/>
              <a:ext cx="720" cy="1713600"/>
              <a:chOff x="2564280" y="3330720"/>
              <a:chExt cx="720" cy="1713600"/>
            </a:xfrm>
          </p:grpSpPr>
          <p:sp>
            <p:nvSpPr>
              <p:cNvPr id="177" name="Line 26"/>
              <p:cNvSpPr/>
              <p:nvPr/>
            </p:nvSpPr>
            <p:spPr>
              <a:xfrm>
                <a:off x="2564280" y="3330720"/>
                <a:ext cx="720" cy="1713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2564280" y="3330720"/>
                <a:ext cx="720" cy="171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Text Box 28"/>
          <p:cNvSpPr/>
          <p:nvPr/>
        </p:nvSpPr>
        <p:spPr>
          <a:xfrm>
            <a:off x="214200" y="476280"/>
            <a:ext cx="8643960" cy="6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2010 YEF </a:t>
            </a:r>
            <a:r>
              <a:rPr b="1" lang="zh-TW" sz="4500" spc="-1" strike="noStrike">
                <a:solidFill>
                  <a:srgbClr val="ff0000"/>
                </a:solidFill>
                <a:latin typeface="Times New Roman"/>
                <a:ea typeface="標楷體"/>
              </a:rPr>
              <a:t>評 分 機 制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9" descr="Smile"/>
          <p:cNvPicPr/>
          <p:nvPr/>
        </p:nvPicPr>
        <p:blipFill>
          <a:blip r:embed="rId1"/>
          <a:stretch/>
        </p:blipFill>
        <p:spPr>
          <a:xfrm>
            <a:off x="3071880" y="300024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4"/>
          <p:cNvSpPr/>
          <p:nvPr/>
        </p:nvSpPr>
        <p:spPr>
          <a:xfrm>
            <a:off x="2627280" y="5373720"/>
            <a:ext cx="7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36"/>
          <p:cNvSpPr/>
          <p:nvPr/>
        </p:nvSpPr>
        <p:spPr>
          <a:xfrm>
            <a:off x="928800" y="39672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786120" y="3286080"/>
            <a:ext cx="506520" cy="360"/>
            <a:chOff x="3786120" y="3286080"/>
            <a:chExt cx="506520" cy="360"/>
          </a:xfrm>
        </p:grpSpPr>
        <p:sp>
          <p:nvSpPr>
            <p:cNvPr id="184" name="Line 23"/>
            <p:cNvSpPr/>
            <p:nvPr/>
          </p:nvSpPr>
          <p:spPr>
            <a:xfrm>
              <a:off x="3786120" y="3286080"/>
              <a:ext cx="50652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3786120" y="3286080"/>
              <a:ext cx="50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1"/>
          <p:cNvGrpSpPr/>
          <p:nvPr/>
        </p:nvGrpSpPr>
        <p:grpSpPr>
          <a:xfrm>
            <a:off x="2857680" y="5357880"/>
            <a:ext cx="1257120" cy="1315440"/>
            <a:chOff x="2857680" y="5357880"/>
            <a:chExt cx="1257120" cy="1315440"/>
          </a:xfrm>
        </p:grpSpPr>
        <p:sp>
          <p:nvSpPr>
            <p:cNvPr id="187" name="Rectangle 12"/>
            <p:cNvSpPr/>
            <p:nvPr/>
          </p:nvSpPr>
          <p:spPr>
            <a:xfrm>
              <a:off x="2857680" y="5357880"/>
              <a:ext cx="1257120" cy="67212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300" spc="-1" strike="noStrike">
                  <a:solidFill>
                    <a:srgbClr val="000000"/>
                  </a:solidFill>
                  <a:latin typeface="Calibri"/>
                  <a:ea typeface="華康細圓體"/>
                </a:rPr>
                <a:t>第一階段團隊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300" spc="-1" strike="noStrike">
                  <a:solidFill>
                    <a:srgbClr val="000000"/>
                  </a:solidFill>
                  <a:latin typeface="Calibri"/>
                  <a:ea typeface="華康細圓體"/>
                </a:rPr>
                <a:t>學員互評特優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2857680" y="6001200"/>
              <a:ext cx="1257120" cy="67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業師、輔導長評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文字方塊 40"/>
          <p:cNvSpPr/>
          <p:nvPr/>
        </p:nvSpPr>
        <p:spPr>
          <a:xfrm>
            <a:off x="4274280" y="2286000"/>
            <a:ext cx="759600" cy="3714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獲得第二階段參加資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字方塊 43"/>
          <p:cNvSpPr/>
          <p:nvPr/>
        </p:nvSpPr>
        <p:spPr>
          <a:xfrm>
            <a:off x="5753160" y="2357280"/>
            <a:ext cx="461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57880" y="2286000"/>
            <a:ext cx="2357280" cy="15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00000"/>
                </a:solidFill>
                <a:latin typeface="Arial"/>
                <a:ea typeface="全真細圓體"/>
              </a:rPr>
              <a:t>8/3~5 </a:t>
            </a:r>
            <a:r>
              <a:rPr b="1" lang="zh-TW" sz="1500" spc="-1" strike="noStrike">
                <a:solidFill>
                  <a:srgbClr val="800000"/>
                </a:solidFill>
                <a:latin typeface="Arial"/>
                <a:ea typeface="全真細圓體"/>
              </a:rPr>
              <a:t>創業課程研習會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第二階段團隊學員互評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ff"/>
                </a:solidFill>
                <a:latin typeface="Calibri"/>
              </a:rPr>
              <a:t>(20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團隊簡報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500" spc="-1" strike="noStrike">
                <a:solidFill>
                  <a:srgbClr val="0000ff"/>
                </a:solidFill>
                <a:latin typeface="Calibri"/>
              </a:rPr>
              <a:t>(20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57880" y="4500720"/>
            <a:ext cx="2357280" cy="15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第一階段團隊學員互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1500" spc="-1" strike="noStrike">
                <a:solidFill>
                  <a:srgbClr val="0000ff"/>
                </a:solidFill>
                <a:latin typeface="Calibri"/>
              </a:rPr>
              <a:t>(60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5357880" y="3857760"/>
            <a:ext cx="235728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全真細圓體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字方塊 36"/>
          <p:cNvSpPr/>
          <p:nvPr/>
        </p:nvSpPr>
        <p:spPr>
          <a:xfrm>
            <a:off x="6357960" y="39290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5072040" y="4071960"/>
            <a:ext cx="244440" cy="114120"/>
          </a:xfrm>
          <a:prstGeom prst="rightArrow">
            <a:avLst>
              <a:gd name="adj1" fmla="val 50000"/>
              <a:gd name="adj2" fmla="val 53529"/>
            </a:avLst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8" descr="D:\Vctor\My Documents\My Pictures\2900000.bmp"/>
          <p:cNvPicPr/>
          <p:nvPr/>
        </p:nvPicPr>
        <p:blipFill>
          <a:blip r:embed="rId2"/>
          <a:stretch/>
        </p:blipFill>
        <p:spPr>
          <a:xfrm>
            <a:off x="2928960" y="407196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1"/>
          <p:cNvSpPr/>
          <p:nvPr/>
        </p:nvSpPr>
        <p:spPr>
          <a:xfrm>
            <a:off x="2857680" y="4786200"/>
            <a:ext cx="1284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0080"/>
                </a:solidFill>
                <a:latin typeface="華康粗圓體"/>
                <a:ea typeface="華康粗圓體"/>
              </a:rPr>
              <a:t> </a:t>
            </a:r>
            <a:r>
              <a:rPr b="1" lang="zh-TW" sz="1500" spc="-1" strike="noStrike">
                <a:solidFill>
                  <a:srgbClr val="ff0000"/>
                </a:solidFill>
                <a:latin typeface="華康粗圓體"/>
                <a:ea typeface="華康粗圓體"/>
              </a:rPr>
              <a:t>敗部復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0080"/>
                </a:solidFill>
                <a:latin typeface="華康粗圓體"/>
                <a:ea typeface="華康粗圓體"/>
              </a:rPr>
              <a:t>每隊選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alibri"/>
                <a:ea typeface="華康粗圓體"/>
              </a:rPr>
              <a:t>2~3</a:t>
            </a:r>
            <a:r>
              <a:rPr b="1" lang="zh-TW" sz="1400" spc="-1" strike="noStrike">
                <a:solidFill>
                  <a:srgbClr val="800080"/>
                </a:solidFill>
                <a:latin typeface="華康粗圓體"/>
                <a:ea typeface="華康粗圓體"/>
              </a:rPr>
              <a:t>位晉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線接點 42"/>
          <p:cNvSpPr/>
          <p:nvPr/>
        </p:nvSpPr>
        <p:spPr>
          <a:xfrm>
            <a:off x="3929040" y="5000760"/>
            <a:ext cx="357120" cy="144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9" descr="D:\Vctor\My Documents\My Pictures\0025-0802-2512-4245_clip_art_graphic_of_a_world_globe_cartoon_character_holding_a_blank_sign.jpg"/>
          <p:cNvPicPr/>
          <p:nvPr/>
        </p:nvPicPr>
        <p:blipFill>
          <a:blip r:embed="rId3"/>
          <a:stretch/>
        </p:blipFill>
        <p:spPr>
          <a:xfrm>
            <a:off x="7920000" y="3786120"/>
            <a:ext cx="1224000" cy="1249560"/>
          </a:xfrm>
          <a:prstGeom prst="rect">
            <a:avLst/>
          </a:prstGeom>
          <a:ln w="0">
            <a:noFill/>
          </a:ln>
        </p:spPr>
      </p:pic>
      <p:sp>
        <p:nvSpPr>
          <p:cNvPr id="200" name="文字方塊 46"/>
          <p:cNvSpPr/>
          <p:nvPr/>
        </p:nvSpPr>
        <p:spPr>
          <a:xfrm rot="21143400">
            <a:off x="8021160" y="38322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字方塊 42"/>
          <p:cNvSpPr/>
          <p:nvPr/>
        </p:nvSpPr>
        <p:spPr>
          <a:xfrm>
            <a:off x="7643880" y="2286000"/>
            <a:ext cx="500040" cy="37148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alibri"/>
                <a:ea typeface="華康粗圓體"/>
              </a:rPr>
              <a:t>英文口試及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2"/>
          <p:cNvSpPr/>
          <p:nvPr/>
        </p:nvSpPr>
        <p:spPr>
          <a:xfrm>
            <a:off x="7958160" y="3357720"/>
            <a:ext cx="12571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0000"/>
                </a:solidFill>
                <a:latin typeface="Calibri"/>
                <a:ea typeface="華康粗圓體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Calibri"/>
                <a:ea typeface="華康粗圓體"/>
              </a:rPr>
              <a:t>出國</a:t>
            </a:r>
            <a:r>
              <a:rPr b="1" lang="zh-TW" sz="1600" spc="-1" strike="noStrike">
                <a:solidFill>
                  <a:srgbClr val="ff0000"/>
                </a:solidFill>
                <a:latin typeface="華康粗圓體"/>
                <a:ea typeface="華康粗圓體"/>
              </a:rPr>
              <a:t>代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8692-59C4-49BF-B575-FB646A1BC1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圖片 2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327480" y="932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79280" y="170028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907920"/>
            <a:ext cx="3708360" cy="588600"/>
          </a:xfrm>
          <a:prstGeom prst="rect">
            <a:avLst/>
          </a:prstGeom>
          <a:solidFill>
            <a:srgbClr val="9900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願   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1989000"/>
            <a:ext cx="4176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為社會培育未來的人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誠信、正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創業興業精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國際視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全球競爭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與時俱進的學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團隊合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同理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  </a:t>
            </a:r>
            <a:r>
              <a:rPr b="1" lang="zh-TW" sz="2200" spc="-1" strike="noStrike">
                <a:solidFill>
                  <a:srgbClr val="5f5f5f"/>
                </a:solidFill>
                <a:latin typeface="標楷體"/>
                <a:ea typeface="標楷體"/>
              </a:rPr>
              <a:t>責任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199"/>
          <p:cNvSpPr/>
          <p:nvPr/>
        </p:nvSpPr>
        <p:spPr>
          <a:xfrm>
            <a:off x="108000" y="630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   </a:t>
            </a: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目   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539640" y="1628640"/>
            <a:ext cx="676908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藉由長達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標楷體"/>
              </a:rPr>
              <a:t>10</a:t>
            </a:r>
            <a:r>
              <a:rPr b="1" lang="zh-TW" sz="2400" spc="-1" strike="noStrike">
                <a:solidFill>
                  <a:srgbClr val="990033"/>
                </a:solidFill>
                <a:latin typeface="Times New Roman"/>
                <a:ea typeface="標楷體"/>
              </a:rPr>
              <a:t>個月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的訓練：團隊合作、企業業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指導、創業競賽、研討會及口試等系列活動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培育年輕人主動積極、創新興業精神、以及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隊合作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甄選出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標楷體"/>
              </a:rPr>
              <a:t>15</a:t>
            </a:r>
            <a:r>
              <a:rPr b="1" lang="zh-TW" sz="2400" spc="-1" strike="noStrike">
                <a:solidFill>
                  <a:srgbClr val="990033"/>
                </a:solidFill>
                <a:latin typeface="Times New Roman"/>
                <a:ea typeface="標楷體"/>
              </a:rPr>
              <a:t>名代表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，赴海外參訪學習，與頂尖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 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學、實驗室及企業交流，開拓國際視野及資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     </a:t>
            </a:r>
            <a:r>
              <a:rPr b="1" lang="zh-TW" sz="2400" spc="-1" strike="noStrike">
                <a:solidFill>
                  <a:srgbClr val="5f5f5f"/>
                </a:solidFill>
                <a:latin typeface="Times New Roman"/>
                <a:ea typeface="標楷體"/>
              </a:rPr>
              <a:t>網絡，為未來發展奠下基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圖片 4" descr="圖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參加</a:t>
            </a:r>
            <a:r>
              <a:rPr b="1" i="1" lang="en-US" sz="40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YEF</a:t>
            </a:r>
            <a:r>
              <a:rPr b="1" i="1" lang="zh-TW" sz="40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的好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字方塊 5"/>
          <p:cNvSpPr/>
          <p:nvPr/>
        </p:nvSpPr>
        <p:spPr>
          <a:xfrm>
            <a:off x="500040" y="1428840"/>
            <a:ext cx="73580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優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質產業網絡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網羅創業家及高階經理人擔任業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深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度國際接軌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免費參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IT, Berkeley, Stanford,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北京清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際知名企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Google, Microsoft, CISCO, E 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全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方位培訓計畫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創意、行銷、簡報及團隊合作一次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超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強人脈網絡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優秀學長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&amp;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際名校菁英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學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分認證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台灣大學、清華大學、政治大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好</a:t>
            </a:r>
            <a:r>
              <a:rPr b="1" lang="zh-TW" sz="2000" spc="-1" strike="noStrike">
                <a:solidFill>
                  <a:srgbClr val="3333ff"/>
                </a:solidFill>
                <a:latin typeface="Times New Roman"/>
                <a:ea typeface="標楷體"/>
              </a:rPr>
              <a:t>人網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職涯附加新價值，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A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A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temp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50920" y="620640"/>
            <a:ext cx="9145440" cy="4970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"/>
          <p:cNvSpPr/>
          <p:nvPr/>
        </p:nvSpPr>
        <p:spPr>
          <a:xfrm>
            <a:off x="-2052720" y="5661000"/>
            <a:ext cx="13273200" cy="1465200"/>
          </a:xfrm>
          <a:custGeom>
            <a:avLst/>
            <a:gdLst/>
            <a:ahLst/>
            <a:rect l="l" t="t" r="r" b="b"/>
            <a:pathLst>
              <a:path w="8361" h="786">
                <a:moveTo>
                  <a:pt x="998" y="98"/>
                </a:moveTo>
                <a:cubicBezTo>
                  <a:pt x="1164" y="0"/>
                  <a:pt x="1353" y="30"/>
                  <a:pt x="2041" y="98"/>
                </a:cubicBezTo>
                <a:cubicBezTo>
                  <a:pt x="2729" y="166"/>
                  <a:pt x="4249" y="477"/>
                  <a:pt x="5126" y="507"/>
                </a:cubicBezTo>
                <a:cubicBezTo>
                  <a:pt x="6003" y="537"/>
                  <a:pt x="6925" y="303"/>
                  <a:pt x="7303" y="280"/>
                </a:cubicBezTo>
                <a:cubicBezTo>
                  <a:pt x="7681" y="257"/>
                  <a:pt x="7394" y="302"/>
                  <a:pt x="7394" y="370"/>
                </a:cubicBezTo>
                <a:cubicBezTo>
                  <a:pt x="7394" y="438"/>
                  <a:pt x="8361" y="635"/>
                  <a:pt x="7303" y="688"/>
                </a:cubicBezTo>
                <a:cubicBezTo>
                  <a:pt x="6245" y="741"/>
                  <a:pt x="2086" y="786"/>
                  <a:pt x="1043" y="688"/>
                </a:cubicBezTo>
                <a:cubicBezTo>
                  <a:pt x="0" y="590"/>
                  <a:pt x="832" y="196"/>
                  <a:pt x="998" y="9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-2052720" y="5937120"/>
            <a:ext cx="13273200" cy="1247760"/>
          </a:xfrm>
          <a:custGeom>
            <a:avLst/>
            <a:gdLst/>
            <a:ahLst/>
            <a:rect l="l" t="t" r="r" b="b"/>
            <a:pathLst>
              <a:path w="8361" h="786">
                <a:moveTo>
                  <a:pt x="998" y="98"/>
                </a:moveTo>
                <a:cubicBezTo>
                  <a:pt x="1164" y="0"/>
                  <a:pt x="1353" y="30"/>
                  <a:pt x="2041" y="98"/>
                </a:cubicBezTo>
                <a:cubicBezTo>
                  <a:pt x="2729" y="166"/>
                  <a:pt x="4249" y="477"/>
                  <a:pt x="5126" y="507"/>
                </a:cubicBezTo>
                <a:cubicBezTo>
                  <a:pt x="6003" y="537"/>
                  <a:pt x="6925" y="303"/>
                  <a:pt x="7303" y="280"/>
                </a:cubicBezTo>
                <a:cubicBezTo>
                  <a:pt x="7681" y="257"/>
                  <a:pt x="7394" y="302"/>
                  <a:pt x="7394" y="370"/>
                </a:cubicBezTo>
                <a:cubicBezTo>
                  <a:pt x="7394" y="438"/>
                  <a:pt x="8361" y="635"/>
                  <a:pt x="7303" y="688"/>
                </a:cubicBezTo>
                <a:cubicBezTo>
                  <a:pt x="6245" y="741"/>
                  <a:pt x="2086" y="786"/>
                  <a:pt x="1043" y="688"/>
                </a:cubicBezTo>
                <a:cubicBezTo>
                  <a:pt x="0" y="590"/>
                  <a:pt x="832" y="196"/>
                  <a:pt x="998" y="9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Epoch logo(Epoch時代基金會)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2160" y="6237360"/>
            <a:ext cx="879480" cy="573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7864200" y="65390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d4d4d"/>
                </a:solidFill>
                <a:latin typeface="Arial"/>
                <a:ea typeface="華康中圓體"/>
              </a:rPr>
              <a:t>版權所有，僅供傳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-571680" y="2349360"/>
            <a:ext cx="946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PMingLiU"/>
              </a:rPr>
              <a:t>■ </a:t>
            </a:r>
            <a:r>
              <a:rPr b="1" lang="zh-TW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身分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:</a:t>
            </a:r>
            <a:r>
              <a:rPr b="1" lang="zh-TW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大專院校及研究所在學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以報名時身分為依據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PMingLiU"/>
              </a:rPr>
              <a:t>■ </a:t>
            </a:r>
            <a:r>
              <a:rPr b="1" lang="zh-TW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不限科系，不限國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545120" y="1143000"/>
            <a:ext cx="1338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申請資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199"/>
          <p:cNvSpPr/>
          <p:nvPr/>
        </p:nvSpPr>
        <p:spPr>
          <a:xfrm>
            <a:off x="2629080" y="522936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temp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08000" y="620640"/>
            <a:ext cx="9145440" cy="4970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640" y="981000"/>
            <a:ext cx="770580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254600" y="1000080"/>
            <a:ext cx="1338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申請方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-1000080" y="2143080"/>
            <a:ext cx="1011384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PMingLiU"/>
              </a:rPr>
              <a:t>■ </a:t>
            </a:r>
            <a:r>
              <a:rPr b="1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申請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PMingLiU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- 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中、英文申請表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網路填寫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- 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推薦函一份：教授、企業主管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YEF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國際交流參訪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以郵寄方式繳交，直系親屬不得推薦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    </a:t>
            </a:r>
            <a:r>
              <a:rPr b="1" lang="zh-TW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地址：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106</a:t>
            </a:r>
            <a:r>
              <a:rPr b="1" lang="zh-TW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臺北市大安區敦化南路二段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40</a:t>
            </a:r>
            <a:r>
              <a:rPr b="1" lang="zh-TW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號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8</a:t>
            </a:r>
            <a:r>
              <a:rPr b="1" lang="zh-TW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樓，</a:t>
            </a:r>
            <a:r>
              <a:rPr b="1" lang="en-US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YEF</a:t>
            </a:r>
            <a:r>
              <a:rPr b="1" lang="zh-TW" sz="2200" spc="-1" strike="noStrike">
                <a:solidFill>
                  <a:srgbClr val="000099"/>
                </a:solidFill>
                <a:latin typeface="Times New Roman"/>
                <a:ea typeface="標楷體"/>
              </a:rPr>
              <a:t>小組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PMingLiU"/>
              </a:rPr>
              <a:t>■  </a:t>
            </a:r>
            <a:r>
              <a:rPr b="1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網路報名</a:t>
            </a:r>
            <a:r>
              <a:rPr b="1" lang="en-US" sz="2100" spc="-1" strike="noStrike">
                <a:solidFill>
                  <a:srgbClr val="000099"/>
                </a:solidFill>
                <a:latin typeface="Times New Roman"/>
                <a:ea typeface="標楷體"/>
              </a:rPr>
              <a:t>(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Times New Roman"/>
                <a:ea typeface="標楷體"/>
                <a:hlinkClick r:id="rId2"/>
              </a:rPr>
              <a:t>http://apps.facebook.com/yefgarage/</a:t>
            </a:r>
            <a:r>
              <a:rPr b="1" lang="en-US" sz="2100" spc="-1" strike="noStrike">
                <a:solidFill>
                  <a:srgbClr val="000099"/>
                </a:solidFill>
                <a:latin typeface="Times New Roman"/>
                <a:ea typeface="標楷體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Arial"/>
                <a:ea typeface="標楷體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- 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主辦單位於收到完整申請文件二週內，通知是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         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標楷體"/>
              </a:rPr>
              <a:t>取得參加資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-2052720" y="5661000"/>
            <a:ext cx="13273200" cy="1465200"/>
          </a:xfrm>
          <a:custGeom>
            <a:avLst/>
            <a:gdLst/>
            <a:ahLst/>
            <a:rect l="l" t="t" r="r" b="b"/>
            <a:pathLst>
              <a:path w="8361" h="786">
                <a:moveTo>
                  <a:pt x="998" y="98"/>
                </a:moveTo>
                <a:cubicBezTo>
                  <a:pt x="1164" y="0"/>
                  <a:pt x="1353" y="30"/>
                  <a:pt x="2041" y="98"/>
                </a:cubicBezTo>
                <a:cubicBezTo>
                  <a:pt x="2729" y="166"/>
                  <a:pt x="4249" y="477"/>
                  <a:pt x="5126" y="507"/>
                </a:cubicBezTo>
                <a:cubicBezTo>
                  <a:pt x="6003" y="537"/>
                  <a:pt x="6925" y="303"/>
                  <a:pt x="7303" y="280"/>
                </a:cubicBezTo>
                <a:cubicBezTo>
                  <a:pt x="7681" y="257"/>
                  <a:pt x="7394" y="302"/>
                  <a:pt x="7394" y="370"/>
                </a:cubicBezTo>
                <a:cubicBezTo>
                  <a:pt x="7394" y="438"/>
                  <a:pt x="8361" y="635"/>
                  <a:pt x="7303" y="688"/>
                </a:cubicBezTo>
                <a:cubicBezTo>
                  <a:pt x="6245" y="741"/>
                  <a:pt x="2086" y="786"/>
                  <a:pt x="1043" y="688"/>
                </a:cubicBezTo>
                <a:cubicBezTo>
                  <a:pt x="0" y="590"/>
                  <a:pt x="832" y="196"/>
                  <a:pt x="998" y="9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圖片 4" descr="圖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00"/>
                </a:solidFill>
                <a:latin typeface="Times New Roman"/>
                <a:ea typeface="標楷體"/>
              </a:rPr>
              <a:t>喚醒  心中潛伏的</a:t>
            </a:r>
            <a:r>
              <a:rPr b="1" i="1" lang="en-US" sz="35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Entrepreneurship</a:t>
            </a:r>
            <a:r>
              <a:rPr b="1" lang="en-US" sz="3500" spc="-1" strike="noStrike">
                <a:solidFill>
                  <a:srgbClr val="ff0000"/>
                </a:solidFill>
                <a:latin typeface="Palatino Linotype"/>
                <a:ea typeface="標楷體"/>
              </a:rPr>
              <a:t>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4200" y="785880"/>
            <a:ext cx="7643880" cy="83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活動宣傳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2009/12~2010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網路申請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2/1~3/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網路組隊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2/15~4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創業新兵戰鬥營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3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創業聯誼會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4/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6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業構想摘要評估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5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7.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創業投資選秀會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7/15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8.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創業課程研習會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(3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)  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8/03~8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9.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英文口試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8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10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國際交流參訪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(2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)     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預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9/20~10/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11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成果發表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預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11/1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346480" y="2862360"/>
            <a:ext cx="16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00280" y="1490760"/>
            <a:ext cx="71294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團隊建立與高效溝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效率會議與聰明提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腦力激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搜尋達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創業計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提案簡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-299880" y="500040"/>
            <a:ext cx="4871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</a:rPr>
              <a:t>Boot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\\192.168.100.200\Photo Video\專案活動\2009\YEF\2009 YEF 創業新兵戰鬥營(Boot Camp)相片\下午\DSC07172.JPG"/>
          <p:cNvPicPr/>
          <p:nvPr/>
        </p:nvPicPr>
        <p:blipFill>
          <a:blip r:embed="rId1"/>
          <a:stretch/>
        </p:blipFill>
        <p:spPr>
          <a:xfrm>
            <a:off x="5143680" y="0"/>
            <a:ext cx="3500280" cy="262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\\192.168.100.200\Photo Video\專案活動\2009\YEF\2009 YEF 創業新兵戰鬥營(Boot Camp)相片\上午\DSC06848.JPG"/>
          <p:cNvPicPr/>
          <p:nvPr/>
        </p:nvPicPr>
        <p:blipFill>
          <a:blip r:embed="rId2"/>
          <a:stretch/>
        </p:blipFill>
        <p:spPr>
          <a:xfrm>
            <a:off x="5143680" y="4152960"/>
            <a:ext cx="3608280" cy="2705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\\192.168.100.200\Photo Video\專案活動\2009\YEF\2009 YEF 創業新兵戰鬥營(Boot Camp)相片\上午\DSC06974.JPG"/>
          <p:cNvPicPr/>
          <p:nvPr/>
        </p:nvPicPr>
        <p:blipFill>
          <a:blip r:embed="rId3"/>
          <a:stretch/>
        </p:blipFill>
        <p:spPr>
          <a:xfrm>
            <a:off x="6000840" y="2249640"/>
            <a:ext cx="3143160" cy="235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latino Linotype"/>
              </a:rPr>
              <a:t>Garage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_21_0151"/>
          <p:cNvPicPr/>
          <p:nvPr/>
        </p:nvPicPr>
        <p:blipFill>
          <a:blip r:embed="rId1"/>
          <a:stretch/>
        </p:blipFill>
        <p:spPr>
          <a:xfrm>
            <a:off x="324000" y="162864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__4_0098"/>
          <p:cNvPicPr/>
          <p:nvPr/>
        </p:nvPicPr>
        <p:blipFill>
          <a:blip r:embed="rId2"/>
          <a:stretch/>
        </p:blipFill>
        <p:spPr>
          <a:xfrm>
            <a:off x="4427640" y="1628640"/>
            <a:ext cx="4176720" cy="244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_26_0120"/>
          <p:cNvPicPr/>
          <p:nvPr/>
        </p:nvPicPr>
        <p:blipFill>
          <a:blip r:embed="rId3"/>
          <a:stretch/>
        </p:blipFill>
        <p:spPr>
          <a:xfrm>
            <a:off x="4427640" y="4076640"/>
            <a:ext cx="417672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溫林合照-3"/>
          <p:cNvPicPr/>
          <p:nvPr/>
        </p:nvPicPr>
        <p:blipFill>
          <a:blip r:embed="rId4"/>
          <a:stretch/>
        </p:blipFill>
        <p:spPr>
          <a:xfrm>
            <a:off x="324000" y="4076640"/>
            <a:ext cx="41036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3:0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15Z</dcterms:modified>
  <cp:revision>3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