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51.jpeg" ContentType="image/jpeg"/>
  <Override PartName="/ppt/media/image45.wmf" ContentType="image/x-wmf"/>
  <Override PartName="/ppt/media/image41.png" ContentType="image/png"/>
  <Override PartName="/ppt/media/image43.wmf" ContentType="image/x-wmf"/>
  <Override PartName="/ppt/media/image53.jpeg" ContentType="image/jpeg"/>
  <Override PartName="/ppt/media/image48.jpeg" ContentType="image/jpeg"/>
  <Override PartName="/ppt/media/image37.png" ContentType="image/png"/>
  <Override PartName="/ppt/media/image50.jpeg" ContentType="image/jpeg"/>
  <Override PartName="/ppt/media/image44.wmf" ContentType="image/x-wmf"/>
  <Override PartName="/ppt/media/image46.jpeg" ContentType="image/jpeg"/>
  <Override PartName="/ppt/media/image47.jpeg" ContentType="image/jpeg"/>
  <Override PartName="/ppt/media/image52.jpeg" ContentType="image/jpeg"/>
  <Override PartName="/ppt/media/image30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3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75C-D665-49E7-B2E9-AC209F60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F72-FC46-407C-AB2D-4193F6C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177-E99B-4C74-8350-C786514C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40C-B840-457A-8B76-5F156BF5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B8A-0291-4802-A9A6-49F6A199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8F2B-F568-4C27-9E45-9325356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56E9-102F-4205-BD1A-735B810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317-B209-487C-B8AC-2338A14E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DF25-A39E-4EA2-A867-26557E6C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E4A-951B-4F22-B930-EE3A844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61F6-08E4-40DA-8931-84DD0C90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E89-9379-4459-BE5F-9B9E6BD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C65-6BAA-4FF2-BE3E-D183889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C1A-BB3E-4327-9C57-B2279B9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D08-52AF-4788-AE9E-0A3B522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9C60-F923-4184-BF84-0A2FEA68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FE0-5F0B-43EF-ABCF-E32FD0D5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A19-7559-4BE0-8C33-BFAC8B66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469-E9C0-4C3F-8E07-B0C071E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383-AED4-45E8-8174-79FDB89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328-2EC8-48F8-93C5-BCFBA423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702-8C39-4D49-8BA0-6B9B29F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9C1-936C-41F1-AC00-6E514CA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57E-CCC4-44CE-976F-4AFAC38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595-D576-482B-8900-1BE9A90F44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FF0F-07A3-4A88-966A-D63A1F498A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301-4A9C-4BF4-8378-7466B3C954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4F2-0036-4909-916F-0A43B14049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http://www.vivijk.com/zyys/21680.html" TargetMode="External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hyperlink" Target="http://www.vivijk.com/zyys/21680.html" TargetMode="External"/><Relationship Id="rId4" Type="http://schemas.openxmlformats.org/officeDocument/2006/relationships/hyperlink" Target="http://www.vivijk.com/jkzx/22033.html" TargetMode="External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1.png"/><Relationship Id="rId3" Type="http://schemas.openxmlformats.org/officeDocument/2006/relationships/hyperlink" Target="http://www.vivijk.com/zyys/21680.html" TargetMode="External"/><Relationship Id="rId4" Type="http://schemas.openxmlformats.org/officeDocument/2006/relationships/hyperlink" Target="http://www.vivijk.com/jkzx/22033.html" TargetMode="External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30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hyperlink" Target="http://www.vivijk.com/jkzx/20253.html" TargetMode="External"/><Relationship Id="rId4" Type="http://schemas.openxmlformats.org/officeDocument/2006/relationships/hyperlink" Target="http://www.vivijk.com/zyys/21680.html" TargetMode="External"/><Relationship Id="rId5" Type="http://schemas.openxmlformats.org/officeDocument/2006/relationships/hyperlink" Target="http://www.vivijk.com/jkzx/22033.html" TargetMode="External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25" descr=""/>
          <p:cNvPicPr/>
          <p:nvPr/>
        </p:nvPicPr>
        <p:blipFill>
          <a:blip r:embed="rId1"/>
          <a:stretch/>
        </p:blipFill>
        <p:spPr>
          <a:xfrm>
            <a:off x="28440" y="115920"/>
            <a:ext cx="9015480" cy="4989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2"/>
          <a:stretch/>
        </p:blipFill>
        <p:spPr>
          <a:xfrm>
            <a:off x="-3246480" y="555480"/>
            <a:ext cx="2879640" cy="398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506920" y="984888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書體坊顏體㊣"/>
                <a:ea typeface="書體坊顏體㊣"/>
              </a:rPr>
              <a:t>团结就是力量，让我们团结起来，共同挣破瓶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5075280" y="839628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團結就是力量，讓我們團結起來，共同</a:t>
            </a:r>
            <a:r>
              <a:rPr b="1" lang="zh-CN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挣破</a:t>
            </a:r>
            <a:r>
              <a:rPr b="1" lang="zh-TW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經營瓶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6" descr=""/>
          <p:cNvPicPr/>
          <p:nvPr/>
        </p:nvPicPr>
        <p:blipFill>
          <a:blip r:embed="rId3"/>
          <a:stretch/>
        </p:blipFill>
        <p:spPr>
          <a:xfrm>
            <a:off x="-2816280" y="-17640"/>
            <a:ext cx="249876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" descr=""/>
          <p:cNvPicPr/>
          <p:nvPr/>
        </p:nvPicPr>
        <p:blipFill>
          <a:blip r:embed="rId4"/>
          <a:stretch/>
        </p:blipFill>
        <p:spPr>
          <a:xfrm>
            <a:off x="-3106800" y="1008000"/>
            <a:ext cx="2789280" cy="492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"/>
          <p:cNvPicPr/>
          <p:nvPr/>
        </p:nvPicPr>
        <p:blipFill>
          <a:blip r:embed="rId5"/>
          <a:stretch/>
        </p:blipFill>
        <p:spPr>
          <a:xfrm>
            <a:off x="8099280" y="7040520"/>
            <a:ext cx="2722680" cy="97488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4"/>
          <p:cNvSpPr/>
          <p:nvPr/>
        </p:nvSpPr>
        <p:spPr>
          <a:xfrm>
            <a:off x="6756480" y="6132600"/>
            <a:ext cx="766908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6648480" y="6078600"/>
            <a:ext cx="108000" cy="108000"/>
          </a:xfrm>
          <a:prstGeom prst="ellipse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7951680" y="8001000"/>
            <a:ext cx="273996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20"/>
          <p:cNvSpPr/>
          <p:nvPr/>
        </p:nvSpPr>
        <p:spPr>
          <a:xfrm>
            <a:off x="5219640" y="8840880"/>
            <a:ext cx="547200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8" descr=""/>
          <p:cNvPicPr/>
          <p:nvPr/>
        </p:nvPicPr>
        <p:blipFill>
          <a:blip r:embed="rId6"/>
          <a:srcRect l="19434" t="5614" r="16123" b="7668"/>
          <a:stretch/>
        </p:blipFill>
        <p:spPr>
          <a:xfrm>
            <a:off x="-2773440" y="928800"/>
            <a:ext cx="966960" cy="974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"/>
          <p:cNvPicPr/>
          <p:nvPr/>
        </p:nvPicPr>
        <p:blipFill>
          <a:blip r:embed="rId7"/>
          <a:stretch/>
        </p:blipFill>
        <p:spPr>
          <a:xfrm>
            <a:off x="4392720" y="8015400"/>
            <a:ext cx="1166760" cy="1164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5454720" y="3255840"/>
            <a:ext cx="11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4807"/>
                </a:solidFill>
                <a:latin typeface="微软雅黑"/>
                <a:ea typeface="微软雅黑"/>
              </a:rPr>
              <a:t>亏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92720" y="568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策支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5292720" y="954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信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2048040" y="3003480"/>
            <a:ext cx="19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4807"/>
                </a:solidFill>
                <a:latin typeface="微软雅黑"/>
                <a:ea typeface="微软雅黑"/>
              </a:rPr>
              <a:t>竞争处于劣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5292720" y="1339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2349720" y="687240"/>
            <a:ext cx="1056960" cy="184644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5292720" y="17240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5292720" y="21099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竞争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右箭头 7"/>
          <p:cNvSpPr/>
          <p:nvPr/>
        </p:nvSpPr>
        <p:spPr>
          <a:xfrm>
            <a:off x="4284720" y="1235160"/>
            <a:ext cx="503280" cy="633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14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0"/>
          <p:cNvSpPr/>
          <p:nvPr/>
        </p:nvSpPr>
        <p:spPr>
          <a:xfrm>
            <a:off x="250920" y="2787480"/>
            <a:ext cx="8353440" cy="0"/>
          </a:xfrm>
          <a:prstGeom prst="line">
            <a:avLst/>
          </a:prstGeom>
          <a:ln w="38160">
            <a:solidFill>
              <a:srgbClr val="414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F:\115同步盘\图片素材\商务人物\22.jpg"/>
          <p:cNvPicPr/>
          <p:nvPr/>
        </p:nvPicPr>
        <p:blipFill>
          <a:blip r:embed="rId8"/>
          <a:srcRect l="43518" t="0" r="0" b="0"/>
          <a:stretch/>
        </p:blipFill>
        <p:spPr>
          <a:xfrm>
            <a:off x="6659640" y="2185920"/>
            <a:ext cx="2401920" cy="2833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4"/>
          <p:cNvSpPr/>
          <p:nvPr/>
        </p:nvSpPr>
        <p:spPr>
          <a:xfrm>
            <a:off x="219240" y="2211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民营医院业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972480" y="755640"/>
            <a:ext cx="16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1"/>
          <p:cNvSpPr/>
          <p:nvPr/>
        </p:nvSpPr>
        <p:spPr>
          <a:xfrm>
            <a:off x="5559480" y="3903840"/>
            <a:ext cx="1009440" cy="0"/>
          </a:xfrm>
          <a:prstGeom prst="line">
            <a:avLst/>
          </a:prstGeom>
          <a:ln w="9360">
            <a:solidFill>
              <a:srgbClr val="414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肘形连接符 27"/>
          <p:cNvCxnSpPr/>
          <p:nvPr/>
        </p:nvCxnSpPr>
        <p:spPr>
          <a:xfrm flipH="1">
            <a:off x="4975920" y="3903840"/>
            <a:ext cx="583560" cy="613440"/>
          </a:xfrm>
          <a:prstGeom prst="straightConnector1">
            <a:avLst/>
          </a:prstGeom>
          <a:ln w="9360">
            <a:solidFill>
              <a:srgbClr val="414755"/>
            </a:solidFill>
            <a:round/>
            <a:tailEnd len="med" type="arrow" w="med"/>
          </a:ln>
        </p:spPr>
      </p:cxnSp>
      <p:sp>
        <p:nvSpPr>
          <p:cNvPr id="111" name="TextBox 1023"/>
          <p:cNvSpPr/>
          <p:nvPr/>
        </p:nvSpPr>
        <p:spPr>
          <a:xfrm>
            <a:off x="4591080" y="4516560"/>
            <a:ext cx="771480" cy="215640"/>
          </a:xfrm>
          <a:prstGeom prst="rect">
            <a:avLst/>
          </a:prstGeom>
          <a:noFill/>
          <a:ln w="9360">
            <a:solidFill>
              <a:srgbClr val="414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关键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6155"/>
          <p:cNvSpPr/>
          <p:nvPr/>
        </p:nvSpPr>
        <p:spPr>
          <a:xfrm>
            <a:off x="108000" y="46594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3"/>
          <p:cNvSpPr/>
          <p:nvPr/>
        </p:nvSpPr>
        <p:spPr>
          <a:xfrm>
            <a:off x="755640" y="12384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企业竞争力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矩形 5" descr=""/>
          <p:cNvPicPr/>
          <p:nvPr/>
        </p:nvPicPr>
        <p:blipFill>
          <a:blip r:embed="rId1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pic>
        <p:nvPicPr>
          <p:cNvPr id="286" name="矩形 3" descr=""/>
          <p:cNvPicPr/>
          <p:nvPr/>
        </p:nvPicPr>
        <p:blipFill>
          <a:blip r:embed="rId2"/>
          <a:stretch/>
        </p:blipFill>
        <p:spPr>
          <a:xfrm>
            <a:off x="63360" y="987480"/>
            <a:ext cx="9015480" cy="41259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-625320" y="5235480"/>
            <a:ext cx="734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纳入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医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受歧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-625320" y="633744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规划布局遭排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5 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政策上受歧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442800" y="2565360"/>
            <a:ext cx="4838760" cy="127332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784080" y="3182760"/>
            <a:ext cx="685800" cy="538200"/>
            <a:chOff x="784080" y="3182760"/>
            <a:chExt cx="685800" cy="538200"/>
          </a:xfrm>
        </p:grpSpPr>
        <p:sp>
          <p:nvSpPr>
            <p:cNvPr id="292" name="Freeform 5"/>
            <p:cNvSpPr/>
            <p:nvPr/>
          </p:nvSpPr>
          <p:spPr>
            <a:xfrm>
              <a:off x="851760" y="3597120"/>
              <a:ext cx="267120" cy="1166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1035360" y="3554640"/>
              <a:ext cx="292320" cy="114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1225080" y="3624120"/>
              <a:ext cx="244800" cy="9648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784080" y="3327840"/>
              <a:ext cx="178560" cy="3848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>
              <a:off x="956160" y="3182760"/>
              <a:ext cx="224640" cy="4842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1162080" y="3336120"/>
              <a:ext cx="178200" cy="3848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Picture 13" descr="133"/>
          <p:cNvPicPr/>
          <p:nvPr/>
        </p:nvPicPr>
        <p:blipFill>
          <a:blip r:embed="rId5"/>
          <a:stretch/>
        </p:blipFill>
        <p:spPr>
          <a:xfrm>
            <a:off x="1986120" y="2747880"/>
            <a:ext cx="615960" cy="59544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4"/>
          <p:cNvGrpSpPr/>
          <p:nvPr/>
        </p:nvGrpSpPr>
        <p:grpSpPr>
          <a:xfrm>
            <a:off x="399960" y="3884760"/>
            <a:ext cx="1094040" cy="161640"/>
            <a:chOff x="399960" y="3884760"/>
            <a:chExt cx="1094040" cy="161640"/>
          </a:xfrm>
        </p:grpSpPr>
        <p:sp>
          <p:nvSpPr>
            <p:cNvPr id="300" name="AutoShape 15"/>
            <p:cNvSpPr/>
            <p:nvPr/>
          </p:nvSpPr>
          <p:spPr>
            <a:xfrm>
              <a:off x="399960" y="3884760"/>
              <a:ext cx="1094040" cy="16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4545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AutoShape 16"/>
            <p:cNvSpPr/>
            <p:nvPr/>
          </p:nvSpPr>
          <p:spPr>
            <a:xfrm flipH="1">
              <a:off x="1438920" y="3898440"/>
              <a:ext cx="48600" cy="1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AutoShape 17"/>
            <p:cNvSpPr/>
            <p:nvPr/>
          </p:nvSpPr>
          <p:spPr>
            <a:xfrm>
              <a:off x="406440" y="3898800"/>
              <a:ext cx="48600" cy="13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18"/>
          <p:cNvSpPr/>
          <p:nvPr/>
        </p:nvSpPr>
        <p:spPr>
          <a:xfrm>
            <a:off x="395280" y="3836880"/>
            <a:ext cx="10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职称晋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484200" y="1946160"/>
            <a:ext cx="22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政策上的不平等造就了成本、人才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竞争重要因素对民营医院不利的状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42800" y="4067280"/>
            <a:ext cx="1069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民营医院职称晋升通道不畅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1725480" y="3706920"/>
            <a:ext cx="1070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民营医院不可能享受与公立医院同样的土地政策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2936880" y="3281400"/>
            <a:ext cx="1071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融资资金和国家资金的支持都对民营医院没有强有力的支持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4210200" y="2855880"/>
            <a:ext cx="1071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Calibri"/>
              </a:rPr>
              <a:t>医院竞争终结是人才的竞争，民营医院必须付出高额优厚的薪酬福利还不一定能留住人才，人才引进和流失问题严重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24"/>
          <p:cNvGrpSpPr/>
          <p:nvPr/>
        </p:nvGrpSpPr>
        <p:grpSpPr>
          <a:xfrm>
            <a:off x="1687680" y="3475080"/>
            <a:ext cx="1093680" cy="160200"/>
            <a:chOff x="1687680" y="3475080"/>
            <a:chExt cx="1093680" cy="160200"/>
          </a:xfrm>
        </p:grpSpPr>
        <p:sp>
          <p:nvSpPr>
            <p:cNvPr id="310" name="AutoShape 25"/>
            <p:cNvSpPr/>
            <p:nvPr/>
          </p:nvSpPr>
          <p:spPr>
            <a:xfrm>
              <a:off x="1687680" y="3475080"/>
              <a:ext cx="1093680" cy="160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4545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AutoShape 26"/>
            <p:cNvSpPr/>
            <p:nvPr/>
          </p:nvSpPr>
          <p:spPr>
            <a:xfrm flipH="1">
              <a:off x="2726280" y="3488400"/>
              <a:ext cx="48600" cy="13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AutoShape 27"/>
            <p:cNvSpPr/>
            <p:nvPr/>
          </p:nvSpPr>
          <p:spPr>
            <a:xfrm>
              <a:off x="1694160" y="3489120"/>
              <a:ext cx="48600" cy="13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Text Box 18"/>
          <p:cNvSpPr/>
          <p:nvPr/>
        </p:nvSpPr>
        <p:spPr>
          <a:xfrm>
            <a:off x="1728720" y="346392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征用土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Group 29"/>
          <p:cNvGrpSpPr/>
          <p:nvPr/>
        </p:nvGrpSpPr>
        <p:grpSpPr>
          <a:xfrm>
            <a:off x="2916360" y="3057480"/>
            <a:ext cx="1093680" cy="162000"/>
            <a:chOff x="2916360" y="3057480"/>
            <a:chExt cx="1093680" cy="162000"/>
          </a:xfrm>
        </p:grpSpPr>
        <p:sp>
          <p:nvSpPr>
            <p:cNvPr id="315" name="AutoShape 30"/>
            <p:cNvSpPr/>
            <p:nvPr/>
          </p:nvSpPr>
          <p:spPr>
            <a:xfrm>
              <a:off x="2916360" y="3057480"/>
              <a:ext cx="1093680" cy="16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4545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AutoShape 31"/>
            <p:cNvSpPr/>
            <p:nvPr/>
          </p:nvSpPr>
          <p:spPr>
            <a:xfrm flipH="1">
              <a:off x="3954960" y="3071160"/>
              <a:ext cx="48600" cy="13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32"/>
            <p:cNvSpPr/>
            <p:nvPr/>
          </p:nvSpPr>
          <p:spPr>
            <a:xfrm>
              <a:off x="2922840" y="3071520"/>
              <a:ext cx="4860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 Box 18"/>
          <p:cNvSpPr/>
          <p:nvPr/>
        </p:nvSpPr>
        <p:spPr>
          <a:xfrm>
            <a:off x="2940120" y="304632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资金支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34"/>
          <p:cNvGrpSpPr/>
          <p:nvPr/>
        </p:nvGrpSpPr>
        <p:grpSpPr>
          <a:xfrm>
            <a:off x="4197240" y="2651040"/>
            <a:ext cx="1094040" cy="162000"/>
            <a:chOff x="4197240" y="2651040"/>
            <a:chExt cx="1094040" cy="162000"/>
          </a:xfrm>
        </p:grpSpPr>
        <p:sp>
          <p:nvSpPr>
            <p:cNvPr id="320" name="AutoShape 35"/>
            <p:cNvSpPr/>
            <p:nvPr/>
          </p:nvSpPr>
          <p:spPr>
            <a:xfrm>
              <a:off x="4197240" y="2651040"/>
              <a:ext cx="1094040" cy="16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4545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36"/>
            <p:cNvSpPr/>
            <p:nvPr/>
          </p:nvSpPr>
          <p:spPr>
            <a:xfrm flipH="1">
              <a:off x="5236200" y="2664720"/>
              <a:ext cx="48600" cy="13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4203720" y="2665080"/>
              <a:ext cx="48600" cy="1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 Box 18"/>
          <p:cNvSpPr/>
          <p:nvPr/>
        </p:nvSpPr>
        <p:spPr>
          <a:xfrm>
            <a:off x="4211640" y="2639880"/>
            <a:ext cx="102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人才竞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4"/>
          <p:cNvGrpSpPr/>
          <p:nvPr/>
        </p:nvGrpSpPr>
        <p:grpSpPr>
          <a:xfrm>
            <a:off x="4222800" y="1779480"/>
            <a:ext cx="744480" cy="708120"/>
            <a:chOff x="4222800" y="1779480"/>
            <a:chExt cx="744480" cy="708120"/>
          </a:xfrm>
        </p:grpSpPr>
        <p:sp>
          <p:nvSpPr>
            <p:cNvPr id="325" name="Freeform 7"/>
            <p:cNvSpPr/>
            <p:nvPr/>
          </p:nvSpPr>
          <p:spPr>
            <a:xfrm>
              <a:off x="4462920" y="1779480"/>
              <a:ext cx="293400" cy="70668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4222800" y="2085120"/>
              <a:ext cx="167760" cy="40248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4336560" y="2085120"/>
              <a:ext cx="167040" cy="40248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4689360" y="2085120"/>
              <a:ext cx="167040" cy="40248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4800240" y="2085120"/>
              <a:ext cx="167040" cy="40248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0" name="图片 51" descr=""/>
          <p:cNvPicPr/>
          <p:nvPr/>
        </p:nvPicPr>
        <p:blipFill>
          <a:blip r:embed="rId6"/>
          <a:srcRect l="2702" t="21183" r="60072" b="9043"/>
          <a:stretch/>
        </p:blipFill>
        <p:spPr>
          <a:xfrm>
            <a:off x="3166920" y="2173320"/>
            <a:ext cx="55404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52" descr=""/>
          <p:cNvPicPr/>
          <p:nvPr/>
        </p:nvPicPr>
        <p:blipFill>
          <a:blip r:embed="rId7"/>
          <a:stretch/>
        </p:blipFill>
        <p:spPr>
          <a:xfrm>
            <a:off x="5398920" y="2006640"/>
            <a:ext cx="352908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TextBox 53"/>
          <p:cNvSpPr/>
          <p:nvPr/>
        </p:nvSpPr>
        <p:spPr>
          <a:xfrm>
            <a:off x="5940360" y="14860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龟兔赛跑新篇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矩形 3" descr=""/>
          <p:cNvPicPr/>
          <p:nvPr/>
        </p:nvPicPr>
        <p:blipFill>
          <a:blip r:embed="rId1"/>
          <a:stretch/>
        </p:blipFill>
        <p:spPr>
          <a:xfrm>
            <a:off x="63360" y="987480"/>
            <a:ext cx="9015480" cy="4125960"/>
          </a:xfrm>
          <a:prstGeom prst="rect">
            <a:avLst/>
          </a:prstGeom>
          <a:ln w="0">
            <a:noFill/>
          </a:ln>
        </p:spPr>
      </p:pic>
      <p:pic>
        <p:nvPicPr>
          <p:cNvPr id="334" name="矩形 5" descr=""/>
          <p:cNvPicPr/>
          <p:nvPr/>
        </p:nvPicPr>
        <p:blipFill>
          <a:blip r:embed="rId2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6"/>
          <p:cNvSpPr/>
          <p:nvPr/>
        </p:nvSpPr>
        <p:spPr>
          <a:xfrm>
            <a:off x="-625320" y="5765760"/>
            <a:ext cx="734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纳入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医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受歧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-698400" y="7345440"/>
            <a:ext cx="73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据国家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卫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统计信息中心统计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，全国民营医疗机构的诊疗人次数占医疗机构总诊疗人次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7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入院人数占全国医疗机构入院人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而公立医疗机构的诊疗人次数和入院人数分别占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7.0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2.3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由此可见，民营医院在与公立医院的竞技场上是远远落后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-625320" y="633744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规划布局遭排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6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规划布局遭排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28"/>
          <p:cNvGrpSpPr/>
          <p:nvPr/>
        </p:nvGrpSpPr>
        <p:grpSpPr>
          <a:xfrm>
            <a:off x="980640" y="1652760"/>
            <a:ext cx="2459520" cy="2074680"/>
            <a:chOff x="980640" y="1652760"/>
            <a:chExt cx="2459520" cy="2074680"/>
          </a:xfrm>
        </p:grpSpPr>
        <p:sp>
          <p:nvSpPr>
            <p:cNvPr id="340" name="Freeform 2"/>
            <p:cNvSpPr/>
            <p:nvPr/>
          </p:nvSpPr>
          <p:spPr>
            <a:xfrm flipH="1">
              <a:off x="980280" y="1652760"/>
              <a:ext cx="1199160" cy="100440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solidFill>
              <a:srgbClr val="2f4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"/>
            <p:cNvSpPr/>
            <p:nvPr/>
          </p:nvSpPr>
          <p:spPr>
            <a:xfrm>
              <a:off x="2241000" y="1652760"/>
              <a:ext cx="1199160" cy="100440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981000" y="2723040"/>
              <a:ext cx="1199160" cy="100440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5"/>
            <p:cNvSpPr/>
            <p:nvPr/>
          </p:nvSpPr>
          <p:spPr>
            <a:xfrm flipH="1">
              <a:off x="2240280" y="2723040"/>
              <a:ext cx="1199160" cy="100440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solidFill>
              <a:srgbClr val="757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1639440" y="2127960"/>
              <a:ext cx="1209600" cy="1209240"/>
            </a:xfrm>
            <a:prstGeom prst="ellipse">
              <a:avLst/>
            </a:prstGeom>
            <a:solidFill>
              <a:srgbClr val="bd4e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1098000" y="1886760"/>
              <a:ext cx="91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宋体"/>
                </a:rPr>
                <a:t>私立医院的租赁成本增加，每年</a:t>
              </a:r>
              <a:r>
                <a:rPr b="0" lang="en-US" sz="800" spc="-1" strike="noStrike">
                  <a:solidFill>
                    <a:srgbClr val="ffffff"/>
                  </a:solidFill>
                  <a:latin typeface="宋体"/>
                </a:rPr>
                <a:t>8%</a:t>
              </a:r>
              <a:r>
                <a:rPr b="0" lang="zh-CN" sz="800" spc="-1" strike="noStrike">
                  <a:solidFill>
                    <a:srgbClr val="ffffff"/>
                  </a:solidFill>
                  <a:latin typeface="宋体"/>
                </a:rPr>
                <a:t>的递增是普遍现象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 Box 9"/>
            <p:cNvSpPr/>
            <p:nvPr/>
          </p:nvSpPr>
          <p:spPr>
            <a:xfrm>
              <a:off x="2464200" y="1886760"/>
              <a:ext cx="91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Calibri"/>
                </a:rPr>
                <a:t>公立医院享受政府划拨用地紧密锣鼓的扩建（宝安妇幼医院）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1102680" y="3240720"/>
              <a:ext cx="9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Calibri"/>
                </a:rPr>
                <a:t>没有充分利用现有的民营医院资源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386440" y="3240720"/>
              <a:ext cx="9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Calibri"/>
                </a:rPr>
                <a:t>国务院的鼓励文件没有实质内容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>
              <a:off x="1812960" y="2394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租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>
              <a:off x="2376360" y="2394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扩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>
              <a:off x="1812960" y="28425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浪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2376360" y="28425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Calibri"/>
                </a:rPr>
                <a:t>鼓励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3" name="Picture 2" descr=""/>
          <p:cNvPicPr/>
          <p:nvPr/>
        </p:nvPicPr>
        <p:blipFill>
          <a:blip r:embed="rId5"/>
          <a:stretch/>
        </p:blipFill>
        <p:spPr>
          <a:xfrm>
            <a:off x="4513320" y="1881360"/>
            <a:ext cx="4192560" cy="31622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5"/>
          <p:cNvSpPr/>
          <p:nvPr/>
        </p:nvSpPr>
        <p:spPr>
          <a:xfrm>
            <a:off x="5987880" y="1555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民营医院的蓝图在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26"/>
          <p:cNvSpPr/>
          <p:nvPr/>
        </p:nvSpPr>
        <p:spPr>
          <a:xfrm>
            <a:off x="5175000" y="13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27"/>
          <p:cNvSpPr/>
          <p:nvPr/>
        </p:nvSpPr>
        <p:spPr>
          <a:xfrm rot="714600">
            <a:off x="8163360" y="1033560"/>
            <a:ext cx="5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d4e4c"/>
                </a:solidFill>
                <a:latin typeface="微软雅黑"/>
                <a:ea typeface="微软雅黑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29"/>
          <p:cNvSpPr/>
          <p:nvPr/>
        </p:nvSpPr>
        <p:spPr>
          <a:xfrm>
            <a:off x="108000" y="4227480"/>
            <a:ext cx="4248000" cy="64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营医院有可能建一个产业园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8"/>
          <p:cNvGrpSpPr/>
          <p:nvPr/>
        </p:nvGrpSpPr>
        <p:grpSpPr>
          <a:xfrm>
            <a:off x="1547640" y="1930320"/>
            <a:ext cx="5184720" cy="1936800"/>
            <a:chOff x="1547640" y="1930320"/>
            <a:chExt cx="5184720" cy="1936800"/>
          </a:xfrm>
        </p:grpSpPr>
        <p:sp>
          <p:nvSpPr>
            <p:cNvPr id="359" name="AutoShape 19"/>
            <p:cNvSpPr/>
            <p:nvPr/>
          </p:nvSpPr>
          <p:spPr>
            <a:xfrm>
              <a:off x="3021120" y="2244600"/>
              <a:ext cx="3711240" cy="12416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80000"/>
              </a:srgbClr>
            </a:solidFill>
            <a:ln w="5724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20"/>
            <p:cNvSpPr/>
            <p:nvPr/>
          </p:nvSpPr>
          <p:spPr>
            <a:xfrm>
              <a:off x="3540240" y="2386080"/>
              <a:ext cx="319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农合、医保是人们不愿到民营医院就诊最关键因素，民营医院很难有社保，即使有也有限额，与公立医院的政策完全是两重天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547640" y="193032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22"/>
            <p:cNvSpPr/>
            <p:nvPr/>
          </p:nvSpPr>
          <p:spPr>
            <a:xfrm>
              <a:off x="1928880" y="233820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d4e4c"/>
                  </a:solidFill>
                  <a:latin typeface="微软雅黑"/>
                  <a:ea typeface="微软雅黑"/>
                </a:rPr>
                <a:t>关键因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3" name="矩形 5" descr=""/>
          <p:cNvPicPr/>
          <p:nvPr/>
        </p:nvPicPr>
        <p:blipFill>
          <a:blip r:embed="rId2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6"/>
          <p:cNvSpPr/>
          <p:nvPr/>
        </p:nvSpPr>
        <p:spPr>
          <a:xfrm>
            <a:off x="-625320" y="5765760"/>
            <a:ext cx="734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纳入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医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受歧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-698400" y="7345440"/>
            <a:ext cx="73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据国家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卫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统计信息中心统计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，全国民营医疗机构的诊疗人次数占医疗机构总诊疗人次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7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入院人数占全国医疗机构入院人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而公立医疗机构的诊疗人次数和入院人数分别占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7.0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2.3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由此可见，民营医院在与公立医院的竞技场上是远远落后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-625320" y="633744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规划布局遭排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7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医保难进民营医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"/>
          <p:cNvSpPr/>
          <p:nvPr/>
        </p:nvSpPr>
        <p:spPr>
          <a:xfrm>
            <a:off x="1131120" y="119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市场的准入上为什么要两个标准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图片 12" descr=""/>
          <p:cNvPicPr/>
          <p:nvPr/>
        </p:nvPicPr>
        <p:blipFill>
          <a:blip r:embed="rId5"/>
          <a:stretch/>
        </p:blipFill>
        <p:spPr>
          <a:xfrm>
            <a:off x="5891040" y="2643120"/>
            <a:ext cx="318780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矩形 3" descr=""/>
          <p:cNvPicPr/>
          <p:nvPr/>
        </p:nvPicPr>
        <p:blipFill>
          <a:blip r:embed="rId1"/>
          <a:stretch/>
        </p:blipFill>
        <p:spPr>
          <a:xfrm>
            <a:off x="63360" y="987480"/>
            <a:ext cx="9015480" cy="4125960"/>
          </a:xfrm>
          <a:prstGeom prst="rect">
            <a:avLst/>
          </a:prstGeom>
          <a:ln w="0">
            <a:noFill/>
          </a:ln>
        </p:spPr>
      </p:pic>
      <p:pic>
        <p:nvPicPr>
          <p:cNvPr id="371" name="矩形 5" descr=""/>
          <p:cNvPicPr/>
          <p:nvPr/>
        </p:nvPicPr>
        <p:blipFill>
          <a:blip r:embed="rId2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0"/>
          <p:cNvSpPr/>
          <p:nvPr/>
        </p:nvSpPr>
        <p:spPr>
          <a:xfrm>
            <a:off x="209520" y="26820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8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竞争与机会并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2154240" y="1314360"/>
            <a:ext cx="5037840" cy="2646000"/>
            <a:chOff x="2154240" y="1314360"/>
            <a:chExt cx="5037840" cy="2646000"/>
          </a:xfrm>
        </p:grpSpPr>
        <p:grpSp>
          <p:nvGrpSpPr>
            <p:cNvPr id="374" name="Group 4"/>
            <p:cNvGrpSpPr/>
            <p:nvPr/>
          </p:nvGrpSpPr>
          <p:grpSpPr>
            <a:xfrm>
              <a:off x="2154240" y="1360800"/>
              <a:ext cx="3353760" cy="2599560"/>
              <a:chOff x="2154240" y="1360800"/>
              <a:chExt cx="3353760" cy="259956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2680560" y="1384560"/>
                <a:ext cx="192240" cy="7884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6"/>
              <p:cNvSpPr/>
              <p:nvPr/>
            </p:nvSpPr>
            <p:spPr>
              <a:xfrm>
                <a:off x="2801880" y="1425960"/>
                <a:ext cx="59040" cy="262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7"/>
              <p:cNvSpPr/>
              <p:nvPr/>
            </p:nvSpPr>
            <p:spPr>
              <a:xfrm>
                <a:off x="2438640" y="1766520"/>
                <a:ext cx="135360" cy="16452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8"/>
              <p:cNvSpPr/>
              <p:nvPr/>
            </p:nvSpPr>
            <p:spPr>
              <a:xfrm>
                <a:off x="2372040" y="182556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9"/>
              <p:cNvSpPr/>
              <p:nvPr/>
            </p:nvSpPr>
            <p:spPr>
              <a:xfrm>
                <a:off x="4424400" y="3248280"/>
                <a:ext cx="588240" cy="6195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0"/>
              <p:cNvSpPr/>
              <p:nvPr/>
            </p:nvSpPr>
            <p:spPr>
              <a:xfrm>
                <a:off x="4607280" y="2921400"/>
                <a:ext cx="395640" cy="26244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1"/>
              <p:cNvSpPr/>
              <p:nvPr/>
            </p:nvSpPr>
            <p:spPr>
              <a:xfrm>
                <a:off x="4618440" y="2923920"/>
                <a:ext cx="385920" cy="26388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2"/>
              <p:cNvSpPr/>
              <p:nvPr/>
            </p:nvSpPr>
            <p:spPr>
              <a:xfrm>
                <a:off x="4903920" y="3888000"/>
                <a:ext cx="55440" cy="723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3"/>
              <p:cNvSpPr/>
              <p:nvPr/>
            </p:nvSpPr>
            <p:spPr>
              <a:xfrm>
                <a:off x="5072040" y="3776040"/>
                <a:ext cx="203400" cy="1054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4"/>
              <p:cNvSpPr/>
              <p:nvPr/>
            </p:nvSpPr>
            <p:spPr>
              <a:xfrm>
                <a:off x="5283000" y="3713400"/>
                <a:ext cx="129240" cy="11412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5"/>
              <p:cNvSpPr/>
              <p:nvPr/>
            </p:nvSpPr>
            <p:spPr>
              <a:xfrm>
                <a:off x="5352120" y="3661560"/>
                <a:ext cx="46080" cy="3276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6"/>
              <p:cNvSpPr/>
              <p:nvPr/>
            </p:nvSpPr>
            <p:spPr>
              <a:xfrm>
                <a:off x="3253680" y="3062160"/>
                <a:ext cx="152640" cy="25092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7"/>
              <p:cNvSpPr/>
              <p:nvPr/>
            </p:nvSpPr>
            <p:spPr>
              <a:xfrm>
                <a:off x="3913560" y="2671200"/>
                <a:ext cx="60480" cy="7632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8"/>
              <p:cNvSpPr/>
              <p:nvPr/>
            </p:nvSpPr>
            <p:spPr>
              <a:xfrm>
                <a:off x="4286160" y="2745360"/>
                <a:ext cx="137880" cy="22860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9"/>
              <p:cNvSpPr/>
              <p:nvPr/>
            </p:nvSpPr>
            <p:spPr>
              <a:xfrm>
                <a:off x="4170240" y="2673720"/>
                <a:ext cx="89280" cy="17064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20"/>
              <p:cNvSpPr/>
              <p:nvPr/>
            </p:nvSpPr>
            <p:spPr>
              <a:xfrm>
                <a:off x="4230720" y="2810880"/>
                <a:ext cx="49320" cy="16416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21"/>
              <p:cNvSpPr/>
              <p:nvPr/>
            </p:nvSpPr>
            <p:spPr>
              <a:xfrm>
                <a:off x="4286160" y="2982960"/>
                <a:ext cx="81000" cy="6768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22"/>
              <p:cNvSpPr/>
              <p:nvPr/>
            </p:nvSpPr>
            <p:spPr>
              <a:xfrm>
                <a:off x="4415760" y="2863800"/>
                <a:ext cx="102960" cy="1468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23"/>
              <p:cNvSpPr/>
              <p:nvPr/>
            </p:nvSpPr>
            <p:spPr>
              <a:xfrm>
                <a:off x="4420800" y="2349720"/>
                <a:ext cx="27720" cy="8892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24"/>
              <p:cNvSpPr/>
              <p:nvPr/>
            </p:nvSpPr>
            <p:spPr>
              <a:xfrm>
                <a:off x="4439160" y="2498040"/>
                <a:ext cx="74880" cy="14796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25"/>
              <p:cNvSpPr/>
              <p:nvPr/>
            </p:nvSpPr>
            <p:spPr>
              <a:xfrm>
                <a:off x="4452480" y="2685240"/>
                <a:ext cx="78480" cy="99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26"/>
              <p:cNvSpPr/>
              <p:nvPr/>
            </p:nvSpPr>
            <p:spPr>
              <a:xfrm>
                <a:off x="4546800" y="2861280"/>
                <a:ext cx="34920" cy="6120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27"/>
              <p:cNvSpPr/>
              <p:nvPr/>
            </p:nvSpPr>
            <p:spPr>
              <a:xfrm>
                <a:off x="4526280" y="296424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28"/>
              <p:cNvSpPr/>
              <p:nvPr/>
            </p:nvSpPr>
            <p:spPr>
              <a:xfrm>
                <a:off x="4560120" y="2951280"/>
                <a:ext cx="55440" cy="464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29"/>
              <p:cNvSpPr/>
              <p:nvPr/>
            </p:nvSpPr>
            <p:spPr>
              <a:xfrm>
                <a:off x="4646160" y="3039480"/>
                <a:ext cx="28800" cy="414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30"/>
              <p:cNvSpPr/>
              <p:nvPr/>
            </p:nvSpPr>
            <p:spPr>
              <a:xfrm>
                <a:off x="4976640" y="2986920"/>
                <a:ext cx="56520" cy="586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31"/>
              <p:cNvSpPr/>
              <p:nvPr/>
            </p:nvSpPr>
            <p:spPr>
              <a:xfrm>
                <a:off x="4483800" y="3060720"/>
                <a:ext cx="56520" cy="6264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32"/>
              <p:cNvSpPr/>
              <p:nvPr/>
            </p:nvSpPr>
            <p:spPr>
              <a:xfrm>
                <a:off x="4423320" y="3084840"/>
                <a:ext cx="39600" cy="33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33"/>
              <p:cNvSpPr/>
              <p:nvPr/>
            </p:nvSpPr>
            <p:spPr>
              <a:xfrm>
                <a:off x="4397760" y="3048480"/>
                <a:ext cx="28800" cy="3888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34"/>
              <p:cNvSpPr/>
              <p:nvPr/>
            </p:nvSpPr>
            <p:spPr>
              <a:xfrm>
                <a:off x="4439160" y="3062160"/>
                <a:ext cx="42120" cy="298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35"/>
              <p:cNvSpPr/>
              <p:nvPr/>
            </p:nvSpPr>
            <p:spPr>
              <a:xfrm>
                <a:off x="4378680" y="2646360"/>
                <a:ext cx="33480" cy="687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>
                <a:off x="4441320" y="2634840"/>
                <a:ext cx="24120" cy="6912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37"/>
              <p:cNvSpPr/>
              <p:nvPr/>
            </p:nvSpPr>
            <p:spPr>
              <a:xfrm>
                <a:off x="4469040" y="2613600"/>
                <a:ext cx="11880" cy="31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4481280" y="2628720"/>
                <a:ext cx="26280" cy="6012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4148280" y="2715120"/>
                <a:ext cx="14400" cy="33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4134960" y="26863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4130280" y="266400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4155480" y="262224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4118040" y="264492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5155920" y="3425400"/>
                <a:ext cx="55440" cy="7380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5442840" y="3363840"/>
                <a:ext cx="65160" cy="5760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5244120" y="333252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5233320" y="3304800"/>
                <a:ext cx="25200" cy="212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5044320" y="306216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5085720" y="3116160"/>
                <a:ext cx="32400" cy="399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5119560" y="319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5162040" y="3181320"/>
                <a:ext cx="34920" cy="327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5149800" y="313632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5117040" y="310608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077080" y="3085920"/>
                <a:ext cx="29880" cy="3276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5126760" y="3151440"/>
                <a:ext cx="29880" cy="32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3168720" y="1441080"/>
                <a:ext cx="174240" cy="13428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7"/>
              <p:cNvSpPr/>
              <p:nvPr/>
            </p:nvSpPr>
            <p:spPr>
              <a:xfrm>
                <a:off x="3272760" y="1570320"/>
                <a:ext cx="49680" cy="1476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58"/>
              <p:cNvSpPr/>
              <p:nvPr/>
            </p:nvSpPr>
            <p:spPr>
              <a:xfrm>
                <a:off x="3527280" y="1375560"/>
                <a:ext cx="51840" cy="3492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59"/>
              <p:cNvSpPr/>
              <p:nvPr/>
            </p:nvSpPr>
            <p:spPr>
              <a:xfrm>
                <a:off x="3564720" y="1392120"/>
                <a:ext cx="61560" cy="248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60"/>
              <p:cNvSpPr/>
              <p:nvPr/>
            </p:nvSpPr>
            <p:spPr>
              <a:xfrm>
                <a:off x="3631320" y="1395720"/>
                <a:ext cx="62640" cy="39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61"/>
              <p:cNvSpPr/>
              <p:nvPr/>
            </p:nvSpPr>
            <p:spPr>
              <a:xfrm>
                <a:off x="4064760" y="1429560"/>
                <a:ext cx="108720" cy="3888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62"/>
              <p:cNvSpPr/>
              <p:nvPr/>
            </p:nvSpPr>
            <p:spPr>
              <a:xfrm>
                <a:off x="4176360" y="1428480"/>
                <a:ext cx="56520" cy="2988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63"/>
              <p:cNvSpPr/>
              <p:nvPr/>
            </p:nvSpPr>
            <p:spPr>
              <a:xfrm>
                <a:off x="4150800" y="1464840"/>
                <a:ext cx="45720" cy="198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64"/>
              <p:cNvSpPr/>
              <p:nvPr/>
            </p:nvSpPr>
            <p:spPr>
              <a:xfrm>
                <a:off x="4463280" y="1744920"/>
                <a:ext cx="94320" cy="14184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65"/>
              <p:cNvSpPr/>
              <p:nvPr/>
            </p:nvSpPr>
            <p:spPr>
              <a:xfrm>
                <a:off x="4539600" y="1892160"/>
                <a:ext cx="67680" cy="9792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66"/>
              <p:cNvSpPr/>
              <p:nvPr/>
            </p:nvSpPr>
            <p:spPr>
              <a:xfrm>
                <a:off x="4494600" y="1992600"/>
                <a:ext cx="133920" cy="23616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67"/>
              <p:cNvSpPr/>
              <p:nvPr/>
            </p:nvSpPr>
            <p:spPr>
              <a:xfrm>
                <a:off x="3177360" y="1361880"/>
                <a:ext cx="64080" cy="3744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68"/>
              <p:cNvSpPr/>
              <p:nvPr/>
            </p:nvSpPr>
            <p:spPr>
              <a:xfrm>
                <a:off x="3044160" y="1373040"/>
                <a:ext cx="24120" cy="273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69"/>
              <p:cNvSpPr/>
              <p:nvPr/>
            </p:nvSpPr>
            <p:spPr>
              <a:xfrm>
                <a:off x="3074400" y="1371600"/>
                <a:ext cx="46080" cy="3384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70"/>
              <p:cNvSpPr/>
              <p:nvPr/>
            </p:nvSpPr>
            <p:spPr>
              <a:xfrm>
                <a:off x="3150720" y="1360800"/>
                <a:ext cx="2412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71"/>
              <p:cNvSpPr/>
              <p:nvPr/>
            </p:nvSpPr>
            <p:spPr>
              <a:xfrm>
                <a:off x="3127680" y="138312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72"/>
              <p:cNvSpPr/>
              <p:nvPr/>
            </p:nvSpPr>
            <p:spPr>
              <a:xfrm>
                <a:off x="4543200" y="1403280"/>
                <a:ext cx="21960" cy="4104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73"/>
              <p:cNvSpPr/>
              <p:nvPr/>
            </p:nvSpPr>
            <p:spPr>
              <a:xfrm>
                <a:off x="3445920" y="3220560"/>
                <a:ext cx="37440" cy="2268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74"/>
              <p:cNvSpPr/>
              <p:nvPr/>
            </p:nvSpPr>
            <p:spPr>
              <a:xfrm>
                <a:off x="3495600" y="32115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75"/>
              <p:cNvSpPr/>
              <p:nvPr/>
            </p:nvSpPr>
            <p:spPr>
              <a:xfrm>
                <a:off x="3412440" y="301968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76"/>
              <p:cNvSpPr/>
              <p:nvPr/>
            </p:nvSpPr>
            <p:spPr>
              <a:xfrm>
                <a:off x="3486240" y="292788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77"/>
              <p:cNvSpPr/>
              <p:nvPr/>
            </p:nvSpPr>
            <p:spPr>
              <a:xfrm>
                <a:off x="3457080" y="292644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78"/>
              <p:cNvSpPr/>
              <p:nvPr/>
            </p:nvSpPr>
            <p:spPr>
              <a:xfrm>
                <a:off x="3442320" y="2954160"/>
                <a:ext cx="1296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79"/>
              <p:cNvSpPr/>
              <p:nvPr/>
            </p:nvSpPr>
            <p:spPr>
              <a:xfrm>
                <a:off x="3412440" y="299664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80"/>
              <p:cNvSpPr/>
              <p:nvPr/>
            </p:nvSpPr>
            <p:spPr>
              <a:xfrm>
                <a:off x="3435120" y="298044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81"/>
              <p:cNvSpPr/>
              <p:nvPr/>
            </p:nvSpPr>
            <p:spPr>
              <a:xfrm>
                <a:off x="2525760" y="174384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82"/>
              <p:cNvSpPr/>
              <p:nvPr/>
            </p:nvSpPr>
            <p:spPr>
              <a:xfrm>
                <a:off x="2154240" y="1429560"/>
                <a:ext cx="2557080" cy="205704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Group 83"/>
            <p:cNvGrpSpPr/>
            <p:nvPr/>
          </p:nvGrpSpPr>
          <p:grpSpPr>
            <a:xfrm>
              <a:off x="4923360" y="1314360"/>
              <a:ext cx="2268720" cy="2543040"/>
              <a:chOff x="4923360" y="1314360"/>
              <a:chExt cx="2268720" cy="2543040"/>
            </a:xfrm>
          </p:grpSpPr>
          <p:sp>
            <p:nvSpPr>
              <p:cNvPr id="454" name="Freeform 84"/>
              <p:cNvSpPr/>
              <p:nvPr/>
            </p:nvSpPr>
            <p:spPr>
              <a:xfrm>
                <a:off x="5021280" y="1432080"/>
                <a:ext cx="1572480" cy="242532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85"/>
              <p:cNvSpPr/>
              <p:nvPr/>
            </p:nvSpPr>
            <p:spPr>
              <a:xfrm>
                <a:off x="4971600" y="1663560"/>
                <a:ext cx="42480" cy="349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86"/>
              <p:cNvSpPr/>
              <p:nvPr/>
            </p:nvSpPr>
            <p:spPr>
              <a:xfrm>
                <a:off x="5352840" y="1816920"/>
                <a:ext cx="48600" cy="399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87"/>
              <p:cNvSpPr/>
              <p:nvPr/>
            </p:nvSpPr>
            <p:spPr>
              <a:xfrm>
                <a:off x="6322680" y="1887120"/>
                <a:ext cx="122400" cy="9288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88"/>
              <p:cNvSpPr/>
              <p:nvPr/>
            </p:nvSpPr>
            <p:spPr>
              <a:xfrm>
                <a:off x="5734440" y="2368440"/>
                <a:ext cx="196200" cy="1051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89"/>
              <p:cNvSpPr/>
              <p:nvPr/>
            </p:nvSpPr>
            <p:spPr>
              <a:xfrm>
                <a:off x="5896440" y="2449080"/>
                <a:ext cx="122400" cy="5004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90"/>
              <p:cNvSpPr/>
              <p:nvPr/>
            </p:nvSpPr>
            <p:spPr>
              <a:xfrm>
                <a:off x="6026040" y="2480400"/>
                <a:ext cx="47160" cy="2232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91"/>
              <p:cNvSpPr/>
              <p:nvPr/>
            </p:nvSpPr>
            <p:spPr>
              <a:xfrm>
                <a:off x="6096600" y="248400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92"/>
              <p:cNvSpPr/>
              <p:nvPr/>
            </p:nvSpPr>
            <p:spPr>
              <a:xfrm>
                <a:off x="5868720" y="1425960"/>
                <a:ext cx="223920" cy="10908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93"/>
              <p:cNvSpPr/>
              <p:nvPr/>
            </p:nvSpPr>
            <p:spPr>
              <a:xfrm>
                <a:off x="5968080" y="137448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94"/>
              <p:cNvSpPr/>
              <p:nvPr/>
            </p:nvSpPr>
            <p:spPr>
              <a:xfrm>
                <a:off x="6222240" y="1462320"/>
                <a:ext cx="289080" cy="23760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95"/>
              <p:cNvSpPr/>
              <p:nvPr/>
            </p:nvSpPr>
            <p:spPr>
              <a:xfrm>
                <a:off x="6220080" y="1359360"/>
                <a:ext cx="54360" cy="4644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96"/>
              <p:cNvSpPr/>
              <p:nvPr/>
            </p:nvSpPr>
            <p:spPr>
              <a:xfrm>
                <a:off x="6115680" y="1447200"/>
                <a:ext cx="81000" cy="5148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97"/>
              <p:cNvSpPr/>
              <p:nvPr/>
            </p:nvSpPr>
            <p:spPr>
              <a:xfrm>
                <a:off x="6200640" y="1457640"/>
                <a:ext cx="66600" cy="2988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98"/>
              <p:cNvSpPr/>
              <p:nvPr/>
            </p:nvSpPr>
            <p:spPr>
              <a:xfrm>
                <a:off x="6164280" y="1412280"/>
                <a:ext cx="79560" cy="4248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99"/>
              <p:cNvSpPr/>
              <p:nvPr/>
            </p:nvSpPr>
            <p:spPr>
              <a:xfrm>
                <a:off x="6130080" y="1371960"/>
                <a:ext cx="54360" cy="2988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00"/>
              <p:cNvSpPr/>
              <p:nvPr/>
            </p:nvSpPr>
            <p:spPr>
              <a:xfrm>
                <a:off x="6271920" y="1375560"/>
                <a:ext cx="141480" cy="9648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01"/>
              <p:cNvSpPr/>
              <p:nvPr/>
            </p:nvSpPr>
            <p:spPr>
              <a:xfrm>
                <a:off x="4923360" y="1682280"/>
                <a:ext cx="30960" cy="187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02"/>
              <p:cNvSpPr/>
              <p:nvPr/>
            </p:nvSpPr>
            <p:spPr>
              <a:xfrm>
                <a:off x="5862960" y="232200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03"/>
              <p:cNvSpPr/>
              <p:nvPr/>
            </p:nvSpPr>
            <p:spPr>
              <a:xfrm>
                <a:off x="5866200" y="2353680"/>
                <a:ext cx="19440" cy="147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04"/>
              <p:cNvSpPr/>
              <p:nvPr/>
            </p:nvSpPr>
            <p:spPr>
              <a:xfrm>
                <a:off x="6119640" y="251784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05"/>
              <p:cNvSpPr/>
              <p:nvPr/>
            </p:nvSpPr>
            <p:spPr>
              <a:xfrm>
                <a:off x="6273360" y="1912320"/>
                <a:ext cx="47160" cy="2232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06"/>
              <p:cNvSpPr/>
              <p:nvPr/>
            </p:nvSpPr>
            <p:spPr>
              <a:xfrm>
                <a:off x="6149880" y="1656000"/>
                <a:ext cx="47160" cy="2268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07"/>
              <p:cNvSpPr/>
              <p:nvPr/>
            </p:nvSpPr>
            <p:spPr>
              <a:xfrm>
                <a:off x="6229800" y="1432080"/>
                <a:ext cx="48240" cy="2268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08"/>
              <p:cNvSpPr/>
              <p:nvPr/>
            </p:nvSpPr>
            <p:spPr>
              <a:xfrm>
                <a:off x="6308280" y="1566720"/>
                <a:ext cx="47160" cy="2268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09"/>
              <p:cNvSpPr/>
              <p:nvPr/>
            </p:nvSpPr>
            <p:spPr>
              <a:xfrm>
                <a:off x="6327720" y="1314360"/>
                <a:ext cx="864360" cy="433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10"/>
              <p:cNvSpPr/>
              <p:nvPr/>
            </p:nvSpPr>
            <p:spPr>
              <a:xfrm>
                <a:off x="6593040" y="15440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11"/>
              <p:cNvSpPr/>
              <p:nvPr/>
            </p:nvSpPr>
            <p:spPr>
              <a:xfrm>
                <a:off x="6944040" y="1627200"/>
                <a:ext cx="158400" cy="6768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12"/>
              <p:cNvSpPr/>
              <p:nvPr/>
            </p:nvSpPr>
            <p:spPr>
              <a:xfrm>
                <a:off x="7068960" y="1423440"/>
                <a:ext cx="48240" cy="2988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13"/>
              <p:cNvSpPr/>
              <p:nvPr/>
            </p:nvSpPr>
            <p:spPr>
              <a:xfrm>
                <a:off x="7171920" y="1699920"/>
                <a:ext cx="12960" cy="187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84" name="Object 114" descr=""/>
          <p:cNvPicPr/>
          <p:nvPr/>
        </p:nvPicPr>
        <p:blipFill>
          <a:blip r:embed="rId3"/>
          <a:stretch/>
        </p:blipFill>
        <p:spPr>
          <a:xfrm>
            <a:off x="1879560" y="1625760"/>
            <a:ext cx="1517760" cy="1428480"/>
          </a:xfrm>
          <a:prstGeom prst="rect">
            <a:avLst/>
          </a:prstGeom>
          <a:ln w="0">
            <a:noFill/>
          </a:ln>
        </p:spPr>
      </p:pic>
      <p:pic>
        <p:nvPicPr>
          <p:cNvPr id="485" name="Object 115" descr=""/>
          <p:cNvPicPr/>
          <p:nvPr/>
        </p:nvPicPr>
        <p:blipFill>
          <a:blip r:embed="rId4"/>
          <a:stretch/>
        </p:blipFill>
        <p:spPr>
          <a:xfrm>
            <a:off x="5780160" y="1986120"/>
            <a:ext cx="1312920" cy="1268280"/>
          </a:xfrm>
          <a:prstGeom prst="rect">
            <a:avLst/>
          </a:prstGeom>
          <a:ln w="0">
            <a:noFill/>
          </a:ln>
        </p:spPr>
      </p:pic>
      <p:pic>
        <p:nvPicPr>
          <p:cNvPr id="486" name="Object 116" descr=""/>
          <p:cNvPicPr/>
          <p:nvPr/>
        </p:nvPicPr>
        <p:blipFill>
          <a:blip r:embed="rId5"/>
          <a:stretch/>
        </p:blipFill>
        <p:spPr>
          <a:xfrm>
            <a:off x="3919680" y="2408400"/>
            <a:ext cx="1304640" cy="126504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1854360" y="3841920"/>
            <a:ext cx="5518080" cy="360"/>
            <a:chOff x="1854360" y="3841920"/>
            <a:chExt cx="5518080" cy="360"/>
          </a:xfrm>
        </p:grpSpPr>
        <p:sp>
          <p:nvSpPr>
            <p:cNvPr id="488" name="Line 117"/>
            <p:cNvSpPr/>
            <p:nvPr/>
          </p:nvSpPr>
          <p:spPr>
            <a:xfrm>
              <a:off x="1854360" y="3841920"/>
              <a:ext cx="551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1854360" y="3841920"/>
              <a:ext cx="551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Text Box 9"/>
          <p:cNvSpPr/>
          <p:nvPr/>
        </p:nvSpPr>
        <p:spPr>
          <a:xfrm>
            <a:off x="2093760" y="3917880"/>
            <a:ext cx="245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在卫生总费用、新农合持续加大的保障下，医改的步伐持续推进，全国医疗需求持续稳定的增长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613400" y="3841920"/>
            <a:ext cx="360" cy="718920"/>
            <a:chOff x="4613400" y="3841920"/>
            <a:chExt cx="360" cy="718920"/>
          </a:xfrm>
        </p:grpSpPr>
        <p:sp>
          <p:nvSpPr>
            <p:cNvPr id="492" name="Line 119"/>
            <p:cNvSpPr/>
            <p:nvPr/>
          </p:nvSpPr>
          <p:spPr>
            <a:xfrm>
              <a:off x="4613400" y="3841920"/>
              <a:ext cx="0" cy="7189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613400" y="3841920"/>
              <a:ext cx="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AutoShape 120"/>
          <p:cNvSpPr/>
          <p:nvPr/>
        </p:nvSpPr>
        <p:spPr>
          <a:xfrm>
            <a:off x="1494000" y="1254240"/>
            <a:ext cx="2100240" cy="29196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总诊疗人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121"/>
          <p:cNvSpPr/>
          <p:nvPr/>
        </p:nvSpPr>
        <p:spPr>
          <a:xfrm>
            <a:off x="3413160" y="2033640"/>
            <a:ext cx="2039760" cy="29196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月份诊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AutoShape 122"/>
          <p:cNvSpPr/>
          <p:nvPr/>
        </p:nvSpPr>
        <p:spPr>
          <a:xfrm>
            <a:off x="5873760" y="1620720"/>
            <a:ext cx="1979640" cy="2937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环比增长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123"/>
          <p:cNvSpPr/>
          <p:nvPr/>
        </p:nvSpPr>
        <p:spPr>
          <a:xfrm>
            <a:off x="4792680" y="3941640"/>
            <a:ext cx="142920" cy="1429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24"/>
          <p:cNvSpPr/>
          <p:nvPr/>
        </p:nvSpPr>
        <p:spPr>
          <a:xfrm>
            <a:off x="5279040" y="3897360"/>
            <a:ext cx="160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-5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月份，全国医疗卫生机构总诊疗人次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6.5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125"/>
          <p:cNvSpPr/>
          <p:nvPr/>
        </p:nvSpPr>
        <p:spPr>
          <a:xfrm>
            <a:off x="4792680" y="4199040"/>
            <a:ext cx="142920" cy="1429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26"/>
          <p:cNvSpPr/>
          <p:nvPr/>
        </p:nvSpPr>
        <p:spPr>
          <a:xfrm>
            <a:off x="5238000" y="4167360"/>
            <a:ext cx="134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月份全国医疗卫生机构诊疗人次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.5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127"/>
          <p:cNvSpPr/>
          <p:nvPr/>
        </p:nvSpPr>
        <p:spPr>
          <a:xfrm>
            <a:off x="4792680" y="4452840"/>
            <a:ext cx="142920" cy="1414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8"/>
          <p:cNvSpPr/>
          <p:nvPr/>
        </p:nvSpPr>
        <p:spPr>
          <a:xfrm>
            <a:off x="5283720" y="4406760"/>
            <a:ext cx="123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月份全国医疗卫生机构诊疗人次环比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4050360" y="1103400"/>
            <a:ext cx="15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666800" y="1744560"/>
            <a:ext cx="4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同比增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4417560" y="258120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158"/>
          <p:cNvSpPr/>
          <p:nvPr/>
        </p:nvSpPr>
        <p:spPr>
          <a:xfrm>
            <a:off x="3941640" y="2470320"/>
            <a:ext cx="4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同比增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159"/>
          <p:cNvSpPr/>
          <p:nvPr/>
        </p:nvSpPr>
        <p:spPr>
          <a:xfrm>
            <a:off x="6420600" y="221472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%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直接连接符 11"/>
          <p:cNvSpPr/>
          <p:nvPr/>
        </p:nvSpPr>
        <p:spPr>
          <a:xfrm>
            <a:off x="2757600" y="4451400"/>
            <a:ext cx="66492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024"/>
          <p:cNvSpPr/>
          <p:nvPr/>
        </p:nvSpPr>
        <p:spPr>
          <a:xfrm>
            <a:off x="3330720" y="4344840"/>
            <a:ext cx="133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摘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卫生部简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8199"/>
          <p:cNvSpPr/>
          <p:nvPr/>
        </p:nvSpPr>
        <p:spPr>
          <a:xfrm>
            <a:off x="1763640" y="343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矩形 20" descr=""/>
          <p:cNvPicPr/>
          <p:nvPr/>
        </p:nvPicPr>
        <p:blipFill>
          <a:blip r:embed="rId1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3"/>
          <p:cNvSpPr/>
          <p:nvPr/>
        </p:nvSpPr>
        <p:spPr>
          <a:xfrm>
            <a:off x="1547640" y="14209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1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成本高不利于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1547640" y="17496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2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就诊比率严重失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547640" y="20797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3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公信力受到质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1547640" y="24098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4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资源匹配严重失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7"/>
          <p:cNvSpPr/>
          <p:nvPr/>
        </p:nvSpPr>
        <p:spPr>
          <a:xfrm>
            <a:off x="1547640" y="27399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5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政策上受歧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1547640" y="307008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6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规划布局遭排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547640" y="33987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7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医保难进民营医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0"/>
          <p:cNvSpPr/>
          <p:nvPr/>
        </p:nvSpPr>
        <p:spPr>
          <a:xfrm>
            <a:off x="1547640" y="372888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8  </a:t>
            </a:r>
            <a:r>
              <a:rPr b="1" lang="zh-CN" sz="1600" spc="-1" strike="noStrike">
                <a:solidFill>
                  <a:srgbClr val="bd4e4c"/>
                </a:solidFill>
                <a:latin typeface="微软雅黑"/>
                <a:ea typeface="微软雅黑"/>
              </a:rPr>
              <a:t>竞争与机会并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214200" y="195120"/>
            <a:ext cx="80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d4e4c"/>
                </a:solidFill>
                <a:latin typeface="Calibri"/>
                <a:ea typeface="微软雅黑"/>
              </a:rPr>
              <a:t>面对如此不利的格局！民营医院走向何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12" descr=""/>
          <p:cNvPicPr/>
          <p:nvPr/>
        </p:nvPicPr>
        <p:blipFill>
          <a:blip r:embed="rId2"/>
          <a:stretch/>
        </p:blipFill>
        <p:spPr>
          <a:xfrm>
            <a:off x="4924440" y="1203480"/>
            <a:ext cx="2558880" cy="143964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13" descr=""/>
          <p:cNvPicPr/>
          <p:nvPr/>
        </p:nvPicPr>
        <p:blipFill>
          <a:blip r:embed="rId3"/>
          <a:stretch/>
        </p:blipFill>
        <p:spPr>
          <a:xfrm>
            <a:off x="5103720" y="1522440"/>
            <a:ext cx="2560680" cy="144000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4" descr=""/>
          <p:cNvPicPr/>
          <p:nvPr/>
        </p:nvPicPr>
        <p:blipFill>
          <a:blip r:embed="rId4"/>
          <a:stretch/>
        </p:blipFill>
        <p:spPr>
          <a:xfrm>
            <a:off x="5254560" y="1841400"/>
            <a:ext cx="2559240" cy="144000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5" descr=""/>
          <p:cNvPicPr/>
          <p:nvPr/>
        </p:nvPicPr>
        <p:blipFill>
          <a:blip r:embed="rId5"/>
          <a:stretch/>
        </p:blipFill>
        <p:spPr>
          <a:xfrm>
            <a:off x="5403960" y="2139840"/>
            <a:ext cx="2560680" cy="14400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6" descr=""/>
          <p:cNvPicPr/>
          <p:nvPr/>
        </p:nvPicPr>
        <p:blipFill>
          <a:blip r:embed="rId6"/>
          <a:stretch/>
        </p:blipFill>
        <p:spPr>
          <a:xfrm>
            <a:off x="5554800" y="2427120"/>
            <a:ext cx="2558880" cy="1440000"/>
          </a:xfrm>
          <a:prstGeom prst="rect">
            <a:avLst/>
          </a:prstGeom>
          <a:ln w="0">
            <a:noFill/>
          </a:ln>
        </p:spPr>
      </p:pic>
      <p:pic>
        <p:nvPicPr>
          <p:cNvPr id="526" name="图片 17" descr=""/>
          <p:cNvPicPr/>
          <p:nvPr/>
        </p:nvPicPr>
        <p:blipFill>
          <a:blip r:embed="rId7"/>
          <a:stretch/>
        </p:blipFill>
        <p:spPr>
          <a:xfrm>
            <a:off x="5703840" y="2716200"/>
            <a:ext cx="2560680" cy="1440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8" descr=""/>
          <p:cNvPicPr/>
          <p:nvPr/>
        </p:nvPicPr>
        <p:blipFill>
          <a:blip r:embed="rId8"/>
          <a:stretch/>
        </p:blipFill>
        <p:spPr>
          <a:xfrm>
            <a:off x="5892840" y="3003480"/>
            <a:ext cx="2558880" cy="1440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19" descr=""/>
          <p:cNvPicPr/>
          <p:nvPr/>
        </p:nvPicPr>
        <p:blipFill>
          <a:blip r:embed="rId9"/>
          <a:stretch/>
        </p:blipFill>
        <p:spPr>
          <a:xfrm>
            <a:off x="6075360" y="3292560"/>
            <a:ext cx="25606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BB9-BDBE-478C-A8BB-1C9885F126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-855720" y="1563840"/>
            <a:ext cx="10972800" cy="1995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39640" y="2085840"/>
            <a:ext cx="8023320" cy="5796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539640" y="2089080"/>
            <a:ext cx="80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齐心协力是“共赢”之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>
            <a:off x="7020000" y="2787480"/>
            <a:ext cx="182880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13" descr=""/>
          <p:cNvPicPr/>
          <p:nvPr/>
        </p:nvPicPr>
        <p:blipFill>
          <a:blip r:embed="rId1"/>
          <a:stretch/>
        </p:blipFill>
        <p:spPr>
          <a:xfrm>
            <a:off x="63360" y="123840"/>
            <a:ext cx="9015480" cy="498960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2771640" y="3855960"/>
            <a:ext cx="58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團結就是力量，讓我們團結起來，共同</a:t>
            </a:r>
            <a:r>
              <a:rPr b="1" lang="zh-CN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挣破</a:t>
            </a:r>
            <a:r>
              <a:rPr b="1" lang="zh-TW" sz="1800" spc="-1" strike="noStrike">
                <a:solidFill>
                  <a:srgbClr val="c00000"/>
                </a:solidFill>
                <a:latin typeface="書體坊顏體㊣"/>
                <a:ea typeface="書體坊顏體㊣"/>
              </a:rPr>
              <a:t>經營瓶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9" descr=""/>
          <p:cNvPicPr/>
          <p:nvPr/>
        </p:nvPicPr>
        <p:blipFill>
          <a:blip r:embed="rId2"/>
          <a:stretch/>
        </p:blipFill>
        <p:spPr>
          <a:xfrm>
            <a:off x="1258920" y="816120"/>
            <a:ext cx="734364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1" descr=""/>
          <p:cNvPicPr/>
          <p:nvPr/>
        </p:nvPicPr>
        <p:blipFill>
          <a:blip r:embed="rId3"/>
          <a:stretch/>
        </p:blipFill>
        <p:spPr>
          <a:xfrm>
            <a:off x="5796000" y="2500200"/>
            <a:ext cx="2722680" cy="973080"/>
          </a:xfrm>
          <a:prstGeom prst="rect">
            <a:avLst/>
          </a:prstGeom>
          <a:ln w="0">
            <a:noFill/>
          </a:ln>
        </p:spPr>
      </p:pic>
      <p:sp>
        <p:nvSpPr>
          <p:cNvPr id="118" name="直接连接符 14"/>
          <p:cNvSpPr/>
          <p:nvPr/>
        </p:nvSpPr>
        <p:spPr>
          <a:xfrm>
            <a:off x="719280" y="2104920"/>
            <a:ext cx="766908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12"/>
          <p:cNvSpPr/>
          <p:nvPr/>
        </p:nvSpPr>
        <p:spPr>
          <a:xfrm>
            <a:off x="611280" y="2050920"/>
            <a:ext cx="108000" cy="108000"/>
          </a:xfrm>
          <a:prstGeom prst="ellipse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16"/>
          <p:cNvSpPr/>
          <p:nvPr/>
        </p:nvSpPr>
        <p:spPr>
          <a:xfrm>
            <a:off x="5648400" y="3460680"/>
            <a:ext cx="273996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0" descr=""/>
          <p:cNvPicPr/>
          <p:nvPr/>
        </p:nvPicPr>
        <p:blipFill>
          <a:blip r:embed="rId4"/>
          <a:stretch/>
        </p:blipFill>
        <p:spPr>
          <a:xfrm>
            <a:off x="2089080" y="3473280"/>
            <a:ext cx="116676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2"/>
          <p:cNvSpPr/>
          <p:nvPr/>
        </p:nvSpPr>
        <p:spPr>
          <a:xfrm>
            <a:off x="0" y="4235400"/>
            <a:ext cx="9144000" cy="85716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1260360" y="770040"/>
            <a:ext cx="6604200" cy="345744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20"/>
          <p:cNvSpPr/>
          <p:nvPr/>
        </p:nvSpPr>
        <p:spPr>
          <a:xfrm>
            <a:off x="5216400" y="3444840"/>
            <a:ext cx="2149560" cy="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18"/>
          <p:cNvSpPr/>
          <p:nvPr/>
        </p:nvSpPr>
        <p:spPr>
          <a:xfrm flipV="1">
            <a:off x="1776240" y="2104920"/>
            <a:ext cx="5532480" cy="12960"/>
          </a:xfrm>
          <a:prstGeom prst="line">
            <a:avLst/>
          </a:prstGeom>
          <a:ln w="126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椭圆 19"/>
          <p:cNvSpPr/>
          <p:nvPr/>
        </p:nvSpPr>
        <p:spPr>
          <a:xfrm>
            <a:off x="1692360" y="2075040"/>
            <a:ext cx="83880" cy="83880"/>
          </a:xfrm>
          <a:prstGeom prst="ellipse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7" descr=""/>
          <p:cNvPicPr/>
          <p:nvPr/>
        </p:nvPicPr>
        <p:blipFill>
          <a:blip r:embed="rId2"/>
          <a:stretch/>
        </p:blipFill>
        <p:spPr>
          <a:xfrm>
            <a:off x="5364000" y="2693880"/>
            <a:ext cx="2135520" cy="7653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6" descr=""/>
          <p:cNvPicPr/>
          <p:nvPr/>
        </p:nvPicPr>
        <p:blipFill>
          <a:blip r:embed="rId3"/>
          <a:stretch/>
        </p:blipFill>
        <p:spPr>
          <a:xfrm>
            <a:off x="1682640" y="1095480"/>
            <a:ext cx="5759640" cy="10159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9"/>
          <p:cNvGrpSpPr/>
          <p:nvPr/>
        </p:nvGrpSpPr>
        <p:grpSpPr>
          <a:xfrm>
            <a:off x="1541160" y="770040"/>
            <a:ext cx="3306600" cy="3457440"/>
            <a:chOff x="1541160" y="770040"/>
            <a:chExt cx="3306600" cy="3457440"/>
          </a:xfrm>
        </p:grpSpPr>
        <p:pic>
          <p:nvPicPr>
            <p:cNvPr id="130" name="Picture 20" descr=""/>
            <p:cNvPicPr/>
            <p:nvPr/>
          </p:nvPicPr>
          <p:blipFill>
            <a:blip r:embed="rId4"/>
            <a:stretch/>
          </p:blipFill>
          <p:spPr>
            <a:xfrm flipH="1">
              <a:off x="1822320" y="781200"/>
              <a:ext cx="302544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21"/>
            <p:cNvSpPr/>
            <p:nvPr/>
          </p:nvSpPr>
          <p:spPr>
            <a:xfrm flipH="1">
              <a:off x="1540800" y="770040"/>
              <a:ext cx="286920" cy="3457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4282560" y="777960"/>
            <a:ext cx="3324600" cy="3457440"/>
            <a:chOff x="4282560" y="777960"/>
            <a:chExt cx="3324600" cy="3457440"/>
          </a:xfrm>
        </p:grpSpPr>
        <p:pic>
          <p:nvPicPr>
            <p:cNvPr id="133" name="Picture 25" descr=""/>
            <p:cNvPicPr/>
            <p:nvPr/>
          </p:nvPicPr>
          <p:blipFill>
            <a:blip r:embed="rId5"/>
            <a:stretch/>
          </p:blipFill>
          <p:spPr>
            <a:xfrm flipH="1">
              <a:off x="4282560" y="789120"/>
              <a:ext cx="302580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26"/>
            <p:cNvSpPr/>
            <p:nvPr/>
          </p:nvSpPr>
          <p:spPr>
            <a:xfrm flipH="1">
              <a:off x="7319880" y="777960"/>
              <a:ext cx="287280" cy="3457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23"/>
          <p:cNvSpPr/>
          <p:nvPr/>
        </p:nvSpPr>
        <p:spPr>
          <a:xfrm>
            <a:off x="4570560" y="770040"/>
            <a:ext cx="3463920" cy="3465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1027080" y="770040"/>
            <a:ext cx="3544920" cy="34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7"/>
          <p:cNvSpPr/>
          <p:nvPr/>
        </p:nvSpPr>
        <p:spPr>
          <a:xfrm flipH="1">
            <a:off x="4282200" y="770040"/>
            <a:ext cx="287640" cy="34574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2"/>
          <p:cNvSpPr/>
          <p:nvPr/>
        </p:nvSpPr>
        <p:spPr>
          <a:xfrm flipH="1">
            <a:off x="4564800" y="770040"/>
            <a:ext cx="287640" cy="34574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24" descr=""/>
          <p:cNvPicPr/>
          <p:nvPr/>
        </p:nvPicPr>
        <p:blipFill>
          <a:blip r:embed="rId10"/>
          <a:stretch/>
        </p:blipFill>
        <p:spPr>
          <a:xfrm>
            <a:off x="1436760" y="4281480"/>
            <a:ext cx="78408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F:\115同步盘\图片素材\商务人物\115.jpg"/>
          <p:cNvPicPr/>
          <p:nvPr/>
        </p:nvPicPr>
        <p:blipFill>
          <a:blip r:embed="rId11"/>
          <a:stretch/>
        </p:blipFill>
        <p:spPr>
          <a:xfrm>
            <a:off x="1552680" y="2428920"/>
            <a:ext cx="2681280" cy="17892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1"/>
          <p:cNvGrpSpPr/>
          <p:nvPr/>
        </p:nvGrpSpPr>
        <p:grpSpPr>
          <a:xfrm>
            <a:off x="1920960" y="4441680"/>
            <a:ext cx="5864040" cy="444600"/>
            <a:chOff x="1920960" y="4441680"/>
            <a:chExt cx="5864040" cy="444600"/>
          </a:xfrm>
        </p:grpSpPr>
        <p:sp>
          <p:nvSpPr>
            <p:cNvPr id="142" name="矩形 21"/>
            <p:cNvSpPr/>
            <p:nvPr/>
          </p:nvSpPr>
          <p:spPr>
            <a:xfrm>
              <a:off x="1920960" y="4441680"/>
              <a:ext cx="58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c00000"/>
                  </a:solidFill>
                  <a:latin typeface="書體坊顏體㊣"/>
                  <a:ea typeface="書體坊顏體㊣"/>
                </a:rPr>
                <a:t>團結就是力量，讓我們團結起來，共同</a:t>
              </a:r>
              <a:r>
                <a:rPr b="1" lang="zh-CN" sz="1800" spc="-1" strike="noStrike">
                  <a:solidFill>
                    <a:srgbClr val="c00000"/>
                  </a:solidFill>
                  <a:latin typeface="書體坊顏體㊣"/>
                  <a:ea typeface="書體坊顏體㊣"/>
                </a:rPr>
                <a:t>挣破</a:t>
              </a:r>
              <a:r>
                <a:rPr b="1" lang="zh-TW" sz="1800" spc="-1" strike="noStrike">
                  <a:solidFill>
                    <a:srgbClr val="c00000"/>
                  </a:solidFill>
                  <a:latin typeface="書體坊顏體㊣"/>
                  <a:ea typeface="書體坊顏體㊣"/>
                </a:rPr>
                <a:t>經營瓶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23"/>
            <p:cNvSpPr/>
            <p:nvPr/>
          </p:nvSpPr>
          <p:spPr>
            <a:xfrm>
              <a:off x="2065320" y="4886280"/>
              <a:ext cx="5471280" cy="0"/>
            </a:xfrm>
            <a:prstGeom prst="line">
              <a:avLst/>
            </a:prstGeom>
            <a:ln w="1260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Picture 3" descr=""/>
          <p:cNvPicPr/>
          <p:nvPr/>
        </p:nvPicPr>
        <p:blipFill>
          <a:blip r:embed="rId12"/>
          <a:stretch/>
        </p:blipFill>
        <p:spPr>
          <a:xfrm rot="5400000">
            <a:off x="7940160" y="2036520"/>
            <a:ext cx="3548160" cy="335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13"/>
          <a:stretch/>
        </p:blipFill>
        <p:spPr>
          <a:xfrm flipH="1" rot="16200000">
            <a:off x="9371520" y="2027160"/>
            <a:ext cx="34736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53469E-006 L 0.36216 2.53469E-006 E">
                                      <p:cBhvr>
                                        <p:cTn id="2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2.53469E-006 L 0.6934 2.53469E-006 E">
                                      <p:cBhvr>
                                        <p:cTn id="3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3469E-006 L 0.36232 2.53469E-006 E">
                                      <p:cBhvr>
                                        <p:cTn id="3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6327E-006 L -0.36076 -0.00162 E">
                                      <p:cBhvr>
                                        <p:cTn id="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2.53469E-006 L -0.69236 2.53469E-006 E">
                                      <p:cBhvr>
                                        <p:cTn id="4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92 2.53469E-006 L 0.00295 2.53469E-006 E">
                                      <p:cBhvr>
                                        <p:cTn id="4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30"/>
          <p:cNvSpPr/>
          <p:nvPr/>
        </p:nvSpPr>
        <p:spPr>
          <a:xfrm>
            <a:off x="324000" y="345960"/>
            <a:ext cx="8351640" cy="452916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824120" y="2876400"/>
            <a:ext cx="4632120" cy="335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4"/>
          <p:cNvSpPr/>
          <p:nvPr/>
        </p:nvSpPr>
        <p:spPr>
          <a:xfrm>
            <a:off x="1824120" y="2860560"/>
            <a:ext cx="43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齐心协力是“共赢”之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9734400" y="3000240"/>
            <a:ext cx="978120" cy="420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824120" y="1900080"/>
            <a:ext cx="4632120" cy="335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4"/>
          <p:cNvSpPr/>
          <p:nvPr/>
        </p:nvSpPr>
        <p:spPr>
          <a:xfrm>
            <a:off x="1806480" y="1903320"/>
            <a:ext cx="43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横向联合，打造诚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9734400" y="2400480"/>
            <a:ext cx="978120" cy="420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5"/>
          <a:stretch/>
        </p:blipFill>
        <p:spPr>
          <a:xfrm>
            <a:off x="1824120" y="3795840"/>
            <a:ext cx="4632120" cy="334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4"/>
          <p:cNvSpPr/>
          <p:nvPr/>
        </p:nvSpPr>
        <p:spPr>
          <a:xfrm>
            <a:off x="1824120" y="3808440"/>
            <a:ext cx="43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营医院协会的作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6"/>
          <a:stretch/>
        </p:blipFill>
        <p:spPr>
          <a:xfrm>
            <a:off x="9766440" y="4884840"/>
            <a:ext cx="977760" cy="420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7"/>
          <a:stretch/>
        </p:blipFill>
        <p:spPr>
          <a:xfrm>
            <a:off x="1824120" y="949320"/>
            <a:ext cx="4630680" cy="334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1824120" y="95400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民营医院的生存状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8"/>
          <a:stretch/>
        </p:blipFill>
        <p:spPr>
          <a:xfrm>
            <a:off x="9656640" y="4235400"/>
            <a:ext cx="1055880" cy="446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9"/>
          <a:stretch/>
        </p:blipFill>
        <p:spPr>
          <a:xfrm>
            <a:off x="6093000" y="1074600"/>
            <a:ext cx="975960" cy="420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9"/>
          <p:cNvSpPr/>
          <p:nvPr/>
        </p:nvSpPr>
        <p:spPr>
          <a:xfrm>
            <a:off x="324000" y="1477800"/>
            <a:ext cx="120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0"/>
          <a:stretch/>
        </p:blipFill>
        <p:spPr>
          <a:xfrm>
            <a:off x="5986440" y="2057400"/>
            <a:ext cx="1054080" cy="446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11"/>
          <a:stretch/>
        </p:blipFill>
        <p:spPr>
          <a:xfrm>
            <a:off x="6012000" y="3000240"/>
            <a:ext cx="1055520" cy="44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12"/>
          <a:stretch/>
        </p:blipFill>
        <p:spPr>
          <a:xfrm>
            <a:off x="5986440" y="3963960"/>
            <a:ext cx="1054080" cy="4446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8199"/>
          <p:cNvSpPr/>
          <p:nvPr/>
        </p:nvSpPr>
        <p:spPr>
          <a:xfrm>
            <a:off x="1908000" y="1490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108000" y="1563840"/>
            <a:ext cx="8928000" cy="1995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39640" y="2085840"/>
            <a:ext cx="8023320" cy="579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539640" y="2089080"/>
            <a:ext cx="80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民营医院的生存状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7020000" y="2787480"/>
            <a:ext cx="182880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矩形 44" descr=""/>
          <p:cNvPicPr/>
          <p:nvPr/>
        </p:nvPicPr>
        <p:blipFill>
          <a:blip r:embed="rId1"/>
          <a:stretch/>
        </p:blipFill>
        <p:spPr>
          <a:xfrm>
            <a:off x="6342120" y="2916360"/>
            <a:ext cx="2579760" cy="172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G:\久违的图片\本本收集整理勿商用 (15).jpg"/>
          <p:cNvPicPr/>
          <p:nvPr/>
        </p:nvPicPr>
        <p:blipFill>
          <a:blip r:embed="rId2"/>
          <a:srcRect l="0" t="0" r="24983" b="0"/>
          <a:stretch/>
        </p:blipFill>
        <p:spPr>
          <a:xfrm flipH="1">
            <a:off x="5992920" y="1612800"/>
            <a:ext cx="2962080" cy="3390840"/>
          </a:xfrm>
          <a:prstGeom prst="rect">
            <a:avLst/>
          </a:prstGeom>
          <a:ln w="0">
            <a:noFill/>
          </a:ln>
        </p:spPr>
      </p:pic>
      <p:pic>
        <p:nvPicPr>
          <p:cNvPr id="171" name="矩形 71" descr=""/>
          <p:cNvPicPr/>
          <p:nvPr/>
        </p:nvPicPr>
        <p:blipFill>
          <a:blip r:embed="rId3"/>
          <a:stretch/>
        </p:blipFill>
        <p:spPr>
          <a:xfrm>
            <a:off x="101520" y="182520"/>
            <a:ext cx="8863200" cy="95400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7"/>
          <p:cNvGrpSpPr/>
          <p:nvPr/>
        </p:nvGrpSpPr>
        <p:grpSpPr>
          <a:xfrm>
            <a:off x="539640" y="1510560"/>
            <a:ext cx="5749920" cy="5144040"/>
            <a:chOff x="539640" y="1510560"/>
            <a:chExt cx="5749920" cy="5144040"/>
          </a:xfrm>
        </p:grpSpPr>
        <p:sp>
          <p:nvSpPr>
            <p:cNvPr id="173" name="WordArt 24"/>
            <p:cNvSpPr txBox="1"/>
            <p:nvPr/>
          </p:nvSpPr>
          <p:spPr>
            <a:xfrm>
              <a:off x="1958760" y="3948120"/>
              <a:ext cx="1965960" cy="1113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163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" spc="-1" strike="noStrike">
                  <a:ln w="0">
                    <a:noFill/>
                  </a:ln>
                  <a:solidFill>
                    <a:srgbClr val="ff0000"/>
                  </a:solidFill>
                  <a:latin typeface=""/>
                </a:rPr>
                <a:t>医院的各种税费的负担</a:t>
              </a:r>
              <a:endParaRPr b="0" lang="en-US" sz="300" spc="-1" strike="noStrike">
                <a:ln w="0">
                  <a:noFill/>
                </a:ln>
                <a:solidFill>
                  <a:srgbClr val="ff0000"/>
                </a:solidFill>
                <a:latin typeface=""/>
                <a:ea typeface=""/>
              </a:endParaRPr>
            </a:p>
          </p:txBody>
        </p:sp>
        <p:sp>
          <p:nvSpPr>
            <p:cNvPr id="174" name="Arc 5"/>
            <p:cNvSpPr/>
            <p:nvPr/>
          </p:nvSpPr>
          <p:spPr>
            <a:xfrm>
              <a:off x="1113480" y="3344040"/>
              <a:ext cx="3549240" cy="1760040"/>
            </a:xfrm>
            <a:custGeom>
              <a:avLst/>
              <a:gdLst/>
              <a:ahLst/>
              <a:rect l="l" t="t" r="r" b="b"/>
              <a:pathLst>
                <a:path fill="none" w="43200" h="21727">
                  <a:moveTo>
                    <a:pt x="0" y="21726"/>
                  </a:moveTo>
                  <a:cubicBezTo>
                    <a:pt x="0" y="21684"/>
                    <a:pt x="0" y="216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727">
                  <a:moveTo>
                    <a:pt x="0" y="21726"/>
                  </a:moveTo>
                  <a:cubicBezTo>
                    <a:pt x="0" y="21684"/>
                    <a:pt x="0" y="216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0" y="21726"/>
                  </a:lnTo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200760" y="3024360"/>
              <a:ext cx="360" cy="2065680"/>
              <a:chOff x="3200760" y="3024360"/>
              <a:chExt cx="360" cy="2065680"/>
            </a:xfrm>
          </p:grpSpPr>
          <p:sp>
            <p:nvSpPr>
              <p:cNvPr id="176" name="Line 6"/>
              <p:cNvSpPr/>
              <p:nvPr/>
            </p:nvSpPr>
            <p:spPr>
              <a:xfrm>
                <a:off x="3200760" y="3024360"/>
                <a:ext cx="0" cy="206568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200760" y="3024360"/>
                <a:ext cx="360" cy="206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265920" y="3132720"/>
              <a:ext cx="607680" cy="2014200"/>
              <a:chOff x="3265920" y="3132720"/>
              <a:chExt cx="607680" cy="2014200"/>
            </a:xfrm>
          </p:grpSpPr>
          <p:sp>
            <p:nvSpPr>
              <p:cNvPr id="179" name="Line 7"/>
              <p:cNvSpPr/>
              <p:nvPr/>
            </p:nvSpPr>
            <p:spPr>
              <a:xfrm flipH="1">
                <a:off x="3265920" y="3152160"/>
                <a:ext cx="607680" cy="197496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 rot="900000">
                <a:off x="3531960" y="3107160"/>
                <a:ext cx="75600" cy="20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261960" y="3241440"/>
              <a:ext cx="1172160" cy="2044800"/>
              <a:chOff x="3261960" y="3241440"/>
              <a:chExt cx="1172160" cy="2044800"/>
            </a:xfrm>
          </p:grpSpPr>
          <p:sp>
            <p:nvSpPr>
              <p:cNvPr id="182" name="Line 8"/>
              <p:cNvSpPr/>
              <p:nvPr/>
            </p:nvSpPr>
            <p:spPr>
              <a:xfrm flipH="1">
                <a:off x="3261960" y="3421440"/>
                <a:ext cx="1171800" cy="168444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 rot="900000">
                <a:off x="3500280" y="3298320"/>
                <a:ext cx="695880" cy="19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362400" y="2690280"/>
              <a:ext cx="2512800" cy="3011760"/>
              <a:chOff x="3362400" y="2690280"/>
              <a:chExt cx="2512800" cy="3011760"/>
            </a:xfrm>
          </p:grpSpPr>
          <p:sp>
            <p:nvSpPr>
              <p:cNvPr id="185" name="Line 9"/>
              <p:cNvSpPr/>
              <p:nvPr/>
            </p:nvSpPr>
            <p:spPr>
              <a:xfrm flipH="1">
                <a:off x="3362400" y="3360600"/>
                <a:ext cx="2512800" cy="167112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800000">
                <a:off x="3948480" y="2844000"/>
                <a:ext cx="1340640" cy="270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Oval 10"/>
            <p:cNvSpPr/>
            <p:nvPr/>
          </p:nvSpPr>
          <p:spPr>
            <a:xfrm>
              <a:off x="5053680" y="3458880"/>
              <a:ext cx="552240" cy="544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行政费用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4452840" y="2955960"/>
              <a:ext cx="554040" cy="545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广告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3646440" y="2672640"/>
              <a:ext cx="552240" cy="543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工资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197520" y="2170800"/>
              <a:ext cx="360" cy="2891160"/>
              <a:chOff x="3197520" y="2170800"/>
              <a:chExt cx="360" cy="2891160"/>
            </a:xfrm>
          </p:grpSpPr>
          <p:sp>
            <p:nvSpPr>
              <p:cNvPr id="191" name="Line 13"/>
              <p:cNvSpPr/>
              <p:nvPr/>
            </p:nvSpPr>
            <p:spPr>
              <a:xfrm>
                <a:off x="3197520" y="2170800"/>
                <a:ext cx="0" cy="289116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3197520" y="2170800"/>
                <a:ext cx="360" cy="28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470320" y="3107520"/>
              <a:ext cx="612720" cy="2016720"/>
              <a:chOff x="2470320" y="3107520"/>
              <a:chExt cx="612720" cy="2016720"/>
            </a:xfrm>
          </p:grpSpPr>
          <p:sp>
            <p:nvSpPr>
              <p:cNvPr id="194" name="Line 14"/>
              <p:cNvSpPr/>
              <p:nvPr/>
            </p:nvSpPr>
            <p:spPr>
              <a:xfrm>
                <a:off x="2470320" y="3128400"/>
                <a:ext cx="612720" cy="197496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 rot="20700000">
                <a:off x="2736000" y="3082680"/>
                <a:ext cx="80640" cy="206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716480" y="3247200"/>
              <a:ext cx="1233720" cy="2061000"/>
              <a:chOff x="1716480" y="3247200"/>
              <a:chExt cx="1233720" cy="206100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716480" y="3443760"/>
                <a:ext cx="1233720" cy="166788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20700000">
                <a:off x="1953000" y="3312360"/>
                <a:ext cx="759960" cy="19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84760" y="3486600"/>
              <a:ext cx="1722960" cy="2109240"/>
              <a:chOff x="1184760" y="3486600"/>
              <a:chExt cx="1722960" cy="210924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1184760" y="3924000"/>
                <a:ext cx="1722960" cy="1234080"/>
              </a:xfrm>
              <a:prstGeom prst="line">
                <a:avLst/>
              </a:prstGeom>
              <a:ln w="28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 rot="19800000">
                <a:off x="1608480" y="3575880"/>
                <a:ext cx="874800" cy="19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Oval 17"/>
            <p:cNvSpPr/>
            <p:nvPr/>
          </p:nvSpPr>
          <p:spPr>
            <a:xfrm>
              <a:off x="539640" y="3540960"/>
              <a:ext cx="552240" cy="543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18"/>
            <p:cNvSpPr/>
            <p:nvPr/>
          </p:nvSpPr>
          <p:spPr>
            <a:xfrm>
              <a:off x="1189800" y="2995560"/>
              <a:ext cx="552240" cy="545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19"/>
            <p:cNvSpPr/>
            <p:nvPr/>
          </p:nvSpPr>
          <p:spPr>
            <a:xfrm rot="10800000">
              <a:off x="1315800" y="3588480"/>
              <a:ext cx="3157560" cy="306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20" y="10800"/>
                  </a:moveTo>
                  <a:cubicBezTo>
                    <a:pt x="10920" y="10866"/>
                    <a:pt x="10866" y="10920"/>
                    <a:pt x="10800" y="10920"/>
                  </a:cubicBezTo>
                  <a:cubicBezTo>
                    <a:pt x="10733" y="10920"/>
                    <a:pt x="10680" y="10866"/>
                    <a:pt x="1068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20" y="10800"/>
                  </a:lnTo>
                  <a:close/>
                </a:path>
              </a:pathLst>
            </a:cu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20"/>
            <p:cNvSpPr/>
            <p:nvPr/>
          </p:nvSpPr>
          <p:spPr>
            <a:xfrm rot="10800000">
              <a:off x="1858680" y="4015440"/>
              <a:ext cx="2193480" cy="216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20" y="10800"/>
                  </a:moveTo>
                  <a:cubicBezTo>
                    <a:pt x="10920" y="10866"/>
                    <a:pt x="10866" y="10920"/>
                    <a:pt x="10800" y="10920"/>
                  </a:cubicBezTo>
                  <a:cubicBezTo>
                    <a:pt x="10733" y="10920"/>
                    <a:pt x="10680" y="10866"/>
                    <a:pt x="1068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20" y="10800"/>
                  </a:lnTo>
                  <a:close/>
                </a:path>
              </a:pathLst>
            </a:cu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 rot="10800000">
              <a:off x="2077920" y="4190760"/>
              <a:ext cx="1846440" cy="181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20" y="10800"/>
                  </a:moveTo>
                  <a:cubicBezTo>
                    <a:pt x="10920" y="10866"/>
                    <a:pt x="10866" y="10920"/>
                    <a:pt x="10800" y="10920"/>
                  </a:cubicBezTo>
                  <a:cubicBezTo>
                    <a:pt x="10733" y="10920"/>
                    <a:pt x="10680" y="10866"/>
                    <a:pt x="1068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20" y="10800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rc 22"/>
            <p:cNvSpPr/>
            <p:nvPr/>
          </p:nvSpPr>
          <p:spPr>
            <a:xfrm>
              <a:off x="3251880" y="2205000"/>
              <a:ext cx="2457720" cy="2499120"/>
            </a:xfrm>
            <a:custGeom>
              <a:avLst/>
              <a:gdLst/>
              <a:ahLst/>
              <a:rect l="l" t="t" r="r" b="b"/>
              <a:pathLst>
                <a:path fill="none" w="18222" h="21599">
                  <a:moveTo>
                    <a:pt x="227" y="0"/>
                  </a:moveTo>
                  <a:cubicBezTo>
                    <a:pt x="7531" y="77"/>
                    <a:pt x="14300" y="3839"/>
                    <a:pt x="18222" y="10000"/>
                  </a:cubicBezTo>
                </a:path>
                <a:path stroke="0" w="18222" h="21599">
                  <a:moveTo>
                    <a:pt x="227" y="0"/>
                  </a:moveTo>
                  <a:cubicBezTo>
                    <a:pt x="7531" y="77"/>
                    <a:pt x="14300" y="3839"/>
                    <a:pt x="18222" y="10000"/>
                  </a:cubicBezTo>
                  <a:lnTo>
                    <a:pt x="0" y="21599"/>
                  </a:lnTo>
                  <a:lnTo>
                    <a:pt x="227" y="0"/>
                  </a:lnTo>
                  <a:close/>
                </a:path>
              </a:pathLst>
            </a:custGeom>
            <a:noFill/>
            <a:ln w="28440">
              <a:solidFill>
                <a:srgbClr val="cc3300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WordArt 23"/>
            <p:cNvSpPr txBox="1"/>
            <p:nvPr/>
          </p:nvSpPr>
          <p:spPr>
            <a:xfrm rot="1595400">
              <a:off x="2746440" y="2168640"/>
              <a:ext cx="3341160" cy="169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4412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ln w="0">
                    <a:noFill/>
                  </a:ln>
                  <a:solidFill>
                    <a:srgbClr val="ff0000"/>
                  </a:solidFill>
                  <a:latin typeface="돋움"/>
                </a:rPr>
                <a:t>民营医院的主要成本</a:t>
              </a:r>
              <a:endParaRPr b="0" lang="en-US" sz="800" spc="-1" strike="noStrike">
                <a:ln w="0">
                  <a:noFill/>
                </a:ln>
                <a:solidFill>
                  <a:srgbClr val="ff0000"/>
                </a:solidFill>
                <a:latin typeface="돋움"/>
                <a:ea typeface="돋움"/>
              </a:endParaRPr>
            </a:p>
          </p:txBody>
        </p:sp>
        <p:sp>
          <p:nvSpPr>
            <p:cNvPr id="209" name="WordArt 25"/>
            <p:cNvSpPr txBox="1"/>
            <p:nvPr/>
          </p:nvSpPr>
          <p:spPr>
            <a:xfrm>
              <a:off x="2238120" y="4556160"/>
              <a:ext cx="1526400" cy="1679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3254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"/>
                </a:rPr>
                <a:t>各种费用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2859120" y="2480760"/>
              <a:ext cx="552240" cy="5436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房租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8"/>
            <p:cNvSpPr/>
            <p:nvPr/>
          </p:nvSpPr>
          <p:spPr>
            <a:xfrm>
              <a:off x="1965600" y="2644200"/>
              <a:ext cx="552240" cy="5454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32"/>
          <p:cNvSpPr/>
          <p:nvPr/>
        </p:nvSpPr>
        <p:spPr>
          <a:xfrm>
            <a:off x="-1815480" y="987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企业所得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-4730760" y="26575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末，我市医疗卫生机构平稳增长，各级各类医疗卫生机构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5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个（不包括社区健康服务中心），其中医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家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底共有床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07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张，同比增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4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其中医院病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23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张。全市拥有卫生工作人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196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执业（助理）医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265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注册护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98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医护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94: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民营医院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家，超过半数，但接诊量只占全市总量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住院比例仅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7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资源闲置较为严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9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1 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成本高不利于竞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43"/>
          <p:cNvGrpSpPr/>
          <p:nvPr/>
        </p:nvGrpSpPr>
        <p:grpSpPr>
          <a:xfrm>
            <a:off x="150840" y="1131840"/>
            <a:ext cx="1874880" cy="1476360"/>
            <a:chOff x="150840" y="1131840"/>
            <a:chExt cx="1874880" cy="1476360"/>
          </a:xfrm>
        </p:grpSpPr>
        <p:sp>
          <p:nvSpPr>
            <p:cNvPr id="216" name="矩形 45"/>
            <p:cNvSpPr/>
            <p:nvPr/>
          </p:nvSpPr>
          <p:spPr>
            <a:xfrm>
              <a:off x="150840" y="1131840"/>
              <a:ext cx="1874880" cy="1476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33"/>
            <p:cNvSpPr/>
            <p:nvPr/>
          </p:nvSpPr>
          <p:spPr>
            <a:xfrm>
              <a:off x="1173240" y="1843920"/>
              <a:ext cx="40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城市建设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35"/>
            <p:cNvSpPr/>
            <p:nvPr/>
          </p:nvSpPr>
          <p:spPr>
            <a:xfrm>
              <a:off x="1189080" y="1476360"/>
              <a:ext cx="455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义务兵优抚费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36"/>
            <p:cNvSpPr/>
            <p:nvPr/>
          </p:nvSpPr>
          <p:spPr>
            <a:xfrm>
              <a:off x="318240" y="1537560"/>
              <a:ext cx="54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水利水电建设基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37"/>
            <p:cNvSpPr/>
            <p:nvPr/>
          </p:nvSpPr>
          <p:spPr>
            <a:xfrm>
              <a:off x="441000" y="1690560"/>
              <a:ext cx="455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地方养老基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38"/>
            <p:cNvSpPr/>
            <p:nvPr/>
          </p:nvSpPr>
          <p:spPr>
            <a:xfrm>
              <a:off x="1141920" y="123156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房产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9"/>
            <p:cNvSpPr/>
            <p:nvPr/>
          </p:nvSpPr>
          <p:spPr>
            <a:xfrm>
              <a:off x="379440" y="1231560"/>
              <a:ext cx="50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城镇土地使用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40"/>
            <p:cNvSpPr/>
            <p:nvPr/>
          </p:nvSpPr>
          <p:spPr>
            <a:xfrm>
              <a:off x="1173240" y="1353960"/>
              <a:ext cx="40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车船使用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41"/>
            <p:cNvSpPr/>
            <p:nvPr/>
          </p:nvSpPr>
          <p:spPr>
            <a:xfrm>
              <a:off x="1141920" y="159876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印花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3"/>
            <p:cNvSpPr/>
            <p:nvPr/>
          </p:nvSpPr>
          <p:spPr>
            <a:xfrm>
              <a:off x="502200" y="1384560"/>
              <a:ext cx="40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企业所得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4"/>
            <p:cNvSpPr/>
            <p:nvPr/>
          </p:nvSpPr>
          <p:spPr>
            <a:xfrm>
              <a:off x="502200" y="1843920"/>
              <a:ext cx="409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教育附加费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31"/>
            <p:cNvSpPr/>
            <p:nvPr/>
          </p:nvSpPr>
          <p:spPr>
            <a:xfrm>
              <a:off x="1141920" y="1721520"/>
              <a:ext cx="31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Calibri"/>
                </a:rPr>
                <a:t>营业税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42"/>
            <p:cNvSpPr/>
            <p:nvPr/>
          </p:nvSpPr>
          <p:spPr>
            <a:xfrm>
              <a:off x="190080" y="2038320"/>
              <a:ext cx="17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数十种税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23"/>
          <p:cNvSpPr/>
          <p:nvPr/>
        </p:nvSpPr>
        <p:spPr>
          <a:xfrm>
            <a:off x="3425760" y="3957480"/>
            <a:ext cx="2286000" cy="1062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5100480" y="1208160"/>
            <a:ext cx="3719520" cy="749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387160" y="47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a50021"/>
                </a:solidFill>
                <a:latin typeface="Times New Roman"/>
                <a:ea typeface="GulimChe"/>
              </a:rPr>
              <a:t>就诊率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5219640" y="1316160"/>
            <a:ext cx="3600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33"/>
                </a:solidFill>
                <a:latin typeface="宋体"/>
              </a:rPr>
              <a:t>近年随国家政策的鼓励虽然对民营医院有所减免，可民营医院的税费仍然沉重，公立医院工资高、灰色收入高待遇好成为人才竞争最有利的因素，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营医院在与公立医院的竞争中人财物处于非常不利的状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6"/>
          <p:cNvGrpSpPr/>
          <p:nvPr/>
        </p:nvGrpSpPr>
        <p:grpSpPr>
          <a:xfrm>
            <a:off x="415800" y="1211400"/>
            <a:ext cx="5118120" cy="3404880"/>
            <a:chOff x="415800" y="1211400"/>
            <a:chExt cx="5118120" cy="3404880"/>
          </a:xfrm>
        </p:grpSpPr>
        <p:pic>
          <p:nvPicPr>
            <p:cNvPr id="234" name="对象 1" descr=""/>
            <p:cNvPicPr/>
            <p:nvPr/>
          </p:nvPicPr>
          <p:blipFill>
            <a:blip r:embed="rId1"/>
            <a:stretch/>
          </p:blipFill>
          <p:spPr>
            <a:xfrm>
              <a:off x="415800" y="1353240"/>
              <a:ext cx="208836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对象 2" descr=""/>
            <p:cNvPicPr/>
            <p:nvPr/>
          </p:nvPicPr>
          <p:blipFill>
            <a:blip r:embed="rId2"/>
            <a:stretch/>
          </p:blipFill>
          <p:spPr>
            <a:xfrm>
              <a:off x="2725560" y="1211400"/>
              <a:ext cx="2808360" cy="213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直接连接符 9"/>
            <p:cNvSpPr/>
            <p:nvPr/>
          </p:nvSpPr>
          <p:spPr>
            <a:xfrm>
              <a:off x="1459800" y="1957680"/>
              <a:ext cx="1985760" cy="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对象 21" descr=""/>
            <p:cNvPicPr/>
            <p:nvPr/>
          </p:nvPicPr>
          <p:blipFill>
            <a:blip r:embed="rId3"/>
            <a:stretch/>
          </p:blipFill>
          <p:spPr>
            <a:xfrm>
              <a:off x="1319400" y="2864160"/>
              <a:ext cx="208836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直接连接符 11"/>
            <p:cNvSpPr/>
            <p:nvPr/>
          </p:nvSpPr>
          <p:spPr>
            <a:xfrm>
              <a:off x="1285200" y="2695680"/>
              <a:ext cx="792000" cy="79812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12"/>
            <p:cNvSpPr/>
            <p:nvPr/>
          </p:nvSpPr>
          <p:spPr>
            <a:xfrm flipV="1">
              <a:off x="2653560" y="2695320"/>
              <a:ext cx="648000" cy="829080"/>
            </a:xfrm>
            <a:prstGeom prst="line">
              <a:avLst/>
            </a:prstGeom>
            <a:ln w="9360">
              <a:solidFill>
                <a:srgbClr val="4a7ebb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矩形 13"/>
          <p:cNvSpPr/>
          <p:nvPr/>
        </p:nvSpPr>
        <p:spPr>
          <a:xfrm>
            <a:off x="2391120" y="140976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矩形 14" descr=""/>
          <p:cNvPicPr/>
          <p:nvPr/>
        </p:nvPicPr>
        <p:blipFill>
          <a:blip r:embed="rId4"/>
          <a:stretch/>
        </p:blipFill>
        <p:spPr>
          <a:xfrm>
            <a:off x="101520" y="182520"/>
            <a:ext cx="8863200" cy="954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5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2 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就诊比率严重失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G:\久违的图片\本本收集整理勿商用 (8).jpg"/>
          <p:cNvPicPr/>
          <p:nvPr/>
        </p:nvPicPr>
        <p:blipFill>
          <a:blip r:embed="rId5"/>
          <a:stretch/>
        </p:blipFill>
        <p:spPr>
          <a:xfrm>
            <a:off x="4532400" y="2112840"/>
            <a:ext cx="4576680" cy="3051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7"/>
          <p:cNvSpPr/>
          <p:nvPr/>
        </p:nvSpPr>
        <p:spPr>
          <a:xfrm>
            <a:off x="2236680" y="264312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危险三角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5719680" y="2997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发展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三角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3425760" y="4375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季度门诊部、私人诊所、卫生室及其它机构总诊疗同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9%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8"/>
          <p:cNvSpPr/>
          <p:nvPr/>
        </p:nvSpPr>
        <p:spPr>
          <a:xfrm>
            <a:off x="3696840" y="3975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同比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恶化加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右弧形箭头 20"/>
          <p:cNvSpPr/>
          <p:nvPr/>
        </p:nvSpPr>
        <p:spPr>
          <a:xfrm rot="20554200">
            <a:off x="4149720" y="3036600"/>
            <a:ext cx="412920" cy="982440"/>
          </a:xfrm>
          <a:custGeom>
            <a:avLst/>
            <a:gdLst>
              <a:gd name="textAreaLeft" fmla="*/ 55080 w 412920"/>
              <a:gd name="textAreaRight" fmla="*/ 357840 w 412920"/>
              <a:gd name="textAreaTop" fmla="*/ 207000 h 982440"/>
              <a:gd name="textAreaBottom" fmla="*/ 723960 h 9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99" stAng="-5400000" swAng="5400000"/>
                <a:lnTo>
                  <a:pt x="21600" y="11367"/>
                </a:lnTo>
                <a:arcTo wR="21600" hR="9099" stAng="0" swAng="3509664"/>
                <a:lnTo>
                  <a:pt x="5400" y="21311"/>
                </a:lnTo>
                <a:lnTo>
                  <a:pt x="0" y="19332"/>
                </a:lnTo>
                <a:lnTo>
                  <a:pt x="5400" y="16775"/>
                </a:lnTo>
                <a:lnTo>
                  <a:pt x="5400" y="17909"/>
                </a:lnTo>
                <a:arcTo wR="21600" hR="9099" stAng="3509664" swAng="-3327934"/>
                <a:lnTo>
                  <a:pt x="21432" y="10233"/>
                </a:lnTo>
                <a:arcTo wR="21600" hR="9099" stAng="-181730" swAng="-5218270"/>
                <a:close/>
              </a:path>
              <a:path fill="darkenLess" w="21600" h="21600">
                <a:moveTo>
                  <a:pt x="0" y="0"/>
                </a:moveTo>
                <a:arcTo wR="21600" hR="9099" stAng="-5400000" swAng="5400000"/>
                <a:lnTo>
                  <a:pt x="21600" y="11367"/>
                </a:lnTo>
                <a:arcTo wR="21600" hR="9099" stAng="0" swAng="-181730"/>
                <a:lnTo>
                  <a:pt x="21432" y="10233"/>
                </a:lnTo>
                <a:arcTo wR="21600" hR="9099" stAng="-181730" swAng="-521827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8199"/>
          <p:cNvSpPr/>
          <p:nvPr/>
        </p:nvSpPr>
        <p:spPr>
          <a:xfrm>
            <a:off x="1763640" y="77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矩形 5" descr=""/>
          <p:cNvPicPr/>
          <p:nvPr/>
        </p:nvPicPr>
        <p:blipFill>
          <a:blip r:embed="rId1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pic>
        <p:nvPicPr>
          <p:cNvPr id="251" name="矩形 3" descr=""/>
          <p:cNvPicPr/>
          <p:nvPr/>
        </p:nvPicPr>
        <p:blipFill>
          <a:blip r:embed="rId2"/>
          <a:stretch/>
        </p:blipFill>
        <p:spPr>
          <a:xfrm>
            <a:off x="63360" y="987480"/>
            <a:ext cx="9015480" cy="412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181080" y="1131840"/>
            <a:ext cx="2633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民营医院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吸引病人的手段基本上是靠广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-625320" y="5765760"/>
            <a:ext cx="734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纳入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医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受歧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-698400" y="7345440"/>
            <a:ext cx="73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据国家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卫生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统计信息中心统计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，全国民营医疗机构的诊疗人次数占医疗机构总诊疗人次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7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入院人数占全国医疗机构入院人数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而公立医疗机构的诊疗人次数和入院人数分别占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7.0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2.3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由此可见，民营医院在与公立医院的竞技场上是远远落后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-625320" y="633744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规划布局遭排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3 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公信力受到质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2"/>
          <p:cNvSpPr/>
          <p:nvPr/>
        </p:nvSpPr>
        <p:spPr>
          <a:xfrm>
            <a:off x="179280" y="13780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Calibri"/>
              </a:rPr>
              <a:t>逐利心切，广告严重失实，误导了消费者，使得民营医院的名声大损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8020440" y="157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度包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对象 1" descr=""/>
          <p:cNvPicPr/>
          <p:nvPr/>
        </p:nvPicPr>
        <p:blipFill>
          <a:blip r:embed="rId6"/>
          <a:stretch/>
        </p:blipFill>
        <p:spPr>
          <a:xfrm>
            <a:off x="684360" y="2784600"/>
            <a:ext cx="316692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对象 2" descr=""/>
          <p:cNvPicPr/>
          <p:nvPr/>
        </p:nvPicPr>
        <p:blipFill>
          <a:blip r:embed="rId7"/>
          <a:stretch/>
        </p:blipFill>
        <p:spPr>
          <a:xfrm>
            <a:off x="3460680" y="1584360"/>
            <a:ext cx="4524480" cy="2328840"/>
          </a:xfrm>
          <a:prstGeom prst="rect">
            <a:avLst/>
          </a:prstGeom>
          <a:ln w="0">
            <a:noFill/>
          </a:ln>
        </p:spPr>
      </p:pic>
      <p:sp>
        <p:nvSpPr>
          <p:cNvPr id="261" name="矩形 17"/>
          <p:cNvSpPr/>
          <p:nvPr/>
        </p:nvSpPr>
        <p:spPr>
          <a:xfrm>
            <a:off x="1703520" y="2066760"/>
            <a:ext cx="3805200" cy="2665440"/>
          </a:xfrm>
          <a:prstGeom prst="rect">
            <a:avLst/>
          </a:prstGeom>
          <a:noFill/>
          <a:ln w="1908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G:\商务人物\96.jpg"/>
          <p:cNvPicPr/>
          <p:nvPr/>
        </p:nvPicPr>
        <p:blipFill>
          <a:blip r:embed="rId8"/>
          <a:stretch/>
        </p:blipFill>
        <p:spPr>
          <a:xfrm>
            <a:off x="7667640" y="2806560"/>
            <a:ext cx="1476360" cy="2213280"/>
          </a:xfrm>
          <a:prstGeom prst="rect">
            <a:avLst/>
          </a:prstGeom>
          <a:ln w="0">
            <a:noFill/>
          </a:ln>
        </p:spPr>
      </p:pic>
      <p:sp>
        <p:nvSpPr>
          <p:cNvPr id="263" name="矩形 18"/>
          <p:cNvSpPr/>
          <p:nvPr/>
        </p:nvSpPr>
        <p:spPr>
          <a:xfrm>
            <a:off x="7663320" y="113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化水平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5"/>
          <p:cNvSpPr/>
          <p:nvPr/>
        </p:nvSpPr>
        <p:spPr>
          <a:xfrm>
            <a:off x="4788000" y="1152360"/>
            <a:ext cx="3816360" cy="30909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611280" y="1158840"/>
            <a:ext cx="3816360" cy="30909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639800" y="1373040"/>
            <a:ext cx="2586240" cy="2695680"/>
          </a:xfrm>
          <a:prstGeom prst="upArrow">
            <a:avLst>
              <a:gd name="adj1" fmla="val 56361"/>
              <a:gd name="adj2" fmla="val 78328"/>
            </a:avLst>
          </a:prstGeom>
          <a:gradFill rotWithShape="0">
            <a:gsLst>
              <a:gs pos="0">
                <a:srgbClr val="4f81bd"/>
              </a:gs>
              <a:gs pos="100000">
                <a:srgbClr val="2c48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749840" y="1477800"/>
            <a:ext cx="2614680" cy="2695680"/>
          </a:xfrm>
          <a:prstGeom prst="downArrow">
            <a:avLst>
              <a:gd name="adj1" fmla="val 65009"/>
              <a:gd name="adj2" fmla="val 57925"/>
            </a:avLst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826920" y="2003400"/>
            <a:ext cx="2090880" cy="490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26920" y="2624040"/>
            <a:ext cx="2090880" cy="490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826920" y="3236760"/>
            <a:ext cx="2090880" cy="490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6153120" y="2003400"/>
            <a:ext cx="2090880" cy="488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153120" y="2646360"/>
            <a:ext cx="2090880" cy="4888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6153120" y="3276720"/>
            <a:ext cx="2090880" cy="490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1442880" y="4249800"/>
            <a:ext cx="6315120" cy="625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民营医院绝对享受不到政府的任何一点投入，一方面是生存的困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一方面是政府的加大投入，民营医院如何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863640" y="2112840"/>
            <a:ext cx="198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五年累计投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.0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亿元，是建市以来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年总和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倍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8"/>
          <p:cNvSpPr/>
          <p:nvPr/>
        </p:nvSpPr>
        <p:spPr>
          <a:xfrm>
            <a:off x="863640" y="2736720"/>
            <a:ext cx="19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金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.8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亿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分别比上年增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7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38"/>
          <p:cNvSpPr/>
          <p:nvPr/>
        </p:nvSpPr>
        <p:spPr>
          <a:xfrm>
            <a:off x="863640" y="3346560"/>
            <a:ext cx="19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全市卫生系统固定资产总额累计增长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.6%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6200640" y="2106720"/>
            <a:ext cx="19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同比卫生机构总数减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200640" y="2751120"/>
            <a:ext cx="19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私人诊所和医务室减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6200640" y="3381480"/>
            <a:ext cx="19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是民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826920" y="1550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政府投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7020000" y="1554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构减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矩形 20" descr=""/>
          <p:cNvPicPr/>
          <p:nvPr/>
        </p:nvPicPr>
        <p:blipFill>
          <a:blip r:embed="rId1"/>
          <a:stretch/>
        </p:blipFill>
        <p:spPr>
          <a:xfrm>
            <a:off x="108000" y="195120"/>
            <a:ext cx="8929800" cy="738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1"/>
          <p:cNvSpPr/>
          <p:nvPr/>
        </p:nvSpPr>
        <p:spPr>
          <a:xfrm>
            <a:off x="209520" y="30492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NO.4  </a:t>
            </a:r>
            <a:r>
              <a:rPr b="1" lang="zh-CN" sz="3200" spc="-1" strike="noStrike">
                <a:solidFill>
                  <a:srgbClr val="bd4e4c"/>
                </a:solidFill>
                <a:latin typeface="微软雅黑"/>
                <a:ea typeface="微软雅黑"/>
              </a:rPr>
              <a:t>资源匹配严重失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07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13Z</dcterms:modified>
  <cp:revision>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