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4103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CA2-A108-4FE4-B24B-3BBFEDE4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B67-A179-451C-9C75-01D1FE19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31B-9DD8-4163-ACB7-79CF8A77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7D2-237D-45DF-9967-D422078C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EF77-842A-493B-8DF3-CA968771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74CC-EEEA-47C5-A431-6F402E0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9FCA-41CC-4448-AB46-D6BAC36D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0028-BDB5-48BB-928E-223FF225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84AB-D11E-45A9-9ED3-A5B622B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65240"/>
            <a:ext cx="82296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15CA-6CC4-45DA-8DD0-D1234E60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BFFE-3134-4E5D-AC88-ABC7079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FDA-AE18-46D1-9E8D-27DA5BC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F47C-2B6F-4CAB-9567-54C3AA3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FE14-A7E3-4F23-9999-5774374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0578-C788-4D4E-B826-15E711A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0648-89BD-4D54-B3A3-3151455E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B94D-1D37-4B8A-BB07-3D9A0623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170-7B30-4308-B81D-560E6C09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F4F-F0CD-4CFD-8C5F-FF4893DC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89E-E3B2-4E7B-A415-EF72EB61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5240"/>
            <a:ext cx="82296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DF7-2FB0-4D9C-A050-4794701D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825-24A4-421E-9655-18C97D0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B3B-360D-44C6-9BF6-97BDAB33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ADE-EA03-425A-B9D9-8807A687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3803760"/>
            <a:ext cx="289584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F9C3-39D1-4B32-9BE7-78B562CFACE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812-C271-4E09-9B7F-BDE28E99BCB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C38-0112-4CD6-8D29-680FBC3BFC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Bess\Desktop\20090624222857-1002470697.jpg"/>
          <p:cNvPicPr/>
          <p:nvPr/>
        </p:nvPicPr>
        <p:blipFill>
          <a:blip r:embed="rId2"/>
          <a:srcRect l="0" t="26258" r="-2101" b="34488"/>
          <a:stretch/>
        </p:blipFill>
        <p:spPr>
          <a:xfrm>
            <a:off x="162000" y="971640"/>
            <a:ext cx="390528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95640" y="1187280"/>
            <a:ext cx="4753080" cy="20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安如普</a:t>
            </a:r>
            <a:r>
              <a:rPr b="1" lang="en-US" sz="4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&amp;</a:t>
            </a:r>
            <a:r>
              <a:rPr b="1" lang="zh-CN" sz="4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达润</a:t>
            </a:r>
            <a:r>
              <a:rPr b="1" lang="zh-CN" sz="44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年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时间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:2012/01/09 15:40~21:00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 </a:t>
            </a:r>
            <a:r>
              <a:rPr b="0" lang="en-US" sz="10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(</a:t>
            </a:r>
            <a:r>
              <a:rPr b="0" lang="zh-CN" sz="10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晚到的就上不了诺亚方舟了</a:t>
            </a:r>
            <a:r>
              <a:rPr b="0" lang="en-US" sz="1000" spc="-1" strike="noStrike">
                <a:solidFill>
                  <a:srgbClr val="bfbfbf"/>
                </a:solidFill>
                <a:latin typeface="Microsoft JhengHei"/>
                <a:ea typeface="Microsoft JhengHe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地点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: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盈科中心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4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层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餐厅名正院大宅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交通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: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坐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701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在长虹桥西下</a:t>
            </a: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704120" y="298764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08000" y="3708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2624040" y="3240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企业年会策划方案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Bess\Desktop\1220471f398e2d48aef1a3d702c992f7_3__560_100.jpg"/>
          <p:cNvPicPr/>
          <p:nvPr/>
        </p:nvPicPr>
        <p:blipFill>
          <a:blip r:embed="rId2"/>
          <a:srcRect l="69741" t="0" r="0" b="89892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Bess\Pictures\WORK P\Infocomm\c\62d8a08bjw1dj1h936jgkj.jpg"/>
          <p:cNvPicPr/>
          <p:nvPr/>
        </p:nvPicPr>
        <p:blipFill>
          <a:blip r:embed="rId3"/>
          <a:srcRect l="0" t="0" r="0" b="11136"/>
          <a:stretch/>
        </p:blipFill>
        <p:spPr>
          <a:xfrm>
            <a:off x="0" y="-1440"/>
            <a:ext cx="3449520" cy="4105080"/>
          </a:xfrm>
          <a:prstGeom prst="rect">
            <a:avLst/>
          </a:prstGeom>
          <a:ln w="0">
            <a:noFill/>
          </a:ln>
        </p:spPr>
      </p:pic>
      <p:sp>
        <p:nvSpPr>
          <p:cNvPr id="134" name="矩形 3"/>
          <p:cNvSpPr/>
          <p:nvPr/>
        </p:nvSpPr>
        <p:spPr>
          <a:xfrm>
            <a:off x="4140360" y="1260360"/>
            <a:ext cx="396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缺一不可</a:t>
            </a:r>
            <a:r>
              <a:rPr b="1" lang="zh-CN" sz="7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每个人都是公司很重要的一份子</a:t>
            </a:r>
            <a:r>
              <a:rPr b="1" lang="en-US" sz="1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也期待每个环节大家的热情参与</a:t>
            </a:r>
            <a:r>
              <a:rPr b="1" lang="en-US" sz="1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846680" y="327672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6F6A-2AE7-4DB2-8DF6-25CF1339C8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77F2-D197-41A9-9F30-3ADBA58199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Bess\Desktop\1220471f398e2d48aef1a3d702c992f7_3__560_100.jpg"/>
          <p:cNvPicPr/>
          <p:nvPr/>
        </p:nvPicPr>
        <p:blipFill>
          <a:blip r:embed="rId2"/>
          <a:srcRect l="69741" t="0" r="0" b="89892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Bess\Pictures\WORK P\Infocomm\c\Abramet_Drinking_and_driving_1-660x439.jpg"/>
          <p:cNvPicPr/>
          <p:nvPr/>
        </p:nvPicPr>
        <p:blipFill>
          <a:blip r:embed="rId3"/>
          <a:srcRect l="13400" t="0" r="0" b="14903"/>
          <a:stretch/>
        </p:blipFill>
        <p:spPr>
          <a:xfrm>
            <a:off x="0" y="0"/>
            <a:ext cx="62784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3"/>
          <p:cNvSpPr/>
          <p:nvPr/>
        </p:nvSpPr>
        <p:spPr>
          <a:xfrm>
            <a:off x="6516720" y="985680"/>
            <a:ext cx="230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尽量别开车前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6480000" y="252576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建议当天上班别开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或是把车停公司再过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6215400" y="341964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45C-2977-4B96-B935-987179E76D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Bess\Desktop\1220471f398e2d48aef1a3d702c992f7_3__560_100.jpg"/>
          <p:cNvPicPr/>
          <p:nvPr/>
        </p:nvPicPr>
        <p:blipFill>
          <a:blip r:embed="rId2"/>
          <a:srcRect l="69741" t="0" r="0" b="89892"/>
          <a:stretch/>
        </p:blipFill>
        <p:spPr>
          <a:xfrm>
            <a:off x="0" y="0"/>
            <a:ext cx="9161640" cy="410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Bess\Desktop\1220471f398e2d48aef1a3d702c992f7_3__560_100.jpg"/>
          <p:cNvPicPr/>
          <p:nvPr/>
        </p:nvPicPr>
        <p:blipFill>
          <a:blip r:embed="rId3"/>
          <a:srcRect l="0" t="0" r="0" b="11396"/>
          <a:stretch/>
        </p:blipFill>
        <p:spPr>
          <a:xfrm>
            <a:off x="5686560" y="3240"/>
            <a:ext cx="3457440" cy="4097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468360" y="1476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当天有美味的</a:t>
            </a:r>
            <a:r>
              <a:rPr b="1" lang="zh-CN" sz="44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佳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D4EC-0878-4600-8054-DC8570657A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Bess\Desktop\1220471f398e2d48aef1a3d702c992f7_3__560_100.jpg"/>
          <p:cNvPicPr/>
          <p:nvPr/>
        </p:nvPicPr>
        <p:blipFill>
          <a:blip r:embed="rId2"/>
          <a:srcRect l="69741" t="0" r="0" b="89892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Bess\Desktop\heinekencolosseum.jpg"/>
          <p:cNvPicPr/>
          <p:nvPr/>
        </p:nvPicPr>
        <p:blipFill>
          <a:blip r:embed="rId3"/>
          <a:srcRect l="0" t="20351" r="10110" b="0"/>
          <a:stretch/>
        </p:blipFill>
        <p:spPr>
          <a:xfrm>
            <a:off x="0" y="0"/>
            <a:ext cx="6554880" cy="410364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6588000" y="1260360"/>
            <a:ext cx="2556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his is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 </a:t>
            </a:r>
            <a:r>
              <a:rPr b="1" lang="zh-CN" sz="7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酒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没人能走着离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BF1-0442-4C26-BFCD-B55F013A29A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Bess\Desktop\1220471f398e2d48aef1a3d702c992f7_3__560_100.jpg"/>
          <p:cNvPicPr/>
          <p:nvPr/>
        </p:nvPicPr>
        <p:blipFill>
          <a:blip r:embed="rId2"/>
          <a:srcRect l="69741" t="0" r="0" b="89892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Bess\Desktop\45452e8ed569da288281eb44626ec8e4_3__552_100.jpg"/>
          <p:cNvPicPr/>
          <p:nvPr/>
        </p:nvPicPr>
        <p:blipFill>
          <a:blip r:embed="rId3"/>
          <a:srcRect l="0" t="0" r="1120" b="0"/>
          <a:stretch/>
        </p:blipFill>
        <p:spPr>
          <a:xfrm>
            <a:off x="0" y="0"/>
            <a:ext cx="6372360" cy="4103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6588000" y="814320"/>
            <a:ext cx="22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有数不清的</a:t>
            </a:r>
            <a:r>
              <a:rPr b="1" lang="zh-CN" sz="7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对抗活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FAAA-BBAF-499B-89B8-1BBA60DA5C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Bess\Desktop\1220471f398e2d48aef1a3d702c992f7_3__560_100.jpg"/>
          <p:cNvPicPr/>
          <p:nvPr/>
        </p:nvPicPr>
        <p:blipFill>
          <a:blip r:embed="rId2"/>
          <a:srcRect l="69741" t="0" r="0" b="89892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Bess\Desktop\b9df011bd4c0e089140291fba22fe227_3__600_100.jpg"/>
          <p:cNvPicPr/>
          <p:nvPr/>
        </p:nvPicPr>
        <p:blipFill>
          <a:blip r:embed="rId3"/>
          <a:stretch/>
        </p:blipFill>
        <p:spPr>
          <a:xfrm>
            <a:off x="0" y="0"/>
            <a:ext cx="5483160" cy="4103640"/>
          </a:xfrm>
          <a:prstGeom prst="rect">
            <a:avLst/>
          </a:prstGeom>
          <a:ln w="0">
            <a:noFill/>
          </a:ln>
        </p:spPr>
      </p:pic>
      <p:sp>
        <p:nvSpPr>
          <p:cNvPr id="106" name="矩形 3"/>
          <p:cNvSpPr/>
          <p:nvPr/>
        </p:nvSpPr>
        <p:spPr>
          <a:xfrm>
            <a:off x="6431760" y="16923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再对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639040" y="291636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7174"/>
          <p:cNvSpPr/>
          <p:nvPr/>
        </p:nvSpPr>
        <p:spPr>
          <a:xfrm>
            <a:off x="108000" y="108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6817-0584-498F-9117-D12837085B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Bess\Desktop\1220471f398e2d48aef1a3d702c992f7_3__560_100.jpg"/>
          <p:cNvPicPr/>
          <p:nvPr/>
        </p:nvPicPr>
        <p:blipFill>
          <a:blip r:embed="rId2"/>
          <a:srcRect l="69741" t="0" r="0" b="89892"/>
          <a:stretch/>
        </p:blipFill>
        <p:spPr>
          <a:xfrm>
            <a:off x="0" y="0"/>
            <a:ext cx="9182160" cy="410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Bess\Desktop\3acde95f69305fa8ff8470cd40e6e28f_3__600_100.jpg"/>
          <p:cNvPicPr/>
          <p:nvPr/>
        </p:nvPicPr>
        <p:blipFill>
          <a:blip r:embed="rId3"/>
          <a:srcRect l="0" t="0" r="7214" b="0"/>
          <a:stretch/>
        </p:blipFill>
        <p:spPr>
          <a:xfrm>
            <a:off x="4092480" y="0"/>
            <a:ext cx="5087880" cy="4103640"/>
          </a:xfrm>
          <a:prstGeom prst="rect">
            <a:avLst/>
          </a:prstGeom>
          <a:ln w="0">
            <a:noFill/>
          </a:ln>
        </p:spPr>
      </p:pic>
      <p:sp>
        <p:nvSpPr>
          <p:cNvPr id="113" name="矩形 3"/>
          <p:cNvSpPr/>
          <p:nvPr/>
        </p:nvSpPr>
        <p:spPr>
          <a:xfrm>
            <a:off x="0" y="971640"/>
            <a:ext cx="4032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愿赌服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惩罚少不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2AF-06F6-4ABF-A14F-61A9FF62C8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7440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2325240"/>
            <a:ext cx="6400800" cy="10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pic>
        <p:nvPicPr>
          <p:cNvPr id="117" name="Picture 2" descr="C:\Users\Bess\Desktop\83noms_noli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Bess\Desktop\83noms_nolist.jpg"/>
          <p:cNvPicPr/>
          <p:nvPr/>
        </p:nvPicPr>
        <p:blipFill>
          <a:blip r:embed="rId2"/>
          <a:srcRect l="0" t="0" r="48521" b="86852"/>
          <a:stretch/>
        </p:blipFill>
        <p:spPr>
          <a:xfrm>
            <a:off x="0" y="0"/>
            <a:ext cx="5292720" cy="183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Bess\Desktop\83noms_nolist.jpg"/>
          <p:cNvPicPr/>
          <p:nvPr/>
        </p:nvPicPr>
        <p:blipFill>
          <a:blip r:embed="rId3"/>
          <a:srcRect l="0" t="0" r="48521" b="85304"/>
          <a:stretch/>
        </p:blipFill>
        <p:spPr>
          <a:xfrm>
            <a:off x="0" y="1692360"/>
            <a:ext cx="5219640" cy="603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324000" y="900000"/>
            <a:ext cx="50911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谁来角逐</a:t>
            </a:r>
            <a:r>
              <a:rPr b="1" lang="zh-CN" sz="44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奥斯卡</a:t>
            </a:r>
            <a:r>
              <a:rPr b="1" lang="zh-CN" sz="9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之最佳影片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.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每个部门须拍一分钟以内的片子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最晚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/6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号前提交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.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部门每个人都需出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b.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内容可为对公司的祝福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/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对明年的期望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…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c.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可用创意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/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搞笑的形式拍摄出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d.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每公司可自行指定摄影人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.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是展现公司精神 部门团队合作的最佳方式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!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-</a:t>
            </a:r>
            <a:r>
              <a:rPr b="0" lang="zh-CN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大家评选最喜欢的片子 将能夺得豪华大礼一份</a:t>
            </a:r>
            <a:r>
              <a:rPr b="0" lang="en-US" sz="1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F4B5-F0DC-470D-A0A7-307F048B63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Bess\Desktop\1281091345.jpg"/>
          <p:cNvPicPr/>
          <p:nvPr/>
        </p:nvPicPr>
        <p:blipFill>
          <a:blip r:embed="rId1"/>
          <a:srcRect l="0" t="0" r="86093" b="25784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Bess\Desktop\1281091345.jpg"/>
          <p:cNvPicPr/>
          <p:nvPr/>
        </p:nvPicPr>
        <p:blipFill>
          <a:blip r:embed="rId2"/>
          <a:stretch/>
        </p:blipFill>
        <p:spPr>
          <a:xfrm>
            <a:off x="0" y="0"/>
            <a:ext cx="4140360" cy="4103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4716360" y="1403280"/>
            <a:ext cx="3672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魔音就要</a:t>
            </a:r>
            <a:r>
              <a:rPr b="1" lang="zh-CN" sz="44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穿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.</a:t>
            </a: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每公司派出三组唱歌人马</a:t>
            </a: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(1/4</a:t>
            </a: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前确认歌单</a:t>
            </a: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歌曲为晚餐时表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独唱</a:t>
            </a: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合唱</a:t>
            </a: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团体表演皆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表演者皆可得到一份精美礼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A4D6-6BAC-4DBD-96D3-6F918ECDE9C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Bess\Desktop\20090624222857-1002470697.jpg"/>
          <p:cNvPicPr/>
          <p:nvPr/>
        </p:nvPicPr>
        <p:blipFill>
          <a:blip r:embed="rId1"/>
          <a:srcRect l="0" t="7818" r="204" b="83127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Bess\Desktop\1220471f398e2d48aef1a3d702c992f7_3__560_100.jpg"/>
          <p:cNvPicPr/>
          <p:nvPr/>
        </p:nvPicPr>
        <p:blipFill>
          <a:blip r:embed="rId2"/>
          <a:srcRect l="69741" t="0" r="0" b="89892"/>
          <a:stretch/>
        </p:blipFill>
        <p:spPr>
          <a:xfrm>
            <a:off x="0" y="0"/>
            <a:ext cx="9144000" cy="410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Bess\Desktop\jinqian_qianbi_chuangyi-001.jpg"/>
          <p:cNvPicPr/>
          <p:nvPr/>
        </p:nvPicPr>
        <p:blipFill>
          <a:blip r:embed="rId3"/>
          <a:stretch/>
        </p:blipFill>
        <p:spPr>
          <a:xfrm>
            <a:off x="3565440" y="0"/>
            <a:ext cx="5578560" cy="4103640"/>
          </a:xfrm>
          <a:prstGeom prst="rect">
            <a:avLst/>
          </a:prstGeom>
          <a:ln w="0">
            <a:noFill/>
          </a:ln>
        </p:spPr>
      </p:pic>
      <p:sp>
        <p:nvSpPr>
          <p:cNvPr id="129" name="矩形 3"/>
          <p:cNvSpPr/>
          <p:nvPr/>
        </p:nvSpPr>
        <p:spPr>
          <a:xfrm>
            <a:off x="1187280" y="118728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抽獎</a:t>
            </a:r>
            <a:r>
              <a:rPr b="1" lang="zh-CN" sz="7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环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不来的木有机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20B7-044C-4847-941A-90BA4780643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3:3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32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