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859-CB6B-41F2-BD67-7FF7C9DC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51E-E96E-40EB-A674-3511572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CBD-0DA3-4654-B10C-F2A2B67C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731-4A77-45BE-A795-F2267613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24D0-8721-49CF-856A-92CBA48E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DAFF-29DE-4608-BA3A-33FC2F5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B000-BD25-4E69-B4C6-47DB68C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AEB-51AC-4B36-B01E-F18F393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140-960D-4620-B1C2-2FCCDC9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FC7-80AD-4EBF-8C7E-9058F1D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3D1F-5394-4756-8B1B-14542F6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385-36CE-4247-A54F-112E04F5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DBE9-8B80-47C5-9A6B-58F770B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CFC8-61FD-4A71-A355-5455747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923-6E2A-45F9-9CDC-991ED8C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586-D59E-424D-B97A-D92295F8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6F3-6A12-49EF-AA11-763C5F99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5B55-58A8-41DE-B822-8EEEAF7D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FF67-40B9-426C-8311-8F222501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9445-427D-4A60-AD2C-5E492B6A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DA89-6EB4-460D-8549-8CC67F7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D096-1F01-4FC2-B838-5045800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72C-E581-474F-B478-9C8223E0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BBC9-2AA8-4069-9400-8838CF60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2783-8BDF-4687-A810-D18D919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6ACB-F258-4842-A895-930378D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7FD8-7302-4FF2-BA5C-9F8A915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25E9-6228-41A7-80FD-DB79557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DD6F-6477-4089-815F-F9309904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61A9-7853-4F7A-A2EA-76BF7C51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1C4-2E04-4BAD-BE76-08C6D67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E19-312C-4033-A49D-78C841D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D07-BDD8-4718-BD17-64A6E521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A8E-E0F5-4931-B81C-9B18A23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921-49D9-4D42-9CE9-EE78F0C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49D-3438-4549-A363-77F664A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30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任意多边形 1031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任意多边形 1032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任意多边形 1033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任意多边形 1034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任意多边形 1035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任意多边形 1036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任意多边形 1037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任意多边形 1038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任意多边形 1039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任意多边形 1040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任意多边形 1041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任意多边形 1042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任意多边形 1043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任意多边形 1044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任意多边形 1045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任意多边形 1046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任意多边形 1048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任意多边形 1049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任意多边形 1050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任意多边形 1051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任意多边形 1052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矩形 1055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任意多边形 1058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CF2-7FE6-40EA-8FF7-2164A867AE3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矩形 1053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" name="矩形 1054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" name="矩形 1059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D78-3B44-4FF8-8576-77713D8B54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7EC-1F41-48E9-B18F-173BA08A4E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3144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0" name="矩形 3115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1" name="矩形 3105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2" name="矩形 3130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3" name="矩形 3125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4" name="矩形 3127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115" name="组合 3146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16" name="任意多边形 3095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7" name="任意多边形 3096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8" name="任意多边形 3097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119" name="组合 3078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120" name="任意多边形 3079"/>
            <p:cNvSpPr/>
            <p:nvPr/>
          </p:nvSpPr>
          <p:spPr>
            <a:xfrm rot="10800000">
              <a:off x="807840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1" name="任意多边形 3080"/>
            <p:cNvSpPr/>
            <p:nvPr/>
          </p:nvSpPr>
          <p:spPr>
            <a:xfrm rot="10800000">
              <a:off x="734580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2" name="任意多边形 3081"/>
            <p:cNvSpPr/>
            <p:nvPr/>
          </p:nvSpPr>
          <p:spPr>
            <a:xfrm rot="10800000">
              <a:off x="8116560" y="177804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3" name="任意多边形 3082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4" name="任意多边形 3083"/>
            <p:cNvSpPr/>
            <p:nvPr/>
          </p:nvSpPr>
          <p:spPr>
            <a:xfrm rot="10800000">
              <a:off x="6577560" y="1778040"/>
              <a:ext cx="16884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5" name="任意多边形 3084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6" name="任意多边形 3085"/>
            <p:cNvSpPr/>
            <p:nvPr/>
          </p:nvSpPr>
          <p:spPr>
            <a:xfrm rot="10800000">
              <a:off x="779508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7" name="任意多边形 3086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8" name="任意多边形 3087"/>
            <p:cNvSpPr/>
            <p:nvPr/>
          </p:nvSpPr>
          <p:spPr>
            <a:xfrm rot="10800000">
              <a:off x="8529480" y="1778040"/>
              <a:ext cx="243000" cy="53496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9" name="任意多边形 3088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0" name="任意多边形 3089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1" name="任意多边形 3090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2" name="任意多边形 3091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3" name="任意多边形 3092"/>
            <p:cNvSpPr/>
            <p:nvPr/>
          </p:nvSpPr>
          <p:spPr>
            <a:xfrm rot="10800000">
              <a:off x="7094880" y="17780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4" name="任意多边形 3093"/>
            <p:cNvSpPr/>
            <p:nvPr/>
          </p:nvSpPr>
          <p:spPr>
            <a:xfrm rot="10800000">
              <a:off x="7456680" y="1778040"/>
              <a:ext cx="18432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5" name="任意多边形 3094"/>
            <p:cNvSpPr/>
            <p:nvPr/>
          </p:nvSpPr>
          <p:spPr>
            <a:xfrm rot="10800000">
              <a:off x="6415920" y="1778040"/>
              <a:ext cx="18396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36" name="任意多边形 3098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矩形 3099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138" name="组合 3145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139" name="任意多边形 3101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0" name="任意多边形 3102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1" name="任意多边形 3103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42" name="矩形 3104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矩形 3109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矩形 3111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矩形 3113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矩形 3108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文本框 3116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L/O/G/O</a:t>
            </a:r>
            <a:endParaRPr b="0" lang="en-US" sz="2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矩形 3121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9" name="图片 3114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50" name="矩形 3141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B51-5882-458F-AF4C-9BCA3ADB674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7.jpeg"/><Relationship Id="rId4" Type="http://schemas.openxmlformats.org/officeDocument/2006/relationships/image" Target="../media/image14.png"/><Relationship Id="rId5" Type="http://schemas.openxmlformats.org/officeDocument/2006/relationships/image" Target="../media/image8.jpeg"/><Relationship Id="rId6" Type="http://schemas.openxmlformats.org/officeDocument/2006/relationships/image" Target="../media/image14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01c56"/>
                </a:solidFill>
                <a:latin typeface="Arial"/>
              </a:rPr>
              <a:t>ThemeGallery</a:t>
            </a:r>
            <a:br>
              <a:rPr sz="26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文本框 6155"/>
          <p:cNvSpPr/>
          <p:nvPr/>
        </p:nvSpPr>
        <p:spPr>
          <a:xfrm>
            <a:off x="152280" y="62485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bd3e5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9bd3e5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1905120" y="2057400"/>
            <a:ext cx="61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bd3e5"/>
                </a:solidFill>
                <a:latin typeface="Arial"/>
                <a:ea typeface="Arial"/>
              </a:rPr>
              <a:t>企业软件幻灯片免费下载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椭圆 19458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97" name="椭圆 19459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98" name="文本框 19460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7da9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99" name="文本框 19461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0" name="文本框 19462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1" name="文本框 19463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02" name="组合 19464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03" name="椭圆 19465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1c3c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504" name="图片 19466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矩形 19467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06" name="组合 19468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07" name="椭圆 19469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8a5bdf"/>
                </a:gs>
                <a:gs pos="100000">
                  <a:srgbClr val="2c1d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508" name="图片 19470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矩形 19471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10" name="组合 19472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11" name="椭圆 19473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234118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512" name="图片 19474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矩形 19475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组合 20482"/>
          <p:cNvGrpSpPr/>
          <p:nvPr/>
        </p:nvGrpSpPr>
        <p:grpSpPr>
          <a:xfrm>
            <a:off x="1863720" y="4381560"/>
            <a:ext cx="5492880" cy="398520"/>
            <a:chOff x="1863720" y="4381560"/>
            <a:chExt cx="5492880" cy="398520"/>
          </a:xfrm>
        </p:grpSpPr>
        <p:sp>
          <p:nvSpPr>
            <p:cNvPr id="516" name="圆角矩形 20483"/>
            <p:cNvSpPr/>
            <p:nvPr/>
          </p:nvSpPr>
          <p:spPr>
            <a:xfrm>
              <a:off x="1863720" y="43815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dd693b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17" name="新月形 20484"/>
            <p:cNvSpPr/>
            <p:nvPr/>
          </p:nvSpPr>
          <p:spPr>
            <a:xfrm flipH="1">
              <a:off x="7182720" y="4389480"/>
              <a:ext cx="15984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18" name="新月形 20485"/>
            <p:cNvSpPr/>
            <p:nvPr/>
          </p:nvSpPr>
          <p:spPr>
            <a:xfrm>
              <a:off x="1877400" y="4416840"/>
              <a:ext cx="10620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19" name="圆角矩形 20486"/>
            <p:cNvSpPr/>
            <p:nvPr/>
          </p:nvSpPr>
          <p:spPr>
            <a:xfrm>
              <a:off x="1879200" y="43880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20" name="组合 20487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21" name="圆角矩形 20488"/>
            <p:cNvSpPr/>
            <p:nvPr/>
          </p:nvSpPr>
          <p:spPr>
            <a:xfrm>
              <a:off x="1414440" y="383364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58bec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2" name="新月形 20489"/>
            <p:cNvSpPr/>
            <p:nvPr/>
          </p:nvSpPr>
          <p:spPr>
            <a:xfrm flipH="1">
              <a:off x="7603560" y="3841560"/>
              <a:ext cx="18576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3" name="新月形 20490"/>
            <p:cNvSpPr/>
            <p:nvPr/>
          </p:nvSpPr>
          <p:spPr>
            <a:xfrm>
              <a:off x="1430280" y="3868920"/>
              <a:ext cx="12348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4" name="圆角矩形 20491"/>
            <p:cNvSpPr/>
            <p:nvPr/>
          </p:nvSpPr>
          <p:spPr>
            <a:xfrm>
              <a:off x="1432800" y="384012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25" name="组合 20492"/>
          <p:cNvGrpSpPr/>
          <p:nvPr/>
        </p:nvGrpSpPr>
        <p:grpSpPr>
          <a:xfrm>
            <a:off x="990720" y="3240000"/>
            <a:ext cx="7238880" cy="398520"/>
            <a:chOff x="990720" y="3240000"/>
            <a:chExt cx="7238880" cy="398520"/>
          </a:xfrm>
        </p:grpSpPr>
        <p:sp>
          <p:nvSpPr>
            <p:cNvPr id="526" name="圆角矩形 20493"/>
            <p:cNvSpPr/>
            <p:nvPr/>
          </p:nvSpPr>
          <p:spPr>
            <a:xfrm>
              <a:off x="990720" y="3240000"/>
              <a:ext cx="7238880" cy="398520"/>
            </a:xfrm>
            <a:prstGeom prst="roundRect">
              <a:avLst>
                <a:gd name="adj" fmla="val 50000"/>
              </a:avLst>
            </a:prstGeom>
            <a:solidFill>
              <a:srgbClr val="6ecc4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7" name="新月形 20494"/>
            <p:cNvSpPr/>
            <p:nvPr/>
          </p:nvSpPr>
          <p:spPr>
            <a:xfrm flipH="1">
              <a:off x="7999920" y="3247920"/>
              <a:ext cx="21060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8" name="新月形 20495"/>
            <p:cNvSpPr/>
            <p:nvPr/>
          </p:nvSpPr>
          <p:spPr>
            <a:xfrm>
              <a:off x="1008720" y="3275280"/>
              <a:ext cx="14004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29" name="圆角矩形 20496"/>
            <p:cNvSpPr/>
            <p:nvPr/>
          </p:nvSpPr>
          <p:spPr>
            <a:xfrm>
              <a:off x="1011240" y="3246480"/>
              <a:ext cx="71859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30" name="组合 20497"/>
          <p:cNvGrpSpPr/>
          <p:nvPr/>
        </p:nvGrpSpPr>
        <p:grpSpPr>
          <a:xfrm>
            <a:off x="685800" y="2581200"/>
            <a:ext cx="7848360" cy="438120"/>
            <a:chOff x="685800" y="2581200"/>
            <a:chExt cx="7848360" cy="438120"/>
          </a:xfrm>
        </p:grpSpPr>
        <p:sp>
          <p:nvSpPr>
            <p:cNvPr id="531" name="圆角矩形 20498"/>
            <p:cNvSpPr/>
            <p:nvPr/>
          </p:nvSpPr>
          <p:spPr>
            <a:xfrm>
              <a:off x="685800" y="25812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8a5bdf"/>
            </a:solidFill>
            <a:ln w="12600">
              <a:solidFill>
                <a:srgbClr val="8a5bdf"/>
              </a:solidFill>
              <a:round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32" name="新月形 20499"/>
            <p:cNvSpPr/>
            <p:nvPr/>
          </p:nvSpPr>
          <p:spPr>
            <a:xfrm flipH="1">
              <a:off x="8286120" y="2589840"/>
              <a:ext cx="22824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33" name="新月形 20500"/>
            <p:cNvSpPr/>
            <p:nvPr/>
          </p:nvSpPr>
          <p:spPr>
            <a:xfrm>
              <a:off x="705240" y="2619720"/>
              <a:ext cx="15156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34" name="圆角矩形 20501"/>
            <p:cNvSpPr/>
            <p:nvPr/>
          </p:nvSpPr>
          <p:spPr>
            <a:xfrm>
              <a:off x="708120" y="25884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35" name="圆柱形 20502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6" name="圆柱形 20503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7" name="圆柱形 20504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8" name="圆柱形 20505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9" name="文本框 20506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0" name="文本框 20507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1" name="文本框 20508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2" name="文本框 20509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3" name="文本框 20510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4" name="文本框 20511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5" name="文本框 20512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6" name="文本框 20513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51" name="组合 20518"/>
          <p:cNvGrpSpPr/>
          <p:nvPr/>
        </p:nvGrpSpPr>
        <p:grpSpPr>
          <a:xfrm>
            <a:off x="4016520" y="1446120"/>
            <a:ext cx="1162080" cy="1231560"/>
            <a:chOff x="4016520" y="1446120"/>
            <a:chExt cx="1162080" cy="1231560"/>
          </a:xfrm>
        </p:grpSpPr>
        <p:grpSp>
          <p:nvGrpSpPr>
            <p:cNvPr id="552" name="组合 20519"/>
            <p:cNvGrpSpPr/>
            <p:nvPr/>
          </p:nvGrpSpPr>
          <p:grpSpPr>
            <a:xfrm>
              <a:off x="4016520" y="1446120"/>
              <a:ext cx="1162080" cy="1231560"/>
              <a:chOff x="4016520" y="1446120"/>
              <a:chExt cx="1162080" cy="1231560"/>
            </a:xfrm>
          </p:grpSpPr>
          <p:pic>
            <p:nvPicPr>
              <p:cNvPr id="553" name="图片 20520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126680" y="2411640"/>
                <a:ext cx="95688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图片 20521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016520" y="1446120"/>
                <a:ext cx="1162080" cy="11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椭圆 20522"/>
              <p:cNvSpPr/>
              <p:nvPr/>
            </p:nvSpPr>
            <p:spPr>
              <a:xfrm>
                <a:off x="4016520" y="1446120"/>
                <a:ext cx="1154160" cy="1139040"/>
              </a:xfrm>
              <a:prstGeom prst="ellipse">
                <a:avLst/>
              </a:prstGeom>
              <a:gradFill rotWithShape="0">
                <a:gsLst>
                  <a:gs pos="0">
                    <a:srgbClr val="6a670c">
                      <a:alpha val="90196"/>
                    </a:srgbClr>
                  </a:gs>
                  <a:gs pos="50000">
                    <a:srgbClr val="e4df1b">
                      <a:alpha val="55294"/>
                    </a:srgbClr>
                  </a:gs>
                  <a:gs pos="100000">
                    <a:srgbClr val="6a67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pic>
          <p:nvPicPr>
            <p:cNvPr id="556" name="图片 20523" descr="Picture2"/>
            <p:cNvPicPr/>
            <p:nvPr/>
          </p:nvPicPr>
          <p:blipFill>
            <a:blip r:embed="rId3"/>
            <a:stretch/>
          </p:blipFill>
          <p:spPr>
            <a:xfrm>
              <a:off x="4132080" y="145728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矩形 20524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8" name="矩形 20525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矩形 21515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1" name="圆角矩形 21505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a5bdf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2" name="圆角矩形 21506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d693b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3" name="圆角矩形 21507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8becc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4" name="文本框 21509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5" name="文本框 21510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6" name="文本框 21511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7" name="右箭头 21512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8" name="右箭头 21513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9" name="右箭头 21514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70" name="组合 21516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71" name="椭圆 21517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72" name="圆柱形 21518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29585e"/>
                </a:gs>
                <a:gs pos="50000">
                  <a:srgbClr val="58becc">
                    <a:alpha val="50196"/>
                  </a:srgbClr>
                </a:gs>
                <a:gs pos="100000">
                  <a:srgbClr val="2958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73" name="组合 21519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74" name="椭圆 21520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75" name="圆柱形 21521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66311b"/>
                </a:gs>
                <a:gs pos="50000">
                  <a:srgbClr val="dd693b">
                    <a:alpha val="50196"/>
                  </a:srgbClr>
                </a:gs>
                <a:gs pos="100000">
                  <a:srgbClr val="6631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76" name="组合 21522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577" name="椭圆 21523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78" name="圆柱形 21524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402a67"/>
                </a:gs>
                <a:gs pos="50000">
                  <a:srgbClr val="8a5bdf">
                    <a:alpha val="50196"/>
                  </a:srgbClr>
                </a:gs>
                <a:gs pos="100000">
                  <a:srgbClr val="402a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79" name="文本框 21525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0" name="文本框 21526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1" name="文本框 21527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23553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693b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3" name="矩形 23554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ecc4c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4" name="矩形 23555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8a5b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5" name="矩形 23556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58bec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86" name="组合 23557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587" name="圆角矩形 23558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3d85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88" name="任意多边形 23559"/>
            <p:cNvSpPr/>
            <p:nvPr/>
          </p:nvSpPr>
          <p:spPr>
            <a:xfrm>
              <a:off x="3925800" y="1860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fe6"/>
                </a:gs>
                <a:gs pos="50000">
                  <a:srgbClr val="58becc">
                    <a:alpha val="0"/>
                  </a:srgbClr>
                </a:gs>
                <a:gs pos="100000">
                  <a:srgbClr val="aed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89" name="组合 23560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590" name="圆角矩形 23561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60409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91" name="任意多边形 23562"/>
            <p:cNvSpPr/>
            <p:nvPr/>
          </p:nvSpPr>
          <p:spPr>
            <a:xfrm>
              <a:off x="5297400" y="318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fef"/>
                </a:gs>
                <a:gs pos="50000">
                  <a:srgbClr val="8a5bdf">
                    <a:alpha val="0"/>
                  </a:srgbClr>
                </a:gs>
                <a:gs pos="100000">
                  <a:srgbClr val="c6af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92" name="组合 23563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593" name="圆角矩形 23564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4d8e35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94" name="任意多边形 23565"/>
            <p:cNvSpPr/>
            <p:nvPr/>
          </p:nvSpPr>
          <p:spPr>
            <a:xfrm>
              <a:off x="3925800" y="45277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e6a8"/>
                </a:gs>
                <a:gs pos="50000">
                  <a:srgbClr val="6ecc4c">
                    <a:alpha val="0"/>
                  </a:srgbClr>
                </a:gs>
                <a:gs pos="100000">
                  <a:srgbClr val="b8e6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95" name="组合 23566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596" name="圆角矩形 23567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9a4929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97" name="任意多边形 23568"/>
            <p:cNvSpPr/>
            <p:nvPr/>
          </p:nvSpPr>
          <p:spPr>
            <a:xfrm>
              <a:off x="2563920" y="31924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b6a0"/>
                </a:gs>
                <a:gs pos="50000">
                  <a:srgbClr val="dd693b">
                    <a:alpha val="0"/>
                  </a:srgbClr>
                </a:gs>
                <a:gs pos="100000">
                  <a:srgbClr val="eeb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98" name="矩形 23569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9" name="矩形 23570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0" name="矩形 23571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1" name="矩形 23572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2" name="矩形 23573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3" name="矩形 23574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4" name="矩形 23575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5" name="矩形 23576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6" name="矩形 23577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Company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任意多边形 24578"/>
          <p:cNvSpPr/>
          <p:nvPr/>
        </p:nvSpPr>
        <p:spPr>
          <a:xfrm>
            <a:off x="604800" y="258120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10" name="组合 24579"/>
          <p:cNvGrpSpPr/>
          <p:nvPr/>
        </p:nvGrpSpPr>
        <p:grpSpPr>
          <a:xfrm>
            <a:off x="1170000" y="3784680"/>
            <a:ext cx="1133640" cy="1044360"/>
            <a:chOff x="1170000" y="3784680"/>
            <a:chExt cx="1133640" cy="1044360"/>
          </a:xfrm>
        </p:grpSpPr>
        <p:sp>
          <p:nvSpPr>
            <p:cNvPr id="611" name="任意多边形 24580"/>
            <p:cNvSpPr/>
            <p:nvPr/>
          </p:nvSpPr>
          <p:spPr>
            <a:xfrm>
              <a:off x="1281960" y="4588920"/>
              <a:ext cx="44172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12" name="任意多边形 24581"/>
            <p:cNvSpPr/>
            <p:nvPr/>
          </p:nvSpPr>
          <p:spPr>
            <a:xfrm>
              <a:off x="1585440" y="4506120"/>
              <a:ext cx="483480" cy="2224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13" name="任意多边形 24582"/>
            <p:cNvSpPr/>
            <p:nvPr/>
          </p:nvSpPr>
          <p:spPr>
            <a:xfrm>
              <a:off x="1899000" y="4641120"/>
              <a:ext cx="4046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14" name="任意多边形 24583"/>
            <p:cNvSpPr/>
            <p:nvPr/>
          </p:nvSpPr>
          <p:spPr>
            <a:xfrm>
              <a:off x="1170000" y="406656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15" name="任意多边形 24584"/>
            <p:cNvSpPr/>
            <p:nvPr/>
          </p:nvSpPr>
          <p:spPr>
            <a:xfrm>
              <a:off x="1454760" y="378468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16" name="任意多边形 24585"/>
            <p:cNvSpPr/>
            <p:nvPr/>
          </p:nvSpPr>
          <p:spPr>
            <a:xfrm>
              <a:off x="1794960" y="408240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pic>
        <p:nvPicPr>
          <p:cNvPr id="617" name="图片 24586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24587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24588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20" name="组合 24589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21" name="圆角矩形 24590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22" name="新月形 24591"/>
            <p:cNvSpPr/>
            <p:nvPr/>
          </p:nvSpPr>
          <p:spPr>
            <a:xfrm flipH="1">
              <a:off x="2251440" y="517644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23" name="新月形 24592"/>
            <p:cNvSpPr/>
            <p:nvPr/>
          </p:nvSpPr>
          <p:spPr>
            <a:xfrm>
              <a:off x="544320" y="517716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624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6" name="矩形 24595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7" name="矩形 24596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8" name="矩形 24597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9" name="矩形 24598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30" name="组合 24599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31" name="圆角矩形 24600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32" name="新月形 24601"/>
            <p:cNvSpPr/>
            <p:nvPr/>
          </p:nvSpPr>
          <p:spPr>
            <a:xfrm flipH="1">
              <a:off x="4381920" y="437760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33" name="新月形 24602"/>
            <p:cNvSpPr/>
            <p:nvPr/>
          </p:nvSpPr>
          <p:spPr>
            <a:xfrm>
              <a:off x="2674800" y="4378680"/>
              <a:ext cx="8064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634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35" name="组合 24604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36" name="圆角矩形 24605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37" name="新月形 24606"/>
            <p:cNvSpPr/>
            <p:nvPr/>
          </p:nvSpPr>
          <p:spPr>
            <a:xfrm flipH="1">
              <a:off x="6412320" y="35650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38" name="新月形 24607"/>
            <p:cNvSpPr/>
            <p:nvPr/>
          </p:nvSpPr>
          <p:spPr>
            <a:xfrm>
              <a:off x="4705200" y="356580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639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40" name="组合 24609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641" name="圆角矩形 24610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42" name="新月形 24611"/>
            <p:cNvSpPr/>
            <p:nvPr/>
          </p:nvSpPr>
          <p:spPr>
            <a:xfrm flipH="1">
              <a:off x="8530200" y="27745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43" name="新月形 24612"/>
            <p:cNvSpPr/>
            <p:nvPr/>
          </p:nvSpPr>
          <p:spPr>
            <a:xfrm>
              <a:off x="6822720" y="277524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644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25601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646" name="任意多边形 25602"/>
            <p:cNvSpPr/>
            <p:nvPr/>
          </p:nvSpPr>
          <p:spPr>
            <a:xfrm flipV="1">
              <a:off x="1611360" y="875160"/>
              <a:ext cx="6165720" cy="449748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47" name="任意多边形 25603"/>
            <p:cNvSpPr/>
            <p:nvPr/>
          </p:nvSpPr>
          <p:spPr>
            <a:xfrm flipV="1">
              <a:off x="2049840" y="1222560"/>
              <a:ext cx="5236920" cy="381996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48" name="任意多边形 25604"/>
            <p:cNvSpPr/>
            <p:nvPr/>
          </p:nvSpPr>
          <p:spPr>
            <a:xfrm flipV="1">
              <a:off x="2440080" y="1442520"/>
              <a:ext cx="4498200" cy="328068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49" name="任意多边形 25605"/>
            <p:cNvSpPr/>
            <p:nvPr/>
          </p:nvSpPr>
          <p:spPr>
            <a:xfrm flipV="1">
              <a:off x="2932920" y="1910880"/>
              <a:ext cx="3441960" cy="251028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650" name="组合 25606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651" name="椭圆 25607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52" name="图片 25608" descr="cir_lighteffect0"/>
            <p:cNvPicPr/>
            <p:nvPr/>
          </p:nvPicPr>
          <p:blipFill>
            <a:blip r:embed="rId2"/>
            <a:stretch/>
          </p:blipFill>
          <p:spPr>
            <a:xfrm>
              <a:off x="6062400" y="2529000"/>
              <a:ext cx="170640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组合 25609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654" name="椭圆 25610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55" name="图片 25611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组合 25612"/>
          <p:cNvGrpSpPr/>
          <p:nvPr/>
        </p:nvGrpSpPr>
        <p:grpSpPr>
          <a:xfrm>
            <a:off x="3925800" y="3936960"/>
            <a:ext cx="1788840" cy="1831680"/>
            <a:chOff x="3925800" y="3936960"/>
            <a:chExt cx="1788840" cy="1831680"/>
          </a:xfrm>
        </p:grpSpPr>
        <p:sp>
          <p:nvSpPr>
            <p:cNvPr id="657" name="椭圆 25613"/>
            <p:cNvSpPr/>
            <p:nvPr/>
          </p:nvSpPr>
          <p:spPr>
            <a:xfrm>
              <a:off x="3925800" y="3997080"/>
              <a:ext cx="1788840" cy="1771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58" name="图片 25614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圆角矩形 25615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549b3a"/>
              </a:gs>
              <a:gs pos="50000">
                <a:srgbClr val="6ecc4c"/>
              </a:gs>
              <a:gs pos="100000">
                <a:srgbClr val="549b3a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0" name="文本框 25616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 01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1" name="圆角矩形 25617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945aa"/>
              </a:gs>
              <a:gs pos="50000">
                <a:srgbClr val="8a5bdf"/>
              </a:gs>
              <a:gs pos="100000">
                <a:srgbClr val="6945aa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2" name="文本框 25618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 02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3" name="圆角矩形 25619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43919b"/>
              </a:gs>
              <a:gs pos="50000">
                <a:srgbClr val="58becc"/>
              </a:gs>
              <a:gs pos="100000">
                <a:srgbClr val="43919b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4" name="文本框 25620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 03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665" name="图片 25621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666" name="椭圆 25622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2da2bf"/>
              </a:gs>
              <a:gs pos="100000">
                <a:srgbClr val="103b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667" name="图片 25623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25624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5625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25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0" name="矩形 25626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ecc4c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6ecc4c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9bd3e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圆角矩形 26626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5" name="圆角矩形 26627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6" name="椭圆 26628"/>
          <p:cNvSpPr/>
          <p:nvPr/>
        </p:nvSpPr>
        <p:spPr>
          <a:xfrm rot="5760600">
            <a:off x="623880" y="2338200"/>
            <a:ext cx="3679560" cy="3679920"/>
          </a:xfrm>
          <a:prstGeom prst="ellipse">
            <a:avLst/>
          </a:prstGeom>
          <a:gradFill rotWithShape="0">
            <a:gsLst>
              <a:gs pos="0">
                <a:srgbClr val="dd693b"/>
              </a:gs>
              <a:gs pos="100000">
                <a:srgbClr val="9a4929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7" name="椭圆 26629"/>
          <p:cNvSpPr/>
          <p:nvPr/>
        </p:nvSpPr>
        <p:spPr>
          <a:xfrm rot="5758800">
            <a:off x="966960" y="30423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8becc"/>
              </a:gs>
              <a:gs pos="100000">
                <a:srgbClr val="408b95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8" name="椭圆 26630"/>
          <p:cNvSpPr/>
          <p:nvPr/>
        </p:nvSpPr>
        <p:spPr>
          <a:xfrm rot="5751600">
            <a:off x="1318680" y="3750840"/>
            <a:ext cx="2263680" cy="2264040"/>
          </a:xfrm>
          <a:prstGeom prst="ellipse">
            <a:avLst/>
          </a:prstGeom>
          <a:gradFill rotWithShape="0">
            <a:gsLst>
              <a:gs pos="0">
                <a:srgbClr val="8a5bdf"/>
              </a:gs>
              <a:gs pos="100000">
                <a:srgbClr val="6945aa"/>
              </a:gs>
            </a:gsLst>
            <a:lin ang="15852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9" name="椭圆 26631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6ecc4c"/>
              </a:gs>
              <a:gs pos="100000">
                <a:srgbClr val="57a23c"/>
              </a:gs>
            </a:gsLst>
            <a:lin ang="15858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80" name="组合 26632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681" name="圆角矩形 26633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82" name="新月形 26634"/>
            <p:cNvSpPr/>
            <p:nvPr/>
          </p:nvSpPr>
          <p:spPr>
            <a:xfrm flipH="1">
              <a:off x="4049640" y="1645920"/>
              <a:ext cx="153360" cy="36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83" name="新月形 26635"/>
            <p:cNvSpPr/>
            <p:nvPr/>
          </p:nvSpPr>
          <p:spPr>
            <a:xfrm>
              <a:off x="804600" y="1647360"/>
              <a:ext cx="153360" cy="3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684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5" name="五边形 26637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693b"/>
              </a:gs>
              <a:gs pos="100000">
                <a:srgbClr val="8b422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7" name="五边形 26639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8becc"/>
              </a:gs>
              <a:gs pos="100000">
                <a:srgbClr val="37778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9" name="圆角矩形 26641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0" name="圆角矩形 26642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1" name="五边形 26643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a5bdf"/>
              </a:gs>
              <a:gs pos="100000">
                <a:srgbClr val="57398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3" name="五边形 26645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ecc4c"/>
              </a:gs>
              <a:gs pos="100000">
                <a:srgbClr val="45803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5" name="文本框 26647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6" name="文本框 26648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8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9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1" name="文本框 26653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2" name="文本框 26654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矩形 27650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5" name="矩形 27651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29585e"/>
              </a:gs>
              <a:gs pos="50000">
                <a:srgbClr val="58becc"/>
              </a:gs>
              <a:gs pos="100000">
                <a:srgbClr val="29585e"/>
              </a:gs>
            </a:gsLst>
            <a:lin ang="5400000"/>
          </a:gra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6" name="文本框 27652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7" name="文本框 27653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08" name="组合 27654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09" name="椭圆 27655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b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0" name="椭圆 27656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8a5b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1" name="椭圆 27657"/>
            <p:cNvSpPr/>
            <p:nvPr/>
          </p:nvSpPr>
          <p:spPr>
            <a:xfrm>
              <a:off x="3399480" y="2525040"/>
              <a:ext cx="1308600" cy="1305360"/>
            </a:xfrm>
            <a:prstGeom prst="ellipse">
              <a:avLst/>
            </a:prstGeom>
            <a:gradFill rotWithShape="0">
              <a:gsLst>
                <a:gs pos="0">
                  <a:srgbClr val="4b3179"/>
                </a:gs>
                <a:gs pos="50000">
                  <a:srgbClr val="8a5bdf"/>
                </a:gs>
                <a:gs pos="100000">
                  <a:srgbClr val="4b31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2" name="椭圆 27658"/>
            <p:cNvSpPr/>
            <p:nvPr/>
          </p:nvSpPr>
          <p:spPr>
            <a:xfrm>
              <a:off x="3403800" y="2526480"/>
              <a:ext cx="1308600" cy="1305360"/>
            </a:xfrm>
            <a:prstGeom prst="ellipse">
              <a:avLst/>
            </a:prstGeom>
            <a:gradFill rotWithShape="0">
              <a:gsLst>
                <a:gs pos="0">
                  <a:srgbClr val="583a8e"/>
                </a:gs>
                <a:gs pos="100000">
                  <a:srgbClr val="8a5b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3" name="椭圆 27659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14" name="组合 27660"/>
            <p:cNvGrpSpPr/>
            <p:nvPr/>
          </p:nvGrpSpPr>
          <p:grpSpPr>
            <a:xfrm>
              <a:off x="3492720" y="2610720"/>
              <a:ext cx="1142280" cy="1140840"/>
              <a:chOff x="3492720" y="2610720"/>
              <a:chExt cx="1142280" cy="1140840"/>
            </a:xfrm>
          </p:grpSpPr>
          <p:sp>
            <p:nvSpPr>
              <p:cNvPr id="715" name="椭圆 27661"/>
              <p:cNvSpPr/>
              <p:nvPr/>
            </p:nvSpPr>
            <p:spPr>
              <a:xfrm>
                <a:off x="3492720" y="261072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16" name="椭圆 27662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17" name="椭圆 27663"/>
              <p:cNvSpPr/>
              <p:nvPr/>
            </p:nvSpPr>
            <p:spPr>
              <a:xfrm>
                <a:off x="3519000" y="262800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18" name="椭圆 27664"/>
              <p:cNvSpPr/>
              <p:nvPr/>
            </p:nvSpPr>
            <p:spPr>
              <a:xfrm>
                <a:off x="3581280" y="265716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19" name="组合 27665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20" name="椭圆 27666"/>
            <p:cNvSpPr/>
            <p:nvPr/>
          </p:nvSpPr>
          <p:spPr>
            <a:xfrm>
              <a:off x="4884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1" name="椭圆 27667"/>
            <p:cNvSpPr/>
            <p:nvPr/>
          </p:nvSpPr>
          <p:spPr>
            <a:xfrm>
              <a:off x="4893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2" name="椭圆 27668"/>
            <p:cNvSpPr/>
            <p:nvPr/>
          </p:nvSpPr>
          <p:spPr>
            <a:xfrm>
              <a:off x="4979880" y="1666080"/>
              <a:ext cx="1300680" cy="130104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3" name="椭圆 27669"/>
            <p:cNvSpPr/>
            <p:nvPr/>
          </p:nvSpPr>
          <p:spPr>
            <a:xfrm>
              <a:off x="4987440" y="1667520"/>
              <a:ext cx="1300680" cy="1302120"/>
            </a:xfrm>
            <a:prstGeom prst="ellipse">
              <a:avLst/>
            </a:prstGeom>
            <a:gradFill rotWithShape="0">
              <a:gsLst>
                <a:gs pos="0">
                  <a:srgbClr val="468230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4" name="椭圆 27670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25" name="组合 27671"/>
            <p:cNvGrpSpPr/>
            <p:nvPr/>
          </p:nvGrpSpPr>
          <p:grpSpPr>
            <a:xfrm>
              <a:off x="5085360" y="1752120"/>
              <a:ext cx="1136160" cy="1137240"/>
              <a:chOff x="5085360" y="1752120"/>
              <a:chExt cx="1136160" cy="1137240"/>
            </a:xfrm>
          </p:grpSpPr>
          <p:sp>
            <p:nvSpPr>
              <p:cNvPr id="726" name="椭圆 27672"/>
              <p:cNvSpPr/>
              <p:nvPr/>
            </p:nvSpPr>
            <p:spPr>
              <a:xfrm>
                <a:off x="5085360" y="1752120"/>
                <a:ext cx="113616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7" name="椭圆 27673"/>
              <p:cNvSpPr/>
              <p:nvPr/>
            </p:nvSpPr>
            <p:spPr>
              <a:xfrm>
                <a:off x="5099760" y="1758240"/>
                <a:ext cx="110880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8" name="椭圆 27674"/>
              <p:cNvSpPr/>
              <p:nvPr/>
            </p:nvSpPr>
            <p:spPr>
              <a:xfrm>
                <a:off x="5111640" y="1769400"/>
                <a:ext cx="105444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9" name="椭圆 27675"/>
              <p:cNvSpPr/>
              <p:nvPr/>
            </p:nvSpPr>
            <p:spPr>
              <a:xfrm>
                <a:off x="5173200" y="179820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30" name="组合 27676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731" name="椭圆 27677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69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2" name="椭圆 27678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d69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3" name="椭圆 27679"/>
            <p:cNvSpPr/>
            <p:nvPr/>
          </p:nvSpPr>
          <p:spPr>
            <a:xfrm>
              <a:off x="6595920" y="244656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783920"/>
                </a:gs>
                <a:gs pos="50000">
                  <a:srgbClr val="dd693b"/>
                </a:gs>
                <a:gs pos="100000">
                  <a:srgbClr val="7839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4" name="椭圆 27680"/>
            <p:cNvSpPr/>
            <p:nvPr/>
          </p:nvSpPr>
          <p:spPr>
            <a:xfrm>
              <a:off x="6595920" y="242856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8c4325"/>
                </a:gs>
                <a:gs pos="100000">
                  <a:srgbClr val="dd69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5" name="椭圆 27681"/>
            <p:cNvSpPr/>
            <p:nvPr/>
          </p:nvSpPr>
          <p:spPr>
            <a:xfrm>
              <a:off x="6658560" y="2519280"/>
              <a:ext cx="1171080" cy="1193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36" name="组合 27682"/>
            <p:cNvGrpSpPr/>
            <p:nvPr/>
          </p:nvGrpSpPr>
          <p:grpSpPr>
            <a:xfrm>
              <a:off x="6679080" y="2536920"/>
              <a:ext cx="1134360" cy="1155240"/>
              <a:chOff x="6679080" y="2536920"/>
              <a:chExt cx="1134360" cy="1155240"/>
            </a:xfrm>
          </p:grpSpPr>
          <p:sp>
            <p:nvSpPr>
              <p:cNvPr id="737" name="椭圆 27683"/>
              <p:cNvSpPr/>
              <p:nvPr/>
            </p:nvSpPr>
            <p:spPr>
              <a:xfrm>
                <a:off x="6679080" y="2536920"/>
                <a:ext cx="113436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38" name="椭圆 27684"/>
              <p:cNvSpPr/>
              <p:nvPr/>
            </p:nvSpPr>
            <p:spPr>
              <a:xfrm>
                <a:off x="6693120" y="2543400"/>
                <a:ext cx="110736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39" name="椭圆 27685"/>
              <p:cNvSpPr/>
              <p:nvPr/>
            </p:nvSpPr>
            <p:spPr>
              <a:xfrm>
                <a:off x="6705360" y="2554200"/>
                <a:ext cx="105264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40" name="椭圆 27686"/>
              <p:cNvSpPr/>
              <p:nvPr/>
            </p:nvSpPr>
            <p:spPr>
              <a:xfrm>
                <a:off x="6766920" y="2583720"/>
                <a:ext cx="9360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组合 27687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742" name="椭圆 27688"/>
            <p:cNvSpPr/>
            <p:nvPr/>
          </p:nvSpPr>
          <p:spPr>
            <a:xfrm>
              <a:off x="171288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be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3" name="椭圆 27689"/>
            <p:cNvSpPr/>
            <p:nvPr/>
          </p:nvSpPr>
          <p:spPr>
            <a:xfrm>
              <a:off x="17182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58be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4" name="椭圆 27690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30676e"/>
                </a:gs>
                <a:gs pos="50000">
                  <a:srgbClr val="58becc"/>
                </a:gs>
                <a:gs pos="100000">
                  <a:srgbClr val="3067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5" name="椭圆 27691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387982"/>
                </a:gs>
                <a:gs pos="100000">
                  <a:srgbClr val="58be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6" name="椭圆 27692"/>
            <p:cNvSpPr/>
            <p:nvPr/>
          </p:nvSpPr>
          <p:spPr>
            <a:xfrm>
              <a:off x="1884960" y="175392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7" name="椭圆 27693"/>
            <p:cNvSpPr/>
            <p:nvPr/>
          </p:nvSpPr>
          <p:spPr>
            <a:xfrm>
              <a:off x="1904040" y="177300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8" name="椭圆 27694"/>
            <p:cNvSpPr/>
            <p:nvPr/>
          </p:nvSpPr>
          <p:spPr>
            <a:xfrm>
              <a:off x="1919160" y="178056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9" name="椭圆 27695"/>
            <p:cNvSpPr/>
            <p:nvPr/>
          </p:nvSpPr>
          <p:spPr>
            <a:xfrm>
              <a:off x="1931040" y="179100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0" name="椭圆 27696"/>
            <p:cNvSpPr/>
            <p:nvPr/>
          </p:nvSpPr>
          <p:spPr>
            <a:xfrm>
              <a:off x="1993320" y="182052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444760" y="3125880"/>
            <a:ext cx="360" cy="1266840"/>
            <a:chOff x="2444760" y="3125880"/>
            <a:chExt cx="360" cy="1266840"/>
          </a:xfrm>
        </p:grpSpPr>
        <p:sp>
          <p:nvSpPr>
            <p:cNvPr id="752" name="直接连接符 27697"/>
            <p:cNvSpPr/>
            <p:nvPr/>
          </p:nvSpPr>
          <p:spPr>
            <a:xfrm>
              <a:off x="2444760" y="3125880"/>
              <a:ext cx="0" cy="1266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2444760" y="3125880"/>
              <a:ext cx="360" cy="12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049280" y="3989520"/>
            <a:ext cx="2160" cy="431640"/>
            <a:chOff x="4049280" y="3989520"/>
            <a:chExt cx="2160" cy="431640"/>
          </a:xfrm>
        </p:grpSpPr>
        <p:sp>
          <p:nvSpPr>
            <p:cNvPr id="755" name="直接连接符 27698"/>
            <p:cNvSpPr/>
            <p:nvPr/>
          </p:nvSpPr>
          <p:spPr>
            <a:xfrm flipH="1">
              <a:off x="4049280" y="3989520"/>
              <a:ext cx="1800" cy="431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4049640" y="3989520"/>
              <a:ext cx="180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637240" y="3108240"/>
            <a:ext cx="360" cy="1284480"/>
            <a:chOff x="5637240" y="3108240"/>
            <a:chExt cx="360" cy="1284480"/>
          </a:xfrm>
        </p:grpSpPr>
        <p:sp>
          <p:nvSpPr>
            <p:cNvPr id="758" name="直接连接符 27699"/>
            <p:cNvSpPr/>
            <p:nvPr/>
          </p:nvSpPr>
          <p:spPr>
            <a:xfrm>
              <a:off x="5637240" y="3108240"/>
              <a:ext cx="0" cy="1284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5637240" y="3108240"/>
              <a:ext cx="360" cy="128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191000" y="3927600"/>
            <a:ext cx="20880" cy="520560"/>
            <a:chOff x="7191000" y="3927600"/>
            <a:chExt cx="20880" cy="520560"/>
          </a:xfrm>
        </p:grpSpPr>
        <p:sp>
          <p:nvSpPr>
            <p:cNvPr id="761" name="直接连接符 27700"/>
            <p:cNvSpPr/>
            <p:nvPr/>
          </p:nvSpPr>
          <p:spPr>
            <a:xfrm flipH="1">
              <a:off x="7191000" y="3927600"/>
              <a:ext cx="20520" cy="5205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191360" y="3927600"/>
              <a:ext cx="20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63" name="文本框 27701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4" name="文本框 27702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5" name="文本框 27703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6" name="文本框 27704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圆角矩形 31745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768" name="肘形连接符 31746"/>
          <p:cNvCxnSpPr>
            <a:endCxn id="767" idx="1"/>
          </p:cNvCxnSpPr>
          <p:nvPr/>
        </p:nvCxnSpPr>
        <p:spPr>
          <a:xfrm>
            <a:off x="871560" y="4327560"/>
            <a:ext cx="1342080" cy="135000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769" name="肘形连接符 31747"/>
          <p:cNvCxnSpPr>
            <a:endCxn id="767" idx="3"/>
          </p:cNvCxnSpPr>
          <p:nvPr/>
        </p:nvCxnSpPr>
        <p:spPr>
          <a:xfrm flipH="1">
            <a:off x="6822720" y="4327560"/>
            <a:ext cx="1426320" cy="135000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770" name="文本框 31748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1" name="圆柱形 31749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2" name="椭圆 31750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3" name="椭圆 31751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4" name="矩形 31752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5" name="矩形 31753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6" name="圆柱形 31754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77" name="组合 31755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778" name="椭圆 31756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9" name="椭圆 31757"/>
            <p:cNvSpPr/>
            <p:nvPr/>
          </p:nvSpPr>
          <p:spPr>
            <a:xfrm>
              <a:off x="2865240" y="3839760"/>
              <a:ext cx="15897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80" name="矩形 31758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1" name="矩形 31759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2" name="圆柱形 31760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3" name="椭圆 31761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84" name="组合 31762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785" name="椭圆 31763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6" name="矩形 31764"/>
            <p:cNvSpPr/>
            <p:nvPr/>
          </p:nvSpPr>
          <p:spPr>
            <a:xfrm>
              <a:off x="4776120" y="151452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87" name="矩形 31765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8" name="圆柱形 31766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89" name="组合 31767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790" name="椭圆 31768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91" name="椭圆 31769"/>
            <p:cNvSpPr/>
            <p:nvPr/>
          </p:nvSpPr>
          <p:spPr>
            <a:xfrm>
              <a:off x="6633000" y="3839760"/>
              <a:ext cx="154872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92" name="矩形 31770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3" name="矩形 31771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4" name="文本框 31772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5" name="文本框 31773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6" name="文本框 31774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7" name="文本框 31775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矩形 33794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801" name="组合 33795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802" name="矩形 33796"/>
            <p:cNvSpPr/>
            <p:nvPr/>
          </p:nvSpPr>
          <p:spPr>
            <a:xfrm>
              <a:off x="706320" y="2600280"/>
              <a:ext cx="1915920" cy="618840"/>
            </a:xfrm>
            <a:prstGeom prst="rect">
              <a:avLst/>
            </a:prstGeom>
            <a:solidFill>
              <a:srgbClr val="6ecc4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03" name="等腰三角形 33797"/>
            <p:cNvSpPr/>
            <p:nvPr/>
          </p:nvSpPr>
          <p:spPr>
            <a:xfrm rot="5400000">
              <a:off x="2520360" y="28152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6ecc4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804" name="文本框 33798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5" name="矩形 33799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6" name="右箭头 33800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7" name="文本框 33801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8" name="右箭头 33802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9" name="文本框 33803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0" name="菱形 33804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6ec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1" name="菱形 33805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2" name="菱形 33806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3" name="菱形 33807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814" name="直接箭头连接符 33808"/>
          <p:cNvCxnSpPr>
            <a:stCxn id="810" idx="3"/>
            <a:endCxn id="811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815" name="直接箭头连接符 33809"/>
          <p:cNvCxnSpPr>
            <a:stCxn id="811" idx="3"/>
            <a:endCxn id="812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816" name="直接箭头连接符 33810"/>
          <p:cNvCxnSpPr>
            <a:stCxn id="812" idx="3"/>
            <a:endCxn id="813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817" name="文本框 33811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8" name="文本框 33812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9" name="文本框 33813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0" name="文本框 33814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1" name="文本框 33815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2" name="文本框 33816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3" name="文本框 33817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4" name="文本框 33818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5" name="矩形 33819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7170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98" name="圆角矩形 7171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a5bdf"/>
                </a:gs>
                <a:gs pos="50000">
                  <a:srgbClr val="7f54ce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199" name="组合 7172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200" name="圆角矩形 7173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5bd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01" name="圆角矩形 7174"/>
              <p:cNvSpPr/>
              <p:nvPr/>
            </p:nvSpPr>
            <p:spPr>
              <a:xfrm>
                <a:off x="1940040" y="34819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5bd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组合 7175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203" name="圆角矩形 7176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65bc46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04" name="组合 7177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205" name="圆角矩形 7178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cc4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06" name="圆角矩形 7179"/>
              <p:cNvSpPr/>
              <p:nvPr/>
            </p:nvSpPr>
            <p:spPr>
              <a:xfrm>
                <a:off x="1940040" y="4347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ecc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组合 7180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208" name="圆角矩形 7181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d693b"/>
                </a:gs>
                <a:gs pos="50000">
                  <a:srgbClr val="cc6136"/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09" name="组合 7182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210" name="圆角矩形 7183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693b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11" name="圆角矩形 7184"/>
              <p:cNvSpPr/>
              <p:nvPr/>
            </p:nvSpPr>
            <p:spPr>
              <a:xfrm>
                <a:off x="1940040" y="52045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693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组合 7185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213" name="圆角矩形 7186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8becc"/>
                </a:gs>
                <a:gs pos="50000">
                  <a:srgbClr val="51afbc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14" name="组合 7187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215" name="圆角矩形 7188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be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16" name="圆角矩形 7189"/>
              <p:cNvSpPr/>
              <p:nvPr/>
            </p:nvSpPr>
            <p:spPr>
              <a:xfrm>
                <a:off x="1940040" y="26182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8be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文本框 7190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8" name="文本框 7191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文本框 7192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文本框 7193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1" name="图片 719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719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719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7197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7198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文本框 7199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7" name="文本框 7200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8" name="文本框 7201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9" name="圆角矩形 7202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bd3e5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E872-A0DB-43CA-8765-9B648D1B82B2}" type="slidenum">
              <a:rPr b="0" lang="zh-CN" sz="1400" spc="-1" strike="noStrike">
                <a:solidFill>
                  <a:srgbClr val="9bd3e5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圆角矩形 9218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8be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4" name="圆角矩形 9219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bfe6ec"/>
              </a:gs>
              <a:gs pos="100000">
                <a:srgbClr val="58be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235" name="组合 9220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236" name="圆角矩形 9221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48b1"/>
                </a:gs>
                <a:gs pos="50000">
                  <a:srgbClr val="8a5bdf"/>
                </a:gs>
                <a:gs pos="100000">
                  <a:srgbClr val="6d48b1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37" name="新月形 9222"/>
            <p:cNvSpPr/>
            <p:nvPr/>
          </p:nvSpPr>
          <p:spPr>
            <a:xfrm flipH="1">
              <a:off x="361152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38" name="新月形 9223"/>
            <p:cNvSpPr/>
            <p:nvPr/>
          </p:nvSpPr>
          <p:spPr>
            <a:xfrm>
              <a:off x="92700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239" name="组合 9224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40" name="圆角矩形 9225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9b6"/>
                </a:gs>
                <a:gs pos="50000">
                  <a:srgbClr val="58becc"/>
                </a:gs>
                <a:gs pos="100000">
                  <a:srgbClr val="4ea9b6"/>
                </a:gs>
              </a:gsLst>
              <a:lin ang="0"/>
            </a:gradFill>
            <a:ln w="12600">
              <a:solidFill>
                <a:srgbClr val="58becc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41" name="新月形 9226"/>
            <p:cNvSpPr/>
            <p:nvPr/>
          </p:nvSpPr>
          <p:spPr>
            <a:xfrm flipH="1">
              <a:off x="810720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42" name="新月形 9227"/>
            <p:cNvSpPr/>
            <p:nvPr/>
          </p:nvSpPr>
          <p:spPr>
            <a:xfrm>
              <a:off x="542304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43" name="圆角矩形 9228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a5b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6" name="右箭头 9231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4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a5bdf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7" name="矩形 9232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8" name="矩形 9233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9" name="文本框 9234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0" name="文本框 9235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251" name="组合 9236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52" name="椭圆 9237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3" name="椭圆 9238"/>
            <p:cNvSpPr/>
            <p:nvPr/>
          </p:nvSpPr>
          <p:spPr>
            <a:xfrm>
              <a:off x="5563080" y="31827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95d6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254" name="组合 9239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55" name="椭圆 9240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6" name="椭圆 9241"/>
            <p:cNvSpPr/>
            <p:nvPr/>
          </p:nvSpPr>
          <p:spPr>
            <a:xfrm>
              <a:off x="5563080" y="44733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95d6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57" name="文本框 9242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8" name="圆角矩形 9243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9" name="圆角矩形 9244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0" name="圆角矩形 9245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1" name="矩形 9246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2" name="矩形 9247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3" name="矩形 9248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4" name="右箭头 9249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084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8becc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6" name="矩形 9251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7" name="矩形 9252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3313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69" name="矩形 13314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70" name="矩形 13315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271" name="组合 13316"/>
          <p:cNvGrpSpPr/>
          <p:nvPr/>
        </p:nvGrpSpPr>
        <p:grpSpPr>
          <a:xfrm>
            <a:off x="6462720" y="2503440"/>
            <a:ext cx="2379240" cy="3832920"/>
            <a:chOff x="6462720" y="2503440"/>
            <a:chExt cx="2379240" cy="3832920"/>
          </a:xfrm>
        </p:grpSpPr>
        <p:grpSp>
          <p:nvGrpSpPr>
            <p:cNvPr id="272" name="组合 13317"/>
            <p:cNvGrpSpPr/>
            <p:nvPr/>
          </p:nvGrpSpPr>
          <p:grpSpPr>
            <a:xfrm>
              <a:off x="7136280" y="3654360"/>
              <a:ext cx="1705680" cy="2682000"/>
              <a:chOff x="7136280" y="3654360"/>
              <a:chExt cx="1705680" cy="2682000"/>
            </a:xfrm>
          </p:grpSpPr>
          <p:grpSp>
            <p:nvGrpSpPr>
              <p:cNvPr id="273" name="组合 13318"/>
              <p:cNvGrpSpPr/>
              <p:nvPr/>
            </p:nvGrpSpPr>
            <p:grpSpPr>
              <a:xfrm>
                <a:off x="7136280" y="3833280"/>
                <a:ext cx="1578600" cy="2503080"/>
                <a:chOff x="7136280" y="3833280"/>
                <a:chExt cx="1578600" cy="2503080"/>
              </a:xfrm>
            </p:grpSpPr>
            <p:sp>
              <p:nvSpPr>
                <p:cNvPr id="274" name="任意多边形 13319"/>
                <p:cNvSpPr/>
                <p:nvPr/>
              </p:nvSpPr>
              <p:spPr>
                <a:xfrm rot="3876600">
                  <a:off x="6672600" y="48052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02a67"/>
                    </a:gs>
                    <a:gs pos="100000">
                      <a:srgbClr val="8a5b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75" name="任意多边形 13320"/>
                <p:cNvSpPr/>
                <p:nvPr/>
              </p:nvSpPr>
              <p:spPr>
                <a:xfrm rot="3876600">
                  <a:off x="8178480" y="57747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组合 13321"/>
              <p:cNvGrpSpPr/>
              <p:nvPr/>
            </p:nvGrpSpPr>
            <p:grpSpPr>
              <a:xfrm>
                <a:off x="7630560" y="3654360"/>
                <a:ext cx="1211400" cy="1920600"/>
                <a:chOff x="7630560" y="3654360"/>
                <a:chExt cx="1211400" cy="1920600"/>
              </a:xfrm>
            </p:grpSpPr>
            <p:sp>
              <p:nvSpPr>
                <p:cNvPr id="277" name="任意多边形 13322"/>
                <p:cNvSpPr/>
                <p:nvPr/>
              </p:nvSpPr>
              <p:spPr>
                <a:xfrm flipV="1" rot="3876600">
                  <a:off x="7274880" y="43999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8a5b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78" name="任意多边形 13323"/>
                <p:cNvSpPr/>
                <p:nvPr/>
              </p:nvSpPr>
              <p:spPr>
                <a:xfrm flipV="1" rot="3876600">
                  <a:off x="8413200" y="51519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椭圆 13324"/>
            <p:cNvSpPr/>
            <p:nvPr/>
          </p:nvSpPr>
          <p:spPr>
            <a:xfrm>
              <a:off x="6462720" y="250344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b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0" name="椭圆 13325"/>
            <p:cNvSpPr/>
            <p:nvPr/>
          </p:nvSpPr>
          <p:spPr>
            <a:xfrm>
              <a:off x="6467400" y="250812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8a5b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1" name="椭圆 13326"/>
            <p:cNvSpPr/>
            <p:nvPr/>
          </p:nvSpPr>
          <p:spPr>
            <a:xfrm>
              <a:off x="6558120" y="2616120"/>
              <a:ext cx="1503720" cy="1501200"/>
            </a:xfrm>
            <a:prstGeom prst="ellipse">
              <a:avLst/>
            </a:prstGeom>
            <a:gradFill rotWithShape="0">
              <a:gsLst>
                <a:gs pos="0">
                  <a:srgbClr val="4b3179"/>
                </a:gs>
                <a:gs pos="50000">
                  <a:srgbClr val="8a5bdf"/>
                </a:gs>
                <a:gs pos="100000">
                  <a:srgbClr val="4b31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2" name="椭圆 13327"/>
            <p:cNvSpPr/>
            <p:nvPr/>
          </p:nvSpPr>
          <p:spPr>
            <a:xfrm>
              <a:off x="6553080" y="2608200"/>
              <a:ext cx="1504080" cy="1501200"/>
            </a:xfrm>
            <a:prstGeom prst="ellipse">
              <a:avLst/>
            </a:prstGeom>
            <a:gradFill rotWithShape="0">
              <a:gsLst>
                <a:gs pos="0">
                  <a:srgbClr val="583a8e"/>
                </a:gs>
                <a:gs pos="100000">
                  <a:srgbClr val="8a5b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3" name="椭圆 13328"/>
            <p:cNvSpPr/>
            <p:nvPr/>
          </p:nvSpPr>
          <p:spPr>
            <a:xfrm>
              <a:off x="6632640" y="2692440"/>
              <a:ext cx="1354320" cy="135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84" name="组合 13329"/>
            <p:cNvGrpSpPr/>
            <p:nvPr/>
          </p:nvGrpSpPr>
          <p:grpSpPr>
            <a:xfrm>
              <a:off x="6662880" y="2712960"/>
              <a:ext cx="1312920" cy="1310760"/>
              <a:chOff x="6662880" y="2712960"/>
              <a:chExt cx="1312920" cy="1310760"/>
            </a:xfrm>
          </p:grpSpPr>
          <p:sp>
            <p:nvSpPr>
              <p:cNvPr id="285" name="椭圆 13330"/>
              <p:cNvSpPr/>
              <p:nvPr/>
            </p:nvSpPr>
            <p:spPr>
              <a:xfrm>
                <a:off x="6662880" y="2712960"/>
                <a:ext cx="1312920" cy="1310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6" name="椭圆 13331"/>
              <p:cNvSpPr/>
              <p:nvPr/>
            </p:nvSpPr>
            <p:spPr>
              <a:xfrm>
                <a:off x="6679440" y="2720160"/>
                <a:ext cx="128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7" name="椭圆 13332"/>
              <p:cNvSpPr/>
              <p:nvPr/>
            </p:nvSpPr>
            <p:spPr>
              <a:xfrm>
                <a:off x="6693120" y="2732760"/>
                <a:ext cx="1218600" cy="1194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8" name="椭圆 13333"/>
              <p:cNvSpPr/>
              <p:nvPr/>
            </p:nvSpPr>
            <p:spPr>
              <a:xfrm>
                <a:off x="6764400" y="2766240"/>
                <a:ext cx="1083240" cy="9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289" name="文本框 13334"/>
            <p:cNvSpPr/>
            <p:nvPr/>
          </p:nvSpPr>
          <p:spPr>
            <a:xfrm rot="3925800">
              <a:off x="7146360" y="4766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0" name="文本框 13335"/>
            <p:cNvSpPr/>
            <p:nvPr/>
          </p:nvSpPr>
          <p:spPr>
            <a:xfrm rot="3925800">
              <a:off x="7650360" y="4474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cxnSp>
        <p:nvCxnSpPr>
          <p:cNvPr id="291" name="直接箭头连接符 13340"/>
          <p:cNvCxnSpPr>
            <a:stCxn id="292" idx="3"/>
            <a:endCxn id="293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round/>
            <a:tailEnd len="med" type="triangle" w="med"/>
          </a:ln>
        </p:spPr>
      </p:cxnSp>
      <p:cxnSp>
        <p:nvCxnSpPr>
          <p:cNvPr id="294" name="直接箭头连接符 13341"/>
          <p:cNvCxnSpPr>
            <a:stCxn id="293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round/>
            <a:tailEnd len="med" type="triangle" w="med"/>
          </a:ln>
        </p:spPr>
      </p:cxnSp>
      <p:grpSp>
        <p:nvGrpSpPr>
          <p:cNvPr id="295" name="组合 13345"/>
          <p:cNvGrpSpPr/>
          <p:nvPr/>
        </p:nvGrpSpPr>
        <p:grpSpPr>
          <a:xfrm>
            <a:off x="4495680" y="2631960"/>
            <a:ext cx="2144520" cy="3505680"/>
            <a:chOff x="4495680" y="2631960"/>
            <a:chExt cx="2144520" cy="3505680"/>
          </a:xfrm>
        </p:grpSpPr>
        <p:grpSp>
          <p:nvGrpSpPr>
            <p:cNvPr id="296" name="组合 13346"/>
            <p:cNvGrpSpPr/>
            <p:nvPr/>
          </p:nvGrpSpPr>
          <p:grpSpPr>
            <a:xfrm>
              <a:off x="4934520" y="3455640"/>
              <a:ext cx="1705680" cy="2682000"/>
              <a:chOff x="4934520" y="3455640"/>
              <a:chExt cx="1705680" cy="2682000"/>
            </a:xfrm>
          </p:grpSpPr>
          <p:grpSp>
            <p:nvGrpSpPr>
              <p:cNvPr id="297" name="组合 13347"/>
              <p:cNvGrpSpPr/>
              <p:nvPr/>
            </p:nvGrpSpPr>
            <p:grpSpPr>
              <a:xfrm>
                <a:off x="4934520" y="3634560"/>
                <a:ext cx="1578600" cy="2503080"/>
                <a:chOff x="4934520" y="3634560"/>
                <a:chExt cx="1578600" cy="2503080"/>
              </a:xfrm>
            </p:grpSpPr>
            <p:sp>
              <p:nvSpPr>
                <p:cNvPr id="298" name="任意多边形 13348"/>
                <p:cNvSpPr/>
                <p:nvPr/>
              </p:nvSpPr>
              <p:spPr>
                <a:xfrm rot="3876600">
                  <a:off x="4470840" y="460656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99" name="任意多边形 13349"/>
                <p:cNvSpPr/>
                <p:nvPr/>
              </p:nvSpPr>
              <p:spPr>
                <a:xfrm rot="3876600">
                  <a:off x="5976720" y="557604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13350"/>
              <p:cNvGrpSpPr/>
              <p:nvPr/>
            </p:nvGrpSpPr>
            <p:grpSpPr>
              <a:xfrm>
                <a:off x="5428800" y="3455640"/>
                <a:ext cx="1211400" cy="1920600"/>
                <a:chOff x="5428800" y="3455640"/>
                <a:chExt cx="1211400" cy="1920600"/>
              </a:xfrm>
            </p:grpSpPr>
            <p:sp>
              <p:nvSpPr>
                <p:cNvPr id="301" name="任意多边形 13351"/>
                <p:cNvSpPr/>
                <p:nvPr/>
              </p:nvSpPr>
              <p:spPr>
                <a:xfrm flipV="1" rot="3876600">
                  <a:off x="5073120" y="420120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13352"/>
                <p:cNvSpPr/>
                <p:nvPr/>
              </p:nvSpPr>
              <p:spPr>
                <a:xfrm flipV="1" rot="3876600">
                  <a:off x="6211440" y="495324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" name="文本框 13353"/>
            <p:cNvSpPr/>
            <p:nvPr/>
          </p:nvSpPr>
          <p:spPr>
            <a:xfrm rot="3925800">
              <a:off x="4936680" y="4488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4" name="文本框 13354"/>
            <p:cNvSpPr/>
            <p:nvPr/>
          </p:nvSpPr>
          <p:spPr>
            <a:xfrm rot="3925800">
              <a:off x="5440680" y="4196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5" name="椭圆 13355"/>
            <p:cNvSpPr/>
            <p:nvPr/>
          </p:nvSpPr>
          <p:spPr>
            <a:xfrm>
              <a:off x="4495680" y="263196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6" name="椭圆 13356"/>
            <p:cNvSpPr/>
            <p:nvPr/>
          </p:nvSpPr>
          <p:spPr>
            <a:xfrm>
              <a:off x="4495680" y="265572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7" name="椭圆 13357"/>
            <p:cNvSpPr/>
            <p:nvPr/>
          </p:nvSpPr>
          <p:spPr>
            <a:xfrm>
              <a:off x="4586400" y="272736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8" name="椭圆 13358"/>
            <p:cNvSpPr/>
            <p:nvPr/>
          </p:nvSpPr>
          <p:spPr>
            <a:xfrm>
              <a:off x="4572000" y="273672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9" name="椭圆 13359"/>
            <p:cNvSpPr/>
            <p:nvPr/>
          </p:nvSpPr>
          <p:spPr>
            <a:xfrm>
              <a:off x="4648320" y="279864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310" name="组合 13360"/>
            <p:cNvGrpSpPr/>
            <p:nvPr/>
          </p:nvGrpSpPr>
          <p:grpSpPr>
            <a:xfrm>
              <a:off x="4672080" y="2806560"/>
              <a:ext cx="1092240" cy="1107360"/>
              <a:chOff x="4672080" y="2806560"/>
              <a:chExt cx="1092240" cy="1107360"/>
            </a:xfrm>
          </p:grpSpPr>
          <p:sp>
            <p:nvSpPr>
              <p:cNvPr id="311" name="椭圆 13361"/>
              <p:cNvSpPr/>
              <p:nvPr/>
            </p:nvSpPr>
            <p:spPr>
              <a:xfrm>
                <a:off x="4672080" y="280656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12" name="椭圆 13362"/>
              <p:cNvSpPr/>
              <p:nvPr/>
            </p:nvSpPr>
            <p:spPr>
              <a:xfrm>
                <a:off x="4685760" y="281268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13" name="椭圆 13363"/>
              <p:cNvSpPr/>
              <p:nvPr/>
            </p:nvSpPr>
            <p:spPr>
              <a:xfrm>
                <a:off x="4697280" y="282312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14" name="椭圆 13364"/>
              <p:cNvSpPr/>
              <p:nvPr/>
            </p:nvSpPr>
            <p:spPr>
              <a:xfrm>
                <a:off x="4756680" y="285156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组合 13366"/>
          <p:cNvGrpSpPr/>
          <p:nvPr/>
        </p:nvGrpSpPr>
        <p:grpSpPr>
          <a:xfrm>
            <a:off x="2438280" y="2631960"/>
            <a:ext cx="2144520" cy="3505680"/>
            <a:chOff x="2438280" y="2631960"/>
            <a:chExt cx="2144520" cy="3505680"/>
          </a:xfrm>
        </p:grpSpPr>
        <p:grpSp>
          <p:nvGrpSpPr>
            <p:cNvPr id="317" name="组合 13367"/>
            <p:cNvGrpSpPr/>
            <p:nvPr/>
          </p:nvGrpSpPr>
          <p:grpSpPr>
            <a:xfrm>
              <a:off x="2877120" y="3455640"/>
              <a:ext cx="1705680" cy="2682000"/>
              <a:chOff x="2877120" y="3455640"/>
              <a:chExt cx="1705680" cy="2682000"/>
            </a:xfrm>
          </p:grpSpPr>
          <p:grpSp>
            <p:nvGrpSpPr>
              <p:cNvPr id="318" name="组合 13368"/>
              <p:cNvGrpSpPr/>
              <p:nvPr/>
            </p:nvGrpSpPr>
            <p:grpSpPr>
              <a:xfrm>
                <a:off x="2877120" y="3634560"/>
                <a:ext cx="1578600" cy="2503080"/>
                <a:chOff x="2877120" y="3634560"/>
                <a:chExt cx="1578600" cy="2503080"/>
              </a:xfrm>
            </p:grpSpPr>
            <p:sp>
              <p:nvSpPr>
                <p:cNvPr id="319" name="任意多边形 13369"/>
                <p:cNvSpPr/>
                <p:nvPr/>
              </p:nvSpPr>
              <p:spPr>
                <a:xfrm rot="3876600">
                  <a:off x="2413440" y="460656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20" name="任意多边形 13370"/>
                <p:cNvSpPr/>
                <p:nvPr/>
              </p:nvSpPr>
              <p:spPr>
                <a:xfrm rot="3876600">
                  <a:off x="3919320" y="557604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组合 13371"/>
              <p:cNvGrpSpPr/>
              <p:nvPr/>
            </p:nvGrpSpPr>
            <p:grpSpPr>
              <a:xfrm>
                <a:off x="3371400" y="3455640"/>
                <a:ext cx="1211400" cy="1920600"/>
                <a:chOff x="3371400" y="3455640"/>
                <a:chExt cx="1211400" cy="1920600"/>
              </a:xfrm>
            </p:grpSpPr>
            <p:sp>
              <p:nvSpPr>
                <p:cNvPr id="322" name="任意多边形 13372"/>
                <p:cNvSpPr/>
                <p:nvPr/>
              </p:nvSpPr>
              <p:spPr>
                <a:xfrm flipV="1" rot="3876600">
                  <a:off x="3015720" y="420120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23" name="任意多边形 13373"/>
                <p:cNvSpPr/>
                <p:nvPr/>
              </p:nvSpPr>
              <p:spPr>
                <a:xfrm flipV="1" rot="3876600">
                  <a:off x="4154040" y="495324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文本框 13374"/>
            <p:cNvSpPr/>
            <p:nvPr/>
          </p:nvSpPr>
          <p:spPr>
            <a:xfrm rot="3925800">
              <a:off x="2879280" y="4488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5" name="文本框 13375"/>
            <p:cNvSpPr/>
            <p:nvPr/>
          </p:nvSpPr>
          <p:spPr>
            <a:xfrm rot="3925800">
              <a:off x="3383280" y="4196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6" name="椭圆 13376"/>
            <p:cNvSpPr/>
            <p:nvPr/>
          </p:nvSpPr>
          <p:spPr>
            <a:xfrm>
              <a:off x="2438280" y="263196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7" name="椭圆 13377"/>
            <p:cNvSpPr/>
            <p:nvPr/>
          </p:nvSpPr>
          <p:spPr>
            <a:xfrm>
              <a:off x="2438280" y="265572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8" name="椭圆 13378"/>
            <p:cNvSpPr/>
            <p:nvPr/>
          </p:nvSpPr>
          <p:spPr>
            <a:xfrm>
              <a:off x="2529000" y="272736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9" name="椭圆 13379"/>
            <p:cNvSpPr/>
            <p:nvPr/>
          </p:nvSpPr>
          <p:spPr>
            <a:xfrm>
              <a:off x="2514600" y="273672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30" name="椭圆 13380"/>
            <p:cNvSpPr/>
            <p:nvPr/>
          </p:nvSpPr>
          <p:spPr>
            <a:xfrm>
              <a:off x="2590920" y="279864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331" name="组合 13381"/>
            <p:cNvGrpSpPr/>
            <p:nvPr/>
          </p:nvGrpSpPr>
          <p:grpSpPr>
            <a:xfrm>
              <a:off x="2614680" y="2806560"/>
              <a:ext cx="1092240" cy="1107360"/>
              <a:chOff x="2614680" y="2806560"/>
              <a:chExt cx="1092240" cy="1107360"/>
            </a:xfrm>
          </p:grpSpPr>
          <p:sp>
            <p:nvSpPr>
              <p:cNvPr id="332" name="椭圆 13382"/>
              <p:cNvSpPr/>
              <p:nvPr/>
            </p:nvSpPr>
            <p:spPr>
              <a:xfrm>
                <a:off x="2614680" y="280656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33" name="椭圆 13383"/>
              <p:cNvSpPr/>
              <p:nvPr/>
            </p:nvSpPr>
            <p:spPr>
              <a:xfrm>
                <a:off x="2628360" y="281268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34" name="椭圆 13384"/>
              <p:cNvSpPr/>
              <p:nvPr/>
            </p:nvSpPr>
            <p:spPr>
              <a:xfrm>
                <a:off x="2639880" y="282312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35" name="椭圆 13385"/>
              <p:cNvSpPr/>
              <p:nvPr/>
            </p:nvSpPr>
            <p:spPr>
              <a:xfrm>
                <a:off x="2699280" y="285156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组合 13386"/>
          <p:cNvGrpSpPr/>
          <p:nvPr/>
        </p:nvGrpSpPr>
        <p:grpSpPr>
          <a:xfrm>
            <a:off x="457200" y="2631960"/>
            <a:ext cx="2144520" cy="3505680"/>
            <a:chOff x="457200" y="2631960"/>
            <a:chExt cx="2144520" cy="3505680"/>
          </a:xfrm>
        </p:grpSpPr>
        <p:grpSp>
          <p:nvGrpSpPr>
            <p:cNvPr id="337" name="组合 13387"/>
            <p:cNvGrpSpPr/>
            <p:nvPr/>
          </p:nvGrpSpPr>
          <p:grpSpPr>
            <a:xfrm>
              <a:off x="896040" y="3455640"/>
              <a:ext cx="1705680" cy="2682000"/>
              <a:chOff x="896040" y="3455640"/>
              <a:chExt cx="1705680" cy="2682000"/>
            </a:xfrm>
          </p:grpSpPr>
          <p:grpSp>
            <p:nvGrpSpPr>
              <p:cNvPr id="338" name="组合 13388"/>
              <p:cNvGrpSpPr/>
              <p:nvPr/>
            </p:nvGrpSpPr>
            <p:grpSpPr>
              <a:xfrm>
                <a:off x="896040" y="3634560"/>
                <a:ext cx="1578600" cy="2503080"/>
                <a:chOff x="896040" y="3634560"/>
                <a:chExt cx="1578600" cy="2503080"/>
              </a:xfrm>
            </p:grpSpPr>
            <p:sp>
              <p:nvSpPr>
                <p:cNvPr id="339" name="任意多边形 13389"/>
                <p:cNvSpPr/>
                <p:nvPr/>
              </p:nvSpPr>
              <p:spPr>
                <a:xfrm rot="3876600">
                  <a:off x="432360" y="460656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40" name="任意多边形 13390"/>
                <p:cNvSpPr/>
                <p:nvPr/>
              </p:nvSpPr>
              <p:spPr>
                <a:xfrm rot="3876600">
                  <a:off x="1938240" y="557604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组合 13391"/>
              <p:cNvGrpSpPr/>
              <p:nvPr/>
            </p:nvGrpSpPr>
            <p:grpSpPr>
              <a:xfrm>
                <a:off x="1390320" y="3455640"/>
                <a:ext cx="1211400" cy="1920600"/>
                <a:chOff x="1390320" y="3455640"/>
                <a:chExt cx="1211400" cy="1920600"/>
              </a:xfrm>
            </p:grpSpPr>
            <p:sp>
              <p:nvSpPr>
                <p:cNvPr id="342" name="任意多边形 13392"/>
                <p:cNvSpPr/>
                <p:nvPr/>
              </p:nvSpPr>
              <p:spPr>
                <a:xfrm flipV="1" rot="3876600">
                  <a:off x="1034640" y="420120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43" name="任意多边形 13393"/>
                <p:cNvSpPr/>
                <p:nvPr/>
              </p:nvSpPr>
              <p:spPr>
                <a:xfrm flipV="1" rot="3876600">
                  <a:off x="2172960" y="495324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文本框 13394"/>
            <p:cNvSpPr/>
            <p:nvPr/>
          </p:nvSpPr>
          <p:spPr>
            <a:xfrm rot="3925800">
              <a:off x="898200" y="4488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45" name="文本框 13395"/>
            <p:cNvSpPr/>
            <p:nvPr/>
          </p:nvSpPr>
          <p:spPr>
            <a:xfrm rot="3925800">
              <a:off x="1402200" y="4196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46" name="椭圆 13396"/>
            <p:cNvSpPr/>
            <p:nvPr/>
          </p:nvSpPr>
          <p:spPr>
            <a:xfrm>
              <a:off x="457200" y="263196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47" name="椭圆 13397"/>
            <p:cNvSpPr/>
            <p:nvPr/>
          </p:nvSpPr>
          <p:spPr>
            <a:xfrm>
              <a:off x="457200" y="265572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48" name="椭圆 13398"/>
            <p:cNvSpPr/>
            <p:nvPr/>
          </p:nvSpPr>
          <p:spPr>
            <a:xfrm>
              <a:off x="547920" y="272736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49" name="椭圆 13399"/>
            <p:cNvSpPr/>
            <p:nvPr/>
          </p:nvSpPr>
          <p:spPr>
            <a:xfrm>
              <a:off x="533520" y="273672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50" name="椭圆 13400"/>
            <p:cNvSpPr/>
            <p:nvPr/>
          </p:nvSpPr>
          <p:spPr>
            <a:xfrm>
              <a:off x="609840" y="279864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351" name="组合 13401"/>
            <p:cNvGrpSpPr/>
            <p:nvPr/>
          </p:nvGrpSpPr>
          <p:grpSpPr>
            <a:xfrm>
              <a:off x="633600" y="2806560"/>
              <a:ext cx="1092240" cy="1107360"/>
              <a:chOff x="633600" y="2806560"/>
              <a:chExt cx="1092240" cy="1107360"/>
            </a:xfrm>
          </p:grpSpPr>
          <p:sp>
            <p:nvSpPr>
              <p:cNvPr id="352" name="椭圆 13402"/>
              <p:cNvSpPr/>
              <p:nvPr/>
            </p:nvSpPr>
            <p:spPr>
              <a:xfrm>
                <a:off x="633600" y="280656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53" name="椭圆 13403"/>
              <p:cNvSpPr/>
              <p:nvPr/>
            </p:nvSpPr>
            <p:spPr>
              <a:xfrm>
                <a:off x="647280" y="281268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54" name="椭圆 13404"/>
              <p:cNvSpPr/>
              <p:nvPr/>
            </p:nvSpPr>
            <p:spPr>
              <a:xfrm>
                <a:off x="658800" y="282312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55" name="椭圆 13405"/>
              <p:cNvSpPr/>
              <p:nvPr/>
            </p:nvSpPr>
            <p:spPr>
              <a:xfrm>
                <a:off x="718200" y="285156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文本框 13336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3" name="文本框 13337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56" name="文本框 13343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57" name="文本框 13344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58" name="矩形 13406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圆角矩形 14338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1" name="文本框 14339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2" name="圆角矩形 14340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5" name="圆角矩形 14343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d6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6" name="圆角矩形 14344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9" name="圆角矩形 14347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ec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0" name="圆角矩形 14348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3" name="圆角矩形 14351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4" name="圆角矩形 14352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77" name="组合 14355"/>
          <p:cNvGrpSpPr/>
          <p:nvPr/>
        </p:nvGrpSpPr>
        <p:grpSpPr>
          <a:xfrm>
            <a:off x="2687400" y="2029680"/>
            <a:ext cx="3636000" cy="3620160"/>
            <a:chOff x="2687400" y="2029680"/>
            <a:chExt cx="3636000" cy="3620160"/>
          </a:xfrm>
        </p:grpSpPr>
        <p:sp>
          <p:nvSpPr>
            <p:cNvPr id="378" name="任意多边形 14356"/>
            <p:cNvSpPr/>
            <p:nvPr/>
          </p:nvSpPr>
          <p:spPr>
            <a:xfrm rot="6774000">
              <a:off x="3152880" y="25808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ecc4c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9" name="任意多边形 14357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8becc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0" name="任意多边形 14358"/>
            <p:cNvSpPr/>
            <p:nvPr/>
          </p:nvSpPr>
          <p:spPr>
            <a:xfrm rot="17574600">
              <a:off x="3192480" y="24566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e0704"/>
                </a:gs>
                <a:gs pos="100000">
                  <a:srgbClr val="dd693b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1" name="任意多边形 14359"/>
            <p:cNvSpPr/>
            <p:nvPr/>
          </p:nvSpPr>
          <p:spPr>
            <a:xfrm rot="1374000">
              <a:off x="3234960" y="251424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a5bd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8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ecc4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ecc4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9bd3e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任意多边形 16386"/>
          <p:cNvSpPr/>
          <p:nvPr/>
        </p:nvSpPr>
        <p:spPr>
          <a:xfrm>
            <a:off x="260352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5" name="任意多边形 16387"/>
          <p:cNvSpPr/>
          <p:nvPr/>
        </p:nvSpPr>
        <p:spPr>
          <a:xfrm>
            <a:off x="4522680" y="2778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6" name="任意多边形 16388"/>
          <p:cNvSpPr/>
          <p:nvPr/>
        </p:nvSpPr>
        <p:spPr>
          <a:xfrm flipH="1">
            <a:off x="492300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87" name="组合 16389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88" name="圆角矩形 16390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3d85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9" name="任意多边形 16391"/>
            <p:cNvSpPr/>
            <p:nvPr/>
          </p:nvSpPr>
          <p:spPr>
            <a:xfrm>
              <a:off x="232740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fe6"/>
                </a:gs>
                <a:gs pos="50000">
                  <a:srgbClr val="58becc">
                    <a:alpha val="0"/>
                  </a:srgbClr>
                </a:gs>
                <a:gs pos="100000">
                  <a:srgbClr val="aed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90" name="矩形 16392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91" name="组合 16393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92" name="圆角矩形 16394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60409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93" name="任意多边形 16395"/>
            <p:cNvSpPr/>
            <p:nvPr/>
          </p:nvSpPr>
          <p:spPr>
            <a:xfrm>
              <a:off x="410688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fef"/>
                </a:gs>
                <a:gs pos="50000">
                  <a:srgbClr val="8a5bdf">
                    <a:alpha val="0"/>
                  </a:srgbClr>
                </a:gs>
                <a:gs pos="100000">
                  <a:srgbClr val="c6af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394" name="组合 16396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95" name="圆角矩形 16397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4d8e35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96" name="任意多边形 16398"/>
            <p:cNvSpPr/>
            <p:nvPr/>
          </p:nvSpPr>
          <p:spPr>
            <a:xfrm>
              <a:off x="5894280" y="1739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e6a8"/>
                </a:gs>
                <a:gs pos="50000">
                  <a:srgbClr val="6ecc4c">
                    <a:alpha val="0"/>
                  </a:srgbClr>
                </a:gs>
                <a:gs pos="100000">
                  <a:srgbClr val="b8e6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97" name="矩形 16399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8" name="矩形 16400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9" name="圆角矩形 16402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0" name="矩形 16403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401" name="图片 16404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2" name="文本框 16405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17409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五边形 17411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6" name="五边形 17412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ecc4c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7" name="任意多边形 17413"/>
          <p:cNvSpPr/>
          <p:nvPr/>
        </p:nvSpPr>
        <p:spPr>
          <a:xfrm>
            <a:off x="2127240" y="2633760"/>
            <a:ext cx="442584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5bdf"/>
              </a:gs>
              <a:gs pos="100000">
                <a:srgbClr val="402a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8" name="五边形 17414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8becc"/>
              </a:gs>
              <a:gs pos="100000">
                <a:srgbClr val="3d858e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9" name="矩形 17415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0" name="矩形 17416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1" name="矩形 17417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2" name="矩形 17418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3" name="矩形 17419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圆角矩形 18434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6" name="圆角矩形 18435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ecc4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7" name="圆角矩形 18436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d693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8" name="圆角矩形 18437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a5b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9" name="圆角矩形 18438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8be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20" name="矩形 18439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21" name="组合 18440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22" name="圆角矩形 18441"/>
            <p:cNvSpPr/>
            <p:nvPr/>
          </p:nvSpPr>
          <p:spPr>
            <a:xfrm>
              <a:off x="147636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3" name="圆角矩形 18442"/>
            <p:cNvSpPr/>
            <p:nvPr/>
          </p:nvSpPr>
          <p:spPr>
            <a:xfrm>
              <a:off x="1477800" y="4947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24" name="组合 18443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25" name="圆角矩形 18444"/>
            <p:cNvSpPr/>
            <p:nvPr/>
          </p:nvSpPr>
          <p:spPr>
            <a:xfrm>
              <a:off x="309564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6" name="圆角矩形 18445"/>
            <p:cNvSpPr/>
            <p:nvPr/>
          </p:nvSpPr>
          <p:spPr>
            <a:xfrm>
              <a:off x="3097080" y="4947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ba9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27" name="组合 18446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28" name="圆角矩形 18447"/>
            <p:cNvSpPr/>
            <p:nvPr/>
          </p:nvSpPr>
          <p:spPr>
            <a:xfrm>
              <a:off x="4713120" y="49467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e5a33"/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9" name="圆角矩形 18448"/>
            <p:cNvSpPr/>
            <p:nvPr/>
          </p:nvSpPr>
          <p:spPr>
            <a:xfrm>
              <a:off x="4714560" y="49478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ba6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30" name="组合 18449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31" name="圆角矩形 18450"/>
            <p:cNvSpPr/>
            <p:nvPr/>
          </p:nvSpPr>
          <p:spPr>
            <a:xfrm>
              <a:off x="63295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2" name="圆角矩形 18451"/>
            <p:cNvSpPr/>
            <p:nvPr/>
          </p:nvSpPr>
          <p:spPr>
            <a:xfrm>
              <a:off x="6330960" y="4947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a5d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433" name="文本框 18452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4" name="文本框 18453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5" name="文本框 18454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6" name="文本框 18455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7" name="文本框 18456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8" name="文本框 18457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9" name="文本框 18458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40" name="文本框 18459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41" name="组合 18460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42" name="圆角矩形 18461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3" name="圆角矩形 18462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44" name="组合 18463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45" name="圆角矩形 18464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6" name="圆角矩形 18465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47" name="组合 18466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48" name="圆角矩形 18467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9" name="圆角矩形 18468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0" name="组合 18469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51" name="圆角矩形 18470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2" name="圆角矩形 18471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3" name="组合 18472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54" name="圆角矩形 18473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5" name="圆角矩形 18474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6" name="组合 18475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57" name="圆角矩形 18476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8" name="圆角矩形 18477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9" name="组合 18478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60" name="圆角矩形 18479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61" name="圆角矩形 18480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62" name="组合 18481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63" name="圆角矩形 18482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64" name="圆角矩形 18483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65" name="组合 18484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66" name="圆角矩形 18485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8a5bd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67" name="圆角矩形 18486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68" name="组合 18487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69" name="圆角矩形 18488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70" name="圆角矩形 18489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71" name="组合 18490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72" name="圆角矩形 18491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73" name="圆角矩形 18492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74" name="组合 18493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75" name="圆角矩形 18494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76" name="圆角矩形 18495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9adc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77" name="组合 18496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78" name="圆角矩形 18497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79" name="圆角矩形 18498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80" name="组合 18499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81" name="圆角矩形 18500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82" name="圆角矩形 18501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83" name="组合 18502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84" name="圆角矩形 18503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85" name="圆角矩形 18504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86" name="组合 18505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87" name="圆角矩形 18506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88" name="圆角矩形 18507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89" name="组合 18508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90" name="圆角矩形 18509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91" name="圆角矩形 18510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92" name="组合 18511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493" name="圆角矩形 18512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94" name="圆角矩形 18513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9adc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6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20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