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7FB-F8D1-496D-8DC4-1ADF687A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628-F71C-4227-93ED-93A5D669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DAD-89A7-460C-AEA3-C0BF6B11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FD5B-32DB-4456-BE7E-68408BA9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27AF-B867-4802-AC65-3C094B0C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F001-17F1-4AF1-87BF-74742FD2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18BD-F6B0-479D-81BC-5839FB4A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D289-EA55-4256-987C-E7B10A33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4B78-E7B7-4FEF-980F-31225E9E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5189-E8FF-4C27-8A7C-FA5E8835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2408-35EA-43E2-B762-7C9C3CD3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8DA-04C6-47C9-A4D8-EAB4D8E4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D00F-7231-49F3-B35A-3761952A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8A49-4A9F-49F7-8AE1-889EEA8C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7A22-18FD-459A-87D2-890F7BAB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E8BE-1FD8-498A-BA1F-A8A97E7E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3F57-75F0-45ED-9512-1E1A2657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E2F-CB74-43CC-AFD3-00469A86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7967-69F0-4239-92F0-3F68BF64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E21-2E30-4899-90D8-EA7338E5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94F-7F66-447F-83A5-AE7F2B01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C1A-1AD4-4596-A9FE-C5EF3A7E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C87-118C-4A14-BF94-6129532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1C5-26B5-430E-8AB9-1A2384C0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4DF4-6B86-478F-BE50-B719DE42798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E01D-478F-4B1C-AEC9-2149827B20D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4750-34C3-4DA2-9486-4BB13DF6F62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E38E-F1DD-4DEC-AC95-89B99D3D839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杀"/>
          <p:cNvPicPr/>
          <p:nvPr/>
        </p:nvPicPr>
        <p:blipFill>
          <a:blip r:embed="rId1"/>
          <a:stretch/>
        </p:blipFill>
        <p:spPr>
          <a:xfrm>
            <a:off x="0" y="963720"/>
            <a:ext cx="12200040" cy="478476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6523200" y="1486080"/>
            <a:ext cx="5454360" cy="1440"/>
            <a:chOff x="6523200" y="1486080"/>
            <a:chExt cx="5454360" cy="1440"/>
          </a:xfrm>
        </p:grpSpPr>
        <p:sp>
          <p:nvSpPr>
            <p:cNvPr id="84" name="Line 3"/>
            <p:cNvSpPr/>
            <p:nvPr/>
          </p:nvSpPr>
          <p:spPr>
            <a:xfrm>
              <a:off x="6523200" y="1486080"/>
              <a:ext cx="5454360" cy="14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6523200" y="1486080"/>
              <a:ext cx="5454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1719080" y="1268280"/>
            <a:ext cx="1440" cy="4357800"/>
            <a:chOff x="11719080" y="1268280"/>
            <a:chExt cx="1440" cy="4357800"/>
          </a:xfrm>
        </p:grpSpPr>
        <p:sp>
          <p:nvSpPr>
            <p:cNvPr id="87" name="Line 4"/>
            <p:cNvSpPr/>
            <p:nvPr/>
          </p:nvSpPr>
          <p:spPr>
            <a:xfrm>
              <a:off x="11719080" y="1268280"/>
              <a:ext cx="1440" cy="43578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11719080" y="1268280"/>
              <a:ext cx="1440" cy="435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28680" y="2927520"/>
            <a:ext cx="11620440" cy="360"/>
            <a:chOff x="328680" y="2927520"/>
            <a:chExt cx="11620440" cy="360"/>
          </a:xfrm>
        </p:grpSpPr>
        <p:sp>
          <p:nvSpPr>
            <p:cNvPr id="90" name="Line 5"/>
            <p:cNvSpPr/>
            <p:nvPr/>
          </p:nvSpPr>
          <p:spPr>
            <a:xfrm>
              <a:off x="328680" y="2927520"/>
              <a:ext cx="116204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328680" y="2927520"/>
              <a:ext cx="11620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Text Box 6"/>
          <p:cNvSpPr/>
          <p:nvPr/>
        </p:nvSpPr>
        <p:spPr>
          <a:xfrm>
            <a:off x="6829560" y="122220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629640" y="5091120"/>
            <a:ext cx="2303640" cy="360"/>
            <a:chOff x="9629640" y="5091120"/>
            <a:chExt cx="2303640" cy="360"/>
          </a:xfrm>
        </p:grpSpPr>
        <p:sp>
          <p:nvSpPr>
            <p:cNvPr id="94" name="Line 7"/>
            <p:cNvSpPr/>
            <p:nvPr/>
          </p:nvSpPr>
          <p:spPr>
            <a:xfrm>
              <a:off x="9629640" y="5091120"/>
              <a:ext cx="23036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9629640" y="5091120"/>
              <a:ext cx="230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650520" y="5537160"/>
            <a:ext cx="2303280" cy="1800"/>
            <a:chOff x="9650520" y="5537160"/>
            <a:chExt cx="2303280" cy="1800"/>
          </a:xfrm>
        </p:grpSpPr>
        <p:sp>
          <p:nvSpPr>
            <p:cNvPr id="97" name="Line 8"/>
            <p:cNvSpPr/>
            <p:nvPr/>
          </p:nvSpPr>
          <p:spPr>
            <a:xfrm>
              <a:off x="9650520" y="5537160"/>
              <a:ext cx="2303280" cy="18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9650520" y="5537160"/>
              <a:ext cx="2303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企业文案策划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5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441" name="Line 6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3" name="Text Box 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731880" y="2916360"/>
            <a:ext cx="60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没有</a:t>
            </a:r>
            <a:r>
              <a:rPr b="0" lang="zh-CN" sz="2400" spc="-1" strike="noStrike">
                <a:solidFill>
                  <a:srgbClr val="a50501"/>
                </a:solidFill>
                <a:latin typeface="Calibri"/>
              </a:rPr>
              <a:t>稳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定的下班时间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　没有２４小时的公交车．．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989440" y="264960"/>
            <a:ext cx="8962920" cy="1800"/>
            <a:chOff x="2989440" y="264960"/>
            <a:chExt cx="8962920" cy="1800"/>
          </a:xfrm>
        </p:grpSpPr>
        <p:sp>
          <p:nvSpPr>
            <p:cNvPr id="446" name="Line 9"/>
            <p:cNvSpPr/>
            <p:nvPr/>
          </p:nvSpPr>
          <p:spPr>
            <a:xfrm>
              <a:off x="2989440" y="264960"/>
              <a:ext cx="8962920" cy="1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"/>
            <p:cNvSpPr txBox="1"/>
            <p:nvPr/>
          </p:nvSpPr>
          <p:spPr>
            <a:xfrm>
              <a:off x="2989440" y="264960"/>
              <a:ext cx="89629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8" name="Text Box 10"/>
          <p:cNvSpPr/>
          <p:nvPr/>
        </p:nvSpPr>
        <p:spPr>
          <a:xfrm>
            <a:off x="120600" y="-19080"/>
            <a:ext cx="29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en</a:t>
            </a:r>
            <a:r>
              <a:rPr b="0" lang="zh-CN" sz="2800" spc="-1" strike="noStrike">
                <a:solidFill>
                  <a:srgbClr val="ffffff"/>
                </a:solidFill>
                <a:latin typeface="迷你简卡通"/>
                <a:ea typeface="迷你简准圆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11" descr="s"/>
          <p:cNvPicPr/>
          <p:nvPr/>
        </p:nvPicPr>
        <p:blipFill>
          <a:blip r:embed="rId2"/>
          <a:srcRect l="19685" t="4920" r="0" b="4920"/>
          <a:stretch/>
        </p:blipFill>
        <p:spPr>
          <a:xfrm>
            <a:off x="7896240" y="1835280"/>
            <a:ext cx="27766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E86D-FC23-4DE4-9AB8-46E0FF5A77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7562880" y="1486080"/>
            <a:ext cx="4416480" cy="2880"/>
            <a:chOff x="7562880" y="1486080"/>
            <a:chExt cx="4416480" cy="2880"/>
          </a:xfrm>
        </p:grpSpPr>
        <p:sp>
          <p:nvSpPr>
            <p:cNvPr id="455" name="Line 2"/>
            <p:cNvSpPr/>
            <p:nvPr/>
          </p:nvSpPr>
          <p:spPr>
            <a:xfrm>
              <a:off x="7562880" y="1486080"/>
              <a:ext cx="4416480" cy="28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7562880" y="1486080"/>
              <a:ext cx="441648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1719080" y="1268280"/>
            <a:ext cx="1440" cy="4357800"/>
            <a:chOff x="11719080" y="1268280"/>
            <a:chExt cx="1440" cy="4357800"/>
          </a:xfrm>
        </p:grpSpPr>
        <p:sp>
          <p:nvSpPr>
            <p:cNvPr id="458" name="Line 3"/>
            <p:cNvSpPr/>
            <p:nvPr/>
          </p:nvSpPr>
          <p:spPr>
            <a:xfrm>
              <a:off x="11719080" y="1268280"/>
              <a:ext cx="1440" cy="43578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11719080" y="1268280"/>
              <a:ext cx="1440" cy="435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719280" y="5083200"/>
            <a:ext cx="11472840" cy="4680"/>
            <a:chOff x="719280" y="5083200"/>
            <a:chExt cx="11472840" cy="4680"/>
          </a:xfrm>
        </p:grpSpPr>
        <p:sp>
          <p:nvSpPr>
            <p:cNvPr id="461" name="Line 4"/>
            <p:cNvSpPr/>
            <p:nvPr/>
          </p:nvSpPr>
          <p:spPr>
            <a:xfrm>
              <a:off x="719280" y="5083200"/>
              <a:ext cx="11472840" cy="468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719280" y="5083200"/>
              <a:ext cx="1147284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3" name="Picture 5" descr="杀"/>
          <p:cNvPicPr/>
          <p:nvPr/>
        </p:nvPicPr>
        <p:blipFill>
          <a:blip r:embed="rId1"/>
          <a:stretch/>
        </p:blipFill>
        <p:spPr>
          <a:xfrm>
            <a:off x="0" y="949320"/>
            <a:ext cx="12192120" cy="478332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6523200" y="1486080"/>
            <a:ext cx="5454360" cy="1440"/>
            <a:chOff x="6523200" y="1486080"/>
            <a:chExt cx="5454360" cy="1440"/>
          </a:xfrm>
        </p:grpSpPr>
        <p:sp>
          <p:nvSpPr>
            <p:cNvPr id="465" name="Line 6"/>
            <p:cNvSpPr/>
            <p:nvPr/>
          </p:nvSpPr>
          <p:spPr>
            <a:xfrm>
              <a:off x="6523200" y="1486080"/>
              <a:ext cx="5454360" cy="14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6523200" y="1486080"/>
              <a:ext cx="5454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11717280" y="1177920"/>
            <a:ext cx="1800" cy="4357800"/>
            <a:chOff x="11717280" y="1177920"/>
            <a:chExt cx="1800" cy="4357800"/>
          </a:xfrm>
        </p:grpSpPr>
        <p:sp>
          <p:nvSpPr>
            <p:cNvPr id="468" name="Line 7"/>
            <p:cNvSpPr/>
            <p:nvPr/>
          </p:nvSpPr>
          <p:spPr>
            <a:xfrm>
              <a:off x="11717280" y="1177920"/>
              <a:ext cx="1800" cy="435780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11717280" y="1177920"/>
              <a:ext cx="1800" cy="4357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69880" y="4724280"/>
            <a:ext cx="11414160" cy="3240"/>
            <a:chOff x="569880" y="4724280"/>
            <a:chExt cx="11414160" cy="3240"/>
          </a:xfrm>
        </p:grpSpPr>
        <p:sp>
          <p:nvSpPr>
            <p:cNvPr id="471" name="Line 8"/>
            <p:cNvSpPr/>
            <p:nvPr/>
          </p:nvSpPr>
          <p:spPr>
            <a:xfrm>
              <a:off x="569880" y="4724280"/>
              <a:ext cx="11414160" cy="324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569880" y="4724280"/>
              <a:ext cx="1141416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 Box 9"/>
          <p:cNvSpPr/>
          <p:nvPr/>
        </p:nvSpPr>
        <p:spPr>
          <a:xfrm>
            <a:off x="10448280" y="47260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迷你简卡通"/>
              </a:rPr>
              <a:t>3 Q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qqq"/>
          <p:cNvPicPr/>
          <p:nvPr/>
        </p:nvPicPr>
        <p:blipFill>
          <a:blip r:embed="rId1"/>
          <a:stretch/>
        </p:blipFill>
        <p:spPr>
          <a:xfrm>
            <a:off x="623880" y="2479680"/>
            <a:ext cx="1020600" cy="102060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  <p:sp>
        <p:nvSpPr>
          <p:cNvPr id="102" name="Rectangle 3"/>
          <p:cNvSpPr/>
          <p:nvPr/>
        </p:nvSpPr>
        <p:spPr>
          <a:xfrm>
            <a:off x="0" y="6302520"/>
            <a:ext cx="12192120" cy="55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0"/>
            <a:ext cx="1223172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354880" y="603360"/>
            <a:ext cx="3318120" cy="9604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354880" y="4765680"/>
            <a:ext cx="3318120" cy="9619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8353440" y="1994040"/>
            <a:ext cx="3317760" cy="9586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358120" y="3389400"/>
            <a:ext cx="3318120" cy="9604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9408240" y="614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9443160" y="21495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9420120" y="34592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9419040" y="4849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148120" y="2214720"/>
            <a:ext cx="1704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Calibri"/>
                <a:ea typeface="迷你简综艺"/>
              </a:rPr>
              <a:t>目录</a:t>
            </a:r>
            <a:endParaRPr b="1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4317840" y="3041640"/>
            <a:ext cx="314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Directory......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6" descr="JJ"/>
          <p:cNvPicPr/>
          <p:nvPr/>
        </p:nvPicPr>
        <p:blipFill>
          <a:blip r:embed="rId2"/>
          <a:srcRect l="1668" t="2078" r="2181" b="1905"/>
          <a:stretch/>
        </p:blipFill>
        <p:spPr>
          <a:xfrm>
            <a:off x="6751800" y="6391440"/>
            <a:ext cx="537840" cy="39996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117" name="Line 17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078840" y="662040"/>
            <a:ext cx="14400" cy="804960"/>
            <a:chOff x="9078840" y="662040"/>
            <a:chExt cx="14400" cy="804960"/>
          </a:xfrm>
        </p:grpSpPr>
        <p:sp>
          <p:nvSpPr>
            <p:cNvPr id="120" name="Line 18"/>
            <p:cNvSpPr/>
            <p:nvPr/>
          </p:nvSpPr>
          <p:spPr>
            <a:xfrm>
              <a:off x="9078840" y="662040"/>
              <a:ext cx="14400" cy="804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9078840" y="662040"/>
              <a:ext cx="14400" cy="8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628120" y="1190520"/>
            <a:ext cx="2905200" cy="1800"/>
            <a:chOff x="8628120" y="1190520"/>
            <a:chExt cx="2905200" cy="1800"/>
          </a:xfrm>
        </p:grpSpPr>
        <p:sp>
          <p:nvSpPr>
            <p:cNvPr id="123" name="Line 19"/>
            <p:cNvSpPr/>
            <p:nvPr/>
          </p:nvSpPr>
          <p:spPr>
            <a:xfrm>
              <a:off x="8628120" y="1190520"/>
              <a:ext cx="29052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8628120" y="1190520"/>
              <a:ext cx="2905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9078840" y="2050920"/>
            <a:ext cx="14400" cy="806760"/>
            <a:chOff x="9078840" y="2050920"/>
            <a:chExt cx="14400" cy="806760"/>
          </a:xfrm>
        </p:grpSpPr>
        <p:sp>
          <p:nvSpPr>
            <p:cNvPr id="126" name="Line 20"/>
            <p:cNvSpPr/>
            <p:nvPr/>
          </p:nvSpPr>
          <p:spPr>
            <a:xfrm>
              <a:off x="9078840" y="2050920"/>
              <a:ext cx="14400" cy="80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9078840" y="2050920"/>
              <a:ext cx="14400" cy="80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8628120" y="2581200"/>
            <a:ext cx="2905200" cy="360"/>
            <a:chOff x="8628120" y="2581200"/>
            <a:chExt cx="2905200" cy="360"/>
          </a:xfrm>
        </p:grpSpPr>
        <p:sp>
          <p:nvSpPr>
            <p:cNvPr id="129" name="Line 21"/>
            <p:cNvSpPr/>
            <p:nvPr/>
          </p:nvSpPr>
          <p:spPr>
            <a:xfrm>
              <a:off x="8628120" y="2581200"/>
              <a:ext cx="2905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8628120" y="2581200"/>
              <a:ext cx="290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078840" y="3432240"/>
            <a:ext cx="14400" cy="804960"/>
            <a:chOff x="9078840" y="3432240"/>
            <a:chExt cx="14400" cy="804960"/>
          </a:xfrm>
        </p:grpSpPr>
        <p:sp>
          <p:nvSpPr>
            <p:cNvPr id="132" name="Line 22"/>
            <p:cNvSpPr/>
            <p:nvPr/>
          </p:nvSpPr>
          <p:spPr>
            <a:xfrm>
              <a:off x="9078840" y="3432240"/>
              <a:ext cx="14400" cy="804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9078840" y="3432240"/>
              <a:ext cx="14400" cy="8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8628120" y="3941640"/>
            <a:ext cx="2905200" cy="1800"/>
            <a:chOff x="8628120" y="3941640"/>
            <a:chExt cx="2905200" cy="1800"/>
          </a:xfrm>
        </p:grpSpPr>
        <p:sp>
          <p:nvSpPr>
            <p:cNvPr id="135" name="Line 23"/>
            <p:cNvSpPr/>
            <p:nvPr/>
          </p:nvSpPr>
          <p:spPr>
            <a:xfrm>
              <a:off x="8628120" y="3941640"/>
              <a:ext cx="29052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8628120" y="3941640"/>
              <a:ext cx="2905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9063000" y="4822920"/>
            <a:ext cx="15840" cy="806400"/>
            <a:chOff x="9063000" y="4822920"/>
            <a:chExt cx="15840" cy="806400"/>
          </a:xfrm>
        </p:grpSpPr>
        <p:sp>
          <p:nvSpPr>
            <p:cNvPr id="138" name="Line 24"/>
            <p:cNvSpPr/>
            <p:nvPr/>
          </p:nvSpPr>
          <p:spPr>
            <a:xfrm>
              <a:off x="9063000" y="4822920"/>
              <a:ext cx="158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9063000" y="482292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8613720" y="5276880"/>
            <a:ext cx="2905200" cy="360"/>
            <a:chOff x="8613720" y="5276880"/>
            <a:chExt cx="2905200" cy="360"/>
          </a:xfrm>
        </p:grpSpPr>
        <p:sp>
          <p:nvSpPr>
            <p:cNvPr id="141" name="Line 25"/>
            <p:cNvSpPr/>
            <p:nvPr/>
          </p:nvSpPr>
          <p:spPr>
            <a:xfrm>
              <a:off x="8613720" y="5276880"/>
              <a:ext cx="2905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8613720" y="5276880"/>
              <a:ext cx="290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 Box 26"/>
          <p:cNvSpPr/>
          <p:nvPr/>
        </p:nvSpPr>
        <p:spPr>
          <a:xfrm>
            <a:off x="9045720" y="1127160"/>
            <a:ext cx="212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7"/>
          <p:cNvSpPr/>
          <p:nvPr/>
        </p:nvSpPr>
        <p:spPr>
          <a:xfrm>
            <a:off x="9063000" y="389880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28"/>
          <p:cNvSpPr/>
          <p:nvPr/>
        </p:nvSpPr>
        <p:spPr>
          <a:xfrm>
            <a:off x="9061560" y="250524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9031320" y="522432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30"/>
          <p:cNvSpPr/>
          <p:nvPr/>
        </p:nvSpPr>
        <p:spPr>
          <a:xfrm>
            <a:off x="8573400" y="6159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8587800" y="2033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8574120" y="3395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3"/>
          <p:cNvSpPr/>
          <p:nvPr/>
        </p:nvSpPr>
        <p:spPr>
          <a:xfrm>
            <a:off x="8573400" y="4737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84200" y="1908000"/>
            <a:ext cx="1440" cy="360"/>
            <a:chOff x="484200" y="1908000"/>
            <a:chExt cx="1440" cy="360"/>
          </a:xfrm>
        </p:grpSpPr>
        <p:sp>
          <p:nvSpPr>
            <p:cNvPr id="152" name="Line 34"/>
            <p:cNvSpPr/>
            <p:nvPr/>
          </p:nvSpPr>
          <p:spPr>
            <a:xfrm>
              <a:off x="484200" y="1908000"/>
              <a:ext cx="144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484200" y="1908000"/>
              <a:ext cx="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590040" y="519120"/>
            <a:ext cx="2347920" cy="360"/>
            <a:chOff x="9590040" y="519120"/>
            <a:chExt cx="2347920" cy="360"/>
          </a:xfrm>
        </p:grpSpPr>
        <p:sp>
          <p:nvSpPr>
            <p:cNvPr id="155" name="Line 35"/>
            <p:cNvSpPr/>
            <p:nvPr/>
          </p:nvSpPr>
          <p:spPr>
            <a:xfrm>
              <a:off x="9590040" y="519120"/>
              <a:ext cx="2347920" cy="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9590040" y="519120"/>
              <a:ext cx="2347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750760" y="227160"/>
            <a:ext cx="1440" cy="5279760"/>
            <a:chOff x="11750760" y="227160"/>
            <a:chExt cx="1440" cy="5279760"/>
          </a:xfrm>
        </p:grpSpPr>
        <p:sp>
          <p:nvSpPr>
            <p:cNvPr id="158" name="Line 36"/>
            <p:cNvSpPr/>
            <p:nvPr/>
          </p:nvSpPr>
          <p:spPr>
            <a:xfrm>
              <a:off x="11750760" y="227160"/>
              <a:ext cx="1440" cy="52797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1750760" y="227160"/>
              <a:ext cx="1440" cy="527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6302520"/>
            <a:ext cx="121921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J"/>
          <p:cNvPicPr/>
          <p:nvPr/>
        </p:nvPicPr>
        <p:blipFill>
          <a:blip r:embed="rId1"/>
          <a:srcRect l="3453" t="5329" r="3829" b="2248"/>
          <a:stretch/>
        </p:blipFill>
        <p:spPr>
          <a:xfrm>
            <a:off x="6762600" y="6391440"/>
            <a:ext cx="533520" cy="399960"/>
          </a:xfrm>
          <a:prstGeom prst="rect">
            <a:avLst/>
          </a:prstGeom>
          <a:ln w="0">
            <a:noFill/>
          </a:ln>
        </p:spPr>
      </p:pic>
      <p:grpSp>
        <p:nvGrpSpPr>
          <p:cNvPr id="162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163" name="Line 4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Rectangle 5"/>
          <p:cNvSpPr/>
          <p:nvPr/>
        </p:nvSpPr>
        <p:spPr>
          <a:xfrm>
            <a:off x="2506680" y="1979640"/>
            <a:ext cx="3317760" cy="9604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626436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6264360" y="19764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250668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3560040" y="1990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7353000" y="2131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3568680" y="3363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7328520" y="3376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230640" y="2038320"/>
            <a:ext cx="14040" cy="804960"/>
            <a:chOff x="3230640" y="2038320"/>
            <a:chExt cx="14040" cy="804960"/>
          </a:xfrm>
        </p:grpSpPr>
        <p:sp>
          <p:nvSpPr>
            <p:cNvPr id="174" name="Line 13"/>
            <p:cNvSpPr/>
            <p:nvPr/>
          </p:nvSpPr>
          <p:spPr>
            <a:xfrm>
              <a:off x="3230640" y="2038320"/>
              <a:ext cx="14040" cy="804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3230640" y="2038320"/>
              <a:ext cx="14040" cy="8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779560" y="2567160"/>
            <a:ext cx="2905200" cy="1440"/>
            <a:chOff x="2779560" y="2567160"/>
            <a:chExt cx="2905200" cy="1440"/>
          </a:xfrm>
        </p:grpSpPr>
        <p:sp>
          <p:nvSpPr>
            <p:cNvPr id="177" name="Line 14"/>
            <p:cNvSpPr/>
            <p:nvPr/>
          </p:nvSpPr>
          <p:spPr>
            <a:xfrm>
              <a:off x="2779560" y="2567160"/>
              <a:ext cx="29052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2779560" y="2567160"/>
              <a:ext cx="290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988320" y="2035080"/>
            <a:ext cx="15840" cy="806400"/>
            <a:chOff x="6988320" y="2035080"/>
            <a:chExt cx="15840" cy="806400"/>
          </a:xfrm>
        </p:grpSpPr>
        <p:sp>
          <p:nvSpPr>
            <p:cNvPr id="180" name="Line 15"/>
            <p:cNvSpPr/>
            <p:nvPr/>
          </p:nvSpPr>
          <p:spPr>
            <a:xfrm>
              <a:off x="6988320" y="2035080"/>
              <a:ext cx="15840" cy="806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988320" y="203508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537240" y="2565360"/>
            <a:ext cx="2905200" cy="360"/>
            <a:chOff x="6537240" y="2565360"/>
            <a:chExt cx="2905200" cy="360"/>
          </a:xfrm>
        </p:grpSpPr>
        <p:sp>
          <p:nvSpPr>
            <p:cNvPr id="183" name="Line 16"/>
            <p:cNvSpPr/>
            <p:nvPr/>
          </p:nvSpPr>
          <p:spPr>
            <a:xfrm>
              <a:off x="6537240" y="2565360"/>
              <a:ext cx="2905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537240" y="2565360"/>
              <a:ext cx="290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227400" y="3346560"/>
            <a:ext cx="14400" cy="804600"/>
            <a:chOff x="3227400" y="3346560"/>
            <a:chExt cx="14400" cy="804600"/>
          </a:xfrm>
        </p:grpSpPr>
        <p:sp>
          <p:nvSpPr>
            <p:cNvPr id="186" name="Line 17"/>
            <p:cNvSpPr/>
            <p:nvPr/>
          </p:nvSpPr>
          <p:spPr>
            <a:xfrm>
              <a:off x="3227400" y="3346560"/>
              <a:ext cx="14400" cy="8046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227400" y="3346560"/>
              <a:ext cx="14400" cy="80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776680" y="3846600"/>
            <a:ext cx="2904840" cy="1440"/>
            <a:chOff x="2776680" y="3846600"/>
            <a:chExt cx="2904840" cy="1440"/>
          </a:xfrm>
        </p:grpSpPr>
        <p:sp>
          <p:nvSpPr>
            <p:cNvPr id="189" name="Line 18"/>
            <p:cNvSpPr/>
            <p:nvPr/>
          </p:nvSpPr>
          <p:spPr>
            <a:xfrm>
              <a:off x="2776680" y="3846600"/>
              <a:ext cx="290484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2776680" y="3846600"/>
              <a:ext cx="2904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972480" y="3351240"/>
            <a:ext cx="15840" cy="806400"/>
            <a:chOff x="6972480" y="3351240"/>
            <a:chExt cx="15840" cy="806400"/>
          </a:xfrm>
        </p:grpSpPr>
        <p:sp>
          <p:nvSpPr>
            <p:cNvPr id="192" name="Line 19"/>
            <p:cNvSpPr/>
            <p:nvPr/>
          </p:nvSpPr>
          <p:spPr>
            <a:xfrm>
              <a:off x="6972480" y="3351240"/>
              <a:ext cx="15840" cy="806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6972480" y="335124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523200" y="3805200"/>
            <a:ext cx="2904840" cy="360"/>
            <a:chOff x="6523200" y="3805200"/>
            <a:chExt cx="2904840" cy="360"/>
          </a:xfrm>
        </p:grpSpPr>
        <p:sp>
          <p:nvSpPr>
            <p:cNvPr id="195" name="Line 20"/>
            <p:cNvSpPr/>
            <p:nvPr/>
          </p:nvSpPr>
          <p:spPr>
            <a:xfrm>
              <a:off x="6523200" y="3805200"/>
              <a:ext cx="29048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6523200" y="3805200"/>
              <a:ext cx="2904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Text Box 21"/>
          <p:cNvSpPr/>
          <p:nvPr/>
        </p:nvSpPr>
        <p:spPr>
          <a:xfrm>
            <a:off x="3197160" y="2505240"/>
            <a:ext cx="2129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3211560" y="38019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970680" y="248904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6939000" y="375120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2724480" y="1992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26"/>
          <p:cNvSpPr/>
          <p:nvPr/>
        </p:nvSpPr>
        <p:spPr>
          <a:xfrm>
            <a:off x="6498720" y="2016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2723760" y="3298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28"/>
          <p:cNvSpPr/>
          <p:nvPr/>
        </p:nvSpPr>
        <p:spPr>
          <a:xfrm>
            <a:off x="6481080" y="3263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29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30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85840" y="264960"/>
            <a:ext cx="11666520" cy="360"/>
            <a:chOff x="285840" y="264960"/>
            <a:chExt cx="11666520" cy="360"/>
          </a:xfrm>
        </p:grpSpPr>
        <p:sp>
          <p:nvSpPr>
            <p:cNvPr id="208" name="Line 31"/>
            <p:cNvSpPr/>
            <p:nvPr/>
          </p:nvSpPr>
          <p:spPr>
            <a:xfrm>
              <a:off x="285840" y="264960"/>
              <a:ext cx="11666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285840" y="264960"/>
              <a:ext cx="1166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0" name="Picture 32" descr="qqq"/>
          <p:cNvPicPr/>
          <p:nvPr/>
        </p:nvPicPr>
        <p:blipFill>
          <a:blip r:embed="rId2"/>
          <a:stretch/>
        </p:blipFill>
        <p:spPr>
          <a:xfrm>
            <a:off x="11147400" y="5384880"/>
            <a:ext cx="781200" cy="78084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240" y="28440"/>
            <a:ext cx="29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o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·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  n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o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302520"/>
            <a:ext cx="121921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6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217" name="Line 7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Text Box 8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989440" y="264960"/>
            <a:ext cx="8962920" cy="1800"/>
            <a:chOff x="2989440" y="264960"/>
            <a:chExt cx="8962920" cy="1800"/>
          </a:xfrm>
        </p:grpSpPr>
        <p:sp>
          <p:nvSpPr>
            <p:cNvPr id="221" name="Line 9"/>
            <p:cNvSpPr/>
            <p:nvPr/>
          </p:nvSpPr>
          <p:spPr>
            <a:xfrm>
              <a:off x="2989440" y="264960"/>
              <a:ext cx="8962920" cy="1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989440" y="264960"/>
              <a:ext cx="89629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3" name="Text Box 10"/>
          <p:cNvSpPr/>
          <p:nvPr/>
        </p:nvSpPr>
        <p:spPr>
          <a:xfrm>
            <a:off x="192240" y="2916360"/>
            <a:ext cx="570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是牛是马，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也不会是威武霸气的老</a:t>
            </a:r>
            <a:r>
              <a:rPr b="0" lang="zh-CN" sz="2800" spc="-1" strike="noStrike">
                <a:solidFill>
                  <a:srgbClr val="a50501"/>
                </a:solidFill>
                <a:latin typeface="Calibri"/>
              </a:rPr>
              <a:t>虎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．．．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735600" y="909720"/>
            <a:ext cx="110196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诗人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966080" y="909720"/>
            <a:ext cx="107316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编曲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6737400" y="3193920"/>
            <a:ext cx="110808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作家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6756480" y="2060640"/>
            <a:ext cx="108900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策划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9144000" y="909720"/>
            <a:ext cx="148752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艺术家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9144000" y="2060640"/>
            <a:ext cx="147312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工程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17"/>
          <p:cNvSpPr/>
          <p:nvPr/>
        </p:nvSpPr>
        <p:spPr>
          <a:xfrm>
            <a:off x="7966080" y="2060640"/>
            <a:ext cx="107316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制片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9163080" y="3193920"/>
            <a:ext cx="145404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设计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7967520" y="3193920"/>
            <a:ext cx="102708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美工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6647040" y="4292640"/>
            <a:ext cx="4128840" cy="106884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501"/>
                </a:solidFill>
                <a:latin typeface="Calibri"/>
              </a:rPr>
              <a:t>为广告创造概念和内容的人</a:t>
            </a:r>
            <a:r>
              <a:rPr b="0" lang="zh-CN" sz="3200" spc="-1" strike="noStrike">
                <a:solidFill>
                  <a:srgbClr val="a50501"/>
                </a:solidFill>
                <a:latin typeface="Calibri"/>
              </a:rPr>
              <a:t>+</a:t>
            </a:r>
            <a:r>
              <a:rPr b="0" lang="zh-CN" sz="3200" spc="-1" strike="noStrike">
                <a:solidFill>
                  <a:srgbClr val="a50501"/>
                </a:solidFill>
                <a:latin typeface="Calibri"/>
              </a:rPr>
              <a:t>以上所</a:t>
            </a:r>
            <a:r>
              <a:rPr b="0" lang="zh-CN" sz="3200" spc="-1" strike="noStrike">
                <a:solidFill>
                  <a:srgbClr val="a50501"/>
                </a:solidFill>
                <a:latin typeface="迷你简卡通"/>
              </a:rPr>
              <a:t>有</a:t>
            </a:r>
            <a:r>
              <a:rPr b="0" lang="zh-CN" sz="3200" spc="-1" strike="noStrike">
                <a:solidFill>
                  <a:srgbClr val="a50501"/>
                </a:solidFill>
                <a:latin typeface="迷你简卡通"/>
              </a:rPr>
              <a:t>and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AutoShape 21"/>
          <p:cNvSpPr/>
          <p:nvPr/>
        </p:nvSpPr>
        <p:spPr>
          <a:xfrm>
            <a:off x="6889680" y="909720"/>
            <a:ext cx="7873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22"/>
          <p:cNvSpPr/>
          <p:nvPr/>
        </p:nvSpPr>
        <p:spPr>
          <a:xfrm>
            <a:off x="6889680" y="3170160"/>
            <a:ext cx="7873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23"/>
          <p:cNvSpPr/>
          <p:nvPr/>
        </p:nvSpPr>
        <p:spPr>
          <a:xfrm>
            <a:off x="6889680" y="2060640"/>
            <a:ext cx="7873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AutoShape 24"/>
          <p:cNvSpPr/>
          <p:nvPr/>
        </p:nvSpPr>
        <p:spPr>
          <a:xfrm>
            <a:off x="8043840" y="907920"/>
            <a:ext cx="7891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25"/>
          <p:cNvSpPr/>
          <p:nvPr/>
        </p:nvSpPr>
        <p:spPr>
          <a:xfrm>
            <a:off x="8043840" y="3168720"/>
            <a:ext cx="7891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AutoShape 26"/>
          <p:cNvSpPr/>
          <p:nvPr/>
        </p:nvSpPr>
        <p:spPr>
          <a:xfrm>
            <a:off x="8043840" y="2060640"/>
            <a:ext cx="7891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27"/>
          <p:cNvSpPr/>
          <p:nvPr/>
        </p:nvSpPr>
        <p:spPr>
          <a:xfrm>
            <a:off x="9483840" y="909720"/>
            <a:ext cx="7873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AutoShape 28"/>
          <p:cNvSpPr/>
          <p:nvPr/>
        </p:nvSpPr>
        <p:spPr>
          <a:xfrm>
            <a:off x="9483840" y="3170160"/>
            <a:ext cx="7873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AutoShape 29"/>
          <p:cNvSpPr/>
          <p:nvPr/>
        </p:nvSpPr>
        <p:spPr>
          <a:xfrm>
            <a:off x="9483840" y="2060640"/>
            <a:ext cx="787320" cy="619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932" y="16960"/>
                </a:moveTo>
                <a:cubicBezTo>
                  <a:pt x="19411" y="15248"/>
                  <a:pt x="20225" y="13062"/>
                  <a:pt x="20225" y="10800"/>
                </a:cubicBezTo>
                <a:cubicBezTo>
                  <a:pt x="20225" y="5594"/>
                  <a:pt x="16005" y="1375"/>
                  <a:pt x="10800" y="1375"/>
                </a:cubicBezTo>
                <a:cubicBezTo>
                  <a:pt x="8537" y="1374"/>
                  <a:pt x="6351" y="2188"/>
                  <a:pt x="4639" y="3667"/>
                </a:cubicBezTo>
                <a:close/>
                <a:moveTo>
                  <a:pt x="3667" y="4639"/>
                </a:moveTo>
                <a:cubicBezTo>
                  <a:pt x="2188" y="6351"/>
                  <a:pt x="1375" y="8537"/>
                  <a:pt x="1375" y="10799"/>
                </a:cubicBezTo>
                <a:cubicBezTo>
                  <a:pt x="1375" y="16005"/>
                  <a:pt x="5594" y="20225"/>
                  <a:pt x="10800" y="20225"/>
                </a:cubicBezTo>
                <a:cubicBezTo>
                  <a:pt x="13062" y="20225"/>
                  <a:pt x="15248" y="19411"/>
                  <a:pt x="16960" y="17932"/>
                </a:cubicBezTo>
                <a:close/>
              </a:path>
            </a:pathLst>
          </a:cu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245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246" name="Line 4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Rectangle 5"/>
          <p:cNvSpPr/>
          <p:nvPr/>
        </p:nvSpPr>
        <p:spPr>
          <a:xfrm>
            <a:off x="2506680" y="197964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26436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250668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3560040" y="1990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568680" y="3363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7328520" y="3376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230640" y="2038320"/>
            <a:ext cx="14040" cy="804960"/>
            <a:chOff x="3230640" y="2038320"/>
            <a:chExt cx="14040" cy="804960"/>
          </a:xfrm>
        </p:grpSpPr>
        <p:sp>
          <p:nvSpPr>
            <p:cNvPr id="255" name="Line 11"/>
            <p:cNvSpPr/>
            <p:nvPr/>
          </p:nvSpPr>
          <p:spPr>
            <a:xfrm>
              <a:off x="3230640" y="2038320"/>
              <a:ext cx="14040" cy="8049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3230640" y="2038320"/>
              <a:ext cx="14040" cy="8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779560" y="2567160"/>
            <a:ext cx="2905200" cy="1440"/>
            <a:chOff x="2779560" y="2567160"/>
            <a:chExt cx="2905200" cy="1440"/>
          </a:xfrm>
        </p:grpSpPr>
        <p:sp>
          <p:nvSpPr>
            <p:cNvPr id="258" name="Line 12"/>
            <p:cNvSpPr/>
            <p:nvPr/>
          </p:nvSpPr>
          <p:spPr>
            <a:xfrm>
              <a:off x="2779560" y="2567160"/>
              <a:ext cx="29052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2779560" y="2567160"/>
              <a:ext cx="290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227400" y="3346560"/>
            <a:ext cx="14400" cy="804600"/>
            <a:chOff x="3227400" y="3346560"/>
            <a:chExt cx="14400" cy="804600"/>
          </a:xfrm>
        </p:grpSpPr>
        <p:sp>
          <p:nvSpPr>
            <p:cNvPr id="261" name="Line 13"/>
            <p:cNvSpPr/>
            <p:nvPr/>
          </p:nvSpPr>
          <p:spPr>
            <a:xfrm>
              <a:off x="3227400" y="3346560"/>
              <a:ext cx="14400" cy="8046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3227400" y="3346560"/>
              <a:ext cx="14400" cy="80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776680" y="3846600"/>
            <a:ext cx="2904840" cy="1440"/>
            <a:chOff x="2776680" y="3846600"/>
            <a:chExt cx="2904840" cy="1440"/>
          </a:xfrm>
        </p:grpSpPr>
        <p:sp>
          <p:nvSpPr>
            <p:cNvPr id="264" name="Line 14"/>
            <p:cNvSpPr/>
            <p:nvPr/>
          </p:nvSpPr>
          <p:spPr>
            <a:xfrm>
              <a:off x="2776680" y="3846600"/>
              <a:ext cx="290484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776680" y="3846600"/>
              <a:ext cx="2904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6972480" y="3351240"/>
            <a:ext cx="15840" cy="806400"/>
            <a:chOff x="6972480" y="3351240"/>
            <a:chExt cx="15840" cy="806400"/>
          </a:xfrm>
        </p:grpSpPr>
        <p:sp>
          <p:nvSpPr>
            <p:cNvPr id="267" name="Line 15"/>
            <p:cNvSpPr/>
            <p:nvPr/>
          </p:nvSpPr>
          <p:spPr>
            <a:xfrm>
              <a:off x="6972480" y="3351240"/>
              <a:ext cx="15840" cy="806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972480" y="335124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6523200" y="3805200"/>
            <a:ext cx="2904840" cy="360"/>
            <a:chOff x="6523200" y="3805200"/>
            <a:chExt cx="2904840" cy="360"/>
          </a:xfrm>
        </p:grpSpPr>
        <p:sp>
          <p:nvSpPr>
            <p:cNvPr id="270" name="Line 16"/>
            <p:cNvSpPr/>
            <p:nvPr/>
          </p:nvSpPr>
          <p:spPr>
            <a:xfrm>
              <a:off x="6523200" y="3805200"/>
              <a:ext cx="290484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6523200" y="3805200"/>
              <a:ext cx="2904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17"/>
          <p:cNvSpPr/>
          <p:nvPr/>
        </p:nvSpPr>
        <p:spPr>
          <a:xfrm>
            <a:off x="3197160" y="2505240"/>
            <a:ext cx="2129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18"/>
          <p:cNvSpPr/>
          <p:nvPr/>
        </p:nvSpPr>
        <p:spPr>
          <a:xfrm>
            <a:off x="3211560" y="38019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19"/>
          <p:cNvSpPr/>
          <p:nvPr/>
        </p:nvSpPr>
        <p:spPr>
          <a:xfrm>
            <a:off x="6939000" y="375120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 Box 20"/>
          <p:cNvSpPr/>
          <p:nvPr/>
        </p:nvSpPr>
        <p:spPr>
          <a:xfrm>
            <a:off x="2724480" y="1992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21"/>
          <p:cNvSpPr/>
          <p:nvPr/>
        </p:nvSpPr>
        <p:spPr>
          <a:xfrm>
            <a:off x="2723760" y="3298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 Box 22"/>
          <p:cNvSpPr/>
          <p:nvPr/>
        </p:nvSpPr>
        <p:spPr>
          <a:xfrm>
            <a:off x="6481080" y="3263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 Box 23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4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85840" y="264960"/>
            <a:ext cx="11666520" cy="360"/>
            <a:chOff x="285840" y="264960"/>
            <a:chExt cx="11666520" cy="360"/>
          </a:xfrm>
        </p:grpSpPr>
        <p:sp>
          <p:nvSpPr>
            <p:cNvPr id="281" name="Line 25"/>
            <p:cNvSpPr/>
            <p:nvPr/>
          </p:nvSpPr>
          <p:spPr>
            <a:xfrm>
              <a:off x="285840" y="264960"/>
              <a:ext cx="11666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285840" y="264960"/>
              <a:ext cx="1166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3" name="Picture 26" descr="qqq"/>
          <p:cNvPicPr/>
          <p:nvPr/>
        </p:nvPicPr>
        <p:blipFill>
          <a:blip r:embed="rId2"/>
          <a:stretch/>
        </p:blipFill>
        <p:spPr>
          <a:xfrm>
            <a:off x="11147400" y="5384880"/>
            <a:ext cx="781200" cy="78084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  <p:sp>
        <p:nvSpPr>
          <p:cNvPr id="284" name="Rectangle 27"/>
          <p:cNvSpPr/>
          <p:nvPr/>
        </p:nvSpPr>
        <p:spPr>
          <a:xfrm>
            <a:off x="6264360" y="1992240"/>
            <a:ext cx="3317760" cy="95904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7353720" y="21477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989760" y="2049480"/>
            <a:ext cx="14400" cy="806400"/>
            <a:chOff x="6989760" y="2049480"/>
            <a:chExt cx="14400" cy="806400"/>
          </a:xfrm>
        </p:grpSpPr>
        <p:sp>
          <p:nvSpPr>
            <p:cNvPr id="287" name="Line 29"/>
            <p:cNvSpPr/>
            <p:nvPr/>
          </p:nvSpPr>
          <p:spPr>
            <a:xfrm>
              <a:off x="6989760" y="2049480"/>
              <a:ext cx="1440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6989760" y="2049480"/>
              <a:ext cx="1440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539040" y="2579760"/>
            <a:ext cx="2904840" cy="360"/>
            <a:chOff x="6539040" y="2579760"/>
            <a:chExt cx="2904840" cy="360"/>
          </a:xfrm>
        </p:grpSpPr>
        <p:sp>
          <p:nvSpPr>
            <p:cNvPr id="290" name="Line 30"/>
            <p:cNvSpPr/>
            <p:nvPr/>
          </p:nvSpPr>
          <p:spPr>
            <a:xfrm>
              <a:off x="6539040" y="2579760"/>
              <a:ext cx="290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6539040" y="2579760"/>
              <a:ext cx="2904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Text Box 31"/>
          <p:cNvSpPr/>
          <p:nvPr/>
        </p:nvSpPr>
        <p:spPr>
          <a:xfrm>
            <a:off x="6972480" y="2503440"/>
            <a:ext cx="223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32"/>
          <p:cNvSpPr/>
          <p:nvPr/>
        </p:nvSpPr>
        <p:spPr>
          <a:xfrm>
            <a:off x="6498720" y="20318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8199"/>
          <p:cNvSpPr/>
          <p:nvPr/>
        </p:nvSpPr>
        <p:spPr>
          <a:xfrm>
            <a:off x="2813040" y="141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5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299" name=""/>
          <p:cNvGrpSpPr/>
          <p:nvPr/>
        </p:nvGrpSpPr>
        <p:grpSpPr>
          <a:xfrm>
            <a:off x="7104240" y="6381720"/>
            <a:ext cx="4897440" cy="360"/>
            <a:chOff x="7104240" y="6381720"/>
            <a:chExt cx="4897440" cy="360"/>
          </a:xfrm>
        </p:grpSpPr>
        <p:sp>
          <p:nvSpPr>
            <p:cNvPr id="300" name="Line 6"/>
            <p:cNvSpPr/>
            <p:nvPr/>
          </p:nvSpPr>
          <p:spPr>
            <a:xfrm>
              <a:off x="7104240" y="6381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7104240" y="6381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Text Box 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157320" y="-15840"/>
            <a:ext cx="28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at</a:t>
            </a:r>
            <a:r>
              <a:rPr b="0" lang="zh-CN" sz="2800" spc="-1" strike="noStrike">
                <a:solidFill>
                  <a:srgbClr val="ffffff"/>
                </a:solidFill>
                <a:latin typeface="迷你简卡通"/>
                <a:ea typeface="迷你简准圆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989440" y="264960"/>
            <a:ext cx="8962920" cy="1800"/>
            <a:chOff x="2989440" y="264960"/>
            <a:chExt cx="8962920" cy="1800"/>
          </a:xfrm>
        </p:grpSpPr>
        <p:sp>
          <p:nvSpPr>
            <p:cNvPr id="305" name="Line 9"/>
            <p:cNvSpPr/>
            <p:nvPr/>
          </p:nvSpPr>
          <p:spPr>
            <a:xfrm>
              <a:off x="2989440" y="264960"/>
              <a:ext cx="8962920" cy="1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2989440" y="264960"/>
              <a:ext cx="89629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7" name="Text Box 10"/>
          <p:cNvSpPr/>
          <p:nvPr/>
        </p:nvSpPr>
        <p:spPr>
          <a:xfrm>
            <a:off x="192240" y="2916360"/>
            <a:ext cx="601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不管能做什么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都不会做出比</a:t>
            </a:r>
            <a:r>
              <a:rPr b="0" lang="zh-CN" sz="2400" spc="-1" strike="noStrike">
                <a:solidFill>
                  <a:srgbClr val="a50501"/>
                </a:solidFill>
                <a:latin typeface="Calibri"/>
              </a:rPr>
              <a:t>袜子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还臭的东西．．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utoShape 11"/>
          <p:cNvSpPr/>
          <p:nvPr/>
        </p:nvSpPr>
        <p:spPr>
          <a:xfrm>
            <a:off x="8637480" y="2700360"/>
            <a:ext cx="1125720" cy="1125360"/>
          </a:xfrm>
          <a:prstGeom prst="octagon">
            <a:avLst>
              <a:gd name="adj" fmla="val 29287"/>
            </a:avLst>
          </a:prstGeom>
          <a:solidFill>
            <a:srgbClr val="a50501"/>
          </a:solidFill>
          <a:ln w="9360">
            <a:solidFill>
              <a:srgbClr val="a50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12"/>
          <p:cNvSpPr/>
          <p:nvPr/>
        </p:nvSpPr>
        <p:spPr>
          <a:xfrm rot="840000">
            <a:off x="8637120" y="3065040"/>
            <a:ext cx="16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COPY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5521320" y="1844640"/>
            <a:ext cx="4390920" cy="58140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501"/>
                </a:solidFill>
                <a:latin typeface="Calibri"/>
              </a:rPr>
              <a:t>．．．甜过初恋．．．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7908840" y="4191120"/>
            <a:ext cx="4235400" cy="52056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501"/>
                </a:solidFill>
                <a:latin typeface="Calibri"/>
              </a:rPr>
              <a:t>钻石恒久远　一颗永流传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6994440" y="836640"/>
            <a:ext cx="4645080" cy="39888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501"/>
                </a:solidFill>
                <a:latin typeface="Calibri"/>
              </a:rPr>
              <a:t>世界上有种专门拆散亲子关系的怪物，叫做＂长大＂</a:t>
            </a: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5522760" y="4938840"/>
            <a:ext cx="4389480" cy="155628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501"/>
                </a:solidFill>
                <a:latin typeface="迷你简准圆"/>
                <a:ea typeface="迷你简准圆"/>
              </a:rPr>
              <a:t>It's a beatiful day,and I can't see it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AutoShape 17"/>
          <p:cNvCxnSpPr>
            <a:stCxn id="312" idx="3"/>
            <a:endCxn id="308" idx="2"/>
          </p:cNvCxnSpPr>
          <p:nvPr/>
        </p:nvCxnSpPr>
        <p:spPr>
          <a:xfrm flipH="1">
            <a:off x="9762840" y="1265040"/>
            <a:ext cx="1877040" cy="2068920"/>
          </a:xfrm>
          <a:prstGeom prst="straightConnector1">
            <a:avLst/>
          </a:prstGeom>
          <a:ln w="31680">
            <a:solidFill>
              <a:srgbClr val="000000"/>
            </a:solidFill>
            <a:prstDash val="dash"/>
            <a:miter/>
          </a:ln>
        </p:spPr>
      </p:cxnSp>
      <p:cxnSp>
        <p:nvCxnSpPr>
          <p:cNvPr id="315" name="AutoShape 18"/>
          <p:cNvCxnSpPr>
            <a:stCxn id="311" idx="0"/>
            <a:endCxn id="308" idx="2"/>
          </p:cNvCxnSpPr>
          <p:nvPr/>
        </p:nvCxnSpPr>
        <p:spPr>
          <a:xfrm flipH="1" flipV="1">
            <a:off x="9198720" y="3823920"/>
            <a:ext cx="826200" cy="365760"/>
          </a:xfrm>
          <a:prstGeom prst="straightConnector1">
            <a:avLst/>
          </a:prstGeom>
          <a:ln w="31680">
            <a:solidFill>
              <a:srgbClr val="000000"/>
            </a:solidFill>
            <a:prstDash val="dash"/>
            <a:miter/>
          </a:ln>
        </p:spPr>
      </p:cxnSp>
      <p:cxnSp>
        <p:nvCxnSpPr>
          <p:cNvPr id="316" name="AutoShape 19"/>
          <p:cNvCxnSpPr>
            <a:stCxn id="310" idx="2"/>
            <a:endCxn id="308" idx="2"/>
          </p:cNvCxnSpPr>
          <p:nvPr/>
        </p:nvCxnSpPr>
        <p:spPr>
          <a:xfrm>
            <a:off x="7714080" y="2509560"/>
            <a:ext cx="1485000" cy="261000"/>
          </a:xfrm>
          <a:prstGeom prst="straightConnector1">
            <a:avLst/>
          </a:prstGeom>
          <a:ln w="31680">
            <a:solidFill>
              <a:srgbClr val="000000"/>
            </a:solidFill>
            <a:prstDash val="dash"/>
            <a:miter/>
          </a:ln>
        </p:spPr>
      </p:cxnSp>
      <p:cxnSp>
        <p:nvCxnSpPr>
          <p:cNvPr id="317" name="AutoShape 20"/>
          <p:cNvCxnSpPr>
            <a:stCxn id="313" idx="0"/>
            <a:endCxn id="308" idx="2"/>
          </p:cNvCxnSpPr>
          <p:nvPr/>
        </p:nvCxnSpPr>
        <p:spPr>
          <a:xfrm flipV="1">
            <a:off x="7716600" y="3261960"/>
            <a:ext cx="919800" cy="1675440"/>
          </a:xfrm>
          <a:prstGeom prst="straightConnector1">
            <a:avLst/>
          </a:prstGeom>
          <a:ln w="31680">
            <a:solidFill>
              <a:srgbClr val="000000"/>
            </a:solidFill>
            <a:prstDash val="dash"/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3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321" name="Line 4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Rectangle 5"/>
          <p:cNvSpPr/>
          <p:nvPr/>
        </p:nvSpPr>
        <p:spPr>
          <a:xfrm>
            <a:off x="6261120" y="3375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264360" y="19764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7353000" y="2131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7326000" y="34574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988320" y="2035080"/>
            <a:ext cx="15840" cy="806400"/>
            <a:chOff x="6988320" y="2035080"/>
            <a:chExt cx="15840" cy="806400"/>
          </a:xfrm>
        </p:grpSpPr>
        <p:sp>
          <p:nvSpPr>
            <p:cNvPr id="328" name="Line 9"/>
            <p:cNvSpPr/>
            <p:nvPr/>
          </p:nvSpPr>
          <p:spPr>
            <a:xfrm>
              <a:off x="6988320" y="2035080"/>
              <a:ext cx="15840" cy="806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6988320" y="203508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537240" y="2565360"/>
            <a:ext cx="2905200" cy="360"/>
            <a:chOff x="6537240" y="2565360"/>
            <a:chExt cx="2905200" cy="360"/>
          </a:xfrm>
        </p:grpSpPr>
        <p:sp>
          <p:nvSpPr>
            <p:cNvPr id="331" name="Line 10"/>
            <p:cNvSpPr/>
            <p:nvPr/>
          </p:nvSpPr>
          <p:spPr>
            <a:xfrm>
              <a:off x="6537240" y="2565360"/>
              <a:ext cx="2905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6537240" y="2565360"/>
              <a:ext cx="290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969240" y="3432240"/>
            <a:ext cx="15840" cy="806400"/>
            <a:chOff x="6969240" y="3432240"/>
            <a:chExt cx="15840" cy="806400"/>
          </a:xfrm>
        </p:grpSpPr>
        <p:sp>
          <p:nvSpPr>
            <p:cNvPr id="334" name="Line 11"/>
            <p:cNvSpPr/>
            <p:nvPr/>
          </p:nvSpPr>
          <p:spPr>
            <a:xfrm>
              <a:off x="6969240" y="3432240"/>
              <a:ext cx="15840" cy="806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6969240" y="343224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6521400" y="3886200"/>
            <a:ext cx="2905200" cy="360"/>
            <a:chOff x="6521400" y="3886200"/>
            <a:chExt cx="2905200" cy="360"/>
          </a:xfrm>
        </p:grpSpPr>
        <p:sp>
          <p:nvSpPr>
            <p:cNvPr id="337" name="Line 12"/>
            <p:cNvSpPr/>
            <p:nvPr/>
          </p:nvSpPr>
          <p:spPr>
            <a:xfrm>
              <a:off x="6521400" y="3886200"/>
              <a:ext cx="2905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6521400" y="3886200"/>
              <a:ext cx="290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9" name="Text Box 13"/>
          <p:cNvSpPr/>
          <p:nvPr/>
        </p:nvSpPr>
        <p:spPr>
          <a:xfrm>
            <a:off x="6970680" y="248904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6937200" y="383220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6498720" y="2016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6478920" y="3344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18"/>
          <p:cNvSpPr/>
          <p:nvPr/>
        </p:nvSpPr>
        <p:spPr>
          <a:xfrm>
            <a:off x="2506680" y="197964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19"/>
          <p:cNvSpPr/>
          <p:nvPr/>
        </p:nvSpPr>
        <p:spPr>
          <a:xfrm>
            <a:off x="3560040" y="1990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230640" y="2038320"/>
            <a:ext cx="14040" cy="804960"/>
            <a:chOff x="3230640" y="2038320"/>
            <a:chExt cx="14040" cy="804960"/>
          </a:xfrm>
        </p:grpSpPr>
        <p:sp>
          <p:nvSpPr>
            <p:cNvPr id="347" name="Line 20"/>
            <p:cNvSpPr/>
            <p:nvPr/>
          </p:nvSpPr>
          <p:spPr>
            <a:xfrm>
              <a:off x="3230640" y="2038320"/>
              <a:ext cx="14040" cy="8049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>
              <a:off x="3230640" y="2038320"/>
              <a:ext cx="14040" cy="8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2779560" y="2567160"/>
            <a:ext cx="2905200" cy="1440"/>
            <a:chOff x="2779560" y="2567160"/>
            <a:chExt cx="2905200" cy="1440"/>
          </a:xfrm>
        </p:grpSpPr>
        <p:sp>
          <p:nvSpPr>
            <p:cNvPr id="350" name="Line 21"/>
            <p:cNvSpPr/>
            <p:nvPr/>
          </p:nvSpPr>
          <p:spPr>
            <a:xfrm>
              <a:off x="2779560" y="2567160"/>
              <a:ext cx="29052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2779560" y="2567160"/>
              <a:ext cx="290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2" name="Text Box 22"/>
          <p:cNvSpPr/>
          <p:nvPr/>
        </p:nvSpPr>
        <p:spPr>
          <a:xfrm>
            <a:off x="3197160" y="2505240"/>
            <a:ext cx="2129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 Box 23"/>
          <p:cNvSpPr/>
          <p:nvPr/>
        </p:nvSpPr>
        <p:spPr>
          <a:xfrm>
            <a:off x="2724480" y="1992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24"/>
          <p:cNvSpPr/>
          <p:nvPr/>
        </p:nvSpPr>
        <p:spPr>
          <a:xfrm>
            <a:off x="2519280" y="3381480"/>
            <a:ext cx="3318120" cy="9604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25"/>
          <p:cNvSpPr/>
          <p:nvPr/>
        </p:nvSpPr>
        <p:spPr>
          <a:xfrm>
            <a:off x="3581280" y="3451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240000" y="3424320"/>
            <a:ext cx="14400" cy="804960"/>
            <a:chOff x="3240000" y="3424320"/>
            <a:chExt cx="14400" cy="804960"/>
          </a:xfrm>
        </p:grpSpPr>
        <p:sp>
          <p:nvSpPr>
            <p:cNvPr id="357" name="Line 26"/>
            <p:cNvSpPr/>
            <p:nvPr/>
          </p:nvSpPr>
          <p:spPr>
            <a:xfrm>
              <a:off x="3240000" y="3424320"/>
              <a:ext cx="14400" cy="804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3240000" y="3424320"/>
              <a:ext cx="14400" cy="8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789280" y="3933720"/>
            <a:ext cx="2905200" cy="1800"/>
            <a:chOff x="2789280" y="3933720"/>
            <a:chExt cx="2905200" cy="1800"/>
          </a:xfrm>
        </p:grpSpPr>
        <p:sp>
          <p:nvSpPr>
            <p:cNvPr id="360" name="Line 27"/>
            <p:cNvSpPr/>
            <p:nvPr/>
          </p:nvSpPr>
          <p:spPr>
            <a:xfrm>
              <a:off x="2789280" y="3933720"/>
              <a:ext cx="29052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2789280" y="3933720"/>
              <a:ext cx="29052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Text Box 28"/>
          <p:cNvSpPr/>
          <p:nvPr/>
        </p:nvSpPr>
        <p:spPr>
          <a:xfrm>
            <a:off x="3224160" y="3890880"/>
            <a:ext cx="21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29"/>
          <p:cNvSpPr/>
          <p:nvPr/>
        </p:nvSpPr>
        <p:spPr>
          <a:xfrm>
            <a:off x="2735280" y="33876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30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85840" y="264960"/>
            <a:ext cx="11666520" cy="360"/>
            <a:chOff x="285840" y="264960"/>
            <a:chExt cx="11666520" cy="360"/>
          </a:xfrm>
        </p:grpSpPr>
        <p:sp>
          <p:nvSpPr>
            <p:cNvPr id="366" name="Line 31"/>
            <p:cNvSpPr/>
            <p:nvPr/>
          </p:nvSpPr>
          <p:spPr>
            <a:xfrm>
              <a:off x="285840" y="264960"/>
              <a:ext cx="11666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"/>
            <p:cNvSpPr txBox="1"/>
            <p:nvPr/>
          </p:nvSpPr>
          <p:spPr>
            <a:xfrm>
              <a:off x="285840" y="264960"/>
              <a:ext cx="1166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8" name="Picture 32" descr="qqq"/>
          <p:cNvPicPr/>
          <p:nvPr/>
        </p:nvPicPr>
        <p:blipFill>
          <a:blip r:embed="rId2"/>
          <a:stretch/>
        </p:blipFill>
        <p:spPr>
          <a:xfrm>
            <a:off x="11147400" y="5384880"/>
            <a:ext cx="781200" cy="78084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7283520" y="63244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5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374" name="Line 6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6" name="Text Box 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192240" y="2916360"/>
            <a:ext cx="601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不到最好一刻决不说</a:t>
            </a:r>
            <a:r>
              <a:rPr b="0" lang="zh-CN" sz="2400" spc="-1" strike="noStrike">
                <a:solidFill>
                  <a:srgbClr val="a50501"/>
                </a:solidFill>
                <a:latin typeface="Calibri"/>
              </a:rPr>
              <a:t>好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　　因为这样可以做得更好．．</a:t>
            </a:r>
            <a:r>
              <a:rPr b="0" lang="zh-CN" sz="2600" spc="-1" strike="noStrike">
                <a:solidFill>
                  <a:srgbClr val="000000"/>
                </a:solidFill>
                <a:latin typeface="Calibri"/>
              </a:rPr>
              <a:t>．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192240" y="44280"/>
            <a:ext cx="28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how·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989440" y="264960"/>
            <a:ext cx="8962920" cy="1800"/>
            <a:chOff x="2989440" y="264960"/>
            <a:chExt cx="8962920" cy="1800"/>
          </a:xfrm>
        </p:grpSpPr>
        <p:sp>
          <p:nvSpPr>
            <p:cNvPr id="380" name="Line 10"/>
            <p:cNvSpPr/>
            <p:nvPr/>
          </p:nvSpPr>
          <p:spPr>
            <a:xfrm>
              <a:off x="2989440" y="264960"/>
              <a:ext cx="8962920" cy="180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2989440" y="264960"/>
              <a:ext cx="89629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2" name="Picture 11" descr="how"/>
          <p:cNvPicPr/>
          <p:nvPr/>
        </p:nvPicPr>
        <p:blipFill>
          <a:blip r:embed="rId2"/>
          <a:srcRect l="0" t="0" r="14010" b="0"/>
          <a:stretch/>
        </p:blipFill>
        <p:spPr>
          <a:xfrm>
            <a:off x="5880240" y="2455920"/>
            <a:ext cx="5522760" cy="9205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2"/>
          <p:cNvSpPr/>
          <p:nvPr/>
        </p:nvSpPr>
        <p:spPr>
          <a:xfrm>
            <a:off x="5457960" y="3718080"/>
            <a:ext cx="6397560" cy="489960"/>
          </a:xfrm>
          <a:prstGeom prst="rect">
            <a:avLst/>
          </a:prstGeom>
          <a:noFill/>
          <a:ln w="15840">
            <a:solidFill>
              <a:srgbClr val="a5050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a50501"/>
                </a:solidFill>
                <a:latin typeface="Calibri"/>
              </a:rPr>
              <a:t>一份文档，一支笔一张纸，外加一个热血沸腾的脑袋，用红、黑、灰、白点缀。</a:t>
            </a:r>
            <a:endParaRPr b="1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0" y="6302520"/>
            <a:ext cx="12190320" cy="5587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3" descr="J"/>
          <p:cNvPicPr/>
          <p:nvPr/>
        </p:nvPicPr>
        <p:blipFill>
          <a:blip r:embed="rId1"/>
          <a:stretch/>
        </p:blipFill>
        <p:spPr>
          <a:xfrm>
            <a:off x="6743880" y="6369120"/>
            <a:ext cx="574560" cy="43164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7104240" y="6597720"/>
            <a:ext cx="4897440" cy="360"/>
            <a:chOff x="7104240" y="6597720"/>
            <a:chExt cx="4897440" cy="360"/>
          </a:xfrm>
        </p:grpSpPr>
        <p:sp>
          <p:nvSpPr>
            <p:cNvPr id="387" name="Line 4"/>
            <p:cNvSpPr/>
            <p:nvPr/>
          </p:nvSpPr>
          <p:spPr>
            <a:xfrm>
              <a:off x="7104240" y="6597720"/>
              <a:ext cx="4897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"/>
            <p:cNvSpPr txBox="1"/>
            <p:nvPr/>
          </p:nvSpPr>
          <p:spPr>
            <a:xfrm>
              <a:off x="7104240" y="6597720"/>
              <a:ext cx="489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Rectangle 5"/>
          <p:cNvSpPr/>
          <p:nvPr/>
        </p:nvSpPr>
        <p:spPr>
          <a:xfrm>
            <a:off x="6234120" y="19764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1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2506680" y="329400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7322760" y="2131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能做什么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3568680" y="33638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迷你简综艺"/>
              </a:rPr>
              <a:t>怎么做文案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958080" y="2035080"/>
            <a:ext cx="15840" cy="806400"/>
            <a:chOff x="6958080" y="2035080"/>
            <a:chExt cx="15840" cy="806400"/>
          </a:xfrm>
        </p:grpSpPr>
        <p:sp>
          <p:nvSpPr>
            <p:cNvPr id="394" name="Line 9"/>
            <p:cNvSpPr/>
            <p:nvPr/>
          </p:nvSpPr>
          <p:spPr>
            <a:xfrm>
              <a:off x="6958080" y="2035080"/>
              <a:ext cx="15840" cy="8064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"/>
            <p:cNvSpPr txBox="1"/>
            <p:nvPr/>
          </p:nvSpPr>
          <p:spPr>
            <a:xfrm>
              <a:off x="6958080" y="203508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507000" y="2565360"/>
            <a:ext cx="2905200" cy="360"/>
            <a:chOff x="6507000" y="2565360"/>
            <a:chExt cx="2905200" cy="360"/>
          </a:xfrm>
        </p:grpSpPr>
        <p:sp>
          <p:nvSpPr>
            <p:cNvPr id="397" name="Line 10"/>
            <p:cNvSpPr/>
            <p:nvPr/>
          </p:nvSpPr>
          <p:spPr>
            <a:xfrm>
              <a:off x="6507000" y="2565360"/>
              <a:ext cx="29052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6507000" y="2565360"/>
              <a:ext cx="290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3227400" y="3346560"/>
            <a:ext cx="14400" cy="804600"/>
            <a:chOff x="3227400" y="3346560"/>
            <a:chExt cx="14400" cy="804600"/>
          </a:xfrm>
        </p:grpSpPr>
        <p:sp>
          <p:nvSpPr>
            <p:cNvPr id="400" name="Line 11"/>
            <p:cNvSpPr/>
            <p:nvPr/>
          </p:nvSpPr>
          <p:spPr>
            <a:xfrm>
              <a:off x="3227400" y="3346560"/>
              <a:ext cx="14400" cy="8046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"/>
            <p:cNvSpPr txBox="1"/>
            <p:nvPr/>
          </p:nvSpPr>
          <p:spPr>
            <a:xfrm>
              <a:off x="3227400" y="3346560"/>
              <a:ext cx="14400" cy="80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776680" y="3846600"/>
            <a:ext cx="2904840" cy="1440"/>
            <a:chOff x="2776680" y="3846600"/>
            <a:chExt cx="2904840" cy="1440"/>
          </a:xfrm>
        </p:grpSpPr>
        <p:sp>
          <p:nvSpPr>
            <p:cNvPr id="403" name="Line 12"/>
            <p:cNvSpPr/>
            <p:nvPr/>
          </p:nvSpPr>
          <p:spPr>
            <a:xfrm>
              <a:off x="2776680" y="3846600"/>
              <a:ext cx="290484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2776680" y="3846600"/>
              <a:ext cx="29048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5" name="Text Box 13"/>
          <p:cNvSpPr/>
          <p:nvPr/>
        </p:nvSpPr>
        <p:spPr>
          <a:xfrm>
            <a:off x="3211560" y="3801960"/>
            <a:ext cx="21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how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好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6940440" y="2489040"/>
            <a:ext cx="223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at. no </a:t>
            </a:r>
            <a:r>
              <a:rPr b="0" lang="zh-CN" sz="24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袜子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6468480" y="2016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16"/>
          <p:cNvSpPr/>
          <p:nvPr/>
        </p:nvSpPr>
        <p:spPr>
          <a:xfrm>
            <a:off x="2723760" y="3298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7350120" y="632952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迷你简卡通"/>
              </a:rPr>
              <a:t>简单做人   轻松做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8"/>
          <p:cNvSpPr/>
          <p:nvPr/>
        </p:nvSpPr>
        <p:spPr>
          <a:xfrm>
            <a:off x="0" y="0"/>
            <a:ext cx="12188880" cy="54612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85840" y="264960"/>
            <a:ext cx="11666520" cy="360"/>
            <a:chOff x="285840" y="264960"/>
            <a:chExt cx="11666520" cy="360"/>
          </a:xfrm>
        </p:grpSpPr>
        <p:sp>
          <p:nvSpPr>
            <p:cNvPr id="412" name="Line 19"/>
            <p:cNvSpPr/>
            <p:nvPr/>
          </p:nvSpPr>
          <p:spPr>
            <a:xfrm>
              <a:off x="285840" y="264960"/>
              <a:ext cx="11666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285840" y="264960"/>
              <a:ext cx="11666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14" name="Picture 20" descr="qqq"/>
          <p:cNvPicPr/>
          <p:nvPr/>
        </p:nvPicPr>
        <p:blipFill>
          <a:blip r:embed="rId2"/>
          <a:stretch/>
        </p:blipFill>
        <p:spPr>
          <a:xfrm>
            <a:off x="11147400" y="5384880"/>
            <a:ext cx="781200" cy="780840"/>
          </a:xfrm>
          <a:prstGeom prst="rect">
            <a:avLst/>
          </a:prstGeom>
          <a:ln w="9360">
            <a:solidFill>
              <a:srgbClr val="a50501"/>
            </a:solidFill>
            <a:miter/>
          </a:ln>
        </p:spPr>
      </p:pic>
      <p:sp>
        <p:nvSpPr>
          <p:cNvPr id="415" name="Rectangle 21"/>
          <p:cNvSpPr/>
          <p:nvPr/>
        </p:nvSpPr>
        <p:spPr>
          <a:xfrm>
            <a:off x="2506680" y="1979640"/>
            <a:ext cx="3317760" cy="960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22"/>
          <p:cNvSpPr/>
          <p:nvPr/>
        </p:nvSpPr>
        <p:spPr>
          <a:xfrm>
            <a:off x="3560040" y="1990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迷你简综艺"/>
              </a:rPr>
              <a:t>文案是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230640" y="2038320"/>
            <a:ext cx="14040" cy="804960"/>
            <a:chOff x="3230640" y="2038320"/>
            <a:chExt cx="14040" cy="804960"/>
          </a:xfrm>
        </p:grpSpPr>
        <p:sp>
          <p:nvSpPr>
            <p:cNvPr id="418" name="Line 23"/>
            <p:cNvSpPr/>
            <p:nvPr/>
          </p:nvSpPr>
          <p:spPr>
            <a:xfrm>
              <a:off x="3230640" y="2038320"/>
              <a:ext cx="14040" cy="80496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3230640" y="2038320"/>
              <a:ext cx="14040" cy="80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779560" y="2567160"/>
            <a:ext cx="2905200" cy="1440"/>
            <a:chOff x="2779560" y="2567160"/>
            <a:chExt cx="2905200" cy="1440"/>
          </a:xfrm>
        </p:grpSpPr>
        <p:sp>
          <p:nvSpPr>
            <p:cNvPr id="421" name="Line 24"/>
            <p:cNvSpPr/>
            <p:nvPr/>
          </p:nvSpPr>
          <p:spPr>
            <a:xfrm>
              <a:off x="2779560" y="2567160"/>
              <a:ext cx="2905200" cy="1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2779560" y="2567160"/>
              <a:ext cx="29052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" name="Text Box 25"/>
          <p:cNvSpPr/>
          <p:nvPr/>
        </p:nvSpPr>
        <p:spPr>
          <a:xfrm>
            <a:off x="3197160" y="2505240"/>
            <a:ext cx="2129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迷你简准圆"/>
                <a:ea typeface="迷你简准圆"/>
              </a:rPr>
              <a:t>who. no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迷你简准圆"/>
              </a:rPr>
              <a:t>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2724480" y="19922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迷你简综艺"/>
                <a:ea typeface="迷你简综艺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6234120" y="3279600"/>
            <a:ext cx="3317760" cy="962280"/>
          </a:xfrm>
          <a:prstGeom prst="rect">
            <a:avLst/>
          </a:prstGeom>
          <a:solidFill>
            <a:srgbClr val="a50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28"/>
          <p:cNvSpPr/>
          <p:nvPr/>
        </p:nvSpPr>
        <p:spPr>
          <a:xfrm>
            <a:off x="7298280" y="33638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迷你简综艺"/>
              </a:rPr>
              <a:t>文案工作时间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6942240" y="3336840"/>
            <a:ext cx="15840" cy="806400"/>
            <a:chOff x="6942240" y="3336840"/>
            <a:chExt cx="15840" cy="806400"/>
          </a:xfrm>
        </p:grpSpPr>
        <p:sp>
          <p:nvSpPr>
            <p:cNvPr id="428" name="Line 29"/>
            <p:cNvSpPr/>
            <p:nvPr/>
          </p:nvSpPr>
          <p:spPr>
            <a:xfrm>
              <a:off x="6942240" y="3336840"/>
              <a:ext cx="15840" cy="806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6942240" y="3336840"/>
              <a:ext cx="15840" cy="806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492960" y="3790800"/>
            <a:ext cx="2905200" cy="360"/>
            <a:chOff x="6492960" y="3790800"/>
            <a:chExt cx="2905200" cy="360"/>
          </a:xfrm>
        </p:grpSpPr>
        <p:sp>
          <p:nvSpPr>
            <p:cNvPr id="431" name="Line 30"/>
            <p:cNvSpPr/>
            <p:nvPr/>
          </p:nvSpPr>
          <p:spPr>
            <a:xfrm>
              <a:off x="6492960" y="3790800"/>
              <a:ext cx="2905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6492960" y="3790800"/>
              <a:ext cx="2905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Text Box 31"/>
          <p:cNvSpPr/>
          <p:nvPr/>
        </p:nvSpPr>
        <p:spPr>
          <a:xfrm>
            <a:off x="6910560" y="3738600"/>
            <a:ext cx="2234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when. no </a:t>
            </a:r>
            <a:r>
              <a:rPr b="0" lang="zh-CN" sz="2400" spc="-1" strike="noStrike">
                <a:solidFill>
                  <a:srgbClr val="000000"/>
                </a:solidFill>
                <a:latin typeface="迷你简准圆"/>
                <a:ea typeface="迷你简准圆"/>
              </a:rPr>
              <a:t>稳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6452640" y="32511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迷你简综艺"/>
                <a:ea typeface="迷你简综艺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文本框 8199"/>
          <p:cNvSpPr/>
          <p:nvPr/>
        </p:nvSpPr>
        <p:spPr>
          <a:xfrm>
            <a:off x="2436840" y="1268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11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