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E30B-47C4-4836-A7DB-15D9E062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ABE7-FDEF-4666-A451-13F906FE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1F24C-973F-483B-AC7E-62EBD5E0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D56FF7-E898-453A-8987-9A4743A9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AB97A-852B-4BB0-AC6E-AA07EE16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8FC37-D4F9-4661-AB08-B8FDDB58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8E30E-281A-4613-9F57-7F373854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16BEC-211D-4768-B9E3-B4E6C024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56BEF-903B-4C39-956B-DF21406D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65188-C41F-4FE5-A6B6-B47288745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CD0E1-9F43-48DF-B881-3ED729D99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04A2B-5264-4BED-A33E-892505117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805D-CEA0-4B05-B46C-EE3E65B4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1E654F-55BD-42FF-BCE5-F836A60B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045FB-80D3-4E58-80BD-0BEF0A9C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4D8E69-B077-4402-B0E1-CF5F8EBF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A48805-B766-4305-8912-38AAC663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180A85-E7A2-45C8-8E5B-673A06BD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A238FE-6A80-4F22-9B58-5221A865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62B49D-576E-4617-9FF3-11FAF4F9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621828-78DA-4B32-8DBA-FE4C7A94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B1EF7-6588-44EC-B0AE-7F681BFE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2A3C32-91E0-449A-A64A-4EA3C55D6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1A52-2185-4503-A05A-2C519137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B820C-352E-4B00-9B83-41443372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0D968-9EA2-4AC7-9B34-62E1AAE72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AD08D-7E59-4991-A1D7-A733F561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B7BE8-E652-44CD-92DA-CA3DADE6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FDCA3-4547-46D6-BF81-35706B91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9F7FB-A164-4FD5-B2C1-8F0EB311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6CB55-3C4B-477A-A3E9-20492150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78B5D-D979-462B-9F78-5B6DF3C8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06186-6501-4CC8-97E9-AA9A1528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36115-C71E-4048-BFB5-9119263A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2FDD-660B-4D59-90CA-1FF74FC14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82F48-8F1E-4ACA-80EA-2692ECE7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B2F84-7B90-4A2A-BCC6-1ACADB7FF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1FD39-E789-45EF-9D0D-895FD6FE9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E7CB1E-6F17-4279-B5FF-DAEE97A74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762B8E-553B-4596-878C-6F43F3F6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67C171-9506-4411-B7CA-78BE5430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2503EE-31E9-4918-8AE3-FFE7ED9C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4D133F-5271-4520-8E79-857F3454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B1C5E2-5311-43BB-B66A-038E714C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CD9AE7-44A6-4470-9A9A-F877F93D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1585-D9C0-4754-9588-89AFD4E4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59748E-7660-4F8D-B76C-7C4C4006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ACD8AB-7E64-4BFE-B138-9D7D8CB1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DFFE7B-0DEB-493C-BD6E-7513C828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2DC88-8341-4997-98E1-4156B2F5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96C880-EEC3-4461-B038-B52C6E45B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86D819-CA26-451F-9ED6-246C497D4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B3C8D4-4BB2-46B8-A4DD-F68BBCF5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49C371-E0E5-4CC4-B324-72CD7A88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EC8C5A-2A4B-45AC-A70D-523B59B0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ED6B8B-5BCE-4B82-A08A-B882FE03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A613-D409-41D7-875B-EBFE0997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A2B22B-DCF9-4ACB-8C7E-9E0ED8BA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B7F5F8-7741-43FC-BB61-0DD25929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86900C-31E3-4C57-A388-DEB15D7C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9CF334-2EC9-417C-A234-E4691634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7A72F8-AF23-478A-A746-132A4D2A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10C4CE-5A56-4A24-B71B-7F771AEE2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2EDB35-F085-4560-9B85-75A339DF8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0751-6752-4E8B-85D1-8727F03B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D797-E0BE-4177-A8D5-1E9CDF87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6C76-14EC-4B6B-A311-7D30FBD9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3462-8676-4AAB-9B41-03E7CE4E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793A-3615-4639-B2B5-1D6118CB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78A3-6917-4B06-A411-D51D108E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D302-13EB-498C-B581-4055A5DB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5F6A-00ED-47C4-82E9-02FC9295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E6EC-4A9E-42DF-B469-963D4BD1E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4DCA-61EE-44C0-9F4F-1638C8851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F02D7-0359-40F8-BBA7-F14C917DE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88C2E-C68A-4CE2-B27D-7631620A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D2108-79B9-491E-BB25-0CE93BE2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E6AFE-C27A-4B07-80A4-F7051DD6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1894A-72EE-4029-AFA2-7418626D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0D7B-8320-406D-8D36-65484E5A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B28A2-CA18-49BB-9080-AAA5BB19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4188E-575E-40B4-98D3-27BD1142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F8479-698C-45E9-9BC9-1CEBE69F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C0635-82BF-4338-B475-ABBF7820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75A3F-3764-4DC9-B6BC-DD2A7460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7B9B5-9999-4E66-AB93-4914AE165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1D1A4-C015-4C85-8F85-2111FF829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4A7C3-90C9-42BC-BF45-47BAD8E0C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B4B44-281D-4887-840C-5C024E2E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11FC9-A4CB-489C-8702-FDD78AF3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246D-9652-4893-B203-96A28CBC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2BADA-267C-4CE2-A5C3-D39AA2AC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EA3AD-54A0-445A-AE84-79EC4252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F2469-6E94-4F2A-960F-A505AFAB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5CF86-5EAD-4290-8C65-7BE9C0BC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AF388-D1B4-4BD8-A2EE-0C7EC6AF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6638E-F872-4517-8BA5-EC25F326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E2EC0-099B-4694-B1B8-028BBDF8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C1577-2868-439D-923D-F7B396D3A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912CB-130F-45B1-AEBC-66D970B3F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0CA18-EE2B-49D4-BD78-492478CE9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74B8-FE69-4F8E-AECC-A8C93301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249CD-AF10-4015-BFA7-3DBB8E4D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892A1-45CB-45AA-BEDF-3D812F96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0C5C2-2927-4F85-820C-657DDF94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119F3-A42B-417E-87F4-2081E5EE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92800-458C-4C54-8182-62995374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F995F-1451-48C7-BDCA-41166D9A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4C2E6-6897-4DC8-B3F9-0E486232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64816-8BF3-4BF1-B805-56672387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E55F2-0987-4A75-9BBA-BABBEE10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6BF6E-F50E-468D-A677-54E33790D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3838-B9F2-4519-B1F7-F373F6E7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FDF4B-A64B-4573-91CE-6D516F499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6C931-B597-4833-932F-690031201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EB0EC-50E1-440E-95CF-782D44AC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4B205-286B-4CDF-9776-4B6FE4FE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6C65C-850C-41CF-A6F4-3BDEF8FB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CA409-CEAB-4575-A570-79EABA3D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0C53F-DFAA-499E-805D-8B9044DC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0C8B3-9D06-4F35-8067-48ECF4CF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7B1D1-004F-495C-94A8-5C46D42A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E404D-CE31-4689-95F5-35EFB4C8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B112-438C-4A4A-A74F-42EF0B43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30F66-001B-4165-B162-EEB36626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4099E-4746-4D8B-9DF3-84662DCDF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5CA92-26E3-4407-BFE5-08FC7AEEC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AC915-5537-495B-9018-06A5F9473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34C48-02D6-454E-8224-736F2450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6BDAC-CAFB-4CB4-A6A5-98FFF40D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57D1B-641E-4D31-9E69-782DF39F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32F84-2453-46DC-B597-204A5D81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4345E-349C-460F-8E4D-73215454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3D985-41BB-4868-A5B3-CA447317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CB0F-F7F5-4645-9BBB-3AF5A824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31403-267F-46AF-AC63-3D1875BF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2AE14-29D8-49B1-AAC3-490B1F01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95877-BBC0-4FF7-82DB-8A0A90C3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D43D7-EB22-4BD0-9CCA-AFDB941E3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56FF7-53DA-4660-858C-3174C7B79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045B9-1889-4199-8084-F3F0FFA83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BB389-091A-4F71-ADBF-BF30CB56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97E1C-25C9-4E04-9BC4-1D0E9DE4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3658E-D747-48D9-B429-35D33F6D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4807C-DDDC-42F9-B0F3-AD782167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EEFF-5043-4BD6-AE4D-6046B5D0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A70B8-5325-4219-92FB-DAB5B4C2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6CE9C-116A-49A7-8323-7F99B822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440A6-96CA-415E-9D32-D454FAF3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B4F0B-5797-4236-BD0C-B0C4B24F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5D82C-F417-4173-8C2D-05C656C1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A306C-643E-4F2D-B680-DBFEE6FAB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CFBE9-1FAE-4E80-9843-728ED7104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5DA8E-9F1C-4615-BED4-10662B793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A9A15E-78D2-4FD2-B636-5EDE6283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E1BB7-0863-4741-BBC5-D683F338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06A8-D0AF-429F-93E1-59E5D8E626D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664F-8380-453A-B7D1-46798FB2339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78C1-E76E-4625-B673-F181D688C02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6E45-EADC-494F-ADF8-235E15E5408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13DD-813B-484C-9B8A-E3044006C55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7177-8510-411C-BC35-4075BE65B36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1476-A092-405B-8A12-BFDF453A87C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87C4-96A9-4573-BBB3-CC1227A1BAA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4B40-BFC2-46B8-B6AE-6F851929565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415F-BC6A-43F0-87EE-31CC170E605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5D9D-41C1-4938-A678-1D85DDCFF10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5C3F-984D-4EE1-98D9-D633E39DBC6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6BC7-FD94-47A1-9CE5-6776796B4E6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130F-21AE-4200-ACF4-10CCED2AF9E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D3F0-CD76-4E45-B66C-20DB1B09574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78CA-F19C-45DE-9BA2-D95BD54B229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F554-932A-48C5-A7F9-5043C047B9A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B164-A0C7-4F9E-A889-E4132FDCDF1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BB63-A2A3-44C2-BB96-4DE450C756C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59C5-83A9-402E-86D0-97649A5A66E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9101-B410-48D9-8AE7-AD4D82A0A90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3918-2E32-4D4C-B08F-DD10C61BCC5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26C7-ABC3-421A-9432-13CBBD02F41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684B-9CAE-4C5D-82D8-47327F2CAB7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869F-22A2-44D8-9B0A-C4BC8D04638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2"/>
          <p:cNvSpPr/>
          <p:nvPr/>
        </p:nvSpPr>
        <p:spPr>
          <a:xfrm>
            <a:off x="2908080" y="3259080"/>
            <a:ext cx="24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6"/>
          <p:cNvSpPr/>
          <p:nvPr/>
        </p:nvSpPr>
        <p:spPr>
          <a:xfrm>
            <a:off x="0" y="0"/>
            <a:ext cx="9144000" cy="2276640"/>
          </a:xfrm>
          <a:prstGeom prst="rect">
            <a:avLst/>
          </a:prstGeom>
          <a:solidFill>
            <a:srgbClr val="b61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8"/>
          <p:cNvSpPr/>
          <p:nvPr/>
        </p:nvSpPr>
        <p:spPr>
          <a:xfrm>
            <a:off x="0" y="4351320"/>
            <a:ext cx="9144000" cy="2506680"/>
          </a:xfrm>
          <a:prstGeom prst="rect">
            <a:avLst/>
          </a:prstGeom>
          <a:solidFill>
            <a:srgbClr val="b61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"/>
          <p:cNvPicPr/>
          <p:nvPr/>
        </p:nvPicPr>
        <p:blipFill>
          <a:blip r:embed="rId2"/>
          <a:srcRect l="3999" t="0" r="0" b="0"/>
          <a:stretch/>
        </p:blipFill>
        <p:spPr>
          <a:xfrm>
            <a:off x="0" y="1297080"/>
            <a:ext cx="9144000" cy="308592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00000" y="461592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文化宣传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矩形 7"/>
          <p:cNvSpPr/>
          <p:nvPr/>
        </p:nvSpPr>
        <p:spPr>
          <a:xfrm>
            <a:off x="0" y="0"/>
            <a:ext cx="9144000" cy="1339920"/>
          </a:xfrm>
          <a:prstGeom prst="rect">
            <a:avLst/>
          </a:prstGeom>
          <a:solidFill>
            <a:srgbClr val="b61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3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1546200" cy="133380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目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2" name="Group 5"/>
          <p:cNvGrpSpPr/>
          <p:nvPr/>
        </p:nvGrpSpPr>
        <p:grpSpPr>
          <a:xfrm>
            <a:off x="2998800" y="2651040"/>
            <a:ext cx="3517920" cy="400680"/>
            <a:chOff x="2998800" y="2651040"/>
            <a:chExt cx="3517920" cy="400680"/>
          </a:xfrm>
        </p:grpSpPr>
        <p:sp>
          <p:nvSpPr>
            <p:cNvPr id="543" name="矩形 7"/>
            <p:cNvSpPr/>
            <p:nvPr/>
          </p:nvSpPr>
          <p:spPr>
            <a:xfrm>
              <a:off x="2998800" y="2651040"/>
              <a:ext cx="3510360" cy="400680"/>
            </a:xfrm>
            <a:prstGeom prst="rect">
              <a:avLst/>
            </a:prstGeom>
            <a:noFill/>
            <a:ln w="6480">
              <a:solidFill>
                <a:srgbClr val="b61a4b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4" name="Picture 6" descr=""/>
            <p:cNvPicPr/>
            <p:nvPr/>
          </p:nvPicPr>
          <p:blipFill>
            <a:blip r:embed="rId2"/>
            <a:stretch/>
          </p:blipFill>
          <p:spPr>
            <a:xfrm>
              <a:off x="5833800" y="2651040"/>
              <a:ext cx="682920" cy="40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TextBox 21"/>
            <p:cNvSpPr/>
            <p:nvPr/>
          </p:nvSpPr>
          <p:spPr>
            <a:xfrm>
              <a:off x="3933720" y="2666160"/>
              <a:ext cx="23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Box 4"/>
            <p:cNvSpPr/>
            <p:nvPr/>
          </p:nvSpPr>
          <p:spPr>
            <a:xfrm>
              <a:off x="2998800" y="2651040"/>
              <a:ext cx="682920" cy="398880"/>
            </a:xfrm>
            <a:prstGeom prst="rect">
              <a:avLst/>
            </a:prstGeom>
            <a:solidFill>
              <a:srgbClr val="b61a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10"/>
          <p:cNvGrpSpPr/>
          <p:nvPr/>
        </p:nvGrpSpPr>
        <p:grpSpPr>
          <a:xfrm>
            <a:off x="2998800" y="3533760"/>
            <a:ext cx="3517920" cy="400680"/>
            <a:chOff x="2998800" y="3533760"/>
            <a:chExt cx="3517920" cy="400680"/>
          </a:xfrm>
        </p:grpSpPr>
        <p:sp>
          <p:nvSpPr>
            <p:cNvPr id="548" name="矩形 27"/>
            <p:cNvSpPr/>
            <p:nvPr/>
          </p:nvSpPr>
          <p:spPr>
            <a:xfrm>
              <a:off x="2998800" y="3533760"/>
              <a:ext cx="3510360" cy="400680"/>
            </a:xfrm>
            <a:prstGeom prst="rect">
              <a:avLst/>
            </a:prstGeom>
            <a:noFill/>
            <a:ln w="6480">
              <a:solidFill>
                <a:srgbClr val="b61a4b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9" name="Picture 6" descr=""/>
            <p:cNvPicPr/>
            <p:nvPr/>
          </p:nvPicPr>
          <p:blipFill>
            <a:blip r:embed="rId3"/>
            <a:stretch/>
          </p:blipFill>
          <p:spPr>
            <a:xfrm>
              <a:off x="5833800" y="3533760"/>
              <a:ext cx="682920" cy="40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TextBox 29"/>
            <p:cNvSpPr/>
            <p:nvPr/>
          </p:nvSpPr>
          <p:spPr>
            <a:xfrm>
              <a:off x="3933720" y="3548880"/>
              <a:ext cx="23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Box 30"/>
            <p:cNvSpPr/>
            <p:nvPr/>
          </p:nvSpPr>
          <p:spPr>
            <a:xfrm>
              <a:off x="2998800" y="3533760"/>
              <a:ext cx="682920" cy="398880"/>
            </a:xfrm>
            <a:prstGeom prst="rect">
              <a:avLst/>
            </a:prstGeom>
            <a:solidFill>
              <a:srgbClr val="b61a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Group 15"/>
          <p:cNvGrpSpPr/>
          <p:nvPr/>
        </p:nvGrpSpPr>
        <p:grpSpPr>
          <a:xfrm>
            <a:off x="2998800" y="4417920"/>
            <a:ext cx="3517920" cy="400680"/>
            <a:chOff x="2998800" y="4417920"/>
            <a:chExt cx="3517920" cy="400680"/>
          </a:xfrm>
        </p:grpSpPr>
        <p:sp>
          <p:nvSpPr>
            <p:cNvPr id="553" name="矩形 32"/>
            <p:cNvSpPr/>
            <p:nvPr/>
          </p:nvSpPr>
          <p:spPr>
            <a:xfrm>
              <a:off x="2998800" y="4417920"/>
              <a:ext cx="3510360" cy="400680"/>
            </a:xfrm>
            <a:prstGeom prst="rect">
              <a:avLst/>
            </a:prstGeom>
            <a:noFill/>
            <a:ln w="6480">
              <a:solidFill>
                <a:srgbClr val="b61a4b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4" name="Picture 6" descr=""/>
            <p:cNvPicPr/>
            <p:nvPr/>
          </p:nvPicPr>
          <p:blipFill>
            <a:blip r:embed="rId4"/>
            <a:stretch/>
          </p:blipFill>
          <p:spPr>
            <a:xfrm>
              <a:off x="5833800" y="4417920"/>
              <a:ext cx="682920" cy="40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TextBox 34"/>
            <p:cNvSpPr/>
            <p:nvPr/>
          </p:nvSpPr>
          <p:spPr>
            <a:xfrm>
              <a:off x="3933720" y="4433040"/>
              <a:ext cx="23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Box 35"/>
            <p:cNvSpPr/>
            <p:nvPr/>
          </p:nvSpPr>
          <p:spPr>
            <a:xfrm>
              <a:off x="2998800" y="4417920"/>
              <a:ext cx="682920" cy="398880"/>
            </a:xfrm>
            <a:prstGeom prst="rect">
              <a:avLst/>
            </a:prstGeom>
            <a:solidFill>
              <a:srgbClr val="b61a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20"/>
          <p:cNvGrpSpPr/>
          <p:nvPr/>
        </p:nvGrpSpPr>
        <p:grpSpPr>
          <a:xfrm>
            <a:off x="2998800" y="5300640"/>
            <a:ext cx="3517920" cy="400680"/>
            <a:chOff x="2998800" y="5300640"/>
            <a:chExt cx="3517920" cy="400680"/>
          </a:xfrm>
        </p:grpSpPr>
        <p:sp>
          <p:nvSpPr>
            <p:cNvPr id="558" name="矩形 37"/>
            <p:cNvSpPr/>
            <p:nvPr/>
          </p:nvSpPr>
          <p:spPr>
            <a:xfrm>
              <a:off x="2998800" y="5300640"/>
              <a:ext cx="3510360" cy="400680"/>
            </a:xfrm>
            <a:prstGeom prst="rect">
              <a:avLst/>
            </a:prstGeom>
            <a:noFill/>
            <a:ln w="6480">
              <a:solidFill>
                <a:srgbClr val="b61a4b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9" name="Picture 6" descr=""/>
            <p:cNvPicPr/>
            <p:nvPr/>
          </p:nvPicPr>
          <p:blipFill>
            <a:blip r:embed="rId5"/>
            <a:stretch/>
          </p:blipFill>
          <p:spPr>
            <a:xfrm>
              <a:off x="5833800" y="5300640"/>
              <a:ext cx="682920" cy="40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TextBox 39"/>
            <p:cNvSpPr/>
            <p:nvPr/>
          </p:nvSpPr>
          <p:spPr>
            <a:xfrm>
              <a:off x="3933720" y="5315760"/>
              <a:ext cx="23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Box 40"/>
            <p:cNvSpPr/>
            <p:nvPr/>
          </p:nvSpPr>
          <p:spPr>
            <a:xfrm>
              <a:off x="2998800" y="5300640"/>
              <a:ext cx="682920" cy="398880"/>
            </a:xfrm>
            <a:prstGeom prst="rect">
              <a:avLst/>
            </a:prstGeom>
            <a:solidFill>
              <a:srgbClr val="b61a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矩形 7"/>
          <p:cNvSpPr/>
          <p:nvPr/>
        </p:nvSpPr>
        <p:spPr>
          <a:xfrm>
            <a:off x="0" y="0"/>
            <a:ext cx="9144000" cy="1339920"/>
          </a:xfrm>
          <a:prstGeom prst="rect">
            <a:avLst/>
          </a:prstGeom>
          <a:solidFill>
            <a:srgbClr val="b61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3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1546200" cy="133380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添加文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5" name="组合 25"/>
          <p:cNvGrpSpPr/>
          <p:nvPr/>
        </p:nvGrpSpPr>
        <p:grpSpPr>
          <a:xfrm>
            <a:off x="1103400" y="2808000"/>
            <a:ext cx="3286080" cy="3103920"/>
            <a:chOff x="1103400" y="2808000"/>
            <a:chExt cx="3286080" cy="3103920"/>
          </a:xfrm>
        </p:grpSpPr>
        <p:sp>
          <p:nvSpPr>
            <p:cNvPr id="566" name="矩形 7"/>
            <p:cNvSpPr/>
            <p:nvPr/>
          </p:nvSpPr>
          <p:spPr>
            <a:xfrm>
              <a:off x="1103400" y="2808360"/>
              <a:ext cx="3286080" cy="3103560"/>
            </a:xfrm>
            <a:prstGeom prst="rect">
              <a:avLst/>
            </a:prstGeom>
            <a:noFill/>
            <a:ln w="6480">
              <a:solidFill>
                <a:srgbClr val="b61a4b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7" name="Picture 6" descr=""/>
            <p:cNvPicPr/>
            <p:nvPr/>
          </p:nvPicPr>
          <p:blipFill>
            <a:blip r:embed="rId2"/>
            <a:stretch/>
          </p:blipFill>
          <p:spPr>
            <a:xfrm>
              <a:off x="3637440" y="2808360"/>
              <a:ext cx="75204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TextBox 4"/>
            <p:cNvSpPr/>
            <p:nvPr/>
          </p:nvSpPr>
          <p:spPr>
            <a:xfrm rot="16200000">
              <a:off x="-263520" y="4174920"/>
              <a:ext cx="3103560" cy="369360"/>
            </a:xfrm>
            <a:prstGeom prst="rect">
              <a:avLst/>
            </a:prstGeom>
            <a:solidFill>
              <a:srgbClr val="b61a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TextBox 34"/>
          <p:cNvSpPr/>
          <p:nvPr/>
        </p:nvSpPr>
        <p:spPr>
          <a:xfrm>
            <a:off x="1755720" y="4049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组合 26"/>
          <p:cNvGrpSpPr/>
          <p:nvPr/>
        </p:nvGrpSpPr>
        <p:grpSpPr>
          <a:xfrm>
            <a:off x="4973760" y="2808000"/>
            <a:ext cx="3286080" cy="3103920"/>
            <a:chOff x="4973760" y="2808000"/>
            <a:chExt cx="3286080" cy="3103920"/>
          </a:xfrm>
        </p:grpSpPr>
        <p:sp>
          <p:nvSpPr>
            <p:cNvPr id="571" name="矩形 7"/>
            <p:cNvSpPr/>
            <p:nvPr/>
          </p:nvSpPr>
          <p:spPr>
            <a:xfrm>
              <a:off x="4973760" y="2808360"/>
              <a:ext cx="3286080" cy="3103560"/>
            </a:xfrm>
            <a:prstGeom prst="rect">
              <a:avLst/>
            </a:prstGeom>
            <a:noFill/>
            <a:ln w="6480">
              <a:solidFill>
                <a:srgbClr val="b61a4b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2" name="Picture 6" descr=""/>
            <p:cNvPicPr/>
            <p:nvPr/>
          </p:nvPicPr>
          <p:blipFill>
            <a:blip r:embed="rId3"/>
            <a:stretch/>
          </p:blipFill>
          <p:spPr>
            <a:xfrm>
              <a:off x="7507800" y="2808360"/>
              <a:ext cx="75204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TextBox 4"/>
            <p:cNvSpPr/>
            <p:nvPr/>
          </p:nvSpPr>
          <p:spPr>
            <a:xfrm rot="16200000">
              <a:off x="3606480" y="4174920"/>
              <a:ext cx="3103560" cy="369360"/>
            </a:xfrm>
            <a:prstGeom prst="rect">
              <a:avLst/>
            </a:prstGeom>
            <a:solidFill>
              <a:srgbClr val="b61a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TextBox 34"/>
          <p:cNvSpPr/>
          <p:nvPr/>
        </p:nvSpPr>
        <p:spPr>
          <a:xfrm>
            <a:off x="5594400" y="4013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文本框 8199"/>
          <p:cNvSpPr/>
          <p:nvPr/>
        </p:nvSpPr>
        <p:spPr>
          <a:xfrm>
            <a:off x="863640" y="1736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7547-EB49-4C28-9D7A-2A3FE997E09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矩形 7"/>
          <p:cNvSpPr/>
          <p:nvPr/>
        </p:nvSpPr>
        <p:spPr>
          <a:xfrm>
            <a:off x="0" y="0"/>
            <a:ext cx="9144000" cy="1339920"/>
          </a:xfrm>
          <a:prstGeom prst="rect">
            <a:avLst/>
          </a:prstGeom>
          <a:solidFill>
            <a:srgbClr val="b61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3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1546200" cy="133380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添加文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矩形 7"/>
          <p:cNvSpPr/>
          <p:nvPr/>
        </p:nvSpPr>
        <p:spPr>
          <a:xfrm>
            <a:off x="1030320" y="2808360"/>
            <a:ext cx="7229520" cy="3103560"/>
          </a:xfrm>
          <a:prstGeom prst="rect">
            <a:avLst/>
          </a:prstGeom>
          <a:noFill/>
          <a:ln w="6480">
            <a:solidFill>
              <a:srgbClr val="b61a4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6" descr=""/>
          <p:cNvPicPr/>
          <p:nvPr/>
        </p:nvPicPr>
        <p:blipFill>
          <a:blip r:embed="rId2"/>
          <a:stretch/>
        </p:blipFill>
        <p:spPr>
          <a:xfrm>
            <a:off x="7507440" y="2808360"/>
            <a:ext cx="752400" cy="399960"/>
          </a:xfrm>
          <a:prstGeom prst="rect">
            <a:avLst/>
          </a:prstGeom>
          <a:ln w="0">
            <a:noFill/>
          </a:ln>
        </p:spPr>
      </p:pic>
      <p:sp>
        <p:nvSpPr>
          <p:cNvPr id="585" name="TextBox 4"/>
          <p:cNvSpPr/>
          <p:nvPr/>
        </p:nvSpPr>
        <p:spPr>
          <a:xfrm>
            <a:off x="1030320" y="5546880"/>
            <a:ext cx="7229520" cy="369720"/>
          </a:xfrm>
          <a:prstGeom prst="rect">
            <a:avLst/>
          </a:prstGeom>
          <a:solidFill>
            <a:srgbClr val="b61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34"/>
          <p:cNvSpPr/>
          <p:nvPr/>
        </p:nvSpPr>
        <p:spPr>
          <a:xfrm>
            <a:off x="2089080" y="34653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34"/>
          <p:cNvSpPr/>
          <p:nvPr/>
        </p:nvSpPr>
        <p:spPr>
          <a:xfrm>
            <a:off x="5156280" y="44877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06:3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3:03Z</dcterms:modified>
  <cp:revision>1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