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805-1862-42A1-96CF-AE0C125E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CA1-7512-430B-BAE5-BE24B25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977-4013-4794-AD94-08632301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990-022B-486C-8E97-824B7D58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D494-5B0C-4F08-9BBD-5AE22CC3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0103-2A6E-4FEF-9ECA-60BFBD0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9F5-9D5D-4C2E-8B7E-DE761994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3A4A-2EC7-4973-B7E8-F2A38A7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DDC-1216-4067-A3FE-9FEA6A8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74C0-BC66-4B4B-819C-FD08353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2EE3-0AA0-412F-86B2-33AEAF9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0B1-363E-4A34-930B-84D4114E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83D-7CFF-4CE8-81C2-929C9B3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0DD-F173-42B8-BC21-3ACF51B4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A38F-F7FD-41ED-9E05-46C8929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6A92-C27A-455B-8821-656659C7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3E5A-132E-4D6B-9502-C691848D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97E-5F40-41AB-9BB2-E81B136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13B-2DE1-4444-83E3-07EC59B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F13-27B0-48CC-965F-2F8068D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DBE-DEE1-4EF7-9C72-0690E03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2E2-F58B-453F-A4AD-D2C39AE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DB9-2704-4309-82A1-76989B2D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BA3-F8F1-4360-8F25-CE9682F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451B-B234-4A94-875A-CE7F9C7738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ACC-3995-4AE3-B1F1-2893E1866BB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76C8-1DAF-45FE-A80B-0AB218F863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企业宣传展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716280" y="2214720"/>
            <a:ext cx="10335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402080" y="2000160"/>
            <a:ext cx="606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0F77-6194-4D17-AC8A-387C0E9591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8"/>
          <p:cNvSpPr/>
          <p:nvPr/>
        </p:nvSpPr>
        <p:spPr>
          <a:xfrm>
            <a:off x="22341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4997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3283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4497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3140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000160" y="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149760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5497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283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2202480" y="13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069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426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9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1407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209160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35720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569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712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237708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21472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569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783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497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2305800" y="13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926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1711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6283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8"/>
          <p:cNvSpPr/>
          <p:nvPr/>
        </p:nvSpPr>
        <p:spPr>
          <a:xfrm>
            <a:off x="2448720" y="6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212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2783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280584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283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2783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259164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5855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2140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4976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27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