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36C-BFFA-4488-87C8-B8A626DA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082-28C5-4692-BCE3-0E2AEA68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4CF-B6BC-4A72-B924-93BEE07D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E9D-1160-4CBB-958A-5FA6AA7A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2A39-B959-4416-9B0A-ED19249B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DC2D-184F-420A-AF21-DBD8C7E7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2C7D-B49D-4713-A9BE-6B74FF02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7E83-8A25-4CAF-B16B-F297BE8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DC86-F763-4851-86A7-2BC0175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F6A4-54D2-4D14-96A5-655F15F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D4F3-4099-49B6-8219-40F8C3F8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F7A-A22B-4BDA-8E8A-8D197677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2ADA-1362-48BA-9AE4-925D1506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16C-C65E-4DF2-8011-F1E582FB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F817-6257-4176-A3F9-DFE5747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836C-A231-4A9D-93AA-B3B9CCA5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F0F6-1E12-4A50-BA9D-A44C81A0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9459-4695-4A9D-873D-4E0A0BD9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43F1-FA4C-4756-8A9B-77F05C77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4216-B1B1-41DF-BA46-61B5F931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45D2-FE5E-4C9B-822A-7A4221C8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7008-7A16-4D8C-87BF-39812702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269-F4AF-4696-A12E-915DCB47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EFFF-9A56-4F0A-BC6D-1EC35F7A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77EC-419D-490A-9190-9524E93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635E-FFDD-4852-9288-0C7D565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A251-DDCA-40DD-914B-514F5F7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B2EA-C0AD-4061-B689-6456C2DD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3EC2-CC85-45E1-8360-9D63322A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BA15-D65D-4AE5-804C-7FEED5A9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895-1C4C-4844-8A5F-96C4FCA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6BE-1746-4F36-8425-D18F5715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B79-FAA5-483E-84A8-29CD5B8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FDF-1BAE-4F10-9712-48814AE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66D-2DC5-4708-B8D9-0332395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F54-7611-4856-99E7-22EFF3F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F101-54C6-41ED-9347-4DD5FFAA56B0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094C-70E3-430B-9746-12F682110D4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9C4-F5D6-4562-8970-47912B3DB61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C3B9-7A64-49F7-BEFB-E24AF298FC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4175-FC1F-4FC1-94FE-3BAFEB7547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ED6-08F4-4500-923D-04F9FDE14A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99480" y="422604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klepants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</a:rPr>
              <a:t>OWER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</a:rPr>
              <a:t>OIN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336600"/>
            <a:ext cx="762948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业指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6152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134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6154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136" name="组合 6155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137" name="组合 6156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138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组合 6161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43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组合 6166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48" name="组合 6167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49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6172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54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8" name="组合 6177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9" name="组合 6178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60" name="组合 6179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61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6184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6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组合 6189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71" name="组合 6190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2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组合 6195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7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1" name="组合 6200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82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6202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84" name="组合 6203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85" name="组合 6204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86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组合 6209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91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" name="组合 6214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96" name="组合 6215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97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组合 6220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202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组合 6225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7" name="组合 6226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8" name="组合 6227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9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组合 6232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4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" name="组合 6237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9" name="组合 6238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20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组合 6243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5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9" name="组合 6248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230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6250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2" name="组合 6251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3" name="组合 6252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4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组合 6257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9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组合 6262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4" name="组合 6263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5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组合 6268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50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组合 6273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55" name="组合 6274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56" name="组合 6275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57" name="组合 6276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58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组合 6281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63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7" name="组合 6286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68" name="组合 6287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69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组合 6292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74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8" name="组合 6297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79" name="组合 6298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80" name="组合 6299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81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组合 6304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86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组合 6309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91" name="组合 6310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92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组合 6315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97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01" name="组合 6320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2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组合 6322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4" name="组合 6323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5" name="组合 6324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6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组合 6329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11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组合 6334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316" name="组合 6335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7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组合 6340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322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6" name="组合 6345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7" name="组合 6346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8" name="组合 6347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9" name="组合 6348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30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组合 6353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5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9" name="组合 6358"/>
                <p:cNvGrpSpPr/>
                <p:nvPr/>
              </p:nvGrpSpPr>
              <p:grpSpPr>
                <a:xfrm>
                  <a:off x="2051280" y="1178280"/>
                  <a:ext cx="352800" cy="312480"/>
                  <a:chOff x="2051280" y="1178280"/>
                  <a:chExt cx="352800" cy="312480"/>
                </a:xfrm>
              </p:grpSpPr>
              <p:grpSp>
                <p:nvGrpSpPr>
                  <p:cNvPr id="340" name="组合 6359"/>
                  <p:cNvGrpSpPr/>
                  <p:nvPr/>
                </p:nvGrpSpPr>
                <p:grpSpPr>
                  <a:xfrm>
                    <a:off x="2051280" y="1178280"/>
                    <a:ext cx="334440" cy="235440"/>
                    <a:chOff x="2051280" y="1178280"/>
                    <a:chExt cx="334440" cy="235440"/>
                  </a:xfrm>
                </p:grpSpPr>
                <p:sp>
                  <p:nvSpPr>
                    <p:cNvPr id="341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组合 6364"/>
                  <p:cNvGrpSpPr/>
                  <p:nvPr/>
                </p:nvGrpSpPr>
                <p:grpSpPr>
                  <a:xfrm>
                    <a:off x="2138040" y="1179720"/>
                    <a:ext cx="266040" cy="311040"/>
                    <a:chOff x="2138040" y="1179720"/>
                    <a:chExt cx="266040" cy="311040"/>
                  </a:xfrm>
                </p:grpSpPr>
                <p:sp>
                  <p:nvSpPr>
                    <p:cNvPr id="346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0" name="组合 6369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51" name="组合 6370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2" name="组合 6371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3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组合 6376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8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2" name="组合 6381"/>
                <p:cNvGrpSpPr/>
                <p:nvPr/>
              </p:nvGrpSpPr>
              <p:grpSpPr>
                <a:xfrm>
                  <a:off x="2068200" y="1189800"/>
                  <a:ext cx="352800" cy="312480"/>
                  <a:chOff x="2068200" y="1189800"/>
                  <a:chExt cx="352800" cy="312480"/>
                </a:xfrm>
              </p:grpSpPr>
              <p:grpSp>
                <p:nvGrpSpPr>
                  <p:cNvPr id="363" name="组合 6382"/>
                  <p:cNvGrpSpPr/>
                  <p:nvPr/>
                </p:nvGrpSpPr>
                <p:grpSpPr>
                  <a:xfrm>
                    <a:off x="2068200" y="1189800"/>
                    <a:ext cx="334440" cy="235440"/>
                    <a:chOff x="2068200" y="1189800"/>
                    <a:chExt cx="334440" cy="235440"/>
                  </a:xfrm>
                </p:grpSpPr>
                <p:sp>
                  <p:nvSpPr>
                    <p:cNvPr id="364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组合 6387"/>
                  <p:cNvGrpSpPr/>
                  <p:nvPr/>
                </p:nvGrpSpPr>
                <p:grpSpPr>
                  <a:xfrm>
                    <a:off x="2155320" y="1190880"/>
                    <a:ext cx="265680" cy="311400"/>
                    <a:chOff x="2155320" y="1190880"/>
                    <a:chExt cx="265680" cy="311400"/>
                  </a:xfrm>
                </p:grpSpPr>
                <p:sp>
                  <p:nvSpPr>
                    <p:cNvPr id="369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3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6395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77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6397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79" name="组合 6398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80" name="组合 6399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81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组合 6404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86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组合 6409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91" name="组合 6410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2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组合 6415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7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1" name="组合 6420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2" name="组合 6421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3" name="组合 6422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4" name="组合 6423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5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组合 6428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10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组合 6433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5" name="组合 6434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6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组合 6439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21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5" name="组合 6444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6" name="组合 6445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7" name="组合 6446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8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组合 6451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3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组合 6456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8" name="组合 6457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9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组合 6462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4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8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775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612800" y="3527280"/>
            <a:ext cx="360" cy="335160"/>
            <a:chOff x="1612800" y="3527280"/>
            <a:chExt cx="360" cy="335160"/>
          </a:xfrm>
        </p:grpSpPr>
        <p:sp>
          <p:nvSpPr>
            <p:cNvPr id="457" name="Line 58"/>
            <p:cNvSpPr/>
            <p:nvPr/>
          </p:nvSpPr>
          <p:spPr>
            <a:xfrm>
              <a:off x="1612800" y="352728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1612800" y="352728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57160" y="3871800"/>
            <a:ext cx="1495440" cy="360"/>
            <a:chOff x="857160" y="3871800"/>
            <a:chExt cx="1495440" cy="360"/>
          </a:xfrm>
        </p:grpSpPr>
        <p:sp>
          <p:nvSpPr>
            <p:cNvPr id="460" name="Line 59"/>
            <p:cNvSpPr/>
            <p:nvPr/>
          </p:nvSpPr>
          <p:spPr>
            <a:xfrm flipH="1">
              <a:off x="857160" y="387180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857160" y="387180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461360" y="2006640"/>
            <a:ext cx="360" cy="334800"/>
            <a:chOff x="7461360" y="2006640"/>
            <a:chExt cx="360" cy="334800"/>
          </a:xfrm>
        </p:grpSpPr>
        <p:sp>
          <p:nvSpPr>
            <p:cNvPr id="463" name="Line 65"/>
            <p:cNvSpPr/>
            <p:nvPr/>
          </p:nvSpPr>
          <p:spPr>
            <a:xfrm>
              <a:off x="7461360" y="200664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7461360" y="200664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565680" y="1992240"/>
            <a:ext cx="1632240" cy="360"/>
            <a:chOff x="6565680" y="1992240"/>
            <a:chExt cx="1632240" cy="360"/>
          </a:xfrm>
        </p:grpSpPr>
        <p:sp>
          <p:nvSpPr>
            <p:cNvPr id="466" name="Line 66"/>
            <p:cNvSpPr/>
            <p:nvPr/>
          </p:nvSpPr>
          <p:spPr>
            <a:xfrm flipH="1">
              <a:off x="6565680" y="199224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6566040" y="199224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581280" y="2009880"/>
            <a:ext cx="360" cy="334800"/>
            <a:chOff x="3581280" y="2009880"/>
            <a:chExt cx="360" cy="334800"/>
          </a:xfrm>
        </p:grpSpPr>
        <p:sp>
          <p:nvSpPr>
            <p:cNvPr id="469" name="Line 68"/>
            <p:cNvSpPr/>
            <p:nvPr/>
          </p:nvSpPr>
          <p:spPr>
            <a:xfrm>
              <a:off x="3581280" y="20098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3581280" y="20098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657160" y="1992240"/>
            <a:ext cx="1771920" cy="360"/>
            <a:chOff x="2657160" y="1992240"/>
            <a:chExt cx="1771920" cy="360"/>
          </a:xfrm>
        </p:grpSpPr>
        <p:sp>
          <p:nvSpPr>
            <p:cNvPr id="472" name="Line 69"/>
            <p:cNvSpPr/>
            <p:nvPr/>
          </p:nvSpPr>
          <p:spPr>
            <a:xfrm flipH="1">
              <a:off x="2657160" y="1992240"/>
              <a:ext cx="177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2657520" y="199224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530680" y="3494160"/>
            <a:ext cx="360" cy="334800"/>
            <a:chOff x="5530680" y="3494160"/>
            <a:chExt cx="360" cy="334800"/>
          </a:xfrm>
        </p:grpSpPr>
        <p:sp>
          <p:nvSpPr>
            <p:cNvPr id="475" name="Line 71"/>
            <p:cNvSpPr/>
            <p:nvPr/>
          </p:nvSpPr>
          <p:spPr>
            <a:xfrm>
              <a:off x="5530680" y="349416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5530680" y="34941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19600" y="3828960"/>
            <a:ext cx="1587600" cy="360"/>
            <a:chOff x="4719600" y="3828960"/>
            <a:chExt cx="1587600" cy="360"/>
          </a:xfrm>
        </p:grpSpPr>
        <p:sp>
          <p:nvSpPr>
            <p:cNvPr id="478" name="Line 72"/>
            <p:cNvSpPr/>
            <p:nvPr/>
          </p:nvSpPr>
          <p:spPr>
            <a:xfrm flipH="1">
              <a:off x="4719600" y="3828960"/>
              <a:ext cx="158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4719600" y="382896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组合 7179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81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组合 7182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84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组合 7185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87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组合 7188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90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8199"/>
          <p:cNvSpPr/>
          <p:nvPr/>
        </p:nvSpPr>
        <p:spPr>
          <a:xfrm>
            <a:off x="611280" y="912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B883-6E1D-470A-B173-0569219B80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2"/>
          <p:cNvSpPr/>
          <p:nvPr/>
        </p:nvSpPr>
        <p:spPr>
          <a:xfrm>
            <a:off x="1710000" y="422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谢谢观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1"/>
          <p:cNvSpPr/>
          <p:nvPr/>
        </p:nvSpPr>
        <p:spPr>
          <a:xfrm>
            <a:off x="1548360" y="481500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  <a:ea typeface="迷你简综艺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59Z</dcterms:modified>
  <cp:revision>3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