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7A1-BF3F-476C-83E8-B3AA745A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AEC-14C7-41D3-AF59-D5481C20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B88-97F9-48A6-A97F-6FB12CDD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9E6-290F-4AFC-BF02-799C9AAD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662E-5747-4D4B-952E-4EF87AE4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0C2C-033C-4880-B509-98CC15EB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9215-54D2-4918-BD74-D38F0203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3C30-C269-435A-B7C5-58047497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EFEE-CAA7-4370-A6F3-64230458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E1D1-4A50-4976-9877-33AE3014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2C10-BF51-493F-AA98-182F9205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A5CE-D01F-49CD-B194-4A6E7DE5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511E-BF1B-4D2B-BFAE-6FFD2543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BE4A-3F32-4C3A-8F70-E6507B1D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CF6C-EE67-43C4-BAF1-E23423A8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EAB4-CCB4-4DD6-9257-F266B05E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6F44-1E53-4385-88FF-60A78EB2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DFF-B581-463E-A12D-83072C6C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D09-95B1-4501-A95A-E004A75E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361-51E2-4711-ACD3-2DDF0FFD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4991-A08D-46DE-B564-EE73A817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AEE-4506-4C71-8B92-324D7999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1F47-EEE9-40B5-9482-C5754DC2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29A3-54E6-48F7-818A-097CB157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4F00-E15C-4AFB-B910-BC5BCDEDDBB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4952-A2C6-4448-8B69-77BB84B7560D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169" descr="封面"/>
          <p:cNvPicPr/>
          <p:nvPr/>
        </p:nvPicPr>
        <p:blipFill>
          <a:blip r:embed="rId1"/>
          <a:stretch/>
        </p:blipFill>
        <p:spPr>
          <a:xfrm>
            <a:off x="144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8560" y="2349360"/>
            <a:ext cx="73454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快乐办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1174680" y="549360"/>
            <a:ext cx="706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角梅快乐办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8193" descr="目录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854160" y="2565000"/>
            <a:ext cx="483372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快乐工作需要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何快乐工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9217" descr="过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9218"/>
          <p:cNvSpPr/>
          <p:nvPr/>
        </p:nvSpPr>
        <p:spPr>
          <a:xfrm>
            <a:off x="4572000" y="292428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快乐工作需要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0241" descr="内容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412720" y="1269720"/>
            <a:ext cx="56149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好心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智者不是选择的都是自己喜欢的，而是喜欢自己选择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好身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身体是革命的本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好睡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好的睡眠让一天的工作都有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1265" descr="过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11266"/>
          <p:cNvSpPr/>
          <p:nvPr/>
        </p:nvSpPr>
        <p:spPr>
          <a:xfrm>
            <a:off x="4572000" y="292428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如何快乐工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2289" descr="内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412720" y="1269720"/>
            <a:ext cx="56149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别做按部就班的“傻瓜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寻找适合自己的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看到工作中激情的力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随时记下好创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持积极的人生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286F-1A01-4FBF-89FB-C4815D2B90E5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3313" descr="结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2831760" y="3689280"/>
            <a:ext cx="4476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欣赏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1:48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