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251-0C17-4400-B1DD-AF191223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25F-3EB1-470B-B47F-0B62781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65F-3CE3-4F26-BEB3-16F03939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92D-1D05-4524-8FAB-0F0A1A83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86AA-5326-4D75-A0FC-2E66E5F1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535C-3FB1-45C1-B717-9D2553F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88A0-A6A0-4DB1-96B9-AE1EF37A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019-F4C6-4F46-800B-5F7DAFF5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F38-887F-4283-B777-86033B4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352-7B44-46D3-9519-31EA00F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9123-F2A4-4FF3-9823-810DEF4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B92-BDA8-4D56-ABBA-F10C4F58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7FA7-0382-4704-BF68-2EE37ED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C9B-FD88-4177-ACD4-C184DD02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8D1-BA7B-4CC7-8F28-128D409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1A5-07D0-468E-912C-EBF263B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0088-D4AD-4871-B0CE-D931F84B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B7B-7816-4FD9-B2CB-D54380D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D66-2CB9-4209-8E98-EAC7D3B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25E-F1EA-4955-856A-57A64D3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7E8-5934-4C7F-A018-5047C3A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C91-4DE6-4932-B9BB-C6032E1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69A-18DA-42F9-8982-79BF4BB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BB6-E3D7-4441-B7AA-AD8B5E8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E5D-8D41-44A2-820D-D49C85E43A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75FC-BBFD-414B-808D-910140F4A9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1AE2-D900-4204-B63B-5CE8FA9B75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494-A7FF-4212-8188-57CE1C826A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书籍拼图创意总结报告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610680" y="714240"/>
            <a:ext cx="1033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 flipH="1">
            <a:off x="712008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179280" y="5948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流程图: 决策 9"/>
          <p:cNvSpPr/>
          <p:nvPr/>
        </p:nvSpPr>
        <p:spPr>
          <a:xfrm>
            <a:off x="71424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流程图: 决策 11"/>
          <p:cNvSpPr/>
          <p:nvPr/>
        </p:nvSpPr>
        <p:spPr>
          <a:xfrm>
            <a:off x="500040" y="2714760"/>
            <a:ext cx="263988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决策 12"/>
          <p:cNvSpPr/>
          <p:nvPr/>
        </p:nvSpPr>
        <p:spPr>
          <a:xfrm>
            <a:off x="342900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流程图: 决策 13"/>
          <p:cNvSpPr/>
          <p:nvPr/>
        </p:nvSpPr>
        <p:spPr>
          <a:xfrm>
            <a:off x="3214800" y="2714760"/>
            <a:ext cx="263988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决策 14"/>
          <p:cNvSpPr/>
          <p:nvPr/>
        </p:nvSpPr>
        <p:spPr>
          <a:xfrm>
            <a:off x="614376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流程图: 决策 15"/>
          <p:cNvSpPr/>
          <p:nvPr/>
        </p:nvSpPr>
        <p:spPr>
          <a:xfrm>
            <a:off x="5929200" y="2714760"/>
            <a:ext cx="264024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1283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2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文档 11"/>
          <p:cNvSpPr/>
          <p:nvPr/>
        </p:nvSpPr>
        <p:spPr>
          <a:xfrm>
            <a:off x="1000080" y="2071800"/>
            <a:ext cx="185760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文档 12"/>
          <p:cNvSpPr/>
          <p:nvPr/>
        </p:nvSpPr>
        <p:spPr>
          <a:xfrm flipV="1">
            <a:off x="2857680" y="3142440"/>
            <a:ext cx="185724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文档 13"/>
          <p:cNvSpPr/>
          <p:nvPr/>
        </p:nvSpPr>
        <p:spPr>
          <a:xfrm>
            <a:off x="4714920" y="2071800"/>
            <a:ext cx="185724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文档 14"/>
          <p:cNvSpPr/>
          <p:nvPr/>
        </p:nvSpPr>
        <p:spPr>
          <a:xfrm flipV="1">
            <a:off x="6572160" y="3142440"/>
            <a:ext cx="185760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3283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69980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425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流程图: 库存数据 10"/>
          <p:cNvSpPr/>
          <p:nvPr/>
        </p:nvSpPr>
        <p:spPr>
          <a:xfrm>
            <a:off x="2786040" y="171468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库存数据 11"/>
          <p:cNvSpPr/>
          <p:nvPr/>
        </p:nvSpPr>
        <p:spPr>
          <a:xfrm flipH="1">
            <a:off x="4929120" y="171468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库存数据 12"/>
          <p:cNvSpPr/>
          <p:nvPr/>
        </p:nvSpPr>
        <p:spPr>
          <a:xfrm>
            <a:off x="2786040" y="2786040"/>
            <a:ext cx="2000160" cy="92880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流程图: 库存数据 13"/>
          <p:cNvSpPr/>
          <p:nvPr/>
        </p:nvSpPr>
        <p:spPr>
          <a:xfrm flipH="1">
            <a:off x="4929120" y="2786040"/>
            <a:ext cx="2000160" cy="92880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流程图: 库存数据 14"/>
          <p:cNvSpPr/>
          <p:nvPr/>
        </p:nvSpPr>
        <p:spPr>
          <a:xfrm>
            <a:off x="2786040" y="385776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库存数据 15"/>
          <p:cNvSpPr/>
          <p:nvPr/>
        </p:nvSpPr>
        <p:spPr>
          <a:xfrm flipH="1">
            <a:off x="4929120" y="385776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3140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左弧形箭头 11"/>
          <p:cNvSpPr/>
          <p:nvPr/>
        </p:nvSpPr>
        <p:spPr>
          <a:xfrm>
            <a:off x="2787480" y="2558880"/>
            <a:ext cx="1928880" cy="114300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863318"/>
                <a:lnTo>
                  <a:pt x="18400" y="21526"/>
                </a:lnTo>
                <a:lnTo>
                  <a:pt x="21600" y="16200"/>
                </a:lnTo>
                <a:lnTo>
                  <a:pt x="18400" y="10726"/>
                </a:lnTo>
                <a:lnTo>
                  <a:pt x="18400" y="13426"/>
                </a:lnTo>
                <a:arcTo wR="21600" hR="6750" stAng="6936682" swAng="339733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弧形箭头 12"/>
          <p:cNvSpPr/>
          <p:nvPr/>
        </p:nvSpPr>
        <p:spPr>
          <a:xfrm flipH="1">
            <a:off x="4716360" y="2558880"/>
            <a:ext cx="1928880" cy="114300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863318"/>
                <a:lnTo>
                  <a:pt x="18400" y="21526"/>
                </a:lnTo>
                <a:lnTo>
                  <a:pt x="21600" y="16200"/>
                </a:lnTo>
                <a:lnTo>
                  <a:pt x="18400" y="10726"/>
                </a:lnTo>
                <a:lnTo>
                  <a:pt x="18400" y="13426"/>
                </a:lnTo>
                <a:arcTo wR="21600" hR="6750" stAng="6936682" swAng="339733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215240" y="220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57100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278496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4"/>
          <p:cNvSpPr/>
          <p:nvPr/>
        </p:nvSpPr>
        <p:spPr>
          <a:xfrm>
            <a:off x="1044720" y="44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流程图: 内部贮存 10"/>
          <p:cNvSpPr/>
          <p:nvPr/>
        </p:nvSpPr>
        <p:spPr>
          <a:xfrm>
            <a:off x="35712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内部贮存 11"/>
          <p:cNvSpPr/>
          <p:nvPr/>
        </p:nvSpPr>
        <p:spPr>
          <a:xfrm>
            <a:off x="321480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流程图: 内部贮存 12"/>
          <p:cNvSpPr/>
          <p:nvPr/>
        </p:nvSpPr>
        <p:spPr>
          <a:xfrm>
            <a:off x="607212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354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7985-C127-4901-85FA-F258D790C1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0"/>
          <p:cNvSpPr/>
          <p:nvPr/>
        </p:nvSpPr>
        <p:spPr>
          <a:xfrm>
            <a:off x="1000080" y="4143240"/>
            <a:ext cx="7143840" cy="1285920"/>
          </a:xfrm>
          <a:prstGeom prst="roundRect">
            <a:avLst>
              <a:gd name="adj" fmla="val 16667"/>
            </a:avLst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1"/>
          <p:cNvSpPr/>
          <p:nvPr/>
        </p:nvSpPr>
        <p:spPr>
          <a:xfrm>
            <a:off x="1000080" y="1643040"/>
            <a:ext cx="7143840" cy="2428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db3535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0Z</dcterms:modified>
  <cp:revision>2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