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A654-E600-45FF-BE4A-0A38067F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22840"/>
            <a:ext cx="8534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385-1AD5-4F5D-9DB1-3F82AE92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38F-6D92-43B3-B543-D8073A21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83772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83772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2284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82284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2284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112-3E90-4A93-A09B-A17DC318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B59B-E219-4647-8DC5-1C83A853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1346-7084-4283-A6FB-2EB7845F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056D-63B6-4A3B-9138-AE99972B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4363-329B-4A05-A07E-137D8615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7983-8AAB-4FCC-8264-E94844AC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EEF5-9A2A-4AC8-97A7-4BEA0896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CFCD-6272-4DC4-AB22-58566AC2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D60-DDC6-4887-8DCF-3E3D5301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B060-2572-484B-B5E9-D88183E7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22840"/>
            <a:ext cx="8534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B666-D8C8-4FB6-AEAF-333C72AA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22840"/>
            <a:ext cx="8534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FF06-05AD-4A3E-857B-2BDB61DE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B8EE-B527-4593-9DB2-AA19CAA2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83772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83772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2284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2284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2284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3F89-DB83-4379-B2DF-D954DB4A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78F1-699E-47CA-A348-D6D3ABD9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4E8CB-A29A-4945-A352-F304BC44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0AD42-E352-41BC-A677-397B7FCE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0AD01-E639-45B5-8736-E0CAC44A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A062F-B29E-4CCC-8369-8CEF69CA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D96-BE85-4784-AEE1-F820CAEC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A8FF9-164E-4DF0-8546-526E56F5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BA26B-62FD-4977-BFC8-6DA5F239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19E7D-C744-4991-A1D3-12313987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822840"/>
            <a:ext cx="8534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501B-E26A-4E9E-B775-DC518190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822840"/>
            <a:ext cx="8534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D38A2-9F96-4109-ABDA-DB86EC8B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C4ECB-EFA7-437C-8D0A-FCFE9D44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83772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83772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82284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82284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82284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EA027-6400-45B6-9E19-208E3211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5F90-296B-40F7-9662-B108E113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759-D7A6-4DCB-BACF-8727B26D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07D-239D-4D8D-9041-BD67C430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2E9-36D7-4430-A531-2AC9A947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546-4979-4DD4-83FE-842D3C79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22840"/>
            <a:ext cx="8534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381-CBF7-4EE7-A3BA-2937FB02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8377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5FE6-8ABD-4F44-A536-21FFD6C1D1B4}" type="slidenum">
              <a:rPr b="1" lang="en-US" sz="10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460D-8A96-4B57-A01A-52D6E26140E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2829-B7CC-4D21-AD40-9A155DB34C1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8377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1CF7-B5D9-4533-855F-1FD45F6F486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800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NaNo Buil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5334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845640" y="1295280"/>
            <a:ext cx="64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深蓝色科幻国外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4800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53035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C863-1117-4499-B171-E9CA1FA48FB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16:3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12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